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CD76D6-64A1-4DB3-800D-4DC134666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38C5DD-5368-4D09-AB46-A2E6F4D12C7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9E6-B9EB-406E-97D8-06524AC4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A3A-68F4-4332-A486-379A67A6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482-A8A4-400E-A2FF-51ADE1AE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617-149B-49E5-9EDF-DEA161BE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6F9-98D6-4360-A393-AAE957AA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984-A91E-4ADC-9138-A5363CA3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7CE-2916-475C-B5FB-14DBAB36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B4F-A872-4EE8-9BA2-0C5DD8C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B10-D997-40B1-8290-D844247D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E57-AFF0-4367-84EC-C98D9F4D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E0C-943E-49E6-BFC9-25E51047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681-98A2-48CE-968F-B1CBA619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-72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72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72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C9475D-88D3-4ADD-B04F-D15C03D0279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2"/>
          <p:cNvSpPr/>
          <p:nvPr/>
        </p:nvSpPr>
        <p:spPr>
          <a:xfrm>
            <a:off x="1270080" y="2895480"/>
            <a:ext cx="6577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黄蓝环绕背景的创意设计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39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IA SOCIAL MEDIA REPORT, EDITION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0" y="6609240"/>
            <a:ext cx="6325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880A9A-BC9E-4D2B-BD7F-F0F7AA7CD6A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168120" y="1454040"/>
          <a:ext cx="8903880" cy="380664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54040"/>
                    <a:ext cx="890388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6"/>
          <p:cNvSpPr/>
          <p:nvPr/>
        </p:nvSpPr>
        <p:spPr>
          <a:xfrm>
            <a:off x="105480" y="1663560"/>
            <a:ext cx="674640" cy="24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Fig. in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-1080" y="5838840"/>
            <a:ext cx="1425960" cy="24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Base:89 Respon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3276720" y="1447920"/>
            <a:ext cx="1049040" cy="1044360"/>
          </a:xfrm>
          <a:prstGeom prst="ellipse">
            <a:avLst/>
          </a:prstGeom>
          <a:noFill/>
          <a:ln>
            <a:solidFill>
              <a:srgbClr val="92d050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IN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4629240" y="1657440"/>
            <a:ext cx="4438440" cy="394200"/>
          </a:xfrm>
          <a:prstGeom prst="rect">
            <a:avLst/>
          </a:prstGeom>
          <a:solidFill>
            <a:srgbClr val="ffc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000" spc="-1" strike="noStrike">
                <a:solidFill>
                  <a:srgbClr val="000000"/>
                </a:solidFill>
                <a:latin typeface="Trebuchet MS"/>
                <a:ea typeface="宋体"/>
              </a:rPr>
              <a:t>Same trend follows in adoption - </a:t>
            </a:r>
            <a:r>
              <a:rPr b="0" lang="en-IN" sz="1000" spc="-1" strike="noStrike">
                <a:solidFill>
                  <a:srgbClr val="000000"/>
                </a:solidFill>
                <a:latin typeface="Calibri"/>
                <a:ea typeface="宋体"/>
              </a:rPr>
              <a:t>Among those ‘presently using’ mobile social networks/platform, SMS GupShup is the most pop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41480" y="64033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Num" idx="8"/>
          </p:nvPr>
        </p:nvSpPr>
        <p:spPr>
          <a:xfrm>
            <a:off x="70102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AC38E8-CABF-45D1-885B-EFFAED67AA9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4987800" y="3429000"/>
            <a:ext cx="239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  <Words>636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08:22:17Z</dcterms:created>
  <dc:creator>Sinha</dc:creator>
  <dc:description/>
  <dc:language>en-US</dc:language>
  <cp:lastModifiedBy>yu wang</cp:lastModifiedBy>
  <dcterms:modified xsi:type="dcterms:W3CDTF">2015-08-08T10:05:01Z</dcterms:modified>
  <cp:revision>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