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6FD-764D-4BF3-8F0B-EF8BAFA2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2A6-C8DB-44CC-B16C-5B8D2CB2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3A3-42B3-4D0F-AC1E-BA4580BF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C3C-707C-49A9-8F82-27B353AB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F8D6-20BC-429A-83DF-F7371331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1754-9F1F-41DD-A701-F2F4F4FB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510B-6559-4609-B8BA-88685CD1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7EB9-5CC8-4FD2-9112-A0174657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A6FF-1CD3-4BFC-9E1D-67A4007F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1F92-C28C-4591-84B8-D78F7DAC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F2A8-C456-4B49-81A5-1EA291D2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540-2985-457A-B130-08E63FC1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222-351B-4874-9534-A8E1241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861E-8AEB-4960-A01C-955A887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AC10-F25E-49AA-8F35-9E5264C5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5EF2-B86A-4DA9-BEB3-C6537326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EA3B-5F03-47A6-BED7-BD6A1E57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30ACC-CB19-47F8-8ABD-9601F566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3F8D-8B40-433C-9612-D4FDA59F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FDD85-8EE9-4441-9944-5DCC78E0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7862-3EA5-41BE-8CFA-940E32F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6ED3-7163-432D-9AE6-181CCC8A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A5F-A5EE-44F5-AC3D-F8526515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970A-D6D5-435D-9DBB-024C548F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708D-ABE9-46CA-AF02-7130D0A8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E11F-D123-4B5E-A28C-3D21ECF0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4CC7E-9B7A-4E0D-86A6-25577B14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4973-F9EA-4157-BD1C-F2F9FE20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B8D0-563F-43D1-BCD8-FDEAE13B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5202-E861-425F-823E-4F871F9F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17C-FF68-4304-A952-AA8BC5BB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F68-4295-4E48-BF73-0D294E8C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324-665D-404F-8F81-44AA4B4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F4B-6F74-4DE8-88D1-D20C1102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283-DFB2-4E5A-BDAA-19FB68F2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7B2-FEA0-4FB2-810D-77E9DAAB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54C8-5F5C-48FF-A784-A6E12E58E3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706D-9CF9-4248-B1D3-38DCD539DA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7812000" y="11592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29D4-F729-4ED5-9D25-9A90398627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红色箭头背景的抽象设计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2181240" y="6616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44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0:19:21Z</dcterms:created>
  <dc:creator>Sky123.Org</dc:creator>
  <dc:description/>
  <cp:keywords/>
  <dc:language>en-US</dc:language>
  <cp:lastModifiedBy>yu wang</cp:lastModifiedBy>
  <dcterms:modified xsi:type="dcterms:W3CDTF">2015-08-08T10:04:50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NXTAG2">
    <vt:lpwstr>0008001806000000000001024100</vt:lpwstr>
  </property>
</Properties>
</file>