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1520" y="-360"/>
            <a:ext cx="297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8320" y="739440"/>
            <a:ext cx="49374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1520" y="9375480"/>
            <a:ext cx="297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22C-8170-4B66-BC65-A3B3351C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072-1948-4E97-ACCD-03ED69D8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BD0-C6AD-40CF-886A-1532F7F9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95C-6992-4853-A54E-27C78163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46C-8F30-4D6B-A1E2-1436EA78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DDF-C14D-4BC7-A034-B9EC1DBB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307-8A09-4B45-9381-565416A7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01F-83FF-4197-9D07-F86BA3D6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B94-2D6B-45B3-B2F9-7A898067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25D-6164-4F02-8B84-1A3C5BB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74F-1188-438A-AE6A-A2C2C3F4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8BA-1B94-48E4-BABE-8A0D343B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D05-D680-4CD0-B0E7-1ECAF55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73A-0635-46C4-AC70-E15EC9D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F38-B194-4009-9EA9-288C689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488-B79A-4064-83D5-12D1153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7EC-C06C-431C-B21E-4A9587A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33C-DBBA-463F-B1F3-9A14E9E9F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LINE011"/>
          <p:cNvPicPr/>
          <p:nvPr/>
        </p:nvPicPr>
        <p:blipFill>
          <a:blip r:embed="rId3"/>
          <a:stretch/>
        </p:blipFill>
        <p:spPr>
          <a:xfrm>
            <a:off x="2050920" y="1125360"/>
            <a:ext cx="6858000" cy="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图片1"/>
          <p:cNvPicPr/>
          <p:nvPr/>
        </p:nvPicPr>
        <p:blipFill>
          <a:blip r:embed="rId4"/>
          <a:stretch/>
        </p:blipFill>
        <p:spPr>
          <a:xfrm>
            <a:off x="324000" y="404640"/>
            <a:ext cx="14572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templ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810080" y="1125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酷炫毕业答辩简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495320" y="3462480"/>
            <a:ext cx="4043520" cy="3672720"/>
            <a:chOff x="4495320" y="3462480"/>
            <a:chExt cx="4043520" cy="3672720"/>
          </a:xfrm>
        </p:grpSpPr>
        <p:sp>
          <p:nvSpPr>
            <p:cNvPr id="92" name="Arc 3"/>
            <p:cNvSpPr/>
            <p:nvPr/>
          </p:nvSpPr>
          <p:spPr>
            <a:xfrm rot="976200">
              <a:off x="4825080" y="3879360"/>
              <a:ext cx="3383640" cy="2838600"/>
            </a:xfrm>
            <a:custGeom>
              <a:avLst/>
              <a:gdLst/>
              <a:ahLst/>
              <a:rect l="l" t="t" r="r" b="b"/>
              <a:pathLst>
                <a:path fill="none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</a:path>
                <a:path stroke="0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  <a:lnTo>
                    <a:pt x="0" y="17405"/>
                  </a:lnTo>
                  <a:lnTo>
                    <a:pt x="12791" y="-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4"/>
            <p:cNvSpPr/>
            <p:nvPr/>
          </p:nvSpPr>
          <p:spPr>
            <a:xfrm rot="976200">
              <a:off x="4740120" y="4979520"/>
              <a:ext cx="1433160" cy="1446840"/>
            </a:xfrm>
            <a:custGeom>
              <a:avLst/>
              <a:gdLst/>
              <a:ahLst/>
              <a:rect l="l" t="t" r="r" b="b"/>
              <a:pathLst>
                <a:path fill="none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</a:path>
                <a:path stroke="0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  <a:lnTo>
                    <a:pt x="0" y="20950"/>
                  </a:lnTo>
                  <a:lnTo>
                    <a:pt x="5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"/>
          <p:cNvGrpSpPr/>
          <p:nvPr/>
        </p:nvGrpSpPr>
        <p:grpSpPr>
          <a:xfrm>
            <a:off x="613080" y="3462480"/>
            <a:ext cx="4043520" cy="3672720"/>
            <a:chOff x="613080" y="3462480"/>
            <a:chExt cx="4043520" cy="3672720"/>
          </a:xfrm>
        </p:grpSpPr>
        <p:sp>
          <p:nvSpPr>
            <p:cNvPr id="95" name="Arc 7"/>
            <p:cNvSpPr/>
            <p:nvPr/>
          </p:nvSpPr>
          <p:spPr>
            <a:xfrm flipH="1" rot="20623800">
              <a:off x="942840" y="3879360"/>
              <a:ext cx="3383640" cy="2838600"/>
            </a:xfrm>
            <a:custGeom>
              <a:avLst/>
              <a:gdLst/>
              <a:ahLst/>
              <a:rect l="l" t="t" r="r" b="b"/>
              <a:pathLst>
                <a:path fill="none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</a:path>
                <a:path stroke="0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  <a:lnTo>
                    <a:pt x="0" y="17405"/>
                  </a:lnTo>
                  <a:lnTo>
                    <a:pt x="12791" y="-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rc 8"/>
            <p:cNvSpPr/>
            <p:nvPr/>
          </p:nvSpPr>
          <p:spPr>
            <a:xfrm flipH="1" rot="20623800">
              <a:off x="2977560" y="4979520"/>
              <a:ext cx="1433160" cy="1446480"/>
            </a:xfrm>
            <a:custGeom>
              <a:avLst/>
              <a:gdLst/>
              <a:ahLst/>
              <a:rect l="l" t="t" r="r" b="b"/>
              <a:pathLst>
                <a:path fill="none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</a:path>
                <a:path stroke="0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  <a:lnTo>
                    <a:pt x="0" y="20950"/>
                  </a:lnTo>
                  <a:lnTo>
                    <a:pt x="5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9"/>
          <p:cNvSpPr/>
          <p:nvPr/>
        </p:nvSpPr>
        <p:spPr>
          <a:xfrm>
            <a:off x="1403280" y="4680000"/>
            <a:ext cx="1368360" cy="1197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10"/>
          <p:cNvSpPr/>
          <p:nvPr/>
        </p:nvSpPr>
        <p:spPr>
          <a:xfrm rot="976200">
            <a:off x="4735440" y="4979880"/>
            <a:ext cx="1433520" cy="1446480"/>
          </a:xfrm>
          <a:custGeom>
            <a:avLst/>
            <a:gdLst/>
            <a:ahLst/>
            <a:rect l="l" t="t" r="r" b="b"/>
            <a:pathLst>
              <a:path fill="none" w="20775" h="20950">
                <a:moveTo>
                  <a:pt x="5260" y="0"/>
                </a:moveTo>
                <a:cubicBezTo>
                  <a:pt x="12747" y="1880"/>
                  <a:pt x="18662" y="7613"/>
                  <a:pt x="20775" y="15037"/>
                </a:cubicBezTo>
              </a:path>
              <a:path stroke="0" w="20775" h="20950">
                <a:moveTo>
                  <a:pt x="5260" y="0"/>
                </a:moveTo>
                <a:cubicBezTo>
                  <a:pt x="12747" y="1880"/>
                  <a:pt x="18662" y="7613"/>
                  <a:pt x="20775" y="15037"/>
                </a:cubicBezTo>
                <a:lnTo>
                  <a:pt x="0" y="20950"/>
                </a:lnTo>
                <a:lnTo>
                  <a:pt x="52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 flipH="1" rot="14494800">
            <a:off x="3844080" y="4811760"/>
            <a:ext cx="71280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 flipH="1" rot="12547800">
            <a:off x="3185280" y="547524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635280" y="5516640"/>
            <a:ext cx="1793880" cy="819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 rot="9052200">
            <a:off x="5533200" y="547524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6404040" y="4680000"/>
            <a:ext cx="1247760" cy="1197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1965240" y="2495520"/>
            <a:ext cx="2548080" cy="2660400"/>
            <a:chOff x="1965240" y="2495520"/>
            <a:chExt cx="2548080" cy="2660400"/>
          </a:xfrm>
        </p:grpSpPr>
        <p:sp>
          <p:nvSpPr>
            <p:cNvPr id="105" name="Freeform 20"/>
            <p:cNvSpPr/>
            <p:nvPr/>
          </p:nvSpPr>
          <p:spPr>
            <a:xfrm>
              <a:off x="1965240" y="2495520"/>
              <a:ext cx="2548080" cy="266040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1966320" y="2495520"/>
              <a:ext cx="254664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2771640" y="2997360"/>
            <a:ext cx="1729080" cy="1295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 rot="7105200">
            <a:off x="4700520" y="4811760"/>
            <a:ext cx="71280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4643280" y="2495520"/>
            <a:ext cx="2548080" cy="2660400"/>
            <a:chOff x="4643280" y="2495520"/>
            <a:chExt cx="2548080" cy="2660400"/>
          </a:xfrm>
        </p:grpSpPr>
        <p:sp>
          <p:nvSpPr>
            <p:cNvPr id="110" name="Freeform 26"/>
            <p:cNvSpPr/>
            <p:nvPr/>
          </p:nvSpPr>
          <p:spPr>
            <a:xfrm flipH="1">
              <a:off x="4643280" y="2495520"/>
              <a:ext cx="2548080" cy="266040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 flipH="1">
              <a:off x="4643640" y="2495520"/>
              <a:ext cx="254664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8"/>
          <p:cNvSpPr/>
          <p:nvPr/>
        </p:nvSpPr>
        <p:spPr>
          <a:xfrm>
            <a:off x="4643280" y="2997360"/>
            <a:ext cx="1729080" cy="1295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5292720" y="573408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25916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研究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209760" y="3741840"/>
            <a:ext cx="2770200" cy="10857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719280" y="2349360"/>
            <a:ext cx="3806640" cy="185436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0" y="1014"/>
                </a:moveTo>
                <a:lnTo>
                  <a:pt x="1518" y="1014"/>
                </a:lnTo>
                <a:lnTo>
                  <a:pt x="1518" y="696"/>
                </a:lnTo>
                <a:lnTo>
                  <a:pt x="2444" y="696"/>
                </a:lnTo>
                <a:lnTo>
                  <a:pt x="2444" y="0"/>
                </a:lnTo>
                <a:lnTo>
                  <a:pt x="0" y="0"/>
                </a:lnTo>
                <a:lnTo>
                  <a:pt x="0" y="101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4653000" y="2349360"/>
            <a:ext cx="3806640" cy="185436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2444" y="1014"/>
                </a:moveTo>
                <a:lnTo>
                  <a:pt x="926" y="1014"/>
                </a:lnTo>
                <a:lnTo>
                  <a:pt x="926" y="696"/>
                </a:lnTo>
                <a:lnTo>
                  <a:pt x="0" y="696"/>
                </a:lnTo>
                <a:lnTo>
                  <a:pt x="0" y="0"/>
                </a:lnTo>
                <a:lnTo>
                  <a:pt x="2444" y="0"/>
                </a:lnTo>
                <a:lnTo>
                  <a:pt x="2444" y="101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719280" y="4338720"/>
            <a:ext cx="3806640" cy="186840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0" y="0"/>
                </a:moveTo>
                <a:lnTo>
                  <a:pt x="1518" y="0"/>
                </a:lnTo>
                <a:lnTo>
                  <a:pt x="1518" y="326"/>
                </a:lnTo>
                <a:lnTo>
                  <a:pt x="2444" y="326"/>
                </a:lnTo>
                <a:lnTo>
                  <a:pt x="2444" y="1022"/>
                </a:lnTo>
                <a:lnTo>
                  <a:pt x="0" y="102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4653000" y="4338720"/>
            <a:ext cx="3806640" cy="186840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2444" y="0"/>
                </a:moveTo>
                <a:lnTo>
                  <a:pt x="926" y="0"/>
                </a:lnTo>
                <a:lnTo>
                  <a:pt x="926" y="326"/>
                </a:lnTo>
                <a:lnTo>
                  <a:pt x="0" y="326"/>
                </a:lnTo>
                <a:lnTo>
                  <a:pt x="0" y="1022"/>
                </a:lnTo>
                <a:lnTo>
                  <a:pt x="2444" y="1022"/>
                </a:lnTo>
                <a:lnTo>
                  <a:pt x="2444" y="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7080" y="2792520"/>
            <a:ext cx="34876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719280" y="2349360"/>
            <a:ext cx="380520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4654440" y="2349360"/>
            <a:ext cx="380520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19280" y="5848200"/>
            <a:ext cx="380664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4653000" y="5848200"/>
            <a:ext cx="380664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4612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9"/>
          <p:cNvGrpSpPr/>
          <p:nvPr/>
        </p:nvGrpSpPr>
        <p:grpSpPr>
          <a:xfrm>
            <a:off x="1152360" y="2689200"/>
            <a:ext cx="7164360" cy="3835440"/>
            <a:chOff x="1152360" y="2689200"/>
            <a:chExt cx="7164360" cy="3835440"/>
          </a:xfrm>
        </p:grpSpPr>
        <p:sp>
          <p:nvSpPr>
            <p:cNvPr id="128" name="Oval 3"/>
            <p:cNvSpPr/>
            <p:nvPr/>
          </p:nvSpPr>
          <p:spPr>
            <a:xfrm>
              <a:off x="2068200" y="3130560"/>
              <a:ext cx="5216400" cy="3197160"/>
            </a:xfrm>
            <a:prstGeom prst="ellipse">
              <a:avLst/>
            </a:prstGeom>
            <a:solidFill>
              <a:srgbClr val="333399"/>
            </a:solidFill>
            <a:ln w="64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>
              <a:off x="1152360" y="3711600"/>
              <a:ext cx="205092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"/>
            <p:cNvSpPr/>
            <p:nvPr/>
          </p:nvSpPr>
          <p:spPr>
            <a:xfrm flipH="1">
              <a:off x="1276920" y="4033800"/>
              <a:ext cx="1787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2066760" y="5489640"/>
              <a:ext cx="2050920" cy="1035000"/>
            </a:xfrm>
            <a:prstGeom prst="ellipse">
              <a:avLst/>
            </a:prstGeom>
            <a:solidFill>
              <a:srgbClr val="ffcc00"/>
            </a:solidFill>
            <a:ln w="64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 flipH="1">
              <a:off x="2212560" y="583416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3651120" y="2689200"/>
              <a:ext cx="2050920" cy="1035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 flipH="1">
              <a:off x="3796920" y="308772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6265440" y="3711600"/>
              <a:ext cx="205128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flipH="1">
              <a:off x="6401520" y="4095720"/>
              <a:ext cx="1787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5219280" y="5489640"/>
              <a:ext cx="205128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 flipH="1">
              <a:off x="5381280" y="583416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 flipH="1">
              <a:off x="3441240" y="4426200"/>
              <a:ext cx="2470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 flipV="1">
              <a:off x="6028920" y="4498560"/>
              <a:ext cx="0" cy="42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1511280" y="366840"/>
            <a:ext cx="730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0:51:20Z</dcterms:created>
  <dc:creator>wk</dc:creator>
  <dc:description/>
  <dc:language>en-US</dc:language>
  <cp:lastModifiedBy>yu wang</cp:lastModifiedBy>
  <dcterms:modified xsi:type="dcterms:W3CDTF">2015-08-08T10:06:49Z</dcterms:modified>
  <cp:revision>189</cp:revision>
  <dc:subject/>
  <dc:title>开题报告</dc:title>
</cp:coreProperties>
</file>