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9BC-7A1B-4C82-8C40-28E9DC7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86B-9A33-4F87-971A-FC5F88B5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48F-6187-4E81-8010-B05580A7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1CA-8975-4ACB-B830-0332BCE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8C0-73A2-40D7-9090-7D5866E8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065-D46F-4527-826E-F02FE03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2ED-F160-47BE-BB41-C897C925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0D7-1EDA-4BE8-8C9E-796B075A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934-6432-4D51-84A4-D517833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F91F-0A52-4F05-9E8D-C6CF500E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4BBB-448F-4645-8E3B-3D00750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F67-6AFB-4CC0-8838-C2B850D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D97-CDFE-45FF-8F48-4FC06FA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48DF-5596-4140-BE87-604B9D7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267-6C8C-4C74-A59C-505E744B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AC63-7F31-439E-9B80-43363593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66C5-FADF-4FB9-88FB-4530C6FD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9DA-458E-4502-B73D-5076504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B48-A765-4E9C-A4E1-D91867D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5B-FB03-42A5-B02F-8953F27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B01-7697-4A36-9F0A-8EEB259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B76-5D8B-40CA-A0CE-AF58EE9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946-5E06-4171-B74E-4A677CC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B4B-BFDE-4DB0-BE0B-16FD0B8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C09844-650E-4627-BEC1-78A05CA5B21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C57F2B-E25B-4688-A693-35D8C0DBCA7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3492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150640" y="289548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</a:rPr>
              <a:t>黑色酷炫杰克逊</a:t>
            </a:r>
            <a:r>
              <a:rPr b="0" lang="en-US" sz="40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58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yu wang</cp:lastModifiedBy>
  <dcterms:modified xsi:type="dcterms:W3CDTF">2015-08-08T10:05:03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