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01F-3996-477B-BCFB-8E23BBE8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1036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4C9-B623-487A-9BCB-5EFACCE8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389-4276-4AFC-97B4-E839CE9C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94C-80C1-48EE-BA51-AE1B0AAB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565C-AD1A-48F5-9ECE-38FF535B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C2B1-6D1F-4181-B54E-6BDAB0E4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70C3-415C-4742-BB42-DA25EFD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DA2D-B848-44E3-887B-70CB6DE6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BE21-A491-4D72-99AC-A39AEC4F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85F-C09B-42FC-9FEA-F9CFC729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2BA1-E21A-4E91-B9F3-3C3CD23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A08-6173-4E28-8592-EC9A13E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B9C0-99F2-4716-9A59-41DD8D6C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A8C6-8951-4260-A986-7AA339A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1036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B909-77EB-44BC-96EC-DC10B24B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1FC5-4869-42F1-961D-0F7C1176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6296-1106-4BC1-B629-B26B2207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8BD-AD53-4C11-A89B-18939D6E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B37-992F-4E7D-AB2E-45354534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9B5-86E9-4E66-ABA4-5A3FD33C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E9E-3495-4395-9B8C-F8B6997D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747-759C-4CD6-ABC2-1E69FD6E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366-8137-48AD-AC1A-713A774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D92-6DC0-47C3-A815-779EDB3F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1700640"/>
            <a:ext cx="9143640" cy="1686960"/>
          </a:xfrm>
          <a:prstGeom prst="rect">
            <a:avLst/>
          </a:prstGeom>
          <a:solidFill>
            <a:srgbClr val="ffc000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1828800"/>
            <a:ext cx="70862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132CDB-E8CB-4E02-BEA2-F49AA664A6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6F9A9D-1DE8-4BBA-900C-45BD3E9E4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5400" y="1913040"/>
            <a:ext cx="793728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色图案背景的艺术创意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44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107640" y="5589360"/>
            <a:ext cx="833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hristmasbg_0409 print">
  <a:themeElements>
    <a:clrScheme name="Default Design 9">
      <a:dk1>
        <a:srgbClr val="336699"/>
      </a:dk1>
      <a:lt1>
        <a:srgbClr val="ffffff"/>
      </a:lt1>
      <a:dk2>
        <a:srgbClr val="000000"/>
      </a:dk2>
      <a:lt2>
        <a:srgbClr val="e3ebf1"/>
      </a:lt2>
      <a:accent1>
        <a:srgbClr val="003399"/>
      </a:accent1>
      <a:accent2>
        <a:srgbClr val="468a4b"/>
      </a:accent2>
      <a:accent3>
        <a:srgbClr val="aaaaaa"/>
      </a:accent3>
      <a:accent4>
        <a:srgbClr val="dadada"/>
      </a:accent4>
      <a:accent5>
        <a:srgbClr val="aaadca"/>
      </a:accent5>
      <a:accent6>
        <a:srgbClr val="3f7d43"/>
      </a:accent6>
      <a:hlink>
        <a:srgbClr val="66ccff"/>
      </a:hlink>
      <a:folHlink>
        <a:srgbClr val="f0e5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hristmasbg_0409 print">
  <a:themeElements>
    <a:clrScheme name="Default Design 9">
      <a:dk1>
        <a:srgbClr val="336699"/>
      </a:dk1>
      <a:lt1>
        <a:srgbClr val="ffffff"/>
      </a:lt1>
      <a:dk2>
        <a:srgbClr val="000000"/>
      </a:dk2>
      <a:lt2>
        <a:srgbClr val="e3ebf1"/>
      </a:lt2>
      <a:accent1>
        <a:srgbClr val="003399"/>
      </a:accent1>
      <a:accent2>
        <a:srgbClr val="468a4b"/>
      </a:accent2>
      <a:accent3>
        <a:srgbClr val="aaaaaa"/>
      </a:accent3>
      <a:accent4>
        <a:srgbClr val="dadada"/>
      </a:accent4>
      <a:accent5>
        <a:srgbClr val="aaadca"/>
      </a:accent5>
      <a:accent6>
        <a:srgbClr val="3f7d43"/>
      </a:accent6>
      <a:hlink>
        <a:srgbClr val="66ccff"/>
      </a:hlink>
      <a:folHlink>
        <a:srgbClr val="f0e5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hristmasbg_0409 print</Template>
  <TotalTime>199</TotalTime>
  <Application>LibreOffice/7.4.7.2$Linux_X86_64 LibreOffice_project/40$Build-2</Application>
  <AppVersion>15.0000</AppVersion>
  <Words>579</Words>
  <Paragraphs>43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1:49:19Z</dcterms:created>
  <dc:creator>slideplant</dc:creator>
  <dc:description/>
  <dc:language>en-US</dc:language>
  <cp:lastModifiedBy>yu wang</cp:lastModifiedBy>
  <dcterms:modified xsi:type="dcterms:W3CDTF">2015-08-08T10:04:48Z</dcterms:modified>
  <cp:revision>12</cp:revision>
  <dc:subject/>
  <dc:title>Power Point 演示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