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646-8434-4CE5-8A93-37C3FFD8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39A-1066-4376-9454-9273F75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7FB-E882-4B39-9A48-5D185576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E52-0000-4419-9DC5-C222B4E9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5F56-BA6F-4E0C-8BD7-1D79A00A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0C38-2AC2-4089-8F60-EF9CAF4A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F07A-405D-45C3-9846-3005B05C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1913-7D73-4DCC-BC3C-C2C4F08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690-6D5B-4B56-B336-BC14C42E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D54-13D0-48C1-BF8D-209030E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97E1-58D5-464F-A657-8072897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CD5-E93A-441B-9F0C-BCADBEEE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2A6-53C3-49DA-809B-76EDAB8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D4F-3013-4845-ABAD-440E76A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182-89F3-4D03-B406-9ED7BAC9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F868-E361-48AE-9123-407AE1BB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DD1-E392-46E3-BCDE-F4D4E009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11674-A716-47B3-8531-F7C3BCC0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6E75-9B36-4D32-9EF6-8B4239B5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D67F-845E-4BC9-91D1-87274A6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D360-7437-4A60-AC35-138DCE4E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C580-5C7F-4469-9044-5D4909A9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A69-95C1-4BC1-8EAC-D58F73A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8E9D-E154-47D1-8D5F-D3A221FF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0D14-C1AA-48C3-BFF8-2CE1E42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73D9-9B83-421D-9679-B2FF1CE3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6C04-3283-4F1E-89F7-FD5594F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8C3F-B3E8-4D05-BDA7-FA0E269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1A93-E042-43EF-AB19-57B8A0E7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842B-816F-4D19-A7F9-05440CE8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282-7DC9-465E-BA82-2EC95B51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88F-4299-4271-8032-5CCC271C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A1C-159F-44D2-9B22-F584927C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7BC-CEC6-4331-A59C-05ACB77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401-0A93-4CF6-A83B-B07F19C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9AF-F154-4869-87C6-DD18CC7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F58AAC-B89B-4339-84FF-EE8F9F449B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5"/>
          <p:cNvSpPr/>
          <p:nvPr/>
        </p:nvSpPr>
        <p:spPr>
          <a:xfrm>
            <a:off x="179640" y="121320"/>
            <a:ext cx="8856720" cy="5472360"/>
          </a:xfrm>
          <a:prstGeom prst="roundRect">
            <a:avLst>
              <a:gd name="adj" fmla="val 5475"/>
            </a:avLst>
          </a:prstGeom>
          <a:solidFill>
            <a:schemeClr val="bg1">
              <a:alpha val="96000"/>
            </a:schemeClr>
          </a:solidFill>
          <a:ln>
            <a:solidFill>
              <a:srgbClr val="f79646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8B8537-759A-4773-825A-B3C71B8C11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2FEF52-974D-4C73-B670-CDD59509D0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2427480" y="1993320"/>
            <a:ext cx="44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红色印象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9160" y="5305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lidan\Desktop\未标题-2.png"/>
          <p:cNvPicPr/>
          <p:nvPr/>
        </p:nvPicPr>
        <p:blipFill>
          <a:blip r:embed="rId1"/>
          <a:stretch/>
        </p:blipFill>
        <p:spPr>
          <a:xfrm>
            <a:off x="1815120" y="128592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2692440" y="14288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756680" y="14288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1852200" y="22096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2729520" y="23526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793760" y="23526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lidan\Desktop\未标题-2.png"/>
          <p:cNvPicPr/>
          <p:nvPr/>
        </p:nvPicPr>
        <p:blipFill>
          <a:blip r:embed="rId3"/>
          <a:stretch/>
        </p:blipFill>
        <p:spPr>
          <a:xfrm>
            <a:off x="1872000" y="31384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749320" y="32814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4813560" y="32814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lidan\Desktop\未标题-2.png"/>
          <p:cNvPicPr/>
          <p:nvPr/>
        </p:nvPicPr>
        <p:blipFill>
          <a:blip r:embed="rId4"/>
          <a:stretch/>
        </p:blipFill>
        <p:spPr>
          <a:xfrm>
            <a:off x="1872000" y="4067280"/>
            <a:ext cx="2247480" cy="7902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"/>
          <p:cNvSpPr/>
          <p:nvPr/>
        </p:nvSpPr>
        <p:spPr>
          <a:xfrm>
            <a:off x="2749320" y="42102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13560" y="421020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5587920" y="857160"/>
            <a:ext cx="1212120" cy="1643040"/>
          </a:xfrm>
          <a:custGeom>
            <a:avLst/>
            <a:gdLst>
              <a:gd name="textAreaLeft" fmla="*/ 0 w 1212120"/>
              <a:gd name="textAreaRight" fmla="*/ 1212480 w 12121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100000">
                <a:srgbClr val="b9abab"/>
              </a:gs>
              <a:gs pos="100000">
                <a:srgbClr val="9e8986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15"/>
          <p:cNvSpPr/>
          <p:nvPr/>
        </p:nvSpPr>
        <p:spPr>
          <a:xfrm flipH="1" flipV="1">
            <a:off x="2337120" y="3468600"/>
            <a:ext cx="939960" cy="1668960"/>
          </a:xfrm>
          <a:custGeom>
            <a:avLst/>
            <a:gdLst>
              <a:gd name="textAreaLeft" fmla="*/ -360 w 939960"/>
              <a:gd name="textAreaRight" fmla="*/ 939960 w 939960"/>
              <a:gd name="textAreaTop" fmla="*/ 360 h 1668960"/>
              <a:gd name="textAreaBottom" fmla="*/ 1669680 h 1668960"/>
            </a:gdLst>
            <a:ahLst/>
            <a:rect l="textAreaLeft" t="textAreaTop" r="textAreaRight" b="textAreaBottom"/>
            <a:pathLst>
              <a:path w="974023" h="1224788">
                <a:moveTo>
                  <a:pt x="499868" y="0"/>
                </a:moveTo>
                <a:lnTo>
                  <a:pt x="973423" y="260202"/>
                </a:lnTo>
                <a:lnTo>
                  <a:pt x="974023" y="260202"/>
                </a:lnTo>
                <a:cubicBezTo>
                  <a:pt x="973816" y="531818"/>
                  <a:pt x="973610" y="803433"/>
                  <a:pt x="973403" y="1075049"/>
                </a:cubicBezTo>
                <a:cubicBezTo>
                  <a:pt x="956461" y="1161082"/>
                  <a:pt x="918838" y="1220855"/>
                  <a:pt x="836204" y="1223648"/>
                </a:cubicBezTo>
                <a:lnTo>
                  <a:pt x="0" y="1224788"/>
                </a:lnTo>
                <a:lnTo>
                  <a:pt x="0" y="260202"/>
                </a:lnTo>
                <a:lnTo>
                  <a:pt x="499868" y="0"/>
                </a:lnTo>
                <a:close/>
              </a:path>
            </a:pathLst>
          </a:custGeom>
          <a:gradFill rotWithShape="0">
            <a:gsLst>
              <a:gs pos="73000">
                <a:srgbClr val="b9abab"/>
              </a:gs>
              <a:gs pos="100000">
                <a:srgbClr val="9e8986"/>
              </a:gs>
            </a:gsLst>
            <a:lin ang="16200000"/>
          </a:gradFill>
          <a:ln>
            <a:solidFill>
              <a:srgbClr val="ffffff"/>
            </a:solidFill>
            <a:round/>
          </a:ln>
          <a:effectLst>
            <a:outerShdw algn="bl" blurRad="50760" dir="18900000" dist="37674" rotWithShape="0">
              <a:srgbClr val="000000">
                <a:alpha val="7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2955240" y="3462480"/>
            <a:ext cx="2988360" cy="1190160"/>
            <a:chOff x="2955240" y="3462480"/>
            <a:chExt cx="2988360" cy="1190160"/>
          </a:xfrm>
        </p:grpSpPr>
        <p:sp>
          <p:nvSpPr>
            <p:cNvPr id="143" name="矩形 15"/>
            <p:cNvSpPr/>
            <p:nvPr/>
          </p:nvSpPr>
          <p:spPr>
            <a:xfrm flipH="1" flipV="1">
              <a:off x="2957760" y="3858480"/>
              <a:ext cx="863280" cy="794160"/>
            </a:xfrm>
            <a:custGeom>
              <a:avLst/>
              <a:gdLst>
                <a:gd name="textAreaLeft" fmla="*/ 360 w 863280"/>
                <a:gd name="textAreaRight" fmla="*/ 864000 w 863280"/>
                <a:gd name="textAreaTop" fmla="*/ 360 h 794160"/>
                <a:gd name="textAreaBottom" fmla="*/ 794880 h 794160"/>
              </a:gdLst>
              <a:ahLst/>
              <a:rect l="textAreaLeft" t="textAreaTop" r="textAreaRight" b="textAreaBottom"/>
              <a:pathLst>
                <a:path w="974023" h="1373875">
                  <a:moveTo>
                    <a:pt x="486712" y="0"/>
                  </a:moveTo>
                  <a:lnTo>
                    <a:pt x="973423" y="409289"/>
                  </a:lnTo>
                  <a:lnTo>
                    <a:pt x="974023" y="409289"/>
                  </a:lnTo>
                  <a:cubicBezTo>
                    <a:pt x="973816" y="680905"/>
                    <a:pt x="973610" y="952520"/>
                    <a:pt x="973403" y="1224136"/>
                  </a:cubicBezTo>
                  <a:cubicBezTo>
                    <a:pt x="956461" y="1310169"/>
                    <a:pt x="918838" y="1369942"/>
                    <a:pt x="836204" y="1372735"/>
                  </a:cubicBezTo>
                  <a:lnTo>
                    <a:pt x="0" y="1373875"/>
                  </a:lnTo>
                  <a:lnTo>
                    <a:pt x="0" y="409289"/>
                  </a:lnTo>
                  <a:lnTo>
                    <a:pt x="486712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9e8986"/>
                </a:gs>
                <a:gs pos="100000">
                  <a:srgbClr val="9e8986"/>
                </a:gs>
              </a:gsLst>
              <a:lin ang="16200000"/>
            </a:gradFill>
            <a:ln w="3175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coolSlant" w="6350" h="12700"/>
              <a:bevelB prst="coolSlant" w="9525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平行四边形 1"/>
            <p:cNvSpPr/>
            <p:nvPr/>
          </p:nvSpPr>
          <p:spPr>
            <a:xfrm rot="10800000">
              <a:off x="2955240" y="3462480"/>
              <a:ext cx="2988360" cy="472320"/>
            </a:xfrm>
            <a:custGeom>
              <a:avLst/>
              <a:gdLst>
                <a:gd name="textAreaLeft" fmla="*/ 0 w 2988360"/>
                <a:gd name="textAreaRight" fmla="*/ 2988720 w 29883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2061224" h="140787">
                  <a:moveTo>
                    <a:pt x="0" y="139681"/>
                  </a:moveTo>
                  <a:cubicBezTo>
                    <a:pt x="123799" y="67496"/>
                    <a:pt x="142671" y="30585"/>
                    <a:pt x="182672" y="25514"/>
                  </a:cubicBezTo>
                  <a:cubicBezTo>
                    <a:pt x="222673" y="20443"/>
                    <a:pt x="1378768" y="23883"/>
                    <a:pt x="1976816" y="23068"/>
                  </a:cubicBezTo>
                  <a:cubicBezTo>
                    <a:pt x="2048534" y="23197"/>
                    <a:pt x="2054159" y="-4876"/>
                    <a:pt x="2061224" y="744"/>
                  </a:cubicBezTo>
                  <a:cubicBezTo>
                    <a:pt x="2041692" y="35688"/>
                    <a:pt x="2049477" y="33451"/>
                    <a:pt x="2019209" y="56791"/>
                  </a:cubicBezTo>
                  <a:cubicBezTo>
                    <a:pt x="1988941" y="80131"/>
                    <a:pt x="1933682" y="117597"/>
                    <a:pt x="1879614" y="140787"/>
                  </a:cubicBezTo>
                  <a:lnTo>
                    <a:pt x="0" y="1396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2600000"/>
            </a:gra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 prstMaterial="matte">
              <a:bevelT w="6350" h="6350"/>
              <a:bevelB w="952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矩形 15"/>
          <p:cNvSpPr/>
          <p:nvPr/>
        </p:nvSpPr>
        <p:spPr>
          <a:xfrm>
            <a:off x="5559480" y="1951200"/>
            <a:ext cx="1212120" cy="539640"/>
          </a:xfrm>
          <a:custGeom>
            <a:avLst/>
            <a:gdLst>
              <a:gd name="textAreaLeft" fmla="*/ 0 w 1212120"/>
              <a:gd name="textAreaRight" fmla="*/ 1212480 w 12121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6" name="组合 20"/>
          <p:cNvGrpSpPr/>
          <p:nvPr/>
        </p:nvGrpSpPr>
        <p:grpSpPr>
          <a:xfrm>
            <a:off x="3763080" y="1423800"/>
            <a:ext cx="2217600" cy="1112040"/>
            <a:chOff x="3763080" y="1423800"/>
            <a:chExt cx="2217600" cy="1112040"/>
          </a:xfrm>
        </p:grpSpPr>
        <p:sp>
          <p:nvSpPr>
            <p:cNvPr id="147" name="矩形 15"/>
            <p:cNvSpPr/>
            <p:nvPr/>
          </p:nvSpPr>
          <p:spPr>
            <a:xfrm flipH="1" flipV="1" rot="10800000">
              <a:off x="5236920" y="1423800"/>
              <a:ext cx="741240" cy="769680"/>
            </a:xfrm>
            <a:custGeom>
              <a:avLst/>
              <a:gdLst>
                <a:gd name="textAreaLeft" fmla="*/ -360 w 741240"/>
                <a:gd name="textAreaRight" fmla="*/ 741240 w 741240"/>
                <a:gd name="textAreaTop" fmla="*/ 360 h 769680"/>
                <a:gd name="textAreaBottom" fmla="*/ 770400 h 769680"/>
              </a:gdLst>
              <a:ahLst/>
              <a:rect l="textAreaLeft" t="textAreaTop" r="textAreaRight" b="textAreaBottom"/>
              <a:pathLst>
                <a:path w="974023" h="1373875">
                  <a:moveTo>
                    <a:pt x="486712" y="0"/>
                  </a:moveTo>
                  <a:lnTo>
                    <a:pt x="973423" y="409289"/>
                  </a:lnTo>
                  <a:lnTo>
                    <a:pt x="974023" y="409289"/>
                  </a:lnTo>
                  <a:cubicBezTo>
                    <a:pt x="973816" y="680905"/>
                    <a:pt x="973610" y="952520"/>
                    <a:pt x="973403" y="1224136"/>
                  </a:cubicBezTo>
                  <a:cubicBezTo>
                    <a:pt x="956461" y="1310169"/>
                    <a:pt x="918838" y="1369942"/>
                    <a:pt x="836204" y="1372735"/>
                  </a:cubicBezTo>
                  <a:lnTo>
                    <a:pt x="0" y="1373875"/>
                  </a:lnTo>
                  <a:lnTo>
                    <a:pt x="0" y="409289"/>
                  </a:lnTo>
                  <a:lnTo>
                    <a:pt x="486712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b9abab"/>
                </a:gs>
                <a:gs pos="100000">
                  <a:srgbClr val="9e8986"/>
                </a:gs>
              </a:gsLst>
              <a:lin ang="162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1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coolSlant" w="6350" h="12700"/>
              <a:bevelB prst="coolSlant" w="9525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平行四边形 1"/>
            <p:cNvSpPr/>
            <p:nvPr/>
          </p:nvSpPr>
          <p:spPr>
            <a:xfrm>
              <a:off x="3763080" y="1960560"/>
              <a:ext cx="2217600" cy="575280"/>
            </a:xfrm>
            <a:custGeom>
              <a:avLst/>
              <a:gdLst>
                <a:gd name="textAreaLeft" fmla="*/ 0 w 2217600"/>
                <a:gd name="textAreaRight" fmla="*/ 2217960 w 221760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2144515" h="205154">
                  <a:moveTo>
                    <a:pt x="0" y="205154"/>
                  </a:moveTo>
                  <a:cubicBezTo>
                    <a:pt x="63674" y="118910"/>
                    <a:pt x="189059" y="94854"/>
                    <a:pt x="268623" y="90987"/>
                  </a:cubicBezTo>
                  <a:lnTo>
                    <a:pt x="2062767" y="88541"/>
                  </a:lnTo>
                  <a:cubicBezTo>
                    <a:pt x="2112003" y="86877"/>
                    <a:pt x="2134420" y="51262"/>
                    <a:pt x="2144515" y="0"/>
                  </a:cubicBezTo>
                  <a:cubicBezTo>
                    <a:pt x="2144414" y="8339"/>
                    <a:pt x="2144313" y="16677"/>
                    <a:pt x="2144213" y="25016"/>
                  </a:cubicBezTo>
                  <a:cubicBezTo>
                    <a:pt x="2143132" y="44467"/>
                    <a:pt x="2139739" y="78589"/>
                    <a:pt x="2105160" y="122264"/>
                  </a:cubicBezTo>
                  <a:lnTo>
                    <a:pt x="2050677" y="202476"/>
                  </a:lnTo>
                  <a:lnTo>
                    <a:pt x="0" y="20515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9d9d9"/>
                </a:gs>
                <a:gs pos="100000">
                  <a:srgbClr val="ffffff"/>
                </a:gs>
              </a:gsLst>
              <a:lin ang="12600000"/>
            </a:gradFill>
            <a:ln>
              <a:noFill/>
            </a:ln>
            <a:effectLst>
              <a:outerShdw algn="ctr" blurRad="63360" rotWithShape="0" sx="102000" sy="102000">
                <a:schemeClr val="tx1">
                  <a:lumMod val="50000"/>
                  <a:lumOff val="50000"/>
                  <a:alpha val="40000"/>
                </a:schemeClr>
              </a:outerShdw>
            </a:effectLst>
            <a:scene3d>
              <a:camera prst="orthographicFront"/>
              <a:lightRig dir="t" rig="threePt"/>
            </a:scene3d>
            <a:sp3d prstMaterial="matte">
              <a:bevelT w="6350" h="6350"/>
              <a:bevelB w="952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9" name="矩形 15"/>
          <p:cNvSpPr/>
          <p:nvPr/>
        </p:nvSpPr>
        <p:spPr>
          <a:xfrm>
            <a:off x="5237280" y="1679040"/>
            <a:ext cx="741240" cy="539640"/>
          </a:xfrm>
          <a:custGeom>
            <a:avLst/>
            <a:gdLst>
              <a:gd name="textAreaLeft" fmla="*/ 0 w 741240"/>
              <a:gd name="textAreaRight" fmla="*/ 741600 w 7412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15"/>
          <p:cNvSpPr/>
          <p:nvPr/>
        </p:nvSpPr>
        <p:spPr>
          <a:xfrm rot="10800000">
            <a:off x="2365200" y="3468960"/>
            <a:ext cx="3589560" cy="434160"/>
          </a:xfrm>
          <a:custGeom>
            <a:avLst/>
            <a:gdLst>
              <a:gd name="textAreaLeft" fmla="*/ 0 w 3589560"/>
              <a:gd name="textAreaRight" fmla="*/ 3589920 w 3589560"/>
              <a:gd name="textAreaTop" fmla="*/ 0 h 434160"/>
              <a:gd name="textAreaBottom" fmla="*/ 434520 h 434160"/>
            </a:gdLst>
            <a:ahLst/>
            <a:rect l="textAreaLeft" t="textAreaTop" r="textAreaRight" b="textAreaBottom"/>
            <a:pathLst>
              <a:path w="973423" h="969903">
                <a:moveTo>
                  <a:pt x="75332" y="125844"/>
                </a:moveTo>
                <a:cubicBezTo>
                  <a:pt x="98097" y="145869"/>
                  <a:pt x="811086" y="5317"/>
                  <a:pt x="973423" y="5317"/>
                </a:cubicBezTo>
                <a:lnTo>
                  <a:pt x="971440" y="0"/>
                </a:lnTo>
                <a:cubicBezTo>
                  <a:pt x="971233" y="271616"/>
                  <a:pt x="971544" y="191219"/>
                  <a:pt x="971337" y="462835"/>
                </a:cubicBezTo>
                <a:cubicBezTo>
                  <a:pt x="968600" y="609488"/>
                  <a:pt x="995419" y="948955"/>
                  <a:pt x="836204" y="968762"/>
                </a:cubicBezTo>
                <a:lnTo>
                  <a:pt x="0" y="969903"/>
                </a:lnTo>
                <a:cubicBezTo>
                  <a:pt x="25933" y="713617"/>
                  <a:pt x="52567" y="105819"/>
                  <a:pt x="75332" y="125844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61176"/>
                </a:srgbClr>
              </a:gs>
            </a:gsLst>
            <a:lin ang="162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15"/>
          <p:cNvSpPr/>
          <p:nvPr/>
        </p:nvSpPr>
        <p:spPr>
          <a:xfrm rot="10800000">
            <a:off x="2957760" y="3874680"/>
            <a:ext cx="851040" cy="539640"/>
          </a:xfrm>
          <a:custGeom>
            <a:avLst/>
            <a:gdLst>
              <a:gd name="textAreaLeft" fmla="*/ 0 w 851040"/>
              <a:gd name="textAreaRight" fmla="*/ 851400 w 8510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4023" h="1206104">
                <a:moveTo>
                  <a:pt x="486712" y="0"/>
                </a:moveTo>
                <a:lnTo>
                  <a:pt x="973423" y="241518"/>
                </a:lnTo>
                <a:lnTo>
                  <a:pt x="974023" y="241518"/>
                </a:lnTo>
                <a:cubicBezTo>
                  <a:pt x="973816" y="513134"/>
                  <a:pt x="973610" y="784749"/>
                  <a:pt x="973403" y="1056365"/>
                </a:cubicBezTo>
                <a:cubicBezTo>
                  <a:pt x="956461" y="1142398"/>
                  <a:pt x="918838" y="1202171"/>
                  <a:pt x="836204" y="1204964"/>
                </a:cubicBezTo>
                <a:lnTo>
                  <a:pt x="0" y="1206104"/>
                </a:lnTo>
                <a:lnTo>
                  <a:pt x="0" y="241518"/>
                </a:lnTo>
                <a:lnTo>
                  <a:pt x="486712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2352"/>
                </a:srgbClr>
              </a:gs>
            </a:gsLst>
            <a:lin ang="16200000"/>
          </a:gradFill>
          <a:ln>
            <a:noFill/>
          </a:ln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 rot="7378800">
            <a:off x="2053800" y="3482280"/>
            <a:ext cx="1308240" cy="95652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956520"/>
              <a:gd name="textAreaBottom" fmla="*/ 956880 h 956520"/>
            </a:gdLst>
            <a:ahLst/>
            <a:rect l="textAreaLeft" t="textAreaTop" r="textAreaRight" b="textAreaBottom"/>
            <a:pathLst>
              <a:path w="1107924" h="1067198">
                <a:moveTo>
                  <a:pt x="0" y="372794"/>
                </a:moveTo>
                <a:cubicBezTo>
                  <a:pt x="304834" y="373759"/>
                  <a:pt x="337819" y="379114"/>
                  <a:pt x="347268" y="389388"/>
                </a:cubicBezTo>
                <a:cubicBezTo>
                  <a:pt x="419216" y="315437"/>
                  <a:pt x="780052" y="-4469"/>
                  <a:pt x="834255" y="49"/>
                </a:cubicBezTo>
                <a:cubicBezTo>
                  <a:pt x="930839" y="195885"/>
                  <a:pt x="937295" y="212737"/>
                  <a:pt x="1107924" y="527645"/>
                </a:cubicBezTo>
                <a:cubicBezTo>
                  <a:pt x="953727" y="650950"/>
                  <a:pt x="538993" y="1130105"/>
                  <a:pt x="373147" y="1060285"/>
                </a:cubicBezTo>
                <a:cubicBezTo>
                  <a:pt x="309820" y="1004579"/>
                  <a:pt x="147108" y="652840"/>
                  <a:pt x="0" y="372794"/>
                </a:cubicBezTo>
                <a:close/>
              </a:path>
            </a:pathLst>
          </a:custGeom>
          <a:gradFill rotWithShape="0">
            <a:gsLst>
              <a:gs pos="0">
                <a:srgbClr val="69595c"/>
              </a:gs>
              <a:gs pos="100000">
                <a:srgbClr val="b2a9ae">
                  <a:alpha val="0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平行四边形 1"/>
          <p:cNvSpPr/>
          <p:nvPr/>
        </p:nvSpPr>
        <p:spPr>
          <a:xfrm flipH="1" flipV="1" rot="10800000">
            <a:off x="2340720" y="2357640"/>
            <a:ext cx="4457880" cy="1289880"/>
          </a:xfrm>
          <a:custGeom>
            <a:avLst/>
            <a:gdLst>
              <a:gd name="textAreaLeft" fmla="*/ -360 w 4457880"/>
              <a:gd name="textAreaRight" fmla="*/ 4457880 w 4457880"/>
              <a:gd name="textAreaTop" fmla="*/ -360 h 1289880"/>
              <a:gd name="textAreaBottom" fmla="*/ 1289880 h 1289880"/>
            </a:gdLst>
            <a:ahLst/>
            <a:rect l="textAreaLeft" t="textAreaTop" r="textAreaRight" b="textAreaBottom"/>
            <a:pathLst>
              <a:path w="6423317" h="1289582">
                <a:moveTo>
                  <a:pt x="6423317" y="0"/>
                </a:moveTo>
                <a:cubicBezTo>
                  <a:pt x="6423040" y="15909"/>
                  <a:pt x="6422762" y="31819"/>
                  <a:pt x="6422485" y="47728"/>
                </a:cubicBezTo>
                <a:cubicBezTo>
                  <a:pt x="6419512" y="84840"/>
                  <a:pt x="6410180" y="149941"/>
                  <a:pt x="6315078" y="233270"/>
                </a:cubicBezTo>
                <a:lnTo>
                  <a:pt x="5903526" y="653596"/>
                </a:lnTo>
                <a:cubicBezTo>
                  <a:pt x="5553355" y="1021954"/>
                  <a:pt x="5461783" y="1105785"/>
                  <a:pt x="5159245" y="1115986"/>
                </a:cubicBezTo>
                <a:lnTo>
                  <a:pt x="198756" y="1127793"/>
                </a:lnTo>
                <a:cubicBezTo>
                  <a:pt x="138823" y="1126208"/>
                  <a:pt x="27764" y="1191778"/>
                  <a:pt x="0" y="1289582"/>
                </a:cubicBezTo>
                <a:cubicBezTo>
                  <a:pt x="277" y="1273673"/>
                  <a:pt x="555" y="1257763"/>
                  <a:pt x="832" y="1241854"/>
                </a:cubicBezTo>
                <a:cubicBezTo>
                  <a:pt x="3805" y="1204742"/>
                  <a:pt x="13137" y="1139641"/>
                  <a:pt x="108239" y="1056312"/>
                </a:cubicBezTo>
                <a:lnTo>
                  <a:pt x="519791" y="635986"/>
                </a:lnTo>
                <a:cubicBezTo>
                  <a:pt x="869962" y="267628"/>
                  <a:pt x="961534" y="183797"/>
                  <a:pt x="1264072" y="173596"/>
                </a:cubicBezTo>
                <a:lnTo>
                  <a:pt x="6198485" y="168930"/>
                </a:lnTo>
                <a:cubicBezTo>
                  <a:pt x="6333899" y="165755"/>
                  <a:pt x="6395553" y="97804"/>
                  <a:pt x="6423317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9d9d9"/>
              </a:gs>
              <a:gs pos="100000">
                <a:srgbClr val="ffffff"/>
              </a:gs>
            </a:gsLst>
            <a:lin ang="1800000"/>
          </a:gradFill>
          <a:ln>
            <a:noFill/>
          </a:ln>
          <a:effectLst>
            <a:outerShdw algn="ctr" blurRad="63360" rotWithShape="0" sx="102000" sy="102000">
              <a:srgbClr val="000000">
                <a:alpha val="23000"/>
              </a:srgbClr>
            </a:outerShdw>
          </a:effectLst>
          <a:scene3d>
            <a:camera prst="orthographicFront"/>
            <a:lightRig dir="t" rig="threePt"/>
          </a:scene3d>
          <a:sp3d>
            <a:bevelT w="6350" h="12700"/>
            <a:bevelB w="952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4" name="直接连接符 28"/>
          <p:cNvCxnSpPr/>
          <p:nvPr/>
        </p:nvCxnSpPr>
        <p:spPr>
          <a:xfrm>
            <a:off x="6718680" y="1315080"/>
            <a:ext cx="360" cy="904320"/>
          </a:xfrm>
          <a:prstGeom prst="straightConnector1">
            <a:avLst/>
          </a:prstGeom>
          <a:ln w="15875">
            <a:solidFill>
              <a:srgbClr val="89615f"/>
            </a:solidFill>
            <a:round/>
          </a:ln>
        </p:spPr>
      </p:cxnSp>
      <p:sp>
        <p:nvSpPr>
          <p:cNvPr id="155" name="文本框 39"/>
          <p:cNvSpPr/>
          <p:nvPr/>
        </p:nvSpPr>
        <p:spPr>
          <a:xfrm>
            <a:off x="6814800" y="1703160"/>
            <a:ext cx="1516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ts val="1125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1"/>
          <p:cNvSpPr/>
          <p:nvPr/>
        </p:nvSpPr>
        <p:spPr>
          <a:xfrm>
            <a:off x="2824560" y="2752920"/>
            <a:ext cx="1293480" cy="49428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494280"/>
              <a:gd name="textAreaBottom" fmla="*/ 494640 h 49428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400" spc="222" strike="noStrike">
                <a:solidFill>
                  <a:srgbClr val="595959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400" spc="222" strike="noStrike">
                <a:solidFill>
                  <a:srgbClr val="595959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31"/>
          <p:cNvCxnSpPr/>
          <p:nvPr/>
        </p:nvCxnSpPr>
        <p:spPr>
          <a:xfrm>
            <a:off x="5460840" y="2552760"/>
            <a:ext cx="8280" cy="900360"/>
          </a:xfrm>
          <a:prstGeom prst="straightConnector1">
            <a:avLst/>
          </a:prstGeom>
          <a:ln w="15875">
            <a:solidFill>
              <a:srgbClr val="8181ad"/>
            </a:solidFill>
            <a:round/>
          </a:ln>
        </p:spPr>
      </p:cxnSp>
      <p:sp>
        <p:nvSpPr>
          <p:cNvPr id="158" name="文本框 45"/>
          <p:cNvSpPr/>
          <p:nvPr/>
        </p:nvSpPr>
        <p:spPr>
          <a:xfrm>
            <a:off x="4122360" y="2886480"/>
            <a:ext cx="133452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125"/>
              </a:lnSpc>
            </a:pPr>
            <a:r>
              <a:rPr b="0" lang="zh-CN" sz="1800" spc="-1" strike="noStrike">
                <a:solidFill>
                  <a:srgbClr val="8282ae"/>
                </a:solidFill>
                <a:latin typeface="微软雅黑"/>
                <a:ea typeface="微软雅黑"/>
              </a:rPr>
              <a:t>请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3"/>
          <p:cNvSpPr/>
          <p:nvPr/>
        </p:nvSpPr>
        <p:spPr>
          <a:xfrm>
            <a:off x="5474880" y="2536200"/>
            <a:ext cx="60192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5f6389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1"/>
          <p:cNvSpPr/>
          <p:nvPr/>
        </p:nvSpPr>
        <p:spPr>
          <a:xfrm>
            <a:off x="3524400" y="1558440"/>
            <a:ext cx="1617840" cy="554760"/>
          </a:xfrm>
          <a:custGeom>
            <a:avLst/>
            <a:gdLst>
              <a:gd name="textAreaLeft" fmla="*/ 0 w 1617840"/>
              <a:gd name="textAreaRight" fmla="*/ 1618200 w 1617840"/>
              <a:gd name="textAreaTop" fmla="*/ 0 h 554760"/>
              <a:gd name="textAreaBottom" fmla="*/ 555120 h 55476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5"/>
          <p:cNvSpPr/>
          <p:nvPr/>
        </p:nvSpPr>
        <p:spPr>
          <a:xfrm>
            <a:off x="6081480" y="1219680"/>
            <a:ext cx="60192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895d5d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6"/>
          <p:cNvSpPr/>
          <p:nvPr/>
        </p:nvSpPr>
        <p:spPr>
          <a:xfrm>
            <a:off x="2372760" y="3874320"/>
            <a:ext cx="725040" cy="6166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rig="threePt" dir="t"/>
            </a:scene3d>
            <a:sp3d>
              <a:bevelB prst="slope" w="381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直接连接符 37"/>
          <p:cNvCxnSpPr/>
          <p:nvPr/>
        </p:nvCxnSpPr>
        <p:spPr>
          <a:xfrm flipH="1">
            <a:off x="2442960" y="4420440"/>
            <a:ext cx="1260360" cy="1080"/>
          </a:xfrm>
          <a:prstGeom prst="straightConnector1">
            <a:avLst/>
          </a:prstGeom>
          <a:ln w="15875">
            <a:solidFill>
              <a:srgbClr val="484848"/>
            </a:solidFill>
            <a:round/>
          </a:ln>
        </p:spPr>
      </p:cxnSp>
      <p:sp>
        <p:nvSpPr>
          <p:cNvPr id="164" name="文本框 62"/>
          <p:cNvSpPr/>
          <p:nvPr/>
        </p:nvSpPr>
        <p:spPr>
          <a:xfrm>
            <a:off x="1000080" y="4129200"/>
            <a:ext cx="132696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ts val="1125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1"/>
          <p:cNvSpPr/>
          <p:nvPr/>
        </p:nvSpPr>
        <p:spPr>
          <a:xfrm>
            <a:off x="3840840" y="3935880"/>
            <a:ext cx="1617840" cy="554760"/>
          </a:xfrm>
          <a:custGeom>
            <a:avLst/>
            <a:gdLst>
              <a:gd name="textAreaLeft" fmla="*/ 0 w 1617840"/>
              <a:gd name="textAreaRight" fmla="*/ 1618200 w 1617840"/>
              <a:gd name="textAreaTop" fmla="*/ 0 h 554760"/>
              <a:gd name="textAreaBottom" fmla="*/ 555120 h 554760"/>
            </a:gdLst>
            <a:ahLst/>
            <a:rect l="textAreaLeft" t="textAreaTop" r="textAreaRight" b="textAreaBottom"/>
            <a:pathLst>
              <a:path w="1306294" h="406930">
                <a:moveTo>
                  <a:pt x="174172" y="0"/>
                </a:moveTo>
                <a:lnTo>
                  <a:pt x="1306294" y="0"/>
                </a:lnTo>
                <a:lnTo>
                  <a:pt x="1306294" y="392415"/>
                </a:lnTo>
                <a:lnTo>
                  <a:pt x="0" y="406930"/>
                </a:lnTo>
                <a:lnTo>
                  <a:pt x="17417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0"/>
          <p:cNvGrpSpPr/>
          <p:nvPr/>
        </p:nvGrpSpPr>
        <p:grpSpPr>
          <a:xfrm>
            <a:off x="5613120" y="3048480"/>
            <a:ext cx="301680" cy="388440"/>
            <a:chOff x="5613120" y="3048480"/>
            <a:chExt cx="301680" cy="388440"/>
          </a:xfrm>
        </p:grpSpPr>
        <p:sp>
          <p:nvSpPr>
            <p:cNvPr id="167" name="Freeform 19"/>
            <p:cNvSpPr/>
            <p:nvPr/>
          </p:nvSpPr>
          <p:spPr>
            <a:xfrm>
              <a:off x="5710320" y="3065040"/>
              <a:ext cx="71640" cy="72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5774760" y="304848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5805720" y="3139920"/>
              <a:ext cx="18720" cy="19080"/>
            </a:xfrm>
            <a:prstGeom prst="ellipse">
              <a:avLst/>
            </a:pr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5725080" y="3177000"/>
              <a:ext cx="12600" cy="12960"/>
            </a:xfrm>
            <a:prstGeom prst="ellipse">
              <a:avLst/>
            </a:pr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5613120" y="3137400"/>
              <a:ext cx="301680" cy="2995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>
              <a:off x="5774760" y="3215160"/>
              <a:ext cx="8280" cy="8640"/>
            </a:xfrm>
            <a:prstGeom prst="ellipse">
              <a:avLst/>
            </a:prstGeom>
            <a:solidFill>
              <a:srgbClr val="8181ad"/>
            </a:solidFill>
            <a:ln w="9525">
              <a:solidFill>
                <a:srgbClr val="9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>
              <a:off x="5764680" y="3097080"/>
              <a:ext cx="99360" cy="399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818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Freeform 89"/>
          <p:cNvSpPr/>
          <p:nvPr/>
        </p:nvSpPr>
        <p:spPr>
          <a:xfrm>
            <a:off x="6194880" y="1843200"/>
            <a:ext cx="374760" cy="241200"/>
          </a:xfrm>
          <a:custGeom>
            <a:avLst/>
            <a:gdLst>
              <a:gd name="textAreaLeft" fmla="*/ 0 w 374760"/>
              <a:gd name="textAreaRight" fmla="*/ 375120 w 374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9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1560" rIns="6156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圆角矩形 1"/>
          <p:cNvSpPr/>
          <p:nvPr/>
        </p:nvSpPr>
        <p:spPr>
          <a:xfrm>
            <a:off x="3098160" y="4008240"/>
            <a:ext cx="503640" cy="323640"/>
          </a:xfrm>
          <a:custGeom>
            <a:avLst/>
            <a:gdLst>
              <a:gd name="textAreaLeft" fmla="*/ 0 w 503640"/>
              <a:gd name="textAreaRight" fmla="*/ 504000 w 503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04056" h="324036">
                <a:moveTo>
                  <a:pt x="252029" y="117150"/>
                </a:moveTo>
                <a:cubicBezTo>
                  <a:pt x="217306" y="117150"/>
                  <a:pt x="189158" y="145298"/>
                  <a:pt x="189158" y="180021"/>
                </a:cubicBezTo>
                <a:cubicBezTo>
                  <a:pt x="189158" y="214744"/>
                  <a:pt x="217306" y="242892"/>
                  <a:pt x="252029" y="242892"/>
                </a:cubicBezTo>
                <a:cubicBezTo>
                  <a:pt x="286752" y="242892"/>
                  <a:pt x="314900" y="214744"/>
                  <a:pt x="314900" y="180021"/>
                </a:cubicBezTo>
                <a:cubicBezTo>
                  <a:pt x="314900" y="145298"/>
                  <a:pt x="286752" y="117150"/>
                  <a:pt x="252029" y="117150"/>
                </a:cubicBezTo>
                <a:close/>
                <a:moveTo>
                  <a:pt x="252028" y="96339"/>
                </a:moveTo>
                <a:cubicBezTo>
                  <a:pt x="298244" y="96339"/>
                  <a:pt x="335709" y="133804"/>
                  <a:pt x="335709" y="180020"/>
                </a:cubicBezTo>
                <a:cubicBezTo>
                  <a:pt x="335709" y="226236"/>
                  <a:pt x="298244" y="263701"/>
                  <a:pt x="252028" y="263701"/>
                </a:cubicBezTo>
                <a:cubicBezTo>
                  <a:pt x="205812" y="263701"/>
                  <a:pt x="168347" y="226236"/>
                  <a:pt x="168347" y="180020"/>
                </a:cubicBezTo>
                <a:cubicBezTo>
                  <a:pt x="168347" y="133804"/>
                  <a:pt x="205812" y="96339"/>
                  <a:pt x="252028" y="96339"/>
                </a:cubicBezTo>
                <a:close/>
                <a:moveTo>
                  <a:pt x="252028" y="86863"/>
                </a:moveTo>
                <a:cubicBezTo>
                  <a:pt x="200579" y="86863"/>
                  <a:pt x="158871" y="128571"/>
                  <a:pt x="158871" y="180020"/>
                </a:cubicBezTo>
                <a:cubicBezTo>
                  <a:pt x="158871" y="231469"/>
                  <a:pt x="200579" y="273177"/>
                  <a:pt x="252028" y="273177"/>
                </a:cubicBezTo>
                <a:cubicBezTo>
                  <a:pt x="303477" y="273177"/>
                  <a:pt x="345185" y="231469"/>
                  <a:pt x="345185" y="180020"/>
                </a:cubicBezTo>
                <a:cubicBezTo>
                  <a:pt x="345185" y="128571"/>
                  <a:pt x="303477" y="86863"/>
                  <a:pt x="252028" y="86863"/>
                </a:cubicBezTo>
                <a:close/>
                <a:moveTo>
                  <a:pt x="360881" y="13144"/>
                </a:moveTo>
                <a:cubicBezTo>
                  <a:pt x="356673" y="13144"/>
                  <a:pt x="353261" y="16556"/>
                  <a:pt x="353261" y="20764"/>
                </a:cubicBezTo>
                <a:lnTo>
                  <a:pt x="353261" y="36004"/>
                </a:lnTo>
                <a:lnTo>
                  <a:pt x="398981" y="36004"/>
                </a:lnTo>
                <a:lnTo>
                  <a:pt x="398981" y="20764"/>
                </a:lnTo>
                <a:cubicBezTo>
                  <a:pt x="398981" y="16556"/>
                  <a:pt x="395569" y="13144"/>
                  <a:pt x="391361" y="13144"/>
                </a:cubicBezTo>
                <a:close/>
                <a:moveTo>
                  <a:pt x="352119" y="0"/>
                </a:moveTo>
                <a:lnTo>
                  <a:pt x="400123" y="0"/>
                </a:lnTo>
                <a:cubicBezTo>
                  <a:pt x="406752" y="0"/>
                  <a:pt x="412125" y="5373"/>
                  <a:pt x="412125" y="12002"/>
                </a:cubicBezTo>
                <a:lnTo>
                  <a:pt x="412125" y="36004"/>
                </a:lnTo>
                <a:lnTo>
                  <a:pt x="456050" y="36004"/>
                </a:lnTo>
                <a:cubicBezTo>
                  <a:pt x="482563" y="36004"/>
                  <a:pt x="504056" y="57497"/>
                  <a:pt x="504056" y="84010"/>
                </a:cubicBezTo>
                <a:lnTo>
                  <a:pt x="504056" y="276030"/>
                </a:lnTo>
                <a:cubicBezTo>
                  <a:pt x="504056" y="302543"/>
                  <a:pt x="482563" y="324036"/>
                  <a:pt x="456050" y="324036"/>
                </a:cubicBezTo>
                <a:lnTo>
                  <a:pt x="48006" y="324036"/>
                </a:lnTo>
                <a:cubicBezTo>
                  <a:pt x="21493" y="324036"/>
                  <a:pt x="0" y="302543"/>
                  <a:pt x="0" y="276030"/>
                </a:cubicBezTo>
                <a:lnTo>
                  <a:pt x="0" y="84010"/>
                </a:lnTo>
                <a:cubicBezTo>
                  <a:pt x="0" y="57497"/>
                  <a:pt x="21493" y="36004"/>
                  <a:pt x="48006" y="36004"/>
                </a:cubicBezTo>
                <a:lnTo>
                  <a:pt x="340117" y="36004"/>
                </a:lnTo>
                <a:lnTo>
                  <a:pt x="340117" y="12002"/>
                </a:lnTo>
                <a:cubicBezTo>
                  <a:pt x="340117" y="5373"/>
                  <a:pt x="345490" y="0"/>
                  <a:pt x="352119" y="0"/>
                </a:cubicBezTo>
                <a:close/>
              </a:path>
            </a:pathLst>
          </a:custGeom>
          <a:solidFill>
            <a:srgbClr val="47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泪滴形 40"/>
          <p:cNvSpPr/>
          <p:nvPr/>
        </p:nvSpPr>
        <p:spPr>
          <a:xfrm>
            <a:off x="2286000" y="300024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8" name="泪滴形 51"/>
          <p:cNvSpPr/>
          <p:nvPr/>
        </p:nvSpPr>
        <p:spPr>
          <a:xfrm flipH="1">
            <a:off x="4597200" y="300024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9" name="泪滴形 52"/>
          <p:cNvSpPr/>
          <p:nvPr/>
        </p:nvSpPr>
        <p:spPr>
          <a:xfrm flipV="1">
            <a:off x="2286000" y="71316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54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0" name="泪滴形 53"/>
          <p:cNvSpPr/>
          <p:nvPr/>
        </p:nvSpPr>
        <p:spPr>
          <a:xfrm flipH="1" flipV="1">
            <a:off x="4597200" y="713520"/>
            <a:ext cx="2214360" cy="22143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54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2966040" y="14551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5243400" y="145512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6"/>
          <p:cNvSpPr/>
          <p:nvPr/>
        </p:nvSpPr>
        <p:spPr>
          <a:xfrm>
            <a:off x="2966040" y="368064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5243400" y="3680640"/>
            <a:ext cx="912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平行四边形 1"/>
          <p:cNvSpPr/>
          <p:nvPr/>
        </p:nvSpPr>
        <p:spPr>
          <a:xfrm flipV="1" rot="16200000">
            <a:off x="3514320" y="3408120"/>
            <a:ext cx="2990160" cy="474840"/>
          </a:xfrm>
          <a:custGeom>
            <a:avLst/>
            <a:gdLst>
              <a:gd name="textAreaLeft" fmla="*/ 0 w 2990160"/>
              <a:gd name="textAreaRight" fmla="*/ 2990520 w 2990160"/>
              <a:gd name="textAreaTop" fmla="*/ -360 h 474840"/>
              <a:gd name="textAreaBottom" fmla="*/ 474840 h 474840"/>
            </a:gdLst>
            <a:ahLst/>
            <a:rect l="textAreaLeft" t="textAreaTop" r="textAreaRight" b="textAreaBottom"/>
            <a:pathLst>
              <a:path w="2832294" h="450000">
                <a:moveTo>
                  <a:pt x="2832294" y="5128"/>
                </a:moveTo>
                <a:lnTo>
                  <a:pt x="2832294" y="450000"/>
                </a:lnTo>
                <a:lnTo>
                  <a:pt x="2832294" y="450000"/>
                </a:lnTo>
                <a:lnTo>
                  <a:pt x="2832294" y="449892"/>
                </a:lnTo>
                <a:lnTo>
                  <a:pt x="0" y="449890"/>
                </a:lnTo>
                <a:cubicBezTo>
                  <a:pt x="331649" y="101015"/>
                  <a:pt x="412364" y="21618"/>
                  <a:pt x="698900" y="11957"/>
                </a:cubicBezTo>
                <a:lnTo>
                  <a:pt x="1678010" y="0"/>
                </a:lnTo>
                <a:lnTo>
                  <a:pt x="2832294" y="5128"/>
                </a:lnTo>
                <a:close/>
              </a:path>
            </a:pathLst>
          </a:custGeom>
          <a:gradFill rotWithShape="0">
            <a:gsLst>
              <a:gs pos="0">
                <a:srgbClr val="c4bd97"/>
              </a:gs>
              <a:gs pos="100000">
                <a:srgbClr val="4a452a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平行四边形 1"/>
          <p:cNvSpPr/>
          <p:nvPr/>
        </p:nvSpPr>
        <p:spPr>
          <a:xfrm flipH="1" flipV="1" rot="5400000">
            <a:off x="3988800" y="3419640"/>
            <a:ext cx="2977200" cy="469440"/>
          </a:xfrm>
          <a:custGeom>
            <a:avLst/>
            <a:gdLst>
              <a:gd name="textAreaLeft" fmla="*/ 360 w 2977200"/>
              <a:gd name="textAreaRight" fmla="*/ 2977920 w 2977200"/>
              <a:gd name="textAreaTop" fmla="*/ 360 h 469440"/>
              <a:gd name="textAreaBottom" fmla="*/ 470160 h 469440"/>
            </a:gdLst>
            <a:ahLst/>
            <a:rect l="textAreaLeft" t="textAreaTop" r="textAreaRight" b="textAreaBottom"/>
            <a:pathLst>
              <a:path w="2820146" h="444818">
                <a:moveTo>
                  <a:pt x="2820146" y="0"/>
                </a:moveTo>
                <a:lnTo>
                  <a:pt x="2820146" y="231986"/>
                </a:lnTo>
                <a:cubicBezTo>
                  <a:pt x="2820146" y="333086"/>
                  <a:pt x="2752899" y="418482"/>
                  <a:pt x="2660381" y="444818"/>
                </a:cubicBezTo>
                <a:lnTo>
                  <a:pt x="0" y="444818"/>
                </a:lnTo>
                <a:cubicBezTo>
                  <a:pt x="331649" y="95943"/>
                  <a:pt x="328165" y="10533"/>
                  <a:pt x="614701" y="872"/>
                </a:cubicBezTo>
                <a:lnTo>
                  <a:pt x="2820146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595959">
                  <a:alpha val="47058"/>
                </a:srgbClr>
              </a:gs>
            </a:gsLst>
            <a:lin ang="16200000"/>
          </a:gradFill>
          <a:ln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平行四边形 1"/>
          <p:cNvSpPr/>
          <p:nvPr/>
        </p:nvSpPr>
        <p:spPr>
          <a:xfrm flipV="1" rot="10800000">
            <a:off x="2097720" y="1222200"/>
            <a:ext cx="3094920" cy="1647000"/>
          </a:xfrm>
          <a:custGeom>
            <a:avLst/>
            <a:gdLst>
              <a:gd name="textAreaLeft" fmla="*/ 0 w 3094920"/>
              <a:gd name="textAreaRight" fmla="*/ 3095280 w 3094920"/>
              <a:gd name="textAreaTop" fmla="*/ -360 h 1647000"/>
              <a:gd name="textAreaBottom" fmla="*/ 1647000 h 1647000"/>
            </a:gdLst>
            <a:ahLst/>
            <a:rect l="textAreaLeft" t="textAreaTop" r="textAreaRight" b="textAreaBottom"/>
            <a:pathLst>
              <a:path w="2931499" h="1560092">
                <a:moveTo>
                  <a:pt x="2931499" y="329"/>
                </a:moveTo>
                <a:lnTo>
                  <a:pt x="2484190" y="0"/>
                </a:lnTo>
                <a:lnTo>
                  <a:pt x="704914" y="10994"/>
                </a:lnTo>
                <a:cubicBezTo>
                  <a:pt x="418378" y="20655"/>
                  <a:pt x="331649" y="100052"/>
                  <a:pt x="0" y="448927"/>
                </a:cubicBezTo>
                <a:lnTo>
                  <a:pt x="2481745" y="448927"/>
                </a:lnTo>
                <a:cubicBezTo>
                  <a:pt x="2483390" y="819315"/>
                  <a:pt x="2485036" y="1189704"/>
                  <a:pt x="2486681" y="1560092"/>
                </a:cubicBezTo>
                <a:lnTo>
                  <a:pt x="2718667" y="1560092"/>
                </a:lnTo>
                <a:cubicBezTo>
                  <a:pt x="2819767" y="1560092"/>
                  <a:pt x="2905163" y="1492845"/>
                  <a:pt x="2931499" y="1400327"/>
                </a:cubicBezTo>
                <a:lnTo>
                  <a:pt x="2931499" y="448927"/>
                </a:lnTo>
                <a:lnTo>
                  <a:pt x="2931499" y="329"/>
                </a:lnTo>
                <a:close/>
              </a:path>
            </a:pathLst>
          </a:custGeom>
          <a:gradFill rotWithShape="0">
            <a:gsLst>
              <a:gs pos="40000">
                <a:srgbClr val="fcfcfc"/>
              </a:gs>
              <a:gs pos="100000">
                <a:srgbClr val="d9d9d9"/>
              </a:gs>
            </a:gsLst>
            <a:lin ang="5400000"/>
          </a:gradFill>
          <a:ln>
            <a:noFill/>
          </a:ln>
          <a:effectLst>
            <a:outerShdw algn="br" blurRad="50760" dir="13500000" dist="37674" rotWithShape="0">
              <a:schemeClr val="bg1">
                <a:alpha val="40000"/>
              </a:schemeClr>
            </a:outerShdw>
          </a:effectLst>
          <a:scene3d>
            <a:camera prst="perspectiveFront"/>
            <a:lightRig dir="t" rig="threePt"/>
          </a:scene3d>
          <a:sp3d extrusionH="76200" contourW="12700">
            <a:extrusionClr>
              <a:schemeClr val="bg1">
                <a:lumMod val="95000"/>
              </a:schemeClr>
            </a:extrusionClr>
            <a:contourClr>
              <a:srgbClr val="f0f0f0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平行四边形 1"/>
          <p:cNvSpPr/>
          <p:nvPr/>
        </p:nvSpPr>
        <p:spPr>
          <a:xfrm flipH="1" rot="10800000">
            <a:off x="2613960" y="3338280"/>
            <a:ext cx="4862160" cy="462240"/>
          </a:xfrm>
          <a:custGeom>
            <a:avLst/>
            <a:gdLst>
              <a:gd name="textAreaLeft" fmla="*/ 360 w 4862160"/>
              <a:gd name="textAreaRight" fmla="*/ 4862880 w 48621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4605377" h="438042">
                <a:moveTo>
                  <a:pt x="982734" y="438042"/>
                </a:moveTo>
                <a:lnTo>
                  <a:pt x="4605377" y="438042"/>
                </a:lnTo>
                <a:cubicBezTo>
                  <a:pt x="4273728" y="89167"/>
                  <a:pt x="4186999" y="9770"/>
                  <a:pt x="3900463" y="109"/>
                </a:cubicBezTo>
                <a:lnTo>
                  <a:pt x="704914" y="0"/>
                </a:lnTo>
                <a:cubicBezTo>
                  <a:pt x="418378" y="9661"/>
                  <a:pt x="331649" y="89058"/>
                  <a:pt x="0" y="437933"/>
                </a:cubicBezTo>
                <a:lnTo>
                  <a:pt x="982503" y="437933"/>
                </a:lnTo>
                <a:cubicBezTo>
                  <a:pt x="982572" y="437996"/>
                  <a:pt x="982653" y="438019"/>
                  <a:pt x="982734" y="438042"/>
                </a:cubicBezTo>
                <a:close/>
              </a:path>
            </a:pathLst>
          </a:custGeom>
          <a:gradFill rotWithShape="0">
            <a:gsLst>
              <a:gs pos="0">
                <a:srgbClr val="a6a6a6"/>
              </a:gs>
              <a:gs pos="100000">
                <a:srgbClr val="f2f2f2"/>
              </a:gs>
            </a:gsLst>
            <a:lin ang="0"/>
          </a:gradFill>
          <a:ln w="0">
            <a:solidFill>
              <a:srgbClr val="ffffff">
                <a:lumMod val="95000"/>
                <a:alpha val="30000"/>
              </a:srgbClr>
            </a:solidFill>
          </a:ln>
          <a:effectLst>
            <a:outerShdw algn="tr" blurRad="50760" dir="8100000" dist="37674" rotWithShape="0">
              <a:srgbClr val="000000">
                <a:alpha val="1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平行四边形 1"/>
          <p:cNvSpPr/>
          <p:nvPr/>
        </p:nvSpPr>
        <p:spPr>
          <a:xfrm rot="5400000">
            <a:off x="3546360" y="699840"/>
            <a:ext cx="1171800" cy="316548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3165480"/>
              <a:gd name="textAreaBottom" fmla="*/ 3165840 h 3165480"/>
            </a:gdLst>
            <a:ahLst/>
            <a:rect l="textAreaLeft" t="textAreaTop" r="textAreaRight" b="textAreaBottom"/>
            <a:pathLst>
              <a:path w="1110229" h="2998322">
                <a:moveTo>
                  <a:pt x="0" y="2998322"/>
                </a:moveTo>
                <a:lnTo>
                  <a:pt x="0" y="2549440"/>
                </a:lnTo>
                <a:lnTo>
                  <a:pt x="0" y="484622"/>
                </a:lnTo>
                <a:cubicBezTo>
                  <a:pt x="105878" y="383946"/>
                  <a:pt x="236594" y="260725"/>
                  <a:pt x="397716" y="102514"/>
                </a:cubicBezTo>
                <a:cubicBezTo>
                  <a:pt x="476638" y="12442"/>
                  <a:pt x="538295" y="3604"/>
                  <a:pt x="573444" y="788"/>
                </a:cubicBezTo>
                <a:lnTo>
                  <a:pt x="618648" y="0"/>
                </a:lnTo>
                <a:cubicBezTo>
                  <a:pt x="526017" y="26296"/>
                  <a:pt x="458653" y="111752"/>
                  <a:pt x="458653" y="212940"/>
                </a:cubicBezTo>
                <a:lnTo>
                  <a:pt x="458653" y="2549742"/>
                </a:lnTo>
                <a:lnTo>
                  <a:pt x="1110229" y="2553147"/>
                </a:lnTo>
                <a:lnTo>
                  <a:pt x="1110229" y="2998322"/>
                </a:lnTo>
                <a:lnTo>
                  <a:pt x="458653" y="2998322"/>
                </a:lnTo>
                <a:close/>
              </a:path>
            </a:pathLst>
          </a:custGeom>
          <a:gradFill rotWithShape="0">
            <a:gsLst>
              <a:gs pos="0">
                <a:srgbClr val="494850"/>
              </a:gs>
              <a:gs pos="100000">
                <a:srgbClr val="62626c"/>
              </a:gs>
            </a:gsLst>
            <a:lin ang="20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1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平行四边形 1"/>
          <p:cNvSpPr/>
          <p:nvPr/>
        </p:nvSpPr>
        <p:spPr>
          <a:xfrm flipV="1">
            <a:off x="2097360" y="2683800"/>
            <a:ext cx="5380200" cy="652680"/>
          </a:xfrm>
          <a:custGeom>
            <a:avLst/>
            <a:gdLst>
              <a:gd name="textAreaLeft" fmla="*/ 0 w 5380200"/>
              <a:gd name="textAreaRight" fmla="*/ 5380560 w 5380200"/>
              <a:gd name="textAreaTop" fmla="*/ -360 h 652680"/>
              <a:gd name="textAreaBottom" fmla="*/ 652680 h 652680"/>
            </a:gdLst>
            <a:ahLst/>
            <a:rect l="textAreaLeft" t="textAreaTop" r="textAreaRight" b="textAreaBottom"/>
            <a:pathLst>
              <a:path w="5096128" h="618648">
                <a:moveTo>
                  <a:pt x="0" y="618648"/>
                </a:moveTo>
                <a:cubicBezTo>
                  <a:pt x="26296" y="526017"/>
                  <a:pt x="111752" y="458653"/>
                  <a:pt x="212940" y="458653"/>
                </a:cubicBezTo>
                <a:lnTo>
                  <a:pt x="4279232" y="438733"/>
                </a:lnTo>
                <a:lnTo>
                  <a:pt x="4391214" y="438041"/>
                </a:lnTo>
                <a:cubicBezTo>
                  <a:pt x="4677750" y="428380"/>
                  <a:pt x="4764479" y="348983"/>
                  <a:pt x="5096128" y="108"/>
                </a:cubicBezTo>
                <a:lnTo>
                  <a:pt x="4279232" y="108"/>
                </a:lnTo>
                <a:lnTo>
                  <a:pt x="4279232" y="0"/>
                </a:lnTo>
                <a:lnTo>
                  <a:pt x="1301574" y="0"/>
                </a:lnTo>
                <a:lnTo>
                  <a:pt x="484622" y="0"/>
                </a:lnTo>
                <a:cubicBezTo>
                  <a:pt x="383946" y="105878"/>
                  <a:pt x="260725" y="236594"/>
                  <a:pt x="102514" y="397716"/>
                </a:cubicBezTo>
                <a:cubicBezTo>
                  <a:pt x="12442" y="476638"/>
                  <a:pt x="3604" y="538295"/>
                  <a:pt x="788" y="573444"/>
                </a:cubicBezTo>
                <a:cubicBezTo>
                  <a:pt x="526" y="588512"/>
                  <a:pt x="263" y="603580"/>
                  <a:pt x="0" y="618648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404040"/>
              </a:gs>
              <a:gs pos="100000">
                <a:srgbClr val="808080"/>
              </a:gs>
            </a:gsLst>
            <a:lin ang="0"/>
          </a:gradFill>
          <a:ln w="0">
            <a:solidFill>
              <a:srgbClr val="ffffff">
                <a:lumMod val="95000"/>
                <a:alpha val="30000"/>
              </a:srgbClr>
            </a:solidFill>
          </a:ln>
          <a:effectLst>
            <a:outerShdw algn="ctr" blurRad="139680" dir="0" rotWithShape="0" sx="101000" sy="101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9"/>
          <p:cNvGrpSpPr/>
          <p:nvPr/>
        </p:nvGrpSpPr>
        <p:grpSpPr>
          <a:xfrm>
            <a:off x="3108240" y="1668960"/>
            <a:ext cx="1751400" cy="517320"/>
            <a:chOff x="3108240" y="1668960"/>
            <a:chExt cx="1751400" cy="517320"/>
          </a:xfrm>
        </p:grpSpPr>
        <p:sp>
          <p:nvSpPr>
            <p:cNvPr id="194" name="矩形 20"/>
            <p:cNvSpPr/>
            <p:nvPr/>
          </p:nvSpPr>
          <p:spPr>
            <a:xfrm>
              <a:off x="3108240" y="1668960"/>
              <a:ext cx="543600" cy="51732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anchor="ctr" anchorCtr="1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1"/>
            <p:cNvSpPr/>
            <p:nvPr/>
          </p:nvSpPr>
          <p:spPr>
            <a:xfrm>
              <a:off x="3250080" y="1773360"/>
              <a:ext cx="1609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2"/>
          <p:cNvGrpSpPr/>
          <p:nvPr/>
        </p:nvGrpSpPr>
        <p:grpSpPr>
          <a:xfrm>
            <a:off x="4846680" y="2866320"/>
            <a:ext cx="2030760" cy="517320"/>
            <a:chOff x="4846680" y="2866320"/>
            <a:chExt cx="2030760" cy="517320"/>
          </a:xfrm>
        </p:grpSpPr>
        <p:sp>
          <p:nvSpPr>
            <p:cNvPr id="197" name="矩形 23"/>
            <p:cNvSpPr/>
            <p:nvPr/>
          </p:nvSpPr>
          <p:spPr>
            <a:xfrm flipH="1">
              <a:off x="6333840" y="2866320"/>
              <a:ext cx="543600" cy="51732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anchor="ctr" anchorCtr="1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4"/>
            <p:cNvSpPr/>
            <p:nvPr/>
          </p:nvSpPr>
          <p:spPr>
            <a:xfrm flipH="1">
              <a:off x="4846320" y="2963880"/>
              <a:ext cx="1609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ff">
                      <a:alpha val="72000"/>
                    </a:srgbClr>
                  </a:solidFill>
                  <a:latin typeface="微软雅黑"/>
                  <a:ea typeface="微软雅黑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25"/>
          <p:cNvSpPr/>
          <p:nvPr/>
        </p:nvSpPr>
        <p:spPr>
          <a:xfrm>
            <a:off x="3160800" y="3300480"/>
            <a:ext cx="543600" cy="51732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extrusionH="317500">
            <a:bevelT prst="slope"/>
            <a:extrusionClr>
              <a:schemeClr val="bg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anchor="ctr" anchorCtr="1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9"/>
          <p:cNvSpPr/>
          <p:nvPr/>
        </p:nvSpPr>
        <p:spPr>
          <a:xfrm>
            <a:off x="3394080" y="3429720"/>
            <a:ext cx="160956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7"/>
          <p:cNvSpPr/>
          <p:nvPr/>
        </p:nvSpPr>
        <p:spPr>
          <a:xfrm rot="10800000">
            <a:off x="4788360" y="3821400"/>
            <a:ext cx="920520" cy="169920"/>
          </a:xfrm>
          <a:prstGeom prst="rect">
            <a:avLst/>
          </a:prstGeom>
          <a:gradFill rotWithShape="0">
            <a:gsLst>
              <a:gs pos="0">
                <a:srgbClr val="000000">
                  <a:alpha val="2352"/>
                </a:srgbClr>
              </a:gs>
              <a:gs pos="100000">
                <a:srgbClr val="000000">
                  <a:alpha val="56078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26"/>
          <p:cNvSpPr/>
          <p:nvPr/>
        </p:nvSpPr>
        <p:spPr>
          <a:xfrm>
            <a:off x="2103840" y="2598480"/>
            <a:ext cx="918000" cy="260280"/>
          </a:xfrm>
          <a:custGeom>
            <a:avLst/>
            <a:gdLst>
              <a:gd name="textAreaLeft" fmla="*/ 0 w 918000"/>
              <a:gd name="textAreaRight" fmla="*/ 918360 w 9180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65117" h="379782">
                <a:moveTo>
                  <a:pt x="16683" y="3468"/>
                </a:moveTo>
                <a:lnTo>
                  <a:pt x="965117" y="0"/>
                </a:lnTo>
                <a:cubicBezTo>
                  <a:pt x="965117" y="120749"/>
                  <a:pt x="960111" y="258839"/>
                  <a:pt x="960111" y="379588"/>
                </a:cubicBezTo>
                <a:cubicBezTo>
                  <a:pt x="790838" y="363662"/>
                  <a:pt x="266257" y="397189"/>
                  <a:pt x="169083" y="365715"/>
                </a:cubicBezTo>
                <a:cubicBezTo>
                  <a:pt x="71909" y="334241"/>
                  <a:pt x="-43668" y="216242"/>
                  <a:pt x="16683" y="3468"/>
                </a:cubicBezTo>
                <a:close/>
              </a:path>
            </a:pathLst>
          </a:custGeom>
          <a:gradFill rotWithShape="0">
            <a:gsLst>
              <a:gs pos="0">
                <a:srgbClr val="000000">
                  <a:alpha val="2352"/>
                </a:srgbClr>
              </a:gs>
              <a:gs pos="100000">
                <a:srgbClr val="000000">
                  <a:alpha val="56078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椭圆 29"/>
          <p:cNvSpPr/>
          <p:nvPr/>
        </p:nvSpPr>
        <p:spPr>
          <a:xfrm rot="7679400">
            <a:off x="1957320" y="2569680"/>
            <a:ext cx="522720" cy="11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矩形 30"/>
          <p:cNvSpPr/>
          <p:nvPr/>
        </p:nvSpPr>
        <p:spPr>
          <a:xfrm>
            <a:off x="1143000" y="1203480"/>
            <a:ext cx="4571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31"/>
          <p:cNvSpPr/>
          <p:nvPr/>
        </p:nvSpPr>
        <p:spPr>
          <a:xfrm rot="3448800">
            <a:off x="6751080" y="2677680"/>
            <a:ext cx="522720" cy="185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32"/>
          <p:cNvSpPr/>
          <p:nvPr/>
        </p:nvSpPr>
        <p:spPr>
          <a:xfrm>
            <a:off x="5398920" y="2143080"/>
            <a:ext cx="20304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3"/>
          <p:cNvSpPr/>
          <p:nvPr/>
        </p:nvSpPr>
        <p:spPr>
          <a:xfrm>
            <a:off x="3075480" y="3785040"/>
            <a:ext cx="20304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400" spc="222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3720" y="5340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599760" y="28584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2"/>
          <p:cNvSpPr/>
          <p:nvPr/>
        </p:nvSpPr>
        <p:spPr>
          <a:xfrm rot="10800000">
            <a:off x="7034760" y="1999800"/>
            <a:ext cx="2144160" cy="721800"/>
          </a:xfrm>
          <a:custGeom>
            <a:avLst/>
            <a:gdLst>
              <a:gd name="textAreaLeft" fmla="*/ 0 w 2144160"/>
              <a:gd name="textAreaRight" fmla="*/ 2144520 w 2144160"/>
              <a:gd name="textAreaTop" fmla="*/ 0 h 721800"/>
              <a:gd name="textAreaBottom" fmla="*/ 722160 h 721800"/>
            </a:gdLst>
            <a:ahLst/>
            <a:rect l="textAreaLeft" t="textAreaTop" r="textAreaRight" b="textAreaBottom"/>
            <a:pathLst>
              <a:path w="2144567" h="722092">
                <a:moveTo>
                  <a:pt x="1853714" y="722092"/>
                </a:moveTo>
                <a:lnTo>
                  <a:pt x="27209" y="719764"/>
                </a:lnTo>
                <a:lnTo>
                  <a:pt x="27209" y="2714"/>
                </a:lnTo>
                <a:lnTo>
                  <a:pt x="0" y="2714"/>
                </a:lnTo>
                <a:cubicBezTo>
                  <a:pt x="18" y="1818"/>
                  <a:pt x="34" y="920"/>
                  <a:pt x="50" y="20"/>
                </a:cubicBezTo>
                <a:lnTo>
                  <a:pt x="2144196" y="0"/>
                </a:lnTo>
                <a:cubicBezTo>
                  <a:pt x="2143958" y="58079"/>
                  <a:pt x="2143930" y="134170"/>
                  <a:pt x="2144323" y="246285"/>
                </a:cubicBezTo>
                <a:cubicBezTo>
                  <a:pt x="2150480" y="632650"/>
                  <a:pt x="2039794" y="695259"/>
                  <a:pt x="1853714" y="722092"/>
                </a:cubicBezTo>
                <a:close/>
              </a:path>
            </a:pathLst>
          </a:custGeom>
          <a:gradFill rotWithShape="0">
            <a:gsLst>
              <a:gs pos="0">
                <a:srgbClr val="4f4b66"/>
              </a:gs>
              <a:gs pos="100000">
                <a:srgbClr val="7987ae"/>
              </a:gs>
            </a:gsLst>
            <a:lin ang="8100000"/>
          </a:gradFill>
          <a:ln>
            <a:noFill/>
          </a:ln>
          <a:effectLst>
            <a:outerShdw blurRad="8892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圆角矩形 4"/>
          <p:cNvSpPr/>
          <p:nvPr/>
        </p:nvSpPr>
        <p:spPr>
          <a:xfrm>
            <a:off x="2649240" y="1962720"/>
            <a:ext cx="1190160" cy="2430360"/>
          </a:xfrm>
          <a:custGeom>
            <a:avLst/>
            <a:gdLst>
              <a:gd name="textAreaLeft" fmla="*/ 0 w 1190160"/>
              <a:gd name="textAreaRight" fmla="*/ 1190520 w 1190160"/>
              <a:gd name="textAreaTop" fmla="*/ 0 h 2430360"/>
              <a:gd name="textAreaBottom" fmla="*/ 2430720 h 2430360"/>
            </a:gdLst>
            <a:ahLst/>
            <a:rect l="textAreaLeft" t="textAreaTop" r="textAreaRight" b="textAreaBottom"/>
            <a:pathLst>
              <a:path w="1606151" h="6435715">
                <a:moveTo>
                  <a:pt x="271199" y="2424027"/>
                </a:moveTo>
                <a:cubicBezTo>
                  <a:pt x="265393" y="1294998"/>
                  <a:pt x="340211" y="619998"/>
                  <a:pt x="0" y="15929"/>
                </a:cubicBezTo>
                <a:cubicBezTo>
                  <a:pt x="854739" y="-141472"/>
                  <a:pt x="1092253" y="894308"/>
                  <a:pt x="1100780" y="1944533"/>
                </a:cubicBezTo>
                <a:cubicBezTo>
                  <a:pt x="1102897" y="3131921"/>
                  <a:pt x="1095944" y="2793270"/>
                  <a:pt x="1098061" y="3980658"/>
                </a:cubicBezTo>
                <a:cubicBezTo>
                  <a:pt x="1101509" y="4647771"/>
                  <a:pt x="919881" y="6265114"/>
                  <a:pt x="1606151" y="6119507"/>
                </a:cubicBezTo>
                <a:cubicBezTo>
                  <a:pt x="186183" y="7379656"/>
                  <a:pt x="274832" y="4525921"/>
                  <a:pt x="274832" y="3638023"/>
                </a:cubicBezTo>
                <a:cubicBezTo>
                  <a:pt x="271052" y="2860731"/>
                  <a:pt x="274979" y="3201319"/>
                  <a:pt x="271199" y="2424027"/>
                </a:cubicBezTo>
                <a:close/>
              </a:path>
            </a:pathLst>
          </a:custGeom>
          <a:gradFill rotWithShape="0">
            <a:gsLst>
              <a:gs pos="0">
                <a:srgbClr val="e2b588"/>
              </a:gs>
              <a:gs pos="100000">
                <a:srgbClr val="523631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圆角矩形 12"/>
          <p:cNvSpPr/>
          <p:nvPr/>
        </p:nvSpPr>
        <p:spPr>
          <a:xfrm>
            <a:off x="14400" y="3058200"/>
            <a:ext cx="2044800" cy="76104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61040"/>
              <a:gd name="textAreaBottom" fmla="*/ 761400 h 761040"/>
            </a:gdLst>
            <a:ahLst/>
            <a:rect l="textAreaLeft" t="textAreaTop" r="textAreaRight" b="textAreaBottom"/>
            <a:pathLst>
              <a:path w="2442353" h="995847">
                <a:moveTo>
                  <a:pt x="6264" y="975463"/>
                </a:moveTo>
                <a:cubicBezTo>
                  <a:pt x="9657" y="50886"/>
                  <a:pt x="-9393" y="962677"/>
                  <a:pt x="6264" y="0"/>
                </a:cubicBezTo>
                <a:lnTo>
                  <a:pt x="2437945" y="0"/>
                </a:lnTo>
                <a:cubicBezTo>
                  <a:pt x="2439772" y="633101"/>
                  <a:pt x="2505003" y="864412"/>
                  <a:pt x="2064651" y="995847"/>
                </a:cubicBezTo>
                <a:lnTo>
                  <a:pt x="6264" y="975463"/>
                </a:lnTo>
                <a:close/>
              </a:path>
            </a:pathLst>
          </a:custGeom>
          <a:gradFill rotWithShape="0">
            <a:gsLst>
              <a:gs pos="0">
                <a:srgbClr val="a46788"/>
              </a:gs>
              <a:gs pos="100000">
                <a:srgbClr val="c99cc0"/>
              </a:gs>
            </a:gsLst>
            <a:lin ang="8100000"/>
          </a:gra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圆角矩形 4"/>
          <p:cNvSpPr/>
          <p:nvPr/>
        </p:nvSpPr>
        <p:spPr>
          <a:xfrm>
            <a:off x="1645560" y="1951920"/>
            <a:ext cx="1328040" cy="1869120"/>
          </a:xfrm>
          <a:custGeom>
            <a:avLst/>
            <a:gdLst>
              <a:gd name="textAreaLeft" fmla="*/ 0 w 1328040"/>
              <a:gd name="textAreaRight" fmla="*/ 1328400 w 1328040"/>
              <a:gd name="textAreaTop" fmla="*/ 0 h 1869120"/>
              <a:gd name="textAreaBottom" fmla="*/ 1869480 h 1869120"/>
            </a:gdLst>
            <a:ahLst/>
            <a:rect l="textAreaLeft" t="textAreaTop" r="textAreaRight" b="textAreaBottom"/>
            <a:pathLst>
              <a:path w="1792009" h="4949501">
                <a:moveTo>
                  <a:pt x="550253" y="1783462"/>
                </a:moveTo>
                <a:cubicBezTo>
                  <a:pt x="544447" y="654433"/>
                  <a:pt x="1024004" y="-190803"/>
                  <a:pt x="1792009" y="37391"/>
                </a:cubicBezTo>
                <a:cubicBezTo>
                  <a:pt x="1528895" y="106971"/>
                  <a:pt x="1371307" y="253743"/>
                  <a:pt x="1379834" y="1303968"/>
                </a:cubicBezTo>
                <a:cubicBezTo>
                  <a:pt x="1381951" y="2491356"/>
                  <a:pt x="1374998" y="2152705"/>
                  <a:pt x="1377115" y="3340093"/>
                </a:cubicBezTo>
                <a:cubicBezTo>
                  <a:pt x="1380563" y="4007206"/>
                  <a:pt x="1279972" y="4894789"/>
                  <a:pt x="0" y="4949501"/>
                </a:cubicBezTo>
                <a:cubicBezTo>
                  <a:pt x="656409" y="4902528"/>
                  <a:pt x="553886" y="3885356"/>
                  <a:pt x="553886" y="2997458"/>
                </a:cubicBezTo>
                <a:cubicBezTo>
                  <a:pt x="550106" y="2220166"/>
                  <a:pt x="554033" y="2560754"/>
                  <a:pt x="550253" y="1783462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圆角矩形 4"/>
          <p:cNvSpPr/>
          <p:nvPr/>
        </p:nvSpPr>
        <p:spPr>
          <a:xfrm>
            <a:off x="4108320" y="783360"/>
            <a:ext cx="1205280" cy="423108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4231080"/>
              <a:gd name="textAreaBottom" fmla="*/ 4231440 h 4231080"/>
            </a:gdLst>
            <a:ahLst/>
            <a:rect l="textAreaLeft" t="textAreaTop" r="textAreaRight" b="textAreaBottom"/>
            <a:pathLst>
              <a:path w="1607643" h="5641715">
                <a:moveTo>
                  <a:pt x="268154" y="1311064"/>
                </a:moveTo>
                <a:cubicBezTo>
                  <a:pt x="262348" y="182035"/>
                  <a:pt x="332922" y="474131"/>
                  <a:pt x="0" y="7406"/>
                </a:cubicBezTo>
                <a:cubicBezTo>
                  <a:pt x="1015121" y="-78319"/>
                  <a:pt x="1081498" y="598475"/>
                  <a:pt x="1090025" y="1088814"/>
                </a:cubicBezTo>
                <a:cubicBezTo>
                  <a:pt x="1092142" y="2276202"/>
                  <a:pt x="1100608" y="3254040"/>
                  <a:pt x="1102725" y="4441428"/>
                </a:cubicBezTo>
                <a:cubicBezTo>
                  <a:pt x="1106173" y="5108541"/>
                  <a:pt x="954772" y="5715603"/>
                  <a:pt x="1607643" y="5608742"/>
                </a:cubicBezTo>
                <a:cubicBezTo>
                  <a:pt x="436947" y="5754157"/>
                  <a:pt x="258629" y="5421534"/>
                  <a:pt x="258629" y="4552553"/>
                </a:cubicBezTo>
                <a:lnTo>
                  <a:pt x="268154" y="1311064"/>
                </a:lnTo>
                <a:close/>
              </a:path>
            </a:pathLst>
          </a:custGeom>
          <a:gradFill rotWithShape="0">
            <a:gsLst>
              <a:gs pos="0">
                <a:srgbClr val="b1c1d8"/>
              </a:gs>
              <a:gs pos="100000">
                <a:srgbClr val="595474"/>
              </a:gs>
            </a:gsLst>
            <a:lin ang="12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圆角矩形 4"/>
          <p:cNvSpPr/>
          <p:nvPr/>
        </p:nvSpPr>
        <p:spPr>
          <a:xfrm>
            <a:off x="5510160" y="1399320"/>
            <a:ext cx="1200240" cy="24260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2426040"/>
              <a:gd name="textAreaBottom" fmla="*/ 2426400 h 2426040"/>
            </a:gdLst>
            <a:ahLst/>
            <a:rect l="textAreaLeft" t="textAreaTop" r="textAreaRight" b="textAreaBottom"/>
            <a:pathLst>
              <a:path w="1619367" h="6424440">
                <a:moveTo>
                  <a:pt x="271199" y="2424027"/>
                </a:moveTo>
                <a:cubicBezTo>
                  <a:pt x="265393" y="1294998"/>
                  <a:pt x="340211" y="619998"/>
                  <a:pt x="0" y="15929"/>
                </a:cubicBezTo>
                <a:cubicBezTo>
                  <a:pt x="854739" y="-141472"/>
                  <a:pt x="1092253" y="894308"/>
                  <a:pt x="1100780" y="1944533"/>
                </a:cubicBezTo>
                <a:cubicBezTo>
                  <a:pt x="1102897" y="3131921"/>
                  <a:pt x="1095944" y="2793270"/>
                  <a:pt x="1098061" y="3980658"/>
                </a:cubicBezTo>
                <a:cubicBezTo>
                  <a:pt x="1101509" y="4647771"/>
                  <a:pt x="946312" y="6550463"/>
                  <a:pt x="1619367" y="6352974"/>
                </a:cubicBezTo>
                <a:cubicBezTo>
                  <a:pt x="14375" y="6860845"/>
                  <a:pt x="274832" y="4525921"/>
                  <a:pt x="274832" y="3638023"/>
                </a:cubicBezTo>
                <a:cubicBezTo>
                  <a:pt x="271052" y="2860731"/>
                  <a:pt x="274979" y="3201319"/>
                  <a:pt x="271199" y="2424027"/>
                </a:cubicBezTo>
                <a:close/>
              </a:path>
            </a:pathLst>
          </a:custGeom>
          <a:gradFill rotWithShape="0">
            <a:gsLst>
              <a:gs pos="0">
                <a:srgbClr val="35414f"/>
              </a:gs>
              <a:gs pos="100000">
                <a:srgbClr val="90b2c5"/>
              </a:gs>
            </a:gsLst>
            <a:lin ang="27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矩形 40"/>
          <p:cNvSpPr/>
          <p:nvPr/>
        </p:nvSpPr>
        <p:spPr>
          <a:xfrm>
            <a:off x="1543320" y="3949200"/>
            <a:ext cx="60732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20" spc="222" strike="noStrike">
                <a:solidFill>
                  <a:srgbClr val="f2f2f2"/>
                </a:solidFill>
                <a:latin typeface="微软雅黑"/>
                <a:ea typeface="微软雅黑"/>
              </a:rPr>
              <a:t>请输入标题</a:t>
            </a:r>
            <a:endParaRPr b="0" lang="en-US" sz="8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4"/>
          <p:cNvSpPr/>
          <p:nvPr/>
        </p:nvSpPr>
        <p:spPr>
          <a:xfrm>
            <a:off x="4111200" y="785880"/>
            <a:ext cx="1205280" cy="423108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4231080"/>
              <a:gd name="textAreaBottom" fmla="*/ 4231440 h 4231080"/>
            </a:gdLst>
            <a:ahLst/>
            <a:rect l="textAreaLeft" t="textAreaTop" r="textAreaRight" b="textAreaBottom"/>
            <a:pathLst>
              <a:path w="1607643" h="5641715">
                <a:moveTo>
                  <a:pt x="268154" y="1311064"/>
                </a:moveTo>
                <a:cubicBezTo>
                  <a:pt x="262348" y="182035"/>
                  <a:pt x="332922" y="474131"/>
                  <a:pt x="0" y="7406"/>
                </a:cubicBezTo>
                <a:cubicBezTo>
                  <a:pt x="1015121" y="-78319"/>
                  <a:pt x="1081498" y="598475"/>
                  <a:pt x="1090025" y="1088814"/>
                </a:cubicBezTo>
                <a:cubicBezTo>
                  <a:pt x="1092142" y="2276202"/>
                  <a:pt x="1100608" y="3254040"/>
                  <a:pt x="1102725" y="4441428"/>
                </a:cubicBezTo>
                <a:cubicBezTo>
                  <a:pt x="1106173" y="5108541"/>
                  <a:pt x="954772" y="5715603"/>
                  <a:pt x="1607643" y="5608742"/>
                </a:cubicBezTo>
                <a:cubicBezTo>
                  <a:pt x="436947" y="5754157"/>
                  <a:pt x="258629" y="5421534"/>
                  <a:pt x="258629" y="4552553"/>
                </a:cubicBezTo>
                <a:lnTo>
                  <a:pt x="268154" y="1311064"/>
                </a:lnTo>
                <a:close/>
              </a:path>
            </a:pathLst>
          </a:custGeom>
          <a:gradFill rotWithShape="0">
            <a:gsLst>
              <a:gs pos="0">
                <a:srgbClr val="8dae47">
                  <a:alpha val="0"/>
                </a:srgbClr>
              </a:gs>
              <a:gs pos="100000">
                <a:srgbClr val="6f8938">
                  <a:alpha val="61176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任意多边形 42"/>
          <p:cNvSpPr/>
          <p:nvPr/>
        </p:nvSpPr>
        <p:spPr>
          <a:xfrm>
            <a:off x="4317120" y="457668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圆角矩形 4"/>
          <p:cNvSpPr/>
          <p:nvPr/>
        </p:nvSpPr>
        <p:spPr>
          <a:xfrm>
            <a:off x="4532040" y="1399320"/>
            <a:ext cx="1564200" cy="3705840"/>
          </a:xfrm>
          <a:custGeom>
            <a:avLst/>
            <a:gdLst>
              <a:gd name="textAreaLeft" fmla="*/ 0 w 1564200"/>
              <a:gd name="textAreaRight" fmla="*/ 1564560 w 1564200"/>
              <a:gd name="textAreaTop" fmla="*/ 0 h 3705840"/>
              <a:gd name="textAreaBottom" fmla="*/ 3706200 h 3705840"/>
            </a:gdLst>
            <a:ahLst/>
            <a:rect l="textAreaLeft" t="textAreaTop" r="textAreaRight" b="textAreaBottom"/>
            <a:pathLst>
              <a:path w="2085878" h="4909574">
                <a:moveTo>
                  <a:pt x="628737" y="865808"/>
                </a:moveTo>
                <a:cubicBezTo>
                  <a:pt x="622931" y="-263221"/>
                  <a:pt x="1948900" y="-48637"/>
                  <a:pt x="2085878" y="192209"/>
                </a:cubicBezTo>
                <a:cubicBezTo>
                  <a:pt x="1777024" y="90898"/>
                  <a:pt x="1442081" y="153219"/>
                  <a:pt x="1450608" y="643558"/>
                </a:cubicBezTo>
                <a:cubicBezTo>
                  <a:pt x="1452725" y="1830946"/>
                  <a:pt x="1461191" y="2808784"/>
                  <a:pt x="1463308" y="3996172"/>
                </a:cubicBezTo>
                <a:cubicBezTo>
                  <a:pt x="1466756" y="4663285"/>
                  <a:pt x="578120" y="5270347"/>
                  <a:pt x="2266" y="4652946"/>
                </a:cubicBezTo>
                <a:cubicBezTo>
                  <a:pt x="-44480" y="4697396"/>
                  <a:pt x="647787" y="5004853"/>
                  <a:pt x="647787" y="4135872"/>
                </a:cubicBezTo>
                <a:lnTo>
                  <a:pt x="628737" y="865808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任意多边形 44"/>
          <p:cNvSpPr/>
          <p:nvPr/>
        </p:nvSpPr>
        <p:spPr>
          <a:xfrm>
            <a:off x="5762520" y="337644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4"/>
          <p:cNvSpPr/>
          <p:nvPr/>
        </p:nvSpPr>
        <p:spPr>
          <a:xfrm>
            <a:off x="6017040" y="1983960"/>
            <a:ext cx="1328040" cy="1886400"/>
          </a:xfrm>
          <a:custGeom>
            <a:avLst/>
            <a:gdLst>
              <a:gd name="textAreaLeft" fmla="*/ 0 w 1328040"/>
              <a:gd name="textAreaRight" fmla="*/ 1328400 w 1328040"/>
              <a:gd name="textAreaTop" fmla="*/ 0 h 1886400"/>
              <a:gd name="textAreaBottom" fmla="*/ 1886760 h 1886400"/>
            </a:gdLst>
            <a:ahLst/>
            <a:rect l="textAreaLeft" t="textAreaTop" r="textAreaRight" b="textAreaBottom"/>
            <a:pathLst>
              <a:path w="1792009" h="4996148">
                <a:moveTo>
                  <a:pt x="550253" y="1783462"/>
                </a:moveTo>
                <a:cubicBezTo>
                  <a:pt x="544447" y="654433"/>
                  <a:pt x="1024004" y="-190803"/>
                  <a:pt x="1792009" y="37391"/>
                </a:cubicBezTo>
                <a:cubicBezTo>
                  <a:pt x="1528895" y="106971"/>
                  <a:pt x="1371307" y="253743"/>
                  <a:pt x="1379834" y="1303968"/>
                </a:cubicBezTo>
                <a:cubicBezTo>
                  <a:pt x="1381951" y="2491356"/>
                  <a:pt x="1374998" y="2152705"/>
                  <a:pt x="1377115" y="3340093"/>
                </a:cubicBezTo>
                <a:cubicBezTo>
                  <a:pt x="1380563" y="4007206"/>
                  <a:pt x="945902" y="5701830"/>
                  <a:pt x="0" y="4672080"/>
                </a:cubicBezTo>
                <a:cubicBezTo>
                  <a:pt x="630711" y="4877308"/>
                  <a:pt x="553886" y="3885356"/>
                  <a:pt x="553886" y="2997458"/>
                </a:cubicBezTo>
                <a:cubicBezTo>
                  <a:pt x="550106" y="2220166"/>
                  <a:pt x="554033" y="2560754"/>
                  <a:pt x="550253" y="1783462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任意多边形 46"/>
          <p:cNvSpPr/>
          <p:nvPr/>
        </p:nvSpPr>
        <p:spPr>
          <a:xfrm>
            <a:off x="2926080" y="3949200"/>
            <a:ext cx="898200" cy="437760"/>
          </a:xfrm>
          <a:custGeom>
            <a:avLst/>
            <a:gdLst>
              <a:gd name="textAreaLeft" fmla="*/ 0 w 898200"/>
              <a:gd name="textAreaRight" fmla="*/ 898560 w 898200"/>
              <a:gd name="textAreaTop" fmla="*/ 0 h 437760"/>
              <a:gd name="textAreaBottom" fmla="*/ 438120 h 437760"/>
            </a:gdLst>
            <a:ahLst/>
            <a:rect l="textAreaLeft" t="textAreaTop" r="textAreaRight" b="textAreaBottom"/>
            <a:pathLst>
              <a:path w="1197931" h="584014">
                <a:close/>
                <a:moveTo>
                  <a:pt x="0" y="0"/>
                </a:moveTo>
                <a:lnTo>
                  <a:pt x="53337" y="58369"/>
                </a:lnTo>
                <a:cubicBezTo>
                  <a:pt x="196524" y="188570"/>
                  <a:pt x="422026" y="247447"/>
                  <a:pt x="772772" y="238074"/>
                </a:cubicBezTo>
                <a:lnTo>
                  <a:pt x="812273" y="235874"/>
                </a:lnTo>
                <a:lnTo>
                  <a:pt x="815502" y="257624"/>
                </a:lnTo>
                <a:cubicBezTo>
                  <a:pt x="848645" y="423972"/>
                  <a:pt x="927449" y="535900"/>
                  <a:pt x="1102495" y="558926"/>
                </a:cubicBezTo>
                <a:lnTo>
                  <a:pt x="1197931" y="562857"/>
                </a:lnTo>
                <a:lnTo>
                  <a:pt x="1103420" y="572690"/>
                </a:lnTo>
                <a:cubicBezTo>
                  <a:pt x="381663" y="631425"/>
                  <a:pt x="104911" y="462489"/>
                  <a:pt x="8635" y="469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46000">
                <a:srgbClr val="ffffff">
                  <a:alpha val="0"/>
                </a:srgbClr>
              </a:gs>
              <a:gs pos="100000">
                <a:srgbClr val="000000">
                  <a:alpha val="21176"/>
                </a:srgbClr>
              </a:gs>
            </a:gsLst>
            <a:lin ang="66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圆角矩形 4"/>
          <p:cNvSpPr/>
          <p:nvPr/>
        </p:nvSpPr>
        <p:spPr>
          <a:xfrm>
            <a:off x="3046320" y="714240"/>
            <a:ext cx="1709280" cy="3728520"/>
          </a:xfrm>
          <a:custGeom>
            <a:avLst/>
            <a:gdLst>
              <a:gd name="textAreaLeft" fmla="*/ 0 w 1709280"/>
              <a:gd name="textAreaRight" fmla="*/ 1709640 w 1709280"/>
              <a:gd name="textAreaTop" fmla="*/ 0 h 3728520"/>
              <a:gd name="textAreaBottom" fmla="*/ 3728880 h 3728520"/>
            </a:gdLst>
            <a:ahLst/>
            <a:rect l="textAreaLeft" t="textAreaTop" r="textAreaRight" b="textAreaBottom"/>
            <a:pathLst>
              <a:path w="2279600" h="4961413">
                <a:moveTo>
                  <a:pt x="691241" y="911092"/>
                </a:moveTo>
                <a:cubicBezTo>
                  <a:pt x="685435" y="-217937"/>
                  <a:pt x="1838365" y="-155482"/>
                  <a:pt x="2279600" y="334726"/>
                </a:cubicBezTo>
                <a:cubicBezTo>
                  <a:pt x="1846059" y="143983"/>
                  <a:pt x="1504585" y="198503"/>
                  <a:pt x="1513112" y="688842"/>
                </a:cubicBezTo>
                <a:cubicBezTo>
                  <a:pt x="1515229" y="1876230"/>
                  <a:pt x="1523695" y="2854068"/>
                  <a:pt x="1525812" y="4041456"/>
                </a:cubicBezTo>
                <a:cubicBezTo>
                  <a:pt x="1529260" y="4708569"/>
                  <a:pt x="575854" y="5323886"/>
                  <a:pt x="0" y="4706485"/>
                </a:cubicBezTo>
                <a:cubicBezTo>
                  <a:pt x="4054" y="4754110"/>
                  <a:pt x="710291" y="5050137"/>
                  <a:pt x="710291" y="4181156"/>
                </a:cubicBezTo>
                <a:lnTo>
                  <a:pt x="691241" y="911092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fefe"/>
              </a:gs>
            </a:gsLst>
            <a:path path="circle">
              <a:fillToRect l="50000" t="100000" r="50000" b="0"/>
            </a:path>
          </a:gradFill>
          <a:ln>
            <a:noFill/>
          </a:ln>
          <a:effectLst>
            <a:outerShdw algn="tr" blurRad="50760" dir="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5" name="组合 48"/>
          <p:cNvGrpSpPr/>
          <p:nvPr/>
        </p:nvGrpSpPr>
        <p:grpSpPr>
          <a:xfrm>
            <a:off x="2873880" y="2311200"/>
            <a:ext cx="571320" cy="1856520"/>
            <a:chOff x="2873880" y="2311200"/>
            <a:chExt cx="571320" cy="1856520"/>
          </a:xfrm>
        </p:grpSpPr>
        <p:sp>
          <p:nvSpPr>
            <p:cNvPr id="226" name="矩形 49"/>
            <p:cNvSpPr/>
            <p:nvPr/>
          </p:nvSpPr>
          <p:spPr>
            <a:xfrm>
              <a:off x="2910240" y="231120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直接连接符 50"/>
            <p:cNvCxnSpPr/>
            <p:nvPr/>
          </p:nvCxnSpPr>
          <p:spPr>
            <a:xfrm>
              <a:off x="2873880" y="283500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28" name="TextBox 51"/>
            <p:cNvSpPr/>
            <p:nvPr/>
          </p:nvSpPr>
          <p:spPr>
            <a:xfrm>
              <a:off x="2972880" y="285876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2"/>
          <p:cNvGrpSpPr/>
          <p:nvPr/>
        </p:nvGrpSpPr>
        <p:grpSpPr>
          <a:xfrm>
            <a:off x="4331160" y="1621080"/>
            <a:ext cx="571320" cy="1856520"/>
            <a:chOff x="4331160" y="1621080"/>
            <a:chExt cx="571320" cy="1856520"/>
          </a:xfrm>
        </p:grpSpPr>
        <p:sp>
          <p:nvSpPr>
            <p:cNvPr id="230" name="矩形 53"/>
            <p:cNvSpPr/>
            <p:nvPr/>
          </p:nvSpPr>
          <p:spPr>
            <a:xfrm>
              <a:off x="4367520" y="162108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直接连接符 54"/>
            <p:cNvCxnSpPr/>
            <p:nvPr/>
          </p:nvCxnSpPr>
          <p:spPr>
            <a:xfrm>
              <a:off x="4331160" y="214488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32" name="TextBox 55"/>
            <p:cNvSpPr/>
            <p:nvPr/>
          </p:nvSpPr>
          <p:spPr>
            <a:xfrm>
              <a:off x="4430160" y="216864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56"/>
          <p:cNvGrpSpPr/>
          <p:nvPr/>
        </p:nvGrpSpPr>
        <p:grpSpPr>
          <a:xfrm>
            <a:off x="5731200" y="1704240"/>
            <a:ext cx="571320" cy="1856160"/>
            <a:chOff x="5731200" y="1704240"/>
            <a:chExt cx="571320" cy="1856160"/>
          </a:xfrm>
        </p:grpSpPr>
        <p:sp>
          <p:nvSpPr>
            <p:cNvPr id="234" name="矩形 57"/>
            <p:cNvSpPr/>
            <p:nvPr/>
          </p:nvSpPr>
          <p:spPr>
            <a:xfrm>
              <a:off x="5767560" y="1704240"/>
              <a:ext cx="49824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extrusionH="317500">
              <a:bevelT prst="slope"/>
              <a:extrusionClr>
                <a:schemeClr val="bg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808080"/>
                  </a:solidFill>
                  <a:latin typeface="Calibri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直接连接符 58"/>
            <p:cNvCxnSpPr/>
            <p:nvPr/>
          </p:nvCxnSpPr>
          <p:spPr>
            <a:xfrm>
              <a:off x="5731200" y="2227680"/>
              <a:ext cx="571680" cy="360"/>
            </a:xfrm>
            <a:prstGeom prst="straightConnector1">
              <a:avLst/>
            </a:prstGeom>
            <a:ln w="2857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236" name="TextBox 59"/>
            <p:cNvSpPr/>
            <p:nvPr/>
          </p:nvSpPr>
          <p:spPr>
            <a:xfrm>
              <a:off x="5829840" y="2251440"/>
              <a:ext cx="39960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400" spc="299" strike="noStrike">
                  <a:solidFill>
                    <a:srgbClr val="d2d0d3"/>
                  </a:solidFill>
                  <a:latin typeface="Calibri"/>
                </a:rPr>
                <a:t>请输入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60"/>
          <p:cNvSpPr/>
          <p:nvPr/>
        </p:nvSpPr>
        <p:spPr>
          <a:xfrm>
            <a:off x="2224080" y="229680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1"/>
          <p:cNvSpPr/>
          <p:nvPr/>
        </p:nvSpPr>
        <p:spPr>
          <a:xfrm>
            <a:off x="3726000" y="174924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2"/>
          <p:cNvSpPr/>
          <p:nvPr/>
        </p:nvSpPr>
        <p:spPr>
          <a:xfrm>
            <a:off x="5169960" y="1901520"/>
            <a:ext cx="38448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222" strike="noStrike">
                <a:solidFill>
                  <a:srgbClr val="404040"/>
                </a:solidFill>
                <a:latin typeface="微软雅黑"/>
                <a:ea typeface="微软雅黑"/>
              </a:rPr>
              <a:t>请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3000240" y="2149560"/>
            <a:ext cx="3857400" cy="707400"/>
          </a:xfrm>
          <a:prstGeom prst="rect">
            <a:avLst/>
          </a:prstGeom>
          <a:ln w="0">
            <a:noFill/>
          </a:ln>
        </p:spPr>
      </p:pic>
      <p:sp>
        <p:nvSpPr>
          <p:cNvPr id="242" name="矩形 3"/>
          <p:cNvSpPr/>
          <p:nvPr/>
        </p:nvSpPr>
        <p:spPr>
          <a:xfrm>
            <a:off x="3132000" y="386568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  <Words>728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7:18:42Z</dcterms:created>
  <dc:creator>lidan</dc:creator>
  <dc:description/>
  <cp:keywords>www.1ppt.com</cp:keywords>
  <dc:language>en-US</dc:language>
  <cp:lastModifiedBy>yu wang</cp:lastModifiedBy>
  <dcterms:modified xsi:type="dcterms:W3CDTF">2015-08-08T10:04:46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