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2F98F-1BFC-4F38-9F7A-97D437E8C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6C779-F99F-4F93-9D3C-1C1DFF729C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5EF-19A7-409F-AB2E-49168440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009-9EB6-473E-BD05-B9F65CEC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874-D7BA-4662-A10D-ABF57A42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D44-E66F-4E2D-AB29-1780F658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1C53-6EC6-4211-BDE1-7B582A2F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4C14-AE37-46CF-8B9B-765C179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0A4D-2DCB-430F-8327-416CCAA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AFAB-7FE8-4236-8239-897F554F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A956-F714-4B0E-8650-B45E3522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87D0-4134-4761-B389-1517942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ACD6-FE53-4E8A-BE31-1878A0A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D0A-545C-4517-A194-005D4040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FF37-8651-47CF-B38C-8DFF26F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CE00-3F93-4669-B621-2C80B62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D311-95DA-472D-8D2C-420013D7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F59E-0D8F-45D0-AF71-0364918F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756A-B76F-425D-9AFA-58356BDE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30C-33EA-4049-8FD2-9C09170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7B5-1AFD-4B5E-BCE8-8424F29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9FB-2743-4E12-AE93-DE65A87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C72-8410-4DFB-BF58-BD755EA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096-8442-4659-A8BB-24D762F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866-24BC-446C-BAE1-C7BB7D7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F89-44C3-40F1-8FEA-566A1A0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1.jpg"/>
          <p:cNvPicPr/>
          <p:nvPr/>
        </p:nvPicPr>
        <p:blipFill>
          <a:blip r:embed="rId3"/>
          <a:srcRect l="1975" t="0" r="0" b="0"/>
          <a:stretch/>
        </p:blipFill>
        <p:spPr>
          <a:xfrm>
            <a:off x="0" y="0"/>
            <a:ext cx="896328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95640" y="328500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8EABC4-44CD-4348-85EE-191798ED8929}" type="slidenum">
              <a:rPr b="0" lang="en-US" sz="1200" spc="-1" strike="noStrike">
                <a:solidFill>
                  <a:srgbClr val="72727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5F0FC2-7799-4C5A-90EA-7617932484D3}" type="slidenum">
              <a:rPr b="0" lang="en-US" sz="1200" spc="-1" strike="noStrike">
                <a:solidFill>
                  <a:srgbClr val="2626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7640" y="335700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简洁的</a:t>
            </a:r>
            <a:r>
              <a:rPr b="1" lang="en-US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3D</a:t>
            </a:r>
            <a:r>
              <a:rPr b="1" lang="zh-CN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箭头背景的创意设计</a:t>
            </a:r>
            <a:r>
              <a:rPr b="1" lang="en-US" sz="4000" spc="-1" strike="noStrike">
                <a:solidFill>
                  <a:schemeClr val="accent6">
                    <a:lumMod val="75000"/>
                  </a:schemeClr>
                </a:solidFill>
                <a:latin typeface="Verdana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755640" y="1584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3120" y="4509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/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340-B588-4234-AE0F-2EC3711DE9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  <Words>586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ilovePPT.ORG</dc:creator>
  <dc:description/>
  <cp:keywords>我爱PPT中文网 ppt ppt模版 ppt设计</cp:keywords>
  <dc:language>en-US</dc:language>
  <cp:lastModifiedBy>yu wang</cp:lastModifiedBy>
  <dcterms:modified xsi:type="dcterms:W3CDTF">2015-08-08T10:04:38Z</dcterms:modified>
  <cp:revision>46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