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35472117"/>
        <c:axId val="87539719"/>
      </c:barChart>
      <c:catAx>
        <c:axId val="354721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87539719"/>
        <c:crosses val="autoZero"/>
        <c:auto val="1"/>
        <c:lblAlgn val="ctr"/>
        <c:lblOffset val="100"/>
        <c:noMultiLvlLbl val="0"/>
      </c:catAx>
      <c:valAx>
        <c:axId val="87539719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3547211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7892264"/>
        <c:axId val="57761737"/>
      </c:barChart>
      <c:catAx>
        <c:axId val="789226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57761737"/>
        <c:crosses val="autoZero"/>
        <c:auto val="1"/>
        <c:lblAlgn val="ctr"/>
        <c:lblOffset val="100"/>
        <c:noMultiLvlLbl val="0"/>
      </c:catAx>
      <c:valAx>
        <c:axId val="57761737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7892264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8"/>
        </c:manualLayout>
      </c:layout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1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85075507"/>
        <c:axId val="24314702"/>
      </c:lineChart>
      <c:catAx>
        <c:axId val="850755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24314702"/>
        <c:crosses val="autoZero"/>
        <c:auto val="1"/>
        <c:lblAlgn val="ctr"/>
        <c:lblOffset val="100"/>
        <c:noMultiLvlLbl val="0"/>
      </c:catAx>
      <c:valAx>
        <c:axId val="24314702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85075507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56357125892906"/>
          <c:y val="0.139104876419506"/>
          <c:w val="0.742970202970569"/>
          <c:h val="0.0930768623861898"/>
        </c:manualLayout>
      </c:layout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1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28506223"/>
        <c:axId val="78883046"/>
      </c:barChart>
      <c:catAx>
        <c:axId val="2850622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78883046"/>
        <c:crosses val="autoZero"/>
        <c:auto val="1"/>
        <c:lblAlgn val="ctr"/>
        <c:lblOffset val="100"/>
        <c:noMultiLvlLbl val="0"/>
      </c:catAx>
      <c:valAx>
        <c:axId val="78883046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28506223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4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7FDB3A-B212-4EAD-931B-5A76F25EB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49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514910E0-BB3B-451A-9298-D8061D207BF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B0C-A429-404D-9F8C-7D4703C3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004-94A2-4142-9EC2-9CFA5E5F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31D-F863-40DB-B16E-1214B62F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959-4871-4BF8-9864-0227ED9C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EAA9-7061-4DE8-A4D1-5D7C67B8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5B5F-89F6-4CEA-B1F6-034A9D3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CE13-5D51-430B-89C2-22565DBF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19BC-0DAD-431D-B7FE-4D67466E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60B8-BDF4-4D33-8632-69D846E9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7081-32C3-4B85-9CCA-890BEDF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CEF8-DF32-42FE-9EE5-F7249A9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2BA-5EF5-4FC1-BB7C-05B10069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355E-2418-4467-8E4D-AAB359E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BD0F-D637-4EEF-8873-3A691A8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14C1-9736-4BA9-80D6-30B5E9FC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D62D-3059-4075-A099-74FC9BED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E731-1C91-4B32-8978-C6CE65CD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3C03-E8ED-42D5-A060-32CCA536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6DA2-CCF9-4281-9A25-03896A85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B430-C1DC-41DA-8DEC-65D7824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38D3-B2A8-4921-9656-84508DE5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795E-27D6-4E24-9F9F-A55FC09F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E3E-51FB-4AA3-A006-84634C5D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73D0-4AC9-43C2-B744-60A4F03A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5BE0-F0B0-47A3-8FA1-B70EEA7E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4F2A-E215-4916-8027-6BF2F23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25A2-A216-4F16-99A1-F365A216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0F62-F631-455B-9189-E335A983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B4FD-6419-44CD-B57E-EEE61A7D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894FD-BF03-4361-8FE5-E42A019E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FA54-C33F-4538-BA4E-AE8BDBFA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9E20-BE1F-4210-8022-3CDACC3A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7005-4E0C-47A5-BE42-8FB30882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A01-56CF-483C-8D3A-207DDA3C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DAF5-7CF5-4799-B0C3-5DDD39F5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E356E-66ED-4966-A78F-4A05704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D767F-18DE-4DD8-96D0-759A7F6F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4229-6219-4182-8BB6-F538CB1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4709-B20E-404A-86F8-EFF03F0F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A26A-11D6-4FB6-AD8A-987234A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9E38-3794-4E79-A845-46998DB6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6F1A-07ED-41D3-8C69-4AD1E4F2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B0FC-5677-45AD-8009-844865E9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7F3C-CD6B-4046-90BB-BF06AC68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E1A-0EA7-49A6-924E-222C111C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28ADA-6416-47FD-B0A9-9E53B31E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760C-B950-4DC2-9D85-9D8C40E5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B9FDA-2BAA-4552-BDD2-0A7ED49F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8FD7-D3BF-44FF-98F7-18677EB8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9F43E-4BB6-41E0-A6A6-50B23DE7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6345A-FB57-4F19-B178-2C081F7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F299-26B6-4683-AFBA-C6423D8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19C46-4549-41F3-BF55-490B5FF1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546C-EEFA-4CF8-A9F2-53C13B62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88E7-2CAB-4008-909D-DE5169EA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0F7-65BD-4D8F-AFF2-5895C4AA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AE2A-4550-4466-AB36-6447B48A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FE56D-4EA5-4A17-BDB3-00DB21AE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79F63-7087-4CDA-BBE9-3AF4835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E1ED-6486-4AB7-9F62-1E8540E4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97EC5-3389-422E-A498-DB4EC82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75DA3-AEFD-49B8-8975-CF24CA0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83EA-F842-453C-BEAE-859183D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908E4-F180-451F-8B33-762A98BE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C67D-8E28-4E36-96D2-20D7173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03411-29B3-4B2E-B569-0CB7791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2D6-19CA-4478-BED0-17B27440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382DF-8106-4094-99FA-258667C6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F8E99-F92A-45E7-8731-118AA468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86F43-061A-4A2C-984B-5047974E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B44E0-1E25-48AD-A82A-08C69049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DE545-6A83-4692-B448-1B2A2713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FEF9C-345C-4C95-93FC-EA72801B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D6438-13F8-400E-B6C0-78DB176E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4A4B5-4563-493D-9303-BFBF6309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AE71-CE98-41ED-8D2B-CB805E6F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F43E-F55E-4106-B7F3-3932E142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077-AACA-4D1A-BC67-4156CF1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A2933-BDCB-48BA-953A-A051C865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0989F-5117-421A-AC30-59C143C9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C068A-CD9A-4D41-B054-C6696082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6EF27-672B-421C-8809-04E31C25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4E2F3-C747-4D23-A597-D9591FE3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F586A-6F48-4C6A-9EE5-2654106A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B87E7-7A4B-46ED-A3AB-63A47208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7FAA-D514-495F-A6DE-C32F948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0E482-9E49-4BAE-88DB-1E342FE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0115-DF9D-4C67-8399-0D0FDFFC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50D-11DE-49CB-A9B9-FDB7891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95F7-CD86-456A-BEF2-7B0B61D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CF6C7-87C9-4F5B-B291-FC72D3A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B4FDC-9182-4C8B-8E9A-F7F25AD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DA2FC-765F-410E-BE76-822C6A3B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AD632-0D05-4641-AE3F-6EC96C98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14FB3-8024-4606-BD33-16668828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2ACDC-B8F9-4625-800F-A1EB6766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TP-01-00001-\bg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738288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4541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9147A74-CF3A-4056-9EA2-2A34AD4C8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C7A61D-98AF-4308-9672-84D1BE83A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TP-01-00001-\bg4.jpg"/>
          <p:cNvPicPr/>
          <p:nvPr/>
        </p:nvPicPr>
        <p:blipFill>
          <a:blip r:embed="rId3"/>
          <a:stretch/>
        </p:blipFill>
        <p:spPr>
          <a:xfrm>
            <a:off x="0" y="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D74CC93-3050-46D8-8A41-9D6D7FBCC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4046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3645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dddddd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EBC2DF-1E50-45DB-B6FB-603A8DD44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0C758BA-03E4-4707-B7FA-F2EB7C830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FA100C9-D09B-45B1-AE19-CA87FA686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dddddd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132537-3BD8-4305-9870-304AEC300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TP-01-00001-\bg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56B7C9A-E9CB-4F0B-B008-2B99F6957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738072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4541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精品蓝色商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533304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5EE-6E84-40C8-B1D2-721D960FE9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7CF75-1B90-4F4B-95BD-1BF58F762CF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dddddd"/>
            </a:solidFill>
          </a:ln>
        </p:spPr>
      </p:pic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4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B5E72E-D244-4526-9CF2-DB974D9E6791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4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4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BBFB2F-ED8C-421A-B39D-3AF5D5465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53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7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78880" y="5978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dddddd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ddddd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D3DE-34D6-435E-A9DD-4B323F9C18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2BB15A0-0AB9-4308-92E6-BD48B1A5027B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矩形 1"/>
          <p:cNvSpPr/>
          <p:nvPr/>
        </p:nvSpPr>
        <p:spPr>
          <a:xfrm>
            <a:off x="3155400" y="3244320"/>
            <a:ext cx="283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http://pppptao.taoba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95280" y="542844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5DE56-B412-4765-920C-C2FF5AC3DE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22F38909-FBC9-47F3-95DD-1C683C311618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1" lang="en-US" sz="113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 </a:t>
            </a:r>
            <a:r>
              <a:rPr b="1" lang="en-US" sz="105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1" lang="en-US" sz="105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1" lang="en-US" sz="113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1" lang="en-US" sz="113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13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3"/>
              </a:rPr>
              <a:t>幻灯片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                      </a:t>
            </a:r>
            <a:r>
              <a:rPr b="1" lang="en-US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4"/>
              </a:rPr>
              <a:t>ppt背景图片素材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5"/>
              </a:rPr>
              <a:t>ppt动态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              </a:t>
            </a: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6"/>
              </a:rPr>
              <a:t>通用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7"/>
              </a:rPr>
              <a:t>ppt 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            </a:t>
            </a:r>
            <a:r>
              <a:rPr b="1" lang="en-US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8"/>
              </a:rPr>
              <a:t>ppt设计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   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9"/>
              </a:rPr>
              <a:t>ppt模板素材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                   </a:t>
            </a: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0"/>
              </a:rPr>
              <a:t>毕业答辩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1"/>
              </a:rPr>
              <a:t>企业文化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</a:t>
            </a: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2"/>
              </a:rPr>
              <a:t>月工作总结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   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3"/>
              </a:rPr>
              <a:t>商务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  </a:t>
            </a: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4"/>
              </a:rPr>
              <a:t>精品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5"/>
              </a:rPr>
              <a:t>ppt课件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       </a:t>
            </a: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6"/>
              </a:rPr>
              <a:t>中国风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zhongguofeng/ 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7"/>
              </a:rPr>
              <a:t>活动策划方案ppt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</a:t>
            </a:r>
            <a:r>
              <a:rPr b="1" lang="en-US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8"/>
              </a:rPr>
              <a:t>ppt免费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mianfei/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19"/>
              </a:rPr>
              <a:t>工业制造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ye/   </a:t>
            </a: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20"/>
              </a:rPr>
              <a:t>会议报告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21"/>
              </a:rPr>
              <a:t>交通安全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tong/   </a:t>
            </a: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22"/>
              </a:rPr>
              <a:t>教育培训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23"/>
              </a:rPr>
              <a:t>卡通动漫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atong/   </a:t>
            </a:r>
            <a:r>
              <a:rPr b="1" lang="zh-CN" sz="98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rId24"/>
              </a:rPr>
              <a:t>体育运动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undong/</a:t>
            </a: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EE063AE-0C64-49FE-94AC-7B74BD24F4A4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310999-7A69-4B3F-9DC7-DBE5BF2D3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dddddd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b2b2b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dddddd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589a"/>
          </a:solidFill>
          <a:ln w="9525">
            <a:solidFill>
              <a:srgbClr val="00589a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7a77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a5a5a5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dddddd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4046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4865-5F97-49EE-B022-E0F2FB7BBC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A71767FE-B723-48BA-A203-5B4DD0DDEFB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dddddd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7D02020-2632-4609-9B9D-32A0C9D770A9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6EB054-B38B-4AB6-9F2E-550D99B2B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3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D10C7D-557D-4080-ACDD-25406D2DE9F9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3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114DF79-0D34-4FE3-BDBB-4B7AAFC22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28766101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691708278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5" name="PlaceHolder 2"/>
          <p:cNvSpPr>
            <a:spLocks noGrp="1"/>
          </p:cNvSpPr>
          <p:nvPr>
            <p:ph type="dt" idx="3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0374B28-E5BF-4594-ACC1-67BE52640580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296615B-196F-47E4-81D1-76F4E5869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1187640" y="6118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dddddd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dddddd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0" name="内容占位符 9"/>
          <p:cNvGraphicFramePr/>
          <p:nvPr/>
        </p:nvGraphicFramePr>
        <p:xfrm>
          <a:off x="395280" y="1125360"/>
          <a:ext cx="8353080" cy="482400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95220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31" name="PlaceHolder 2"/>
          <p:cNvSpPr>
            <a:spLocks noGrp="1"/>
          </p:cNvSpPr>
          <p:nvPr>
            <p:ph type="dt" idx="4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78DD96C-904F-4157-8830-4A658ED31BC0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4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4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1C5937B-433D-4ED0-84E7-335BA204F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D2A08DE-37AC-4E93-AFFC-D186C75DB960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4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4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884B49F-0730-45A0-9B4B-C90270B62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2" name="内容占位符 6"/>
          <p:cNvGraphicFramePr/>
          <p:nvPr/>
        </p:nvGraphicFramePr>
        <p:xfrm>
          <a:off x="450072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5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7132-C6FD-4812-A3EA-0AC48C840A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CBDFC7E2-E50F-4F8C-A773-54D0B9B63F92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412</Template>
  <TotalTime>20</TotalTime>
  <Application>LibreOffice/7.4.7.2$Linux_X86_64 LibreOffice_project/40$Build-2</Application>
  <AppVersion>15.0000</AppVersion>
  <Words>1002</Words>
  <Paragraphs>207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5T07:31:49Z</dcterms:created>
  <dc:creator>雨林木风</dc:creator>
  <dc:description>我爱PPT中文网</dc:description>
  <cp:keywords>XS-普屏 4：3 SC-淡蓝色 BG-深色 DH-静态 XJ-二级</cp:keywords>
  <dc:language>en-US</dc:language>
  <cp:lastModifiedBy>yu wang</cp:lastModifiedBy>
  <dcterms:modified xsi:type="dcterms:W3CDTF">2015-08-08T10:05:36Z</dcterms:modified>
  <cp:revision>5</cp:revision>
  <dc:subject>TP-营造建筑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70C368A-58BF-4048-951A-57C3AC664DA9</vt:lpwstr>
  </property>
  <property fmtid="{D5CDD505-2E9C-101B-9397-08002B2CF9AE}" pid="3" name="ArticulatePath">
    <vt:lpwstr>点击此处添加幻灯主标题</vt:lpwstr>
  </property>
  <property fmtid="{D5CDD505-2E9C-101B-9397-08002B2CF9AE}" pid="4" name="ArticulateProjectFull">
    <vt:lpwstr>D:\SLIDEtoME\TP模板\点击此处添加幻灯主标题.ppta</vt:lpwstr>
  </property>
  <property fmtid="{D5CDD505-2E9C-101B-9397-08002B2CF9AE}" pid="5" name="ArticulateUseProject">
    <vt:lpwstr>1</vt:lpwstr>
  </property>
  <property fmtid="{D5CDD505-2E9C-101B-9397-08002B2CF9AE}" pid="6" name="Notes">
    <vt:r8>1</vt:r8>
  </property>
  <property fmtid="{D5CDD505-2E9C-101B-9397-08002B2CF9AE}" pid="7" name="PresentationFormat">
    <vt:lpwstr>全屏显示(4:3)</vt:lpwstr>
  </property>
  <property fmtid="{D5CDD505-2E9C-101B-9397-08002B2CF9AE}" pid="8" name="Slides">
    <vt:r8>13</vt:r8>
  </property>
</Properties>
</file>