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059-A9E5-41C1-9A72-4EA1AC30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A6D-59EE-41FC-817B-FCBDFCFF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C5C-7113-48E6-9F2B-7D640157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792-8FC6-485D-B523-69EEA812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ACB-4244-4CBD-9BE1-5544C239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8DD-4289-492E-BCD4-839657C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1BD7-1202-46B6-8B40-FAEE20E0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97B-231E-42EE-8A33-17BBA838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3481-61CD-42A7-8786-23E36199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A06-F46E-4893-B6A0-9116A78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D63D-0B99-44D3-870D-3065343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0BA-81C6-4ACC-9390-1A51E0A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EE35-C942-4B8B-B6A6-03E10EA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6550-1FAA-43DB-AADB-E2D6AFB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870B-81EF-44CC-8258-306E693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48F2-F01C-44F3-80B4-0B2F3916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3E40-11C5-461E-BE4C-9E86131E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215-D7FC-4247-9217-D04AAE47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981-8177-4EF2-B09F-2B48D42C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C90-36DD-461D-8734-48453DF6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942-7FAC-4A71-861D-3899446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12C-2059-4132-B7E3-98DD7DA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632-C3CA-428D-81C6-F69E46B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F13-BB4D-42A2-BD24-782F72B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AFB4-26F1-49BA-A8CD-277110ADC7E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6BE1-DFD5-47AC-A6C3-990E1D55DA4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1439640" y="2133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彩点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  <a:ea typeface="宋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e9ce8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27:11Z</dcterms:created>
  <dc:creator>Laura Melcher</dc:creator>
  <dc:description/>
  <dc:language>en-US</dc:language>
  <cp:lastModifiedBy>yu wang</cp:lastModifiedBy>
  <dcterms:modified xsi:type="dcterms:W3CDTF">2015-08-08T10:07:15Z</dcterms:modified>
  <cp:revision>50</cp:revision>
  <dc:subject/>
  <dc:title>Migrating Legacy Content</dc:title>
</cp:coreProperties>
</file>