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050840" y="754200"/>
            <a:ext cx="4572000" cy="32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6800"/>
            <a:ext cx="297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134C1-B6C9-45EE-83E3-D56AA28494FB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首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结束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目录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0920" cy="3294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38200" y="4387320"/>
            <a:ext cx="5780160" cy="39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内容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B1DF1-1545-4052-B9F5-C1348BC2A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0DBAC-5A4D-4583-935E-61D4316A4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C8CB-5CD0-45D1-AC7D-3012DF0BC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1085-0324-4F71-8EE1-B8B9FD79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06EF7-5611-42D0-94A0-F9342B958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07F7-7D3A-44D0-9004-DE4A7F76E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66E0E-E88B-42EC-AB7D-73DD5C562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B2031-A4DD-4300-90D2-5958E723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DAA09-76D7-4656-AA4D-ADCBF2A7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61806-3540-45CB-91CD-6E311B03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2971-FB8F-4987-AE76-C92E4696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F320-2F81-4A0A-8CEF-43294C90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18F4D-DC6B-4170-8FED-EF8FF4AFD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48CA-79BD-4ECB-A9A3-4030FF68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5B21-1908-4709-8CD8-3D1329CC2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EB461-630E-4230-A006-2BBE3EFB1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C0BE-2A4B-4CFD-ABCB-7F8AF6160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1BC6-8652-449E-8F30-F96062C11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21A6A-6F99-43E3-9196-CBC5C5975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E283-C770-48E2-8D03-1EC564E7B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F47E-A05D-4A21-B73C-A9B0BB21E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FF5-4641-4B6E-BCFF-EA92D0BA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171-1C24-4782-9F01-77C9BC18E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39EE-AF15-4933-B828-C9FD16D6B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97C57-8971-4E1B-AA80-988A5B91AF66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1BD76-BB72-407B-ACFC-C327D404447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7.jpe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tongyong/" TargetMode="External"/><Relationship Id="rId7" Type="http://schemas.openxmlformats.org/officeDocument/2006/relationships/hyperlink" Target="http://www.eeppt.com/moban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sucai/" TargetMode="External"/><Relationship Id="rId10" Type="http://schemas.openxmlformats.org/officeDocument/2006/relationships/hyperlink" Target="http://www.eeppt.com/moban/dab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gongzuo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jingpin/" TargetMode="External"/><Relationship Id="rId15" Type="http://schemas.openxmlformats.org/officeDocument/2006/relationships/hyperlink" Target="http://www.eeppt.com/moban/kejia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hyperlink" Target="http://www.eeppt.com/moban/yingxiao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3.xml"/><Relationship Id="rId3" Type="http://schemas.openxmlformats.org/officeDocument/2006/relationships/slide" Target="slide3.xml"/><Relationship Id="rId4" Type="http://schemas.openxmlformats.org/officeDocument/2006/relationships/slide" Target="slide5.xml"/><Relationship Id="rId5" Type="http://schemas.openxmlformats.org/officeDocument/2006/relationships/slide" Target="slide7.xml"/><Relationship Id="rId6" Type="http://schemas.openxmlformats.org/officeDocument/2006/relationships/slide" Target="slide9.xml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slide" Target="slide11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slide" Target="slide2.xm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rcRect l="0" t="13872" r="0" b="11518"/>
          <a:stretch/>
        </p:blipFill>
        <p:spPr>
          <a:xfrm>
            <a:off x="1908000" y="333360"/>
            <a:ext cx="5688360" cy="6048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3" descr=""/>
          <p:cNvPicPr/>
          <p:nvPr/>
        </p:nvPicPr>
        <p:blipFill>
          <a:blip r:embed="rId2"/>
          <a:srcRect l="0" t="0" r="64062" b="85002"/>
          <a:stretch/>
        </p:blipFill>
        <p:spPr>
          <a:xfrm>
            <a:off x="38160" y="0"/>
            <a:ext cx="2577960" cy="16146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640" y="3429000"/>
            <a:ext cx="777240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剪纸艺术简介中国风</a:t>
            </a:r>
            <a:r>
              <a:rPr b="0" lang="en-US" sz="40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1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baxianjianzhi03t_副本"/>
          <p:cNvPicPr/>
          <p:nvPr/>
        </p:nvPicPr>
        <p:blipFill>
          <a:blip r:embed="rId1"/>
          <a:stretch/>
        </p:blipFill>
        <p:spPr>
          <a:xfrm>
            <a:off x="466560" y="695160"/>
            <a:ext cx="8210880" cy="53276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" descr="cad4291e28e0f725ff32238d67_5602_副本"/>
          <p:cNvPicPr/>
          <p:nvPr/>
        </p:nvPicPr>
        <p:blipFill>
          <a:blip r:embed="rId2"/>
          <a:stretch/>
        </p:blipFill>
        <p:spPr>
          <a:xfrm>
            <a:off x="9180360" y="5388120"/>
            <a:ext cx="1231920" cy="1269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" descr="cad4291e28e0f725ff32238d67_5602_副本"/>
          <p:cNvPicPr/>
          <p:nvPr/>
        </p:nvPicPr>
        <p:blipFill>
          <a:blip r:embed="rId3"/>
          <a:stretch/>
        </p:blipFill>
        <p:spPr>
          <a:xfrm>
            <a:off x="-1324080" y="60480"/>
            <a:ext cx="1231920" cy="126972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5"/>
          <p:cNvSpPr/>
          <p:nvPr/>
        </p:nvSpPr>
        <p:spPr>
          <a:xfrm>
            <a:off x="6420600" y="298440"/>
            <a:ext cx="102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  <a:ea typeface="宋体"/>
              </a:rPr>
              <a:t>Vide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6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7"/>
          <p:cNvSpPr/>
          <p:nvPr/>
        </p:nvSpPr>
        <p:spPr>
          <a:xfrm>
            <a:off x="7169040" y="60228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 action="ppaction://hlinksldjump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72153 -0.00037 E">
                                      <p:cBhvr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7222 -0.000185 E">
                                      <p:cBhvr>
                                        <p:cTn id="206" dur="5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2" descr="baxianjianzhi01t_副本1_副本"/>
          <p:cNvPicPr/>
          <p:nvPr/>
        </p:nvPicPr>
        <p:blipFill>
          <a:blip r:embed="rId1"/>
          <a:srcRect l="0" t="0" r="0" b="95707"/>
          <a:stretch/>
        </p:blipFill>
        <p:spPr>
          <a:xfrm>
            <a:off x="181080" y="620640"/>
            <a:ext cx="8640720" cy="2444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3" descr="2007919151255477_副本"/>
          <p:cNvPicPr/>
          <p:nvPr/>
        </p:nvPicPr>
        <p:blipFill>
          <a:blip r:embed="rId2"/>
          <a:stretch/>
        </p:blipFill>
        <p:spPr>
          <a:xfrm>
            <a:off x="-2187720" y="1628640"/>
            <a:ext cx="2151360" cy="38880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" descr="2007919151255477_副本1"/>
          <p:cNvPicPr/>
          <p:nvPr/>
        </p:nvPicPr>
        <p:blipFill>
          <a:blip r:embed="rId3"/>
          <a:stretch/>
        </p:blipFill>
        <p:spPr>
          <a:xfrm>
            <a:off x="9180360" y="1628640"/>
            <a:ext cx="2121120" cy="388800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5"/>
          <p:cNvSpPr/>
          <p:nvPr/>
        </p:nvSpPr>
        <p:spPr>
          <a:xfrm>
            <a:off x="2916360" y="2355840"/>
            <a:ext cx="352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谢谢聆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3959280" y="3467160"/>
            <a:ext cx="227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8080"/>
                </a:solidFill>
                <a:latin typeface="Tahoma"/>
                <a:ea typeface="宋体"/>
              </a:rPr>
              <a:t>Thank you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axianjianzhi01t_副本1_副本"/>
          <p:cNvPicPr/>
          <p:nvPr/>
        </p:nvPicPr>
        <p:blipFill>
          <a:blip r:embed="rId4"/>
          <a:srcRect l="0" t="94658" r="0" b="0"/>
          <a:stretch/>
        </p:blipFill>
        <p:spPr>
          <a:xfrm>
            <a:off x="181080" y="5989680"/>
            <a:ext cx="8640720" cy="30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417 9.3E-005 L 0.331111 9.3E-005 E">
                                      <p:cBhvr>
                                        <p:cTn id="235" dur="1000" fill="hold"/>
                                        <p:tgtEl>
                                          <p:spTgt spid="1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6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312847 9.3E-005 E">
                                      <p:cBhvr>
                                        <p:cTn id="237" dur="1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00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0000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3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4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5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6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7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8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9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0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1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2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3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4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5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6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00"/>
                </a:solidFill>
                <a:uFillTx/>
                <a:latin typeface="Arial"/>
                <a:hlinkClick r:id="rId17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工业制造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ye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会议报告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交通安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教育培训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卡通动漫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atong/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体育运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baxianjianzhi01t_副本1_副本"/>
          <p:cNvPicPr/>
          <p:nvPr/>
        </p:nvPicPr>
        <p:blipFill>
          <a:blip r:embed="rId1"/>
          <a:stretch/>
        </p:blipFill>
        <p:spPr>
          <a:xfrm>
            <a:off x="182520" y="1101600"/>
            <a:ext cx="8640720" cy="4703760"/>
          </a:xfrm>
          <a:prstGeom prst="rect">
            <a:avLst/>
          </a:prstGeom>
          <a:ln w="0">
            <a:noFill/>
          </a:ln>
        </p:spPr>
      </p:pic>
      <p:sp>
        <p:nvSpPr>
          <p:cNvPr id="94" name="Text Box 3"/>
          <p:cNvSpPr/>
          <p:nvPr/>
        </p:nvSpPr>
        <p:spPr>
          <a:xfrm>
            <a:off x="1368360" y="1319040"/>
            <a:ext cx="33847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2" action="ppaction://hlinksldjump"/>
              </a:rPr>
              <a:t>发展历史</a:t>
            </a:r>
            <a:r>
              <a:rPr b="0" lang="zh-CN" sz="36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2197080" y="2490840"/>
            <a:ext cx="280836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2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中山行书百年纪念版"/>
                <a:ea typeface="中山行书百年纪念版"/>
                <a:hlinkClick r:id="rId4" action="ppaction://hlinksldjump"/>
              </a:rPr>
              <a:t>史籍记载</a:t>
            </a:r>
            <a:r>
              <a:rPr b="0" lang="zh-CN" sz="4400" spc="-1" strike="noStrike">
                <a:solidFill>
                  <a:srgbClr val="000000"/>
                </a:solidFill>
                <a:latin typeface="中山行书百年纪念版"/>
                <a:ea typeface="中山行书百年纪念版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3338640" y="3633840"/>
            <a:ext cx="28270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5" action="ppaction://hlinksldjump"/>
              </a:rPr>
              <a:t>创作流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4500720" y="4776840"/>
            <a:ext cx="33606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82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6" action="ppaction://hlinksldjump"/>
              </a:rPr>
              <a:t>视频欣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cad4291e28e0f725ff32238d67_560_本"/>
          <p:cNvPicPr/>
          <p:nvPr/>
        </p:nvPicPr>
        <p:blipFill>
          <a:blip r:embed="rId7"/>
          <a:stretch/>
        </p:blipFill>
        <p:spPr>
          <a:xfrm>
            <a:off x="9144000" y="92160"/>
            <a:ext cx="1282680" cy="1295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8" descr="cad4291e28e0f725ff32238d67_560_本"/>
          <p:cNvPicPr/>
          <p:nvPr/>
        </p:nvPicPr>
        <p:blipFill>
          <a:blip r:embed="rId8"/>
          <a:stretch/>
        </p:blipFill>
        <p:spPr>
          <a:xfrm>
            <a:off x="-1249200" y="5157720"/>
            <a:ext cx="1274760" cy="129564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9"/>
          <p:cNvSpPr/>
          <p:nvPr/>
        </p:nvSpPr>
        <p:spPr>
          <a:xfrm>
            <a:off x="1301760" y="404640"/>
            <a:ext cx="1355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目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>
            <a:off x="2198520" y="739800"/>
            <a:ext cx="180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ahoma"/>
                <a:ea typeface="中山行书百年纪念版"/>
              </a:rPr>
              <a:t>  </a:t>
            </a:r>
            <a:r>
              <a:rPr b="1" lang="zh-CN" sz="1800" spc="-1" strike="noStrike">
                <a:solidFill>
                  <a:srgbClr val="808080"/>
                </a:solidFill>
                <a:latin typeface="Tahoma"/>
                <a:ea typeface="中山行书百年纪念版"/>
              </a:rPr>
              <a:t>Cont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1"/>
          <p:cNvSpPr/>
          <p:nvPr/>
        </p:nvSpPr>
        <p:spPr>
          <a:xfrm>
            <a:off x="6732720" y="5805360"/>
            <a:ext cx="12762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9" action="ppaction://hlinksldjump"/>
              </a:rPr>
              <a:t>末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0972 0.010463 L -0.995347 0.014167 E">
                                      <p:cBhvr>
                                        <p:cTn id="31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84792 -9.3E-005 E">
                                      <p:cBhvr>
                                        <p:cTn id="33" dur="1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baxianjianzhi02t_副本2"/>
          <p:cNvPicPr/>
          <p:nvPr/>
        </p:nvPicPr>
        <p:blipFill>
          <a:blip r:embed="rId1"/>
          <a:stretch/>
        </p:blipFill>
        <p:spPr>
          <a:xfrm>
            <a:off x="449280" y="907920"/>
            <a:ext cx="8229600" cy="50421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0" y="1353600"/>
            <a:ext cx="3889440" cy="43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4" descr="cad4291e28e0f725ff32238d67_560_副本1"/>
          <p:cNvPicPr/>
          <p:nvPr/>
        </p:nvPicPr>
        <p:blipFill>
          <a:blip r:embed="rId2"/>
          <a:stretch/>
        </p:blipFill>
        <p:spPr>
          <a:xfrm>
            <a:off x="9144000" y="84240"/>
            <a:ext cx="1206360" cy="1269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cad4291e28e0f725ff32238d67_560_副本1"/>
          <p:cNvPicPr/>
          <p:nvPr/>
        </p:nvPicPr>
        <p:blipFill>
          <a:blip r:embed="rId3"/>
          <a:stretch/>
        </p:blipFill>
        <p:spPr>
          <a:xfrm>
            <a:off x="-1200240" y="5315040"/>
            <a:ext cx="1200240" cy="127008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1663560" y="208080"/>
            <a:ext cx="290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发展历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7"/>
          <p:cNvSpPr/>
          <p:nvPr/>
        </p:nvSpPr>
        <p:spPr>
          <a:xfrm>
            <a:off x="4564080" y="14446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75 -0.003889 L -0.967569 -0.003889 E">
                                      <p:cBhvr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51875 -9.3E-005 E">
                                      <p:cBhvr>
                                        <p:cTn id="72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baxianjianzhi01t_1"/>
          <p:cNvPicPr/>
          <p:nvPr/>
        </p:nvPicPr>
        <p:blipFill>
          <a:blip r:embed="rId1"/>
          <a:stretch/>
        </p:blipFill>
        <p:spPr>
          <a:xfrm>
            <a:off x="466560" y="693720"/>
            <a:ext cx="8209080" cy="5183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284720" y="1054080"/>
            <a:ext cx="42098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cad4291e28e0f725ff32238d67_560_副本3"/>
          <p:cNvPicPr/>
          <p:nvPr/>
        </p:nvPicPr>
        <p:blipFill>
          <a:blip r:embed="rId2"/>
          <a:stretch/>
        </p:blipFill>
        <p:spPr>
          <a:xfrm>
            <a:off x="-1308240" y="98280"/>
            <a:ext cx="1295640" cy="1190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cad4291e28e0f725ff32238d67_560_副本3"/>
          <p:cNvPicPr/>
          <p:nvPr/>
        </p:nvPicPr>
        <p:blipFill>
          <a:blip r:embed="rId3"/>
          <a:stretch/>
        </p:blipFill>
        <p:spPr>
          <a:xfrm>
            <a:off x="9144000" y="5280120"/>
            <a:ext cx="1295280" cy="1193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4066920" y="281160"/>
            <a:ext cx="324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  <a:ea typeface="宋体"/>
              </a:rPr>
              <a:t> </a:t>
            </a:r>
            <a:r>
              <a:rPr b="1" lang="zh-CN" sz="2000" spc="-1" strike="noStrike">
                <a:solidFill>
                  <a:srgbClr val="808080"/>
                </a:solidFill>
                <a:latin typeface="Tahoma"/>
                <a:ea typeface="宋体"/>
              </a:rPr>
              <a:t>History of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6661080" y="5877000"/>
            <a:ext cx="2232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 action="ppaction://hlinksldjump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4067280" y="1054080"/>
            <a:ext cx="41227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986 0.010278 L 0.952986 0.010278 E">
                                      <p:cBhvr>
                                        <p:cTn id="88" dur="500" fill="hold"/>
                                        <p:tgtEl>
                                          <p:spTgt spid="11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64653 0.014722 E">
                                      <p:cBhvr>
                                        <p:cTn id="9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baxianjianzhi07t_副本"/>
          <p:cNvPicPr/>
          <p:nvPr/>
        </p:nvPicPr>
        <p:blipFill>
          <a:blip r:embed="rId1"/>
          <a:stretch/>
        </p:blipFill>
        <p:spPr>
          <a:xfrm>
            <a:off x="549360" y="961920"/>
            <a:ext cx="8137440" cy="504216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860720" y="1244520"/>
            <a:ext cx="3825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cad4291e28e0f725ff32238d67_560_副本8"/>
          <p:cNvPicPr/>
          <p:nvPr/>
        </p:nvPicPr>
        <p:blipFill>
          <a:blip r:embed="rId2"/>
          <a:stretch/>
        </p:blipFill>
        <p:spPr>
          <a:xfrm>
            <a:off x="9144000" y="0"/>
            <a:ext cx="1244520" cy="1244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cad4291e28e0f725ff32238d67_560_副本8"/>
          <p:cNvPicPr/>
          <p:nvPr/>
        </p:nvPicPr>
        <p:blipFill>
          <a:blip r:embed="rId3"/>
          <a:stretch/>
        </p:blipFill>
        <p:spPr>
          <a:xfrm>
            <a:off x="-1238400" y="5381640"/>
            <a:ext cx="1238400" cy="124452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1424160" y="260280"/>
            <a:ext cx="271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史籍记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775 -0.000185 E">
                                      <p:cBhvr>
                                        <p:cTn id="108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47778 -9.3E-005 E">
                                      <p:cBhvr>
                                        <p:cTn id="110" dur="500" fill="hold"/>
                                        <p:tgtEl>
                                          <p:spTgt spid="1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baxianjianzhi05t_副本"/>
          <p:cNvPicPr/>
          <p:nvPr/>
        </p:nvPicPr>
        <p:blipFill>
          <a:blip r:embed="rId1"/>
          <a:stretch/>
        </p:blipFill>
        <p:spPr>
          <a:xfrm>
            <a:off x="531720" y="693720"/>
            <a:ext cx="8210520" cy="518328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7116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4" descr="2541252_165850689121_2_副本"/>
          <p:cNvPicPr/>
          <p:nvPr/>
        </p:nvPicPr>
        <p:blipFill>
          <a:blip r:embed="rId2"/>
          <a:stretch/>
        </p:blipFill>
        <p:spPr>
          <a:xfrm>
            <a:off x="-1290600" y="95400"/>
            <a:ext cx="1290600" cy="1198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5" descr="2541252_165850689121_2_副本"/>
          <p:cNvPicPr/>
          <p:nvPr/>
        </p:nvPicPr>
        <p:blipFill>
          <a:blip r:embed="rId3"/>
          <a:stretch/>
        </p:blipFill>
        <p:spPr>
          <a:xfrm>
            <a:off x="9144000" y="5281560"/>
            <a:ext cx="1290600" cy="11923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5023080" y="297000"/>
            <a:ext cx="24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808080"/>
                </a:solidFill>
                <a:latin typeface="Tahoma"/>
                <a:ea typeface="宋体"/>
              </a:rPr>
              <a:t>Historical 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097400" y="587700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 action="ppaction://hlinksldjump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596880" y="634824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  <a:hlinkClick r:id="rId5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8542 -0.000185 E">
                                      <p:cBhvr>
                                        <p:cTn id="126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2569 9.3E-005 E">
                                      <p:cBhvr>
                                        <p:cTn id="128" dur="5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baxianjianzhi04t_副本"/>
          <p:cNvPicPr/>
          <p:nvPr/>
        </p:nvPicPr>
        <p:blipFill>
          <a:blip r:embed="rId1"/>
          <a:stretch/>
        </p:blipFill>
        <p:spPr>
          <a:xfrm>
            <a:off x="542880" y="907920"/>
            <a:ext cx="8210520" cy="49705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48320" y="1273320"/>
            <a:ext cx="4038480" cy="431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ad4291e28e0f725ff32238d67_560_副本3"/>
          <p:cNvPicPr/>
          <p:nvPr/>
        </p:nvPicPr>
        <p:blipFill>
          <a:blip r:embed="rId2"/>
          <a:stretch/>
        </p:blipFill>
        <p:spPr>
          <a:xfrm>
            <a:off x="9144000" y="117360"/>
            <a:ext cx="1257480" cy="11559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cad4291e28e0f725ff32238d67_560_副本3"/>
          <p:cNvPicPr/>
          <p:nvPr/>
        </p:nvPicPr>
        <p:blipFill>
          <a:blip r:embed="rId3"/>
          <a:stretch/>
        </p:blipFill>
        <p:spPr>
          <a:xfrm>
            <a:off x="-1251000" y="5300640"/>
            <a:ext cx="1251000" cy="11556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6"/>
          <p:cNvSpPr/>
          <p:nvPr/>
        </p:nvSpPr>
        <p:spPr>
          <a:xfrm>
            <a:off x="198828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创作流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542 -0.00037 E">
                                      <p:cBhvr>
                                        <p:cTn id="146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48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baxianjianzhi08t_副本"/>
          <p:cNvPicPr/>
          <p:nvPr/>
        </p:nvPicPr>
        <p:blipFill>
          <a:blip r:embed="rId1"/>
          <a:stretch/>
        </p:blipFill>
        <p:spPr>
          <a:xfrm>
            <a:off x="542880" y="693720"/>
            <a:ext cx="8137440" cy="525636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3995280" y="1052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4" descr="cad4291e28e0f725ff32238d67_5601_副本"/>
          <p:cNvPicPr/>
          <p:nvPr/>
        </p:nvPicPr>
        <p:blipFill>
          <a:blip r:embed="rId2"/>
          <a:stretch/>
        </p:blipFill>
        <p:spPr>
          <a:xfrm>
            <a:off x="-1251000" y="39600"/>
            <a:ext cx="1251000" cy="13082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5" descr="cad4291e28e0f725ff32238d67_5601_副本"/>
          <p:cNvPicPr/>
          <p:nvPr/>
        </p:nvPicPr>
        <p:blipFill>
          <a:blip r:embed="rId3"/>
          <a:stretch/>
        </p:blipFill>
        <p:spPr>
          <a:xfrm>
            <a:off x="9144000" y="5295960"/>
            <a:ext cx="1257480" cy="130788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6"/>
          <p:cNvSpPr/>
          <p:nvPr/>
        </p:nvSpPr>
        <p:spPr>
          <a:xfrm>
            <a:off x="4933080" y="298440"/>
            <a:ext cx="230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8080"/>
                </a:solidFill>
                <a:latin typeface="Tahoma"/>
                <a:ea typeface="宋体"/>
              </a:rPr>
              <a:t>Creation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7035480" y="5964120"/>
            <a:ext cx="127800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0000"/>
                </a:solidFill>
                <a:uFillTx/>
                <a:latin typeface="Arial"/>
                <a:ea typeface="中山行书百年纪念版"/>
                <a:hlinkClick r:id="rId4" action="ppaction://hlinksldjump"/>
              </a:rPr>
              <a:t>返回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962847 -0.000185 E">
                                      <p:cBhvr>
                                        <p:cTn id="164" dur="500" fill="hold"/>
                                        <p:tgtEl>
                                          <p:spTgt spid="1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958611 -9.3E-005 E">
                                      <p:cBhvr>
                                        <p:cTn id="166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baxianjianzhi06t_副本"/>
          <p:cNvPicPr/>
          <p:nvPr/>
        </p:nvPicPr>
        <p:blipFill>
          <a:blip r:embed="rId1"/>
          <a:stretch/>
        </p:blipFill>
        <p:spPr>
          <a:xfrm>
            <a:off x="468360" y="907920"/>
            <a:ext cx="8209080" cy="50421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2541252_165850689121_2_副本1"/>
          <p:cNvPicPr/>
          <p:nvPr/>
        </p:nvPicPr>
        <p:blipFill>
          <a:blip r:embed="rId2"/>
          <a:stretch/>
        </p:blipFill>
        <p:spPr>
          <a:xfrm>
            <a:off x="9144000" y="88920"/>
            <a:ext cx="1298520" cy="120960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2541252_165850689121_2_副本1"/>
          <p:cNvPicPr/>
          <p:nvPr/>
        </p:nvPicPr>
        <p:blipFill>
          <a:blip r:embed="rId3"/>
          <a:stretch/>
        </p:blipFill>
        <p:spPr>
          <a:xfrm>
            <a:off x="-1325520" y="5345280"/>
            <a:ext cx="1298520" cy="12096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215440" y="208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中山行书百年纪念版"/>
              </a:rPr>
              <a:t>视频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6" descr="4_副本_副本"/>
          <p:cNvPicPr/>
          <p:nvPr/>
        </p:nvPicPr>
        <p:blipFill>
          <a:blip r:embed="rId4"/>
          <a:stretch/>
        </p:blipFill>
        <p:spPr>
          <a:xfrm>
            <a:off x="5508720" y="2665440"/>
            <a:ext cx="129384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86597 -9.3E-005 L 0.974514 -9.3E-005 E">
                                      <p:cBhvr>
                                        <p:cTn id="184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58 -9.3E-005 L -0.964653 -9.3E-005 E">
                                      <p:cBhvr>
                                        <p:cTn id="186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yu wang</cp:lastModifiedBy>
  <cp:lastPrinted>1899-12-30T00:00:00Z</cp:lastPrinted>
  <dcterms:modified xsi:type="dcterms:W3CDTF">2015-08-08T10:01:42Z</dcterms:modified>
  <cp:revision>7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