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1C0-C0EF-4192-8C97-36F4BCB0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24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24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BDB4-78B9-4D60-9F91-95188E3F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E176-D85A-4514-97F7-B5457BF6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6077-D2B0-4BDA-AC2B-A569A675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8018-FE05-4983-A176-39EE0F90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24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BE31-9405-4DD1-A5CB-25EDB75A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24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C481-FF27-49B8-85D2-9D66B325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D290-9E95-4B46-B9EB-92521CAB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C42C-32D5-49D6-8A8E-55C79779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BCAA-E915-42CB-8B88-DD91764D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6C53-F9E8-43F7-9F54-F93EAB14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24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844-752B-422D-AC13-508F7C2C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8C3D-3C2A-47BE-A979-96DDCED6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24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ACE8-94F4-4F40-82DA-CA8EBE82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24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24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2E22-E7CA-4169-B833-C47E68FC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E638-EF71-4CD9-A063-E208D25B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CD68-9701-4C9D-832B-67CCA841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24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C20-9D4A-4507-A22E-951A8D56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B70-37A8-4AAA-98DB-F3542268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0E1-0099-4EFD-9FB5-E0EF2FBD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3AA-8D08-4D09-B18D-9A6B015C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3B68-164B-4A23-8A24-A72E5120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285-524E-4AD1-B50B-824C5699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24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F5D2-344B-4A37-86EF-D89516CA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 (9)\19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Administrator\Desktop\新建文件夹 (9)\18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5640" y="4293000"/>
            <a:ext cx="8280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595959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0404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117F6B-BFFB-4435-AD75-782E1AEEBCCA}" type="slidenum">
              <a:rPr b="0" lang="en-US" sz="12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istrator\Desktop\新建文件夹 (9)\19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404040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240" cy="50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单击此处编辑母版文本样式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第二级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第三级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第四级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第五级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9249FD-8B69-48F3-96CC-5332A32870CE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640" y="4293000"/>
            <a:ext cx="8280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595959"/>
                </a:solidFill>
                <a:latin typeface="Verdana"/>
              </a:rPr>
              <a:t>浪漫多彩心形</a:t>
            </a:r>
            <a:r>
              <a:rPr b="1" lang="en-US" sz="4000" spc="-1" strike="noStrike">
                <a:solidFill>
                  <a:srgbClr val="595959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595959"/>
                </a:solidFill>
                <a:latin typeface="Verdana"/>
              </a:rPr>
              <a:t>创意模板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0" y="6381360"/>
            <a:ext cx="7617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3120" y="5157360"/>
            <a:ext cx="82854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/>
            <a:endParaRPr b="0" lang="en-US" sz="24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404040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13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05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13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13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beijing/</a:t>
            </a: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tongyong/  </a:t>
            </a: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chuangyi/   </a:t>
            </a: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dabian/</a:t>
            </a: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gongzuo/   </a:t>
            </a: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jingpin/ </a:t>
            </a: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zhongguofeng/ </a:t>
            </a: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mianfei/</a:t>
            </a: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huiyi/</a:t>
            </a: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yundong/</a:t>
            </a: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  <Words>579</Words>
  <Paragraphs>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TP</cp:category>
  <dcterms:created xsi:type="dcterms:W3CDTF">2010-10-13T12:51:22Z</dcterms:created>
  <dc:creator>ilovePPT.ORG</dc:creator>
  <dc:description/>
  <cp:keywords>我爱PPT中文网 ppt ppt模版 ppt设计</cp:keywords>
  <dc:language>en-US</dc:language>
  <cp:lastModifiedBy>yu wang</cp:lastModifiedBy>
  <dcterms:modified xsi:type="dcterms:W3CDTF">2015-08-08T10:04:20Z</dcterms:modified>
  <cp:revision>20</cp:revision>
  <dc:subject/>
  <dc:title>INFOCHI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