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33F-C562-4269-9056-1AB1F5E9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5A4-3DF9-4230-A644-DAEC2E49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BF7-7527-4627-8FA6-CFF082A4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54C-BA9C-43D4-B67C-C7D97C75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395-0BA1-4CEF-9A7E-BC5BAE8E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9C2F-7D5F-4F5F-A29E-EFDA1C2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D60-666B-4FF6-97E3-08D55040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D41-0907-480D-8FD5-AF26FB66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C701-0D52-4D9B-A0F4-993019D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30F3-4DFD-4844-BE4D-984AA2C5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45D-C147-476E-8E95-D46BCAB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6CA-6B3B-4183-90D8-92AD1A6E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E96E-083F-46C1-8653-5959EDB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FA96-CD4D-49C8-AA5C-BC54291D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F5A4-5641-4458-B73C-5C95F5A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627C-96EE-4A7B-8F2F-7B5F57B1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6CC4-BF8E-463A-BCA1-A995B1E2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E111-1EE7-4127-90E2-5C7730CF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8DFB-7A97-427A-81B7-DBCD139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044E-346B-4323-ABDC-2D040136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B455-1106-4756-87B4-95569D2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6F7A-F73D-4E4A-8FE6-9DF57C3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91B-C0A9-4DAF-8F0B-D888B17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9D34-C03A-445B-B6C6-D07CA34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ED02-FD9D-4834-8A11-E01FCA38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493A-1104-47DF-8BA8-87D2DA2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D090-9337-444B-8D8F-D465ED2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BC59-14FF-4D43-B8CB-BD8E2A16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FEA8-0A74-4D5E-891D-21D54043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58EA-3D8D-40F7-B30B-E089FA06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874-C82E-47D2-9300-20E5B318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1D1-4D9B-41B5-9EB5-3578A1E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6E6-408C-4880-8D94-254527F5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872-7944-448D-9C81-02ECDF0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D4D-BB8E-445E-8495-2681DBD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E69-1184-4484-BEEB-D9ADFEE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A9C6-ADFF-44DA-A62A-A0F3E4E75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E4CB-6D43-4868-8345-22E8D6F17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A9A6-66F0-4422-AAA6-89E9FC797001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色毕业答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演讲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854520" y="4780080"/>
            <a:ext cx="14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900600" y="520704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9280" y="692280"/>
            <a:ext cx="16048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5"/>
          <p:cNvSpPr/>
          <p:nvPr/>
        </p:nvSpPr>
        <p:spPr>
          <a:xfrm>
            <a:off x="25092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06" name="Group 5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07" name="Oval 6"/>
              <p:cNvSpPr/>
              <p:nvPr/>
            </p:nvSpPr>
            <p:spPr>
              <a:xfrm>
                <a:off x="6126480" y="1849320"/>
                <a:ext cx="644760" cy="6454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7"/>
              <p:cNvSpPr/>
              <p:nvPr/>
            </p:nvSpPr>
            <p:spPr>
              <a:xfrm>
                <a:off x="6243120" y="237780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6891840" y="253368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2"/>
              <p:cNvSpPr/>
              <p:nvPr/>
            </p:nvSpPr>
            <p:spPr>
              <a:xfrm flipH="1">
                <a:off x="6302160" y="348048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"/>
              <p:cNvSpPr/>
              <p:nvPr/>
            </p:nvSpPr>
            <p:spPr>
              <a:xfrm>
                <a:off x="6501600" y="346716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14"/>
              <p:cNvSpPr/>
              <p:nvPr/>
            </p:nvSpPr>
            <p:spPr>
              <a:xfrm rot="6540000">
                <a:off x="619380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5"/>
              <p:cNvSpPr/>
              <p:nvPr/>
            </p:nvSpPr>
            <p:spPr>
              <a:xfrm rot="4020000">
                <a:off x="658440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AutoShape 16"/>
            <p:cNvSpPr/>
            <p:nvPr/>
          </p:nvSpPr>
          <p:spPr>
            <a:xfrm rot="6300000">
              <a:off x="6369840" y="229536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yu wang</cp:lastModifiedBy>
  <dcterms:modified xsi:type="dcterms:W3CDTF">2015-08-08T10:06:43Z</dcterms:modified>
  <cp:revision>3</cp:revision>
  <dc:subject/>
  <dc:title>绿色毕业答辩PPT模板免费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53</vt:lpwstr>
  </property>
</Properties>
</file>