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61F-0620-4A97-8257-99F9EFE6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A35-B078-48EE-A2A2-E59A1279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0D9-3B06-471E-9B65-0EEFA9B0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6B0-6992-4DB8-A200-C164AB44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A7E-F83F-47C5-B25F-6828848E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DD6-5B3D-4305-BF73-3509EE22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076-C7D1-4569-B99E-01195CEE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179-C2C3-4ABE-A722-4ED81305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D71-A05F-468C-9F79-F231B2A2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3E1-242A-4CA7-9F1D-54FAB87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4EF-94F1-4CAC-A80D-35B7C83B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21E-979F-4001-A41C-D7E5E1C3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B800-92A4-4258-8668-9040679AA596}" type="datetime">
              <a: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0CB-640F-41AB-A0A9-813B3FC300B9}" type="slidenum">
              <a: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340000" y="30751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大气简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直接连接符 3"/>
          <p:cNvSpPr/>
          <p:nvPr/>
        </p:nvSpPr>
        <p:spPr>
          <a:xfrm>
            <a:off x="3032280" y="2705040"/>
            <a:ext cx="3079440" cy="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3032280" y="4133880"/>
            <a:ext cx="3079440" cy="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entury Gothic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beijing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tongyong/ 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chuangyi/  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dabian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gongzuo/  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jingpin/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zhongguofeng/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mianfei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huiyi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yundong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332000" y="2560680"/>
            <a:ext cx="1727280" cy="1727280"/>
            <a:chOff x="1332000" y="2560680"/>
            <a:chExt cx="1727280" cy="1727280"/>
          </a:xfrm>
        </p:grpSpPr>
        <p:sp>
          <p:nvSpPr>
            <p:cNvPr id="46" name="椭圆 14"/>
            <p:cNvSpPr/>
            <p:nvPr/>
          </p:nvSpPr>
          <p:spPr>
            <a:xfrm>
              <a:off x="1332000" y="2560680"/>
              <a:ext cx="172728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" name="TextBox 15"/>
            <p:cNvSpPr/>
            <p:nvPr/>
          </p:nvSpPr>
          <p:spPr>
            <a:xfrm>
              <a:off x="1605240" y="350928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ersonal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" name="矩形 16"/>
            <p:cNvSpPr/>
            <p:nvPr/>
          </p:nvSpPr>
          <p:spPr>
            <a:xfrm>
              <a:off x="1800360" y="29444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cxnSp>
        <p:nvCxnSpPr>
          <p:cNvPr id="49" name="直接箭头连接符 334"/>
          <p:cNvCxnSpPr/>
          <p:nvPr/>
        </p:nvCxnSpPr>
        <p:spPr>
          <a:xfrm>
            <a:off x="3419280" y="3424320"/>
            <a:ext cx="2377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pSp>
        <p:nvGrpSpPr>
          <p:cNvPr id="50" name="Group 7"/>
          <p:cNvGrpSpPr/>
          <p:nvPr/>
        </p:nvGrpSpPr>
        <p:grpSpPr>
          <a:xfrm>
            <a:off x="3971520" y="2690640"/>
            <a:ext cx="1301040" cy="1167480"/>
            <a:chOff x="3971520" y="2690640"/>
            <a:chExt cx="1301040" cy="1167480"/>
          </a:xfrm>
        </p:grpSpPr>
        <p:sp>
          <p:nvSpPr>
            <p:cNvPr id="51" name="TextBox 337"/>
            <p:cNvSpPr/>
            <p:nvPr/>
          </p:nvSpPr>
          <p:spPr>
            <a:xfrm>
              <a:off x="4206240" y="2690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位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" name="矩形 340"/>
            <p:cNvSpPr/>
            <p:nvPr/>
          </p:nvSpPr>
          <p:spPr>
            <a:xfrm>
              <a:off x="3971520" y="34898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argeting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3" name="Group 10"/>
          <p:cNvGrpSpPr/>
          <p:nvPr/>
        </p:nvGrpSpPr>
        <p:grpSpPr>
          <a:xfrm>
            <a:off x="6156360" y="2631960"/>
            <a:ext cx="1728720" cy="1727280"/>
            <a:chOff x="6156360" y="2631960"/>
            <a:chExt cx="1728720" cy="1727280"/>
          </a:xfrm>
        </p:grpSpPr>
        <p:sp>
          <p:nvSpPr>
            <p:cNvPr id="54" name="椭圆 336"/>
            <p:cNvSpPr/>
            <p:nvPr/>
          </p:nvSpPr>
          <p:spPr>
            <a:xfrm>
              <a:off x="6156360" y="2631960"/>
              <a:ext cx="172872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TextBox 341"/>
            <p:cNvSpPr/>
            <p:nvPr/>
          </p:nvSpPr>
          <p:spPr>
            <a:xfrm>
              <a:off x="6281640" y="351900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ssociation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" name="矩形 342"/>
            <p:cNvSpPr/>
            <p:nvPr/>
          </p:nvSpPr>
          <p:spPr>
            <a:xfrm>
              <a:off x="6625440" y="2978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0.28438 0.00463 E">
                                      <p:cBhvr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接连接符 5"/>
          <p:cNvSpPr/>
          <p:nvPr/>
        </p:nvSpPr>
        <p:spPr>
          <a:xfrm>
            <a:off x="0" y="7430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直接连接符 6"/>
          <p:cNvSpPr/>
          <p:nvPr/>
        </p:nvSpPr>
        <p:spPr>
          <a:xfrm>
            <a:off x="0" y="55245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1946520" y="19242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心设计，诚信笃实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194360" y="37530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选择，创意营销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直接连接符 4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3722760" y="2708280"/>
            <a:ext cx="1727280" cy="1727280"/>
            <a:chOff x="3722760" y="2708280"/>
            <a:chExt cx="1727280" cy="1727280"/>
          </a:xfrm>
        </p:grpSpPr>
        <p:sp>
          <p:nvSpPr>
            <p:cNvPr id="63" name="椭圆 1"/>
            <p:cNvSpPr/>
            <p:nvPr/>
          </p:nvSpPr>
          <p:spPr>
            <a:xfrm>
              <a:off x="3722760" y="2708280"/>
              <a:ext cx="172728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" name="矩形 3"/>
            <p:cNvSpPr/>
            <p:nvPr/>
          </p:nvSpPr>
          <p:spPr>
            <a:xfrm>
              <a:off x="4210200" y="32068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5" name="Group 6"/>
          <p:cNvGrpSpPr/>
          <p:nvPr/>
        </p:nvGrpSpPr>
        <p:grpSpPr>
          <a:xfrm>
            <a:off x="5742000" y="1305000"/>
            <a:ext cx="1209600" cy="1209600"/>
            <a:chOff x="5742000" y="1305000"/>
            <a:chExt cx="1209600" cy="1209600"/>
          </a:xfrm>
        </p:grpSpPr>
        <p:sp>
          <p:nvSpPr>
            <p:cNvPr id="66" name="椭圆 5"/>
            <p:cNvSpPr/>
            <p:nvPr/>
          </p:nvSpPr>
          <p:spPr>
            <a:xfrm>
              <a:off x="5742000" y="1305000"/>
              <a:ext cx="1209600" cy="120960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" name="矩形 6"/>
            <p:cNvSpPr/>
            <p:nvPr/>
          </p:nvSpPr>
          <p:spPr>
            <a:xfrm>
              <a:off x="6041880" y="1636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动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8" name="Group 9"/>
          <p:cNvGrpSpPr/>
          <p:nvPr/>
        </p:nvGrpSpPr>
        <p:grpSpPr>
          <a:xfrm>
            <a:off x="6365880" y="2962440"/>
            <a:ext cx="1209600" cy="1211040"/>
            <a:chOff x="6365880" y="2962440"/>
            <a:chExt cx="1209600" cy="1211040"/>
          </a:xfrm>
        </p:grpSpPr>
        <p:sp>
          <p:nvSpPr>
            <p:cNvPr id="69" name="椭圆 7"/>
            <p:cNvSpPr/>
            <p:nvPr/>
          </p:nvSpPr>
          <p:spPr>
            <a:xfrm>
              <a:off x="6365880" y="2962440"/>
              <a:ext cx="120960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矩形 8"/>
            <p:cNvSpPr/>
            <p:nvPr/>
          </p:nvSpPr>
          <p:spPr>
            <a:xfrm>
              <a:off x="6665760" y="3294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诚信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845320" y="4635360"/>
            <a:ext cx="1209600" cy="1209960"/>
            <a:chOff x="5845320" y="4635360"/>
            <a:chExt cx="1209600" cy="1209960"/>
          </a:xfrm>
        </p:grpSpPr>
        <p:sp>
          <p:nvSpPr>
            <p:cNvPr id="72" name="椭圆 12"/>
            <p:cNvSpPr/>
            <p:nvPr/>
          </p:nvSpPr>
          <p:spPr>
            <a:xfrm>
              <a:off x="5845320" y="4635360"/>
              <a:ext cx="1209600" cy="120996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矩形 13"/>
            <p:cNvSpPr/>
            <p:nvPr/>
          </p:nvSpPr>
          <p:spPr>
            <a:xfrm>
              <a:off x="6145200" y="4967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新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128680" y="1308240"/>
            <a:ext cx="1211400" cy="1211040"/>
            <a:chOff x="2128680" y="1308240"/>
            <a:chExt cx="1211400" cy="1211040"/>
          </a:xfrm>
        </p:grpSpPr>
        <p:sp>
          <p:nvSpPr>
            <p:cNvPr id="75" name="椭圆 15"/>
            <p:cNvSpPr/>
            <p:nvPr/>
          </p:nvSpPr>
          <p:spPr>
            <a:xfrm>
              <a:off x="2128680" y="1308240"/>
              <a:ext cx="121140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矩形 16"/>
            <p:cNvSpPr/>
            <p:nvPr/>
          </p:nvSpPr>
          <p:spPr>
            <a:xfrm>
              <a:off x="2429280" y="1640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1407960" y="2967120"/>
            <a:ext cx="1209960" cy="1211040"/>
            <a:chOff x="1407960" y="2967120"/>
            <a:chExt cx="1209960" cy="1211040"/>
          </a:xfrm>
        </p:grpSpPr>
        <p:sp>
          <p:nvSpPr>
            <p:cNvPr id="78" name="椭圆 18"/>
            <p:cNvSpPr/>
            <p:nvPr/>
          </p:nvSpPr>
          <p:spPr>
            <a:xfrm>
              <a:off x="1407960" y="2967120"/>
              <a:ext cx="120996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矩形 19"/>
            <p:cNvSpPr/>
            <p:nvPr/>
          </p:nvSpPr>
          <p:spPr>
            <a:xfrm>
              <a:off x="1708200" y="3299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2205000" y="4572000"/>
            <a:ext cx="1211400" cy="1209600"/>
            <a:chOff x="2205000" y="4572000"/>
            <a:chExt cx="1211400" cy="1209600"/>
          </a:xfrm>
        </p:grpSpPr>
        <p:sp>
          <p:nvSpPr>
            <p:cNvPr id="81" name="椭圆 21"/>
            <p:cNvSpPr/>
            <p:nvPr/>
          </p:nvSpPr>
          <p:spPr>
            <a:xfrm>
              <a:off x="2205000" y="4572000"/>
              <a:ext cx="1211400" cy="120960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矩形 22"/>
            <p:cNvSpPr/>
            <p:nvPr/>
          </p:nvSpPr>
          <p:spPr>
            <a:xfrm>
              <a:off x="2505600" y="4903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3" name="直接连接符 23"/>
          <p:cNvSpPr/>
          <p:nvPr/>
        </p:nvSpPr>
        <p:spPr>
          <a:xfrm flipH="1">
            <a:off x="5196960" y="2336760"/>
            <a:ext cx="72252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直接连接符 26"/>
          <p:cNvSpPr/>
          <p:nvPr/>
        </p:nvSpPr>
        <p:spPr>
          <a:xfrm flipH="1">
            <a:off x="5450040" y="3568680"/>
            <a:ext cx="9158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直接连接符 29"/>
          <p:cNvSpPr/>
          <p:nvPr/>
        </p:nvSpPr>
        <p:spPr>
          <a:xfrm flipH="1" flipV="1">
            <a:off x="5196960" y="4183200"/>
            <a:ext cx="82548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直接连接符 33"/>
          <p:cNvSpPr/>
          <p:nvPr/>
        </p:nvSpPr>
        <p:spPr>
          <a:xfrm flipH="1" flipV="1">
            <a:off x="3162240" y="2341440"/>
            <a:ext cx="812880" cy="619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直接连接符 36"/>
          <p:cNvSpPr/>
          <p:nvPr/>
        </p:nvSpPr>
        <p:spPr>
          <a:xfrm flipH="1">
            <a:off x="2617560" y="3571920"/>
            <a:ext cx="11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直接连接符 39"/>
          <p:cNvSpPr/>
          <p:nvPr/>
        </p:nvSpPr>
        <p:spPr>
          <a:xfrm flipH="1">
            <a:off x="3238560" y="4183200"/>
            <a:ext cx="736560" cy="566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47"/>
          <p:cNvSpPr/>
          <p:nvPr/>
        </p:nvSpPr>
        <p:spPr>
          <a:xfrm>
            <a:off x="8044200" y="255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外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TextBox 48"/>
          <p:cNvSpPr/>
          <p:nvPr/>
        </p:nvSpPr>
        <p:spPr>
          <a:xfrm>
            <a:off x="571680" y="24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65120" y="6315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直接连接符 4"/>
          <p:cNvSpPr/>
          <p:nvPr/>
        </p:nvSpPr>
        <p:spPr>
          <a:xfrm>
            <a:off x="1162080" y="0"/>
            <a:ext cx="0" cy="3009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直接连接符 5"/>
          <p:cNvSpPr/>
          <p:nvPr/>
        </p:nvSpPr>
        <p:spPr>
          <a:xfrm>
            <a:off x="1771560" y="0"/>
            <a:ext cx="0" cy="247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直接连接符 6"/>
          <p:cNvSpPr/>
          <p:nvPr/>
        </p:nvSpPr>
        <p:spPr>
          <a:xfrm>
            <a:off x="2057400" y="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6953400" y="5657760"/>
            <a:ext cx="0" cy="120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椭圆 11"/>
          <p:cNvSpPr/>
          <p:nvPr/>
        </p:nvSpPr>
        <p:spPr>
          <a:xfrm>
            <a:off x="5200560" y="2152800"/>
            <a:ext cx="3505320" cy="35049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椭圆 12"/>
          <p:cNvSpPr/>
          <p:nvPr/>
        </p:nvSpPr>
        <p:spPr>
          <a:xfrm>
            <a:off x="2876400" y="3905280"/>
            <a:ext cx="2057400" cy="2057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直接连接符 13"/>
          <p:cNvSpPr/>
          <p:nvPr/>
        </p:nvSpPr>
        <p:spPr>
          <a:xfrm>
            <a:off x="3905280" y="5962680"/>
            <a:ext cx="0" cy="895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1619280" y="1428840"/>
            <a:ext cx="3657600" cy="169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486400" y="1428840"/>
            <a:ext cx="1962000" cy="169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1619280" y="3619440"/>
            <a:ext cx="2800440" cy="1695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4648320" y="3619440"/>
            <a:ext cx="2800080" cy="1695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8"/>
          <p:cNvSpPr/>
          <p:nvPr/>
        </p:nvSpPr>
        <p:spPr>
          <a:xfrm>
            <a:off x="6406200" y="64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亡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3305160" y="262080"/>
            <a:ext cx="24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TextBox 44"/>
          <p:cNvSpPr/>
          <p:nvPr/>
        </p:nvSpPr>
        <p:spPr>
          <a:xfrm>
            <a:off x="5612400" y="162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口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2081520" y="625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凡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2843640" y="1644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TextBox 49"/>
          <p:cNvSpPr/>
          <p:nvPr/>
        </p:nvSpPr>
        <p:spPr>
          <a:xfrm>
            <a:off x="7541640" y="67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意识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TextBox 50"/>
          <p:cNvSpPr/>
          <p:nvPr/>
        </p:nvSpPr>
        <p:spPr>
          <a:xfrm>
            <a:off x="6811200" y="2095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际能力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TextBox 51"/>
          <p:cNvSpPr/>
          <p:nvPr/>
        </p:nvSpPr>
        <p:spPr>
          <a:xfrm>
            <a:off x="3918960" y="340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观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1455120" y="2146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理理财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4246920" y="206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641880" y="4730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常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局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直接连接符 2"/>
          <p:cNvSpPr/>
          <p:nvPr/>
        </p:nvSpPr>
        <p:spPr>
          <a:xfrm flipH="1">
            <a:off x="0" y="0"/>
            <a:ext cx="2666880" cy="280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直接连接符 3"/>
          <p:cNvSpPr/>
          <p:nvPr/>
        </p:nvSpPr>
        <p:spPr>
          <a:xfrm flipH="1">
            <a:off x="-360" y="0"/>
            <a:ext cx="2171880" cy="228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直接连接符 6"/>
          <p:cNvSpPr/>
          <p:nvPr/>
        </p:nvSpPr>
        <p:spPr>
          <a:xfrm flipH="1">
            <a:off x="4800240" y="2297160"/>
            <a:ext cx="4343400" cy="4560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TextBox 8"/>
          <p:cNvSpPr/>
          <p:nvPr/>
        </p:nvSpPr>
        <p:spPr>
          <a:xfrm rot="18802800">
            <a:off x="4937400" y="36111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的宝贵财富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TextBox 10"/>
          <p:cNvSpPr/>
          <p:nvPr/>
        </p:nvSpPr>
        <p:spPr>
          <a:xfrm rot="18784200">
            <a:off x="1302120" y="1431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671120" y="2703600"/>
            <a:ext cx="577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直接连接符 2"/>
          <p:cNvSpPr/>
          <p:nvPr/>
        </p:nvSpPr>
        <p:spPr>
          <a:xfrm>
            <a:off x="1312920" y="4021200"/>
            <a:ext cx="6495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直接连接符 5"/>
          <p:cNvSpPr/>
          <p:nvPr/>
        </p:nvSpPr>
        <p:spPr>
          <a:xfrm>
            <a:off x="1312920" y="2787480"/>
            <a:ext cx="64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1289160" y="2401920"/>
            <a:ext cx="65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创新的思维管理企业！！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1278000" y="4013280"/>
            <a:ext cx="65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宅没心没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2:45:00Z</dcterms:created>
  <dc:creator>技术宅没心没肺</dc:creator>
  <dc:description/>
  <cp:keywords/>
  <dc:language>en-US</dc:language>
  <cp:lastModifiedBy>yu wang</cp:lastModifiedBy>
  <cp:lastPrinted>1899-12-30T00:00:00Z</cp:lastPrinted>
  <dcterms:modified xsi:type="dcterms:W3CDTF">2015-08-08T10:07:30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