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13CC-73F5-4309-BBBD-76AD7F97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3200" y="167652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3200" y="382608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0776-0C96-4C48-B141-0E28BC1F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3200" y="167652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23160" y="167652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3200" y="3826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23160" y="3826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0D50-D051-4A76-930A-E547368E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3200" y="167652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07160" y="167652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1480" y="167652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3200" y="3826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07160" y="3826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1480" y="3826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F0A7-31BE-451C-9E4D-0F0DCC78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6BD4-4EC2-4A14-B51B-EEB8C7CF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3200" y="16765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85FA-819A-4311-A662-9EF2312F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3200" y="16765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771D-23C6-429C-964C-8585455D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3200" y="167652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023160" y="167652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9B54-E5D9-4419-BB28-01C7B1D9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BEB3-6A4B-4D0E-AE31-CC90D94B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F526-D04C-4E73-B4B1-598359CB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3200" y="167652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23160" y="167652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3200" y="3826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2D68-55D7-4FE2-8D37-4FDEB39F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3200" y="16765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804C-3FA1-4868-845F-0967F529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3200" y="167652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23160" y="167652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3160" y="3826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2303-9094-46E0-962D-D79E411C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3200" y="167652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23160" y="167652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3200" y="382608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EDC5-EABF-4517-BBE8-71C74B79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3200" y="167652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3200" y="382608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173F-B90C-4930-8284-87F51B23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3200" y="167652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23160" y="167652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3200" y="3826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23160" y="3826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3C58-5506-49E5-90B7-099FCBE3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3200" y="167652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7160" y="167652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71480" y="167652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3200" y="3826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907160" y="3826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71480" y="3826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7BF7-432F-4AE9-ADD0-D0C76613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3200" y="16765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338D-864D-4C18-88E3-10428004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3200" y="167652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23160" y="167652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6064-12C2-45D5-A932-E8D81F1D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DAA9-1DA3-493F-BD9B-C9D445B6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4161-E51E-472F-94BB-4F56D46C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3200" y="167652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23160" y="167652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3200" y="3826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65F5-76B9-4BBF-953B-84394B38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3200" y="167652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23160" y="167652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23160" y="3826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5F32-AEA6-4A5D-B518-EEC7D065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3200" y="167652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23160" y="167652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3200" y="382608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1832-59AB-4600-9EA0-79F9562F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3200" y="16765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FD2C-73C2-455A-9F65-49533D926170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743200" y="16765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2A2F-EA3D-4C5F-8C32-8DBB2F4FB825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b050"/>
                </a:solidFill>
                <a:latin typeface="超世纪粗行书"/>
                <a:ea typeface="超世纪粗行书"/>
              </a:rPr>
              <a:t>绿色淡雅简洁</a:t>
            </a:r>
            <a:r>
              <a:rPr b="0" lang="en-US" sz="4000" spc="-1" strike="noStrike">
                <a:solidFill>
                  <a:srgbClr val="00b050"/>
                </a:solidFill>
                <a:latin typeface="超世纪粗行书"/>
                <a:ea typeface="超世纪粗行书"/>
              </a:rPr>
              <a:t>PPT</a:t>
            </a:r>
            <a:r>
              <a:rPr b="0" lang="zh-CN" sz="4000" spc="-1" strike="noStrike">
                <a:solidFill>
                  <a:srgbClr val="00b050"/>
                </a:solidFill>
                <a:latin typeface="超世纪粗行书"/>
                <a:ea typeface="超世纪粗行书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1676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Unicorn"/>
                <a:ea typeface="新細明體"/>
              </a:rPr>
              <a:t>Title Goes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43200" y="16765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Unicor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corn"/>
                <a:ea typeface="新細明體"/>
              </a:rPr>
              <a:t>Add Text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Unicorn"/>
                <a:ea typeface="新細明體"/>
              </a:rPr>
              <a:t>PRINT PAG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743200" y="16765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Unicor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corn"/>
                <a:ea typeface="新細明體"/>
              </a:rPr>
              <a:t>Text Goes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44280" y="6523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qiye/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shangwu/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yingxiao/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02:38:06Z</dcterms:created>
  <dc:creator/>
  <dc:description/>
  <dc:language>en-US</dc:language>
  <cp:lastModifiedBy>yu wang</cp:lastModifiedBy>
  <dcterms:modified xsi:type="dcterms:W3CDTF">2015-08-08T10:07:21Z</dcterms:modified>
  <cp:revision>5</cp:revision>
  <dc:subject/>
  <dc:title>CLOVERLICIOUS</dc:title>
</cp:coreProperties>
</file>