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8E7C-9674-46CD-A702-FF365A17E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262E-B572-4B01-B6C1-CCF4A8E5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2846-B2B2-4C2C-A9D1-E59711E1A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D4A7-ED12-4D67-AF4A-C6E67A2A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8DEF-ACE4-4D25-B95C-57D451748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9756-0A7A-43D9-A928-12477A14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2CF8-C489-4636-B731-E832FC69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32FF-1998-472F-B94E-CDA8A748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C92B-65C8-4114-88C2-9E4621BF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B8E6-8881-46BF-9E80-B04D2DFE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0202-C684-4BC1-A0AA-FCB2DF47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004D-7485-4036-B03A-3D4B146D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06F2-0910-4C8B-85D0-1F4D2A08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675C-C0DC-487D-A146-D078DCF3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888C-C0E8-4030-8396-6CFABB9C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48F2-1CF1-4535-B32C-54E68034A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3D3A-26FE-4B8E-AE0C-F847ACB5A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F1201-6E73-453A-A01E-1F95C42CC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14C0E-613C-4760-8903-0979D5D7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25953-0F52-4B02-AE62-499D0A7E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23C8E-2575-4D6D-B334-EB9388F0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3689B-9928-406F-A357-E7CF1744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23D0-64F0-4F3B-B741-A35F967A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6DAAF-C0E1-47BA-AE60-71D37630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DF7B3-C556-480A-B3F5-7B216869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6CDB7-9191-40A3-A85A-60A9DF27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93B90-54A6-4585-AF57-3E7E8FC2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929C2-4A5E-4292-8B60-F7E8DED8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4D3C0-7959-45BB-A36B-624516454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2437C-32F5-4446-B9CE-4A8F702E8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9318-E23B-4CBE-90F2-C600053B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89F8-04F1-440D-8C8B-78B7615C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8E6B-55AA-40C3-A08F-07D66E73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C227-D59C-44D4-8383-BD06B44A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92B9-190B-4937-944C-6E721963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1FE2-8B30-412E-980E-6D016113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440"/>
            <a:ext cx="9144000" cy="14176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3AC9-FE6B-49A4-8626-394C8AAA75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9"/>
          <p:cNvSpPr/>
          <p:nvPr/>
        </p:nvSpPr>
        <p:spPr>
          <a:xfrm>
            <a:off x="8102520" y="6346800"/>
            <a:ext cx="358920" cy="3589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10"/>
          <p:cNvSpPr/>
          <p:nvPr/>
        </p:nvSpPr>
        <p:spPr>
          <a:xfrm>
            <a:off x="7985160" y="6588000"/>
            <a:ext cx="23508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8339040" y="6588000"/>
            <a:ext cx="23652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7978680" y="6237360"/>
            <a:ext cx="23508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39040" y="6235560"/>
            <a:ext cx="23652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-23760"/>
            <a:ext cx="9144000" cy="430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4669-5350-41C0-ABD4-CB66EF9CC5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8102520" y="6346800"/>
            <a:ext cx="358920" cy="3589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>
            <a:off x="7985160" y="6588000"/>
            <a:ext cx="23508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1"/>
          <p:cNvSpPr/>
          <p:nvPr/>
        </p:nvSpPr>
        <p:spPr>
          <a:xfrm>
            <a:off x="8339040" y="6588000"/>
            <a:ext cx="23652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7978680" y="6237360"/>
            <a:ext cx="23508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3"/>
          <p:cNvSpPr/>
          <p:nvPr/>
        </p:nvSpPr>
        <p:spPr>
          <a:xfrm>
            <a:off x="8339040" y="6235560"/>
            <a:ext cx="23652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8640" y="62449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2640" y="62449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4880" y="62449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5A72-9DC6-46BC-9698-AB6C6277D240}" type="slidenum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-33480" y="0"/>
            <a:ext cx="9177480" cy="3886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8102520" y="450720"/>
            <a:ext cx="646200" cy="60984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7985160" y="685800"/>
            <a:ext cx="511200" cy="51120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8354880" y="692280"/>
            <a:ext cx="511200" cy="51264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7961400" y="301680"/>
            <a:ext cx="511200" cy="51264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8339040" y="333360"/>
            <a:ext cx="513000" cy="51120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60240" y="1744560"/>
            <a:ext cx="777240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绿色简洁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299700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X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2801880" y="934920"/>
            <a:ext cx="284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Arial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3"/>
          <p:cNvSpPr/>
          <p:nvPr/>
        </p:nvSpPr>
        <p:spPr>
          <a:xfrm>
            <a:off x="2744640" y="2143080"/>
            <a:ext cx="576360" cy="576360"/>
          </a:xfrm>
          <a:prstGeom prst="pentagon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"/>
          <p:cNvSpPr/>
          <p:nvPr/>
        </p:nvSpPr>
        <p:spPr>
          <a:xfrm>
            <a:off x="3579840" y="2711520"/>
            <a:ext cx="2303280" cy="0"/>
          </a:xfrm>
          <a:prstGeom prst="line">
            <a:avLst/>
          </a:prstGeom>
          <a:ln w="2556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2744640" y="2846520"/>
            <a:ext cx="576360" cy="576000"/>
          </a:xfrm>
          <a:prstGeom prst="pentagon">
            <a:avLst/>
          </a:prstGeom>
          <a:solidFill>
            <a:srgbClr val="ff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3579840" y="3414600"/>
            <a:ext cx="2303280" cy="1800"/>
          </a:xfrm>
          <a:prstGeom prst="line">
            <a:avLst/>
          </a:prstGeom>
          <a:ln w="255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7"/>
          <p:cNvSpPr/>
          <p:nvPr/>
        </p:nvSpPr>
        <p:spPr>
          <a:xfrm>
            <a:off x="2736720" y="3533760"/>
            <a:ext cx="576360" cy="577800"/>
          </a:xfrm>
          <a:prstGeom prst="pentagon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3595680" y="4094280"/>
            <a:ext cx="2303640" cy="1440"/>
          </a:xfrm>
          <a:prstGeom prst="line">
            <a:avLst/>
          </a:prstGeom>
          <a:ln w="2556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9"/>
          <p:cNvSpPr/>
          <p:nvPr/>
        </p:nvSpPr>
        <p:spPr>
          <a:xfrm>
            <a:off x="2733840" y="4222800"/>
            <a:ext cx="576000" cy="577800"/>
          </a:xfrm>
          <a:prstGeom prst="pentagon">
            <a:avLst/>
          </a:prstGeom>
          <a:solidFill>
            <a:srgbClr val="ff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3568680" y="4791240"/>
            <a:ext cx="2303640" cy="1440"/>
          </a:xfrm>
          <a:prstGeom prst="line">
            <a:avLst/>
          </a:prstGeom>
          <a:ln w="255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01 /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正文内容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561960" y="838080"/>
            <a:ext cx="777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512640" y="882720"/>
            <a:ext cx="353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二级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719280" y="692280"/>
            <a:ext cx="160488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Arial"/>
                <a:ea typeface="微软雅黑"/>
              </a:rPr>
              <a:t>数据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3"/>
          <p:cNvGraphicFramePr/>
          <p:nvPr/>
        </p:nvGraphicFramePr>
        <p:xfrm>
          <a:off x="1403280" y="1701720"/>
          <a:ext cx="6203880" cy="343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1720"/>
                    <a:ext cx="6203880" cy="34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Text Box 8"/>
          <p:cNvSpPr/>
          <p:nvPr/>
        </p:nvSpPr>
        <p:spPr>
          <a:xfrm>
            <a:off x="468360" y="6381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2370240" y="2773440"/>
            <a:ext cx="387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cc00"/>
                </a:solidFill>
                <a:latin typeface="Arial"/>
                <a:ea typeface="微软雅黑"/>
              </a:rPr>
              <a:t>谢谢聆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"/>
          <p:cNvSpPr/>
          <p:nvPr/>
        </p:nvSpPr>
        <p:spPr>
          <a:xfrm flipH="1">
            <a:off x="2154240" y="3870360"/>
            <a:ext cx="4913280" cy="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4"/>
          <p:cNvGrpSpPr/>
          <p:nvPr/>
        </p:nvGrpSpPr>
        <p:grpSpPr>
          <a:xfrm>
            <a:off x="5827680" y="1849320"/>
            <a:ext cx="1239840" cy="2054160"/>
            <a:chOff x="5827680" y="1849320"/>
            <a:chExt cx="1239840" cy="2054160"/>
          </a:xfrm>
        </p:grpSpPr>
        <p:grpSp>
          <p:nvGrpSpPr>
            <p:cNvPr id="204" name="Group 5"/>
            <p:cNvGrpSpPr/>
            <p:nvPr/>
          </p:nvGrpSpPr>
          <p:grpSpPr>
            <a:xfrm>
              <a:off x="5827680" y="1849320"/>
              <a:ext cx="1239840" cy="2054160"/>
              <a:chOff x="5827680" y="1849320"/>
              <a:chExt cx="1239840" cy="2054160"/>
            </a:xfrm>
          </p:grpSpPr>
          <p:sp>
            <p:nvSpPr>
              <p:cNvPr id="205" name="Oval 6"/>
              <p:cNvSpPr/>
              <p:nvPr/>
            </p:nvSpPr>
            <p:spPr>
              <a:xfrm>
                <a:off x="6126480" y="1849320"/>
                <a:ext cx="644760" cy="64548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7"/>
              <p:cNvSpPr/>
              <p:nvPr/>
            </p:nvSpPr>
            <p:spPr>
              <a:xfrm>
                <a:off x="6243120" y="2377800"/>
                <a:ext cx="410040" cy="111600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8"/>
              <p:cNvSpPr/>
              <p:nvPr/>
            </p:nvSpPr>
            <p:spPr>
              <a:xfrm>
                <a:off x="6891840" y="2533680"/>
                <a:ext cx="175680" cy="17604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曲线 235"/>
              <p:cNvSpPr/>
              <p:nvPr/>
            </p:nvSpPr>
            <p:spPr>
              <a:xfrm rot="20520000">
                <a:off x="6515280" y="2658240"/>
                <a:ext cx="464040" cy="381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cubicBezTo>
                      <a:pt x="1394" y="18084"/>
                      <a:pt x="3963" y="7704"/>
                      <a:pt x="8286" y="3852"/>
                    </a:cubicBezTo>
                    <a:cubicBezTo>
                      <a:pt x="12609" y="0"/>
                      <a:pt x="18975" y="1530"/>
                      <a:pt x="21600" y="2321"/>
                    </a:cubicBezTo>
                  </a:path>
                </a:pathLst>
              </a:custGeom>
              <a:noFill/>
              <a:ln w="763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曲线 238"/>
              <p:cNvSpPr/>
              <p:nvPr/>
            </p:nvSpPr>
            <p:spPr>
              <a:xfrm rot="660000">
                <a:off x="5915520" y="2459520"/>
                <a:ext cx="498240" cy="3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cubicBezTo>
                      <a:pt x="4212" y="3699"/>
                      <a:pt x="16289" y="11134"/>
                      <a:pt x="21600" y="21600"/>
                    </a:cubicBezTo>
                  </a:path>
                </a:pathLst>
              </a:custGeom>
              <a:noFill/>
              <a:ln w="763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Oval 11"/>
              <p:cNvSpPr/>
              <p:nvPr/>
            </p:nvSpPr>
            <p:spPr>
              <a:xfrm>
                <a:off x="5827680" y="2305440"/>
                <a:ext cx="175680" cy="17604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12"/>
              <p:cNvSpPr/>
              <p:nvPr/>
            </p:nvSpPr>
            <p:spPr>
              <a:xfrm flipH="1">
                <a:off x="6302160" y="3480480"/>
                <a:ext cx="111600" cy="234360"/>
              </a:xfrm>
              <a:prstGeom prst="line">
                <a:avLst/>
              </a:prstGeom>
              <a:ln w="507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13"/>
              <p:cNvSpPr/>
              <p:nvPr/>
            </p:nvSpPr>
            <p:spPr>
              <a:xfrm>
                <a:off x="6501600" y="3467160"/>
                <a:ext cx="135360" cy="234360"/>
              </a:xfrm>
              <a:prstGeom prst="line">
                <a:avLst/>
              </a:prstGeom>
              <a:ln w="507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AutoShape 14"/>
              <p:cNvSpPr/>
              <p:nvPr/>
            </p:nvSpPr>
            <p:spPr>
              <a:xfrm rot="6540000">
                <a:off x="6193800" y="3664800"/>
                <a:ext cx="176400" cy="23400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AutoShape 15"/>
              <p:cNvSpPr/>
              <p:nvPr/>
            </p:nvSpPr>
            <p:spPr>
              <a:xfrm rot="4020000">
                <a:off x="6584400" y="3657960"/>
                <a:ext cx="176400" cy="23400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AutoShape 16"/>
            <p:cNvSpPr/>
            <p:nvPr/>
          </p:nvSpPr>
          <p:spPr>
            <a:xfrm rot="6300000">
              <a:off x="6369840" y="2295360"/>
              <a:ext cx="97200" cy="9504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7"/>
            <p:cNvSpPr/>
            <p:nvPr/>
          </p:nvSpPr>
          <p:spPr>
            <a:xfrm>
              <a:off x="6273360" y="2069640"/>
              <a:ext cx="75960" cy="7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6546600" y="2118960"/>
              <a:ext cx="75960" cy="74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工业制造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cp:keywords/>
  <dc:language>en-US</dc:language>
  <cp:lastModifiedBy>yu wang</cp:lastModifiedBy>
  <dcterms:modified xsi:type="dcterms:W3CDTF">2015-08-08T10:07:25Z</dcterms:modified>
  <cp:revision>6</cp:revision>
  <dc:subject/>
  <dc:title>绿色通用幻灯片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3953</vt:lpwstr>
  </property>
</Properties>
</file>