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1DA8-5C91-4523-AE16-6E61319333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E95F-9DC0-449E-8AD6-EF1833B0D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0A61-4B1C-4189-8A94-B8AEEE4C3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EFB2-7713-40E0-B8D8-C935F94CEF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E47C-C49A-4D99-BAF3-7C81B00978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1AF7-9937-4572-80B6-EF701C11D2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4A46-3D8B-4F22-9533-15DF14D90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33F5-1CD9-4DCD-A921-0FA6CFF052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31A1-81C7-4430-ACD5-777F4852AE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F8EB-795F-4905-B0D6-68257AAB0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4E97-3B7B-443F-98D0-92FB8A1AFC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AD6C-F40D-47BC-B92D-EEE45E87F2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7F40-5E8A-4BF7-92D5-AD3A39C595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0F21-CC28-4B95-8D73-BE51982030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8037-0C48-4556-9511-9EAF9CFA19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34C7-5353-4AB1-86E7-4A274BB3A9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E59D-8D05-41F3-B1DD-8F9C71703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EE89-6BAD-4BE0-BD90-D99C497DA0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8812-2C2D-4E23-80B3-D5D295955E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B375-D601-4BD8-9D4E-5D19F2057B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1271-B281-4F85-ADE5-DE8B0D8763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FEFA-6A3C-4703-B627-4EE6BF9702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415A-7783-4E12-B79F-410CA03ECD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7860-CE63-4027-B99D-83F64B2E8A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563-1B91-471A-948C-A1CBDFF3D0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250-508A-4AA0-A0AD-D1F78C913D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7A5-72A2-42A5-B989-289E871EF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CFD-59FD-471F-957C-00815BDEDE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993-D97D-4423-A573-1ADBB07C0D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FEB-13CB-4E12-A283-7CA46B76C4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B5E-39ED-46E0-9F1C-A41814227B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6CB-691E-4ED0-AF73-8D59DCD310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13D-D892-47BB-B09B-FE2969B719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1AE-CBCF-4527-A9A9-E7B1EF60A2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C17-2793-416E-9CB0-95DBC6BB30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F3C-E444-4EB5-B5A8-256FB1C6B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 hidden="1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" name="矩形 7" hidden="1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" name="Picture 2" hidden="1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D:\068_4572x4010_zcool.com.cn_26096296.jpg"/>
          <p:cNvPicPr/>
          <p:nvPr/>
        </p:nvPicPr>
        <p:blipFill>
          <a:blip r:embed="rId3"/>
          <a:stretch/>
        </p:blipFill>
        <p:spPr>
          <a:xfrm>
            <a:off x="0" y="0"/>
            <a:ext cx="9143640" cy="4642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2" descr="D:\068_4572x4010_zcool.com.cn_26096296.jpg"/>
          <p:cNvPicPr/>
          <p:nvPr/>
        </p:nvPicPr>
        <p:blipFill>
          <a:blip r:embed="rId4"/>
          <a:stretch/>
        </p:blipFill>
        <p:spPr>
          <a:xfrm>
            <a:off x="7207200" y="5189400"/>
            <a:ext cx="1079280" cy="720360"/>
          </a:xfrm>
          <a:prstGeom prst="rect">
            <a:avLst/>
          </a:prstGeom>
          <a:ln w="9525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5267520"/>
            <a:ext cx="6071760" cy="59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51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5" name="Picture 2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65b93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26515f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38acb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26515f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26515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d4d4d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515f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651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26515f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651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26515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0880" y="62294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0964099-8724-4E8E-AB48-B2DA07E351C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7" name="Picture 2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Num" idx="2"/>
          </p:nvPr>
        </p:nvSpPr>
        <p:spPr>
          <a:xfrm>
            <a:off x="380880" y="62294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7BB0A3C-1B7E-4A28-80AE-D54CA73F479F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51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29" name="Picture 2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3"/>
          </p:nvPr>
        </p:nvSpPr>
        <p:spPr>
          <a:xfrm>
            <a:off x="380880" y="62294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0068EE-202B-4EB6-9082-3EC1DDC789FE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51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640" y="5214960"/>
            <a:ext cx="6820920" cy="59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绿色清爽简洁</a:t>
            </a:r>
            <a:r>
              <a:rPr b="0" lang="en-US" sz="4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椭圆 3"/>
          <p:cNvSpPr/>
          <p:nvPr/>
        </p:nvSpPr>
        <p:spPr>
          <a:xfrm>
            <a:off x="8570160" y="4429080"/>
            <a:ext cx="214920" cy="214920"/>
          </a:xfrm>
          <a:prstGeom prst="ellipse">
            <a:avLst/>
          </a:prstGeom>
          <a:solidFill>
            <a:schemeClr val="accent2">
              <a:lumMod val="40000"/>
              <a:lumOff val="60000"/>
            </a:schemeClr>
          </a:solidFill>
          <a:ln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600"/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1" name="椭圆 4"/>
          <p:cNvSpPr/>
          <p:nvPr/>
        </p:nvSpPr>
        <p:spPr>
          <a:xfrm>
            <a:off x="8570160" y="5357880"/>
            <a:ext cx="214920" cy="214920"/>
          </a:xfrm>
          <a:prstGeom prst="ellipse">
            <a:avLst/>
          </a:prstGeom>
          <a:solidFill>
            <a:schemeClr val="accent2">
              <a:lumMod val="40000"/>
              <a:lumOff val="60000"/>
            </a:schemeClr>
          </a:solidFill>
          <a:ln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600"/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2" name="椭圆 5"/>
          <p:cNvSpPr/>
          <p:nvPr/>
        </p:nvSpPr>
        <p:spPr>
          <a:xfrm>
            <a:off x="8571240" y="3500280"/>
            <a:ext cx="214920" cy="214920"/>
          </a:xfrm>
          <a:prstGeom prst="ellipse">
            <a:avLst/>
          </a:prstGeom>
          <a:solidFill>
            <a:schemeClr val="accent2">
              <a:lumMod val="40000"/>
              <a:lumOff val="60000"/>
            </a:schemeClr>
          </a:solidFill>
          <a:ln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600"/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6560" y="331920"/>
            <a:ext cx="308268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宋体"/>
              </a:rPr>
              <a:t>Content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660680" y="722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2514600" y="220032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ae26"/>
              </a:gs>
              <a:gs pos="50000">
                <a:srgbClr val="e2edd1"/>
              </a:gs>
              <a:gs pos="100000">
                <a:srgbClr val="77ae26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2743200" y="225576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2514600" y="303840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38acb"/>
              </a:gs>
              <a:gs pos="50000">
                <a:srgbClr val="d7e6f3"/>
              </a:gs>
              <a:gs pos="100000">
                <a:srgbClr val="438acb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743200" y="309420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2514600" y="387684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9878"/>
              </a:gs>
              <a:gs pos="50000">
                <a:srgbClr val="d7e9e2"/>
              </a:gs>
              <a:gs pos="100000">
                <a:srgbClr val="449878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743200" y="393228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2514600" y="479124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a8b0"/>
              </a:gs>
              <a:gs pos="50000">
                <a:srgbClr val="e7ecee"/>
              </a:gs>
              <a:gs pos="100000">
                <a:srgbClr val="90a8b0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2743200" y="484668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25"/>
          <p:cNvSpPr/>
          <p:nvPr/>
        </p:nvSpPr>
        <p:spPr>
          <a:xfrm>
            <a:off x="2143080" y="207180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52830a"/>
              </a:gs>
              <a:gs pos="100000">
                <a:srgbClr val="6aaa0d"/>
              </a:gs>
            </a:gsLst>
            <a:lin ang="162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5" name="任意多边形 27"/>
          <p:cNvSpPr/>
          <p:nvPr/>
        </p:nvSpPr>
        <p:spPr>
          <a:xfrm>
            <a:off x="2143080" y="294948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2267a6"/>
              </a:gs>
              <a:gs pos="100000">
                <a:srgbClr val="2c86d8"/>
              </a:gs>
            </a:gsLst>
            <a:lin ang="162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6" name="任意多边形 28"/>
          <p:cNvSpPr/>
          <p:nvPr/>
        </p:nvSpPr>
        <p:spPr>
          <a:xfrm>
            <a:off x="2143080" y="381492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00531a"/>
              </a:gs>
              <a:gs pos="100000">
                <a:srgbClr val="007725"/>
              </a:gs>
            </a:gsLst>
            <a:lin ang="135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7" name="任意多边形 29"/>
          <p:cNvSpPr/>
          <p:nvPr/>
        </p:nvSpPr>
        <p:spPr>
          <a:xfrm>
            <a:off x="2143080" y="470376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7d91ae"/>
              </a:gs>
              <a:gs pos="100000">
                <a:srgbClr val="a3bbe1"/>
              </a:gs>
            </a:gsLst>
            <a:lin ang="162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288880" y="217980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288880" y="301788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288880" y="38559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2288880" y="47703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28"/>
          <p:cNvSpPr/>
          <p:nvPr/>
        </p:nvSpPr>
        <p:spPr>
          <a:xfrm>
            <a:off x="2071800" y="2214720"/>
            <a:ext cx="5143320" cy="5713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193" name="组合 27"/>
          <p:cNvGrpSpPr/>
          <p:nvPr/>
        </p:nvGrpSpPr>
        <p:grpSpPr>
          <a:xfrm>
            <a:off x="1449000" y="1973160"/>
            <a:ext cx="1325520" cy="995040"/>
            <a:chOff x="1449000" y="1973160"/>
            <a:chExt cx="1325520" cy="995040"/>
          </a:xfrm>
        </p:grpSpPr>
        <p:sp>
          <p:nvSpPr>
            <p:cNvPr id="194" name="Oval 26"/>
            <p:cNvSpPr/>
            <p:nvPr/>
          </p:nvSpPr>
          <p:spPr>
            <a:xfrm>
              <a:off x="1750680" y="2118960"/>
              <a:ext cx="685440" cy="67860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椭圆 24"/>
            <p:cNvSpPr/>
            <p:nvPr/>
          </p:nvSpPr>
          <p:spPr>
            <a:xfrm>
              <a:off x="2006640" y="1981080"/>
              <a:ext cx="7416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椭圆 25"/>
            <p:cNvSpPr/>
            <p:nvPr/>
          </p:nvSpPr>
          <p:spPr>
            <a:xfrm>
              <a:off x="2095560" y="1981080"/>
              <a:ext cx="7272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弦形 9"/>
            <p:cNvSpPr/>
            <p:nvPr/>
          </p:nvSpPr>
          <p:spPr>
            <a:xfrm rot="6862200">
              <a:off x="1959480" y="2014560"/>
              <a:ext cx="256680" cy="2566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198" name="组合 12"/>
            <p:cNvGrpSpPr/>
            <p:nvPr/>
          </p:nvGrpSpPr>
          <p:grpSpPr>
            <a:xfrm>
              <a:off x="1449000" y="1981440"/>
              <a:ext cx="979920" cy="979560"/>
              <a:chOff x="1449000" y="1981440"/>
              <a:chExt cx="979920" cy="979560"/>
            </a:xfrm>
          </p:grpSpPr>
          <p:sp>
            <p:nvSpPr>
              <p:cNvPr id="199" name="弦形 13"/>
              <p:cNvSpPr/>
              <p:nvPr/>
            </p:nvSpPr>
            <p:spPr>
              <a:xfrm rot="1539600">
                <a:off x="1571400" y="2104200"/>
                <a:ext cx="734400" cy="73404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" name="椭圆 14"/>
              <p:cNvSpPr/>
              <p:nvPr/>
            </p:nvSpPr>
            <p:spPr>
              <a:xfrm rot="1539600">
                <a:off x="1921320" y="22100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1" name="椭圆 15"/>
              <p:cNvSpPr/>
              <p:nvPr/>
            </p:nvSpPr>
            <p:spPr>
              <a:xfrm rot="1539600">
                <a:off x="1708200" y="22298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椭圆 16"/>
              <p:cNvSpPr/>
              <p:nvPr/>
            </p:nvSpPr>
            <p:spPr>
              <a:xfrm rot="1539600">
                <a:off x="1762560" y="254088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椭圆 17"/>
              <p:cNvSpPr/>
              <p:nvPr/>
            </p:nvSpPr>
            <p:spPr>
              <a:xfrm rot="1539600">
                <a:off x="1579680" y="24123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18"/>
            <p:cNvGrpSpPr/>
            <p:nvPr/>
          </p:nvGrpSpPr>
          <p:grpSpPr>
            <a:xfrm>
              <a:off x="1780200" y="1974240"/>
              <a:ext cx="994320" cy="993960"/>
              <a:chOff x="1780200" y="1974240"/>
              <a:chExt cx="994320" cy="993960"/>
            </a:xfrm>
          </p:grpSpPr>
          <p:sp>
            <p:nvSpPr>
              <p:cNvPr id="205" name="弦形 19"/>
              <p:cNvSpPr/>
              <p:nvPr/>
            </p:nvSpPr>
            <p:spPr>
              <a:xfrm flipV="1" rot="9102600">
                <a:off x="1910160" y="2103840"/>
                <a:ext cx="734400" cy="73368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6" name="椭圆 20"/>
              <p:cNvSpPr/>
              <p:nvPr/>
            </p:nvSpPr>
            <p:spPr>
              <a:xfrm flipV="1" rot="9102600">
                <a:off x="2174760" y="22114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椭圆 21"/>
              <p:cNvSpPr/>
              <p:nvPr/>
            </p:nvSpPr>
            <p:spPr>
              <a:xfrm flipV="1" rot="9102600">
                <a:off x="2388960" y="222120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8" name="椭圆 22"/>
              <p:cNvSpPr/>
              <p:nvPr/>
            </p:nvSpPr>
            <p:spPr>
              <a:xfrm flipV="1" rot="9102600">
                <a:off x="2349000" y="253476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椭圆 23"/>
              <p:cNvSpPr/>
              <p:nvPr/>
            </p:nvSpPr>
            <p:spPr>
              <a:xfrm flipV="1" rot="9102600">
                <a:off x="2525760" y="239796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 Box 32"/>
          <p:cNvSpPr/>
          <p:nvPr/>
        </p:nvSpPr>
        <p:spPr>
          <a:xfrm>
            <a:off x="1943280" y="2286000"/>
            <a:ext cx="283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9"/>
          <p:cNvSpPr/>
          <p:nvPr/>
        </p:nvSpPr>
        <p:spPr>
          <a:xfrm>
            <a:off x="2071800" y="3233880"/>
            <a:ext cx="5143320" cy="5713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9525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12" name="组合 30"/>
          <p:cNvGrpSpPr/>
          <p:nvPr/>
        </p:nvGrpSpPr>
        <p:grpSpPr>
          <a:xfrm>
            <a:off x="1449000" y="2992320"/>
            <a:ext cx="1325520" cy="995040"/>
            <a:chOff x="1449000" y="2992320"/>
            <a:chExt cx="1325520" cy="995040"/>
          </a:xfrm>
        </p:grpSpPr>
        <p:sp>
          <p:nvSpPr>
            <p:cNvPr id="213" name="Oval 26"/>
            <p:cNvSpPr/>
            <p:nvPr/>
          </p:nvSpPr>
          <p:spPr>
            <a:xfrm>
              <a:off x="1750680" y="3138120"/>
              <a:ext cx="685440" cy="67860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椭圆 32"/>
            <p:cNvSpPr/>
            <p:nvPr/>
          </p:nvSpPr>
          <p:spPr>
            <a:xfrm>
              <a:off x="2006640" y="3000240"/>
              <a:ext cx="7416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椭圆 33"/>
            <p:cNvSpPr/>
            <p:nvPr/>
          </p:nvSpPr>
          <p:spPr>
            <a:xfrm>
              <a:off x="2095560" y="3000240"/>
              <a:ext cx="7272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16" name="弦形 34"/>
            <p:cNvSpPr/>
            <p:nvPr/>
          </p:nvSpPr>
          <p:spPr>
            <a:xfrm rot="6862200">
              <a:off x="1959480" y="3033720"/>
              <a:ext cx="256680" cy="2566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17" name="组合 12"/>
            <p:cNvGrpSpPr/>
            <p:nvPr/>
          </p:nvGrpSpPr>
          <p:grpSpPr>
            <a:xfrm>
              <a:off x="1449000" y="3000600"/>
              <a:ext cx="979920" cy="979560"/>
              <a:chOff x="1449000" y="3000600"/>
              <a:chExt cx="979920" cy="979560"/>
            </a:xfrm>
          </p:grpSpPr>
          <p:sp>
            <p:nvSpPr>
              <p:cNvPr id="218" name="弦形 42"/>
              <p:cNvSpPr/>
              <p:nvPr/>
            </p:nvSpPr>
            <p:spPr>
              <a:xfrm rot="1539600">
                <a:off x="1571400" y="3123360"/>
                <a:ext cx="734400" cy="73404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9" name="椭圆 43"/>
              <p:cNvSpPr/>
              <p:nvPr/>
            </p:nvSpPr>
            <p:spPr>
              <a:xfrm rot="1539600">
                <a:off x="1921320" y="322920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0" name="椭圆 44"/>
              <p:cNvSpPr/>
              <p:nvPr/>
            </p:nvSpPr>
            <p:spPr>
              <a:xfrm rot="1539600">
                <a:off x="1708200" y="324900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1" name="椭圆 45"/>
              <p:cNvSpPr/>
              <p:nvPr/>
            </p:nvSpPr>
            <p:spPr>
              <a:xfrm rot="1539600">
                <a:off x="1762560" y="35600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2" name="椭圆 46"/>
              <p:cNvSpPr/>
              <p:nvPr/>
            </p:nvSpPr>
            <p:spPr>
              <a:xfrm rot="1539600">
                <a:off x="1579680" y="343152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8"/>
            <p:cNvGrpSpPr/>
            <p:nvPr/>
          </p:nvGrpSpPr>
          <p:grpSpPr>
            <a:xfrm>
              <a:off x="1780200" y="2993400"/>
              <a:ext cx="994320" cy="993960"/>
              <a:chOff x="1780200" y="2993400"/>
              <a:chExt cx="994320" cy="993960"/>
            </a:xfrm>
          </p:grpSpPr>
          <p:sp>
            <p:nvSpPr>
              <p:cNvPr id="224" name="弦形 37"/>
              <p:cNvSpPr/>
              <p:nvPr/>
            </p:nvSpPr>
            <p:spPr>
              <a:xfrm flipV="1" rot="9102600">
                <a:off x="1910160" y="3123000"/>
                <a:ext cx="734400" cy="73368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5" name="椭圆 38"/>
              <p:cNvSpPr/>
              <p:nvPr/>
            </p:nvSpPr>
            <p:spPr>
              <a:xfrm flipV="1" rot="9102600">
                <a:off x="2174760" y="323064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6" name="椭圆 39"/>
              <p:cNvSpPr/>
              <p:nvPr/>
            </p:nvSpPr>
            <p:spPr>
              <a:xfrm flipV="1" rot="9102600">
                <a:off x="2388960" y="324036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7" name="椭圆 40"/>
              <p:cNvSpPr/>
              <p:nvPr/>
            </p:nvSpPr>
            <p:spPr>
              <a:xfrm flipV="1" rot="9102600">
                <a:off x="2349000" y="355392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8" name="椭圆 41"/>
              <p:cNvSpPr/>
              <p:nvPr/>
            </p:nvSpPr>
            <p:spPr>
              <a:xfrm flipV="1" rot="9102600">
                <a:off x="2525760" y="341712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Text Box 32"/>
          <p:cNvSpPr/>
          <p:nvPr/>
        </p:nvSpPr>
        <p:spPr>
          <a:xfrm>
            <a:off x="1943280" y="3305160"/>
            <a:ext cx="283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8"/>
          <p:cNvSpPr/>
          <p:nvPr/>
        </p:nvSpPr>
        <p:spPr>
          <a:xfrm>
            <a:off x="2071800" y="4305240"/>
            <a:ext cx="5143320" cy="571320"/>
          </a:xfrm>
          <a:prstGeom prst="rect">
            <a:avLst/>
          </a:prstGeom>
          <a:solidFill>
            <a:schemeClr val="bg2">
              <a:lumMod val="90000"/>
            </a:schemeClr>
          </a:solidFill>
          <a:ln w="9525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31" name="组合 49"/>
          <p:cNvGrpSpPr/>
          <p:nvPr/>
        </p:nvGrpSpPr>
        <p:grpSpPr>
          <a:xfrm>
            <a:off x="1449000" y="4064040"/>
            <a:ext cx="1325520" cy="994680"/>
            <a:chOff x="1449000" y="4064040"/>
            <a:chExt cx="1325520" cy="994680"/>
          </a:xfrm>
        </p:grpSpPr>
        <p:sp>
          <p:nvSpPr>
            <p:cNvPr id="232" name="Oval 26"/>
            <p:cNvSpPr/>
            <p:nvPr/>
          </p:nvSpPr>
          <p:spPr>
            <a:xfrm>
              <a:off x="1750680" y="4209840"/>
              <a:ext cx="685440" cy="67860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33" name="椭圆 51"/>
            <p:cNvSpPr/>
            <p:nvPr/>
          </p:nvSpPr>
          <p:spPr>
            <a:xfrm>
              <a:off x="2006640" y="4071960"/>
              <a:ext cx="7416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34" name="椭圆 52"/>
            <p:cNvSpPr/>
            <p:nvPr/>
          </p:nvSpPr>
          <p:spPr>
            <a:xfrm>
              <a:off x="2095560" y="4071960"/>
              <a:ext cx="7272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弦形 53"/>
            <p:cNvSpPr/>
            <p:nvPr/>
          </p:nvSpPr>
          <p:spPr>
            <a:xfrm rot="6862200">
              <a:off x="1959480" y="4105440"/>
              <a:ext cx="256680" cy="2566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36" name="组合 12"/>
            <p:cNvGrpSpPr/>
            <p:nvPr/>
          </p:nvGrpSpPr>
          <p:grpSpPr>
            <a:xfrm>
              <a:off x="1449000" y="4071960"/>
              <a:ext cx="979920" cy="979560"/>
              <a:chOff x="1449000" y="4071960"/>
              <a:chExt cx="979920" cy="979560"/>
            </a:xfrm>
          </p:grpSpPr>
          <p:sp>
            <p:nvSpPr>
              <p:cNvPr id="237" name="弦形 61"/>
              <p:cNvSpPr/>
              <p:nvPr/>
            </p:nvSpPr>
            <p:spPr>
              <a:xfrm rot="1539600">
                <a:off x="1571400" y="4194720"/>
                <a:ext cx="734400" cy="73404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椭圆 62"/>
              <p:cNvSpPr/>
              <p:nvPr/>
            </p:nvSpPr>
            <p:spPr>
              <a:xfrm rot="1539600">
                <a:off x="1921320" y="43005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9" name="椭圆 63"/>
              <p:cNvSpPr/>
              <p:nvPr/>
            </p:nvSpPr>
            <p:spPr>
              <a:xfrm rot="1539600">
                <a:off x="1708200" y="43203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0" name="椭圆 64"/>
              <p:cNvSpPr/>
              <p:nvPr/>
            </p:nvSpPr>
            <p:spPr>
              <a:xfrm rot="1539600">
                <a:off x="1762560" y="46317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1" name="椭圆 65"/>
              <p:cNvSpPr/>
              <p:nvPr/>
            </p:nvSpPr>
            <p:spPr>
              <a:xfrm rot="1539600">
                <a:off x="1579680" y="45032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42" name="组合 18"/>
            <p:cNvGrpSpPr/>
            <p:nvPr/>
          </p:nvGrpSpPr>
          <p:grpSpPr>
            <a:xfrm>
              <a:off x="1780200" y="4064760"/>
              <a:ext cx="994320" cy="993960"/>
              <a:chOff x="1780200" y="4064760"/>
              <a:chExt cx="994320" cy="993960"/>
            </a:xfrm>
          </p:grpSpPr>
          <p:sp>
            <p:nvSpPr>
              <p:cNvPr id="243" name="弦形 56"/>
              <p:cNvSpPr/>
              <p:nvPr/>
            </p:nvSpPr>
            <p:spPr>
              <a:xfrm flipV="1" rot="9102600">
                <a:off x="1910160" y="4194360"/>
                <a:ext cx="734400" cy="73368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椭圆 57"/>
              <p:cNvSpPr/>
              <p:nvPr/>
            </p:nvSpPr>
            <p:spPr>
              <a:xfrm flipV="1" rot="9102600">
                <a:off x="2174760" y="430200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椭圆 58"/>
              <p:cNvSpPr/>
              <p:nvPr/>
            </p:nvSpPr>
            <p:spPr>
              <a:xfrm flipV="1" rot="9102600">
                <a:off x="2388960" y="43120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椭圆 59"/>
              <p:cNvSpPr/>
              <p:nvPr/>
            </p:nvSpPr>
            <p:spPr>
              <a:xfrm flipV="1" rot="9102600">
                <a:off x="2349000" y="46252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7" name="椭圆 60"/>
              <p:cNvSpPr/>
              <p:nvPr/>
            </p:nvSpPr>
            <p:spPr>
              <a:xfrm flipV="1" rot="9102600">
                <a:off x="2525760" y="44884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Text Box 32"/>
          <p:cNvSpPr/>
          <p:nvPr/>
        </p:nvSpPr>
        <p:spPr>
          <a:xfrm>
            <a:off x="1943280" y="4376880"/>
            <a:ext cx="283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0" name="Oval 26"/>
          <p:cNvSpPr/>
          <p:nvPr/>
        </p:nvSpPr>
        <p:spPr>
          <a:xfrm>
            <a:off x="3730680" y="3068640"/>
            <a:ext cx="1333080" cy="132048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51" name="Group 27"/>
          <p:cNvGrpSpPr/>
          <p:nvPr/>
        </p:nvGrpSpPr>
        <p:grpSpPr>
          <a:xfrm>
            <a:off x="3751200" y="3087720"/>
            <a:ext cx="1290240" cy="1277640"/>
            <a:chOff x="3751200" y="3087720"/>
            <a:chExt cx="1290240" cy="1277640"/>
          </a:xfrm>
        </p:grpSpPr>
        <p:sp>
          <p:nvSpPr>
            <p:cNvPr id="252" name="Oval 28"/>
            <p:cNvSpPr/>
            <p:nvPr/>
          </p:nvSpPr>
          <p:spPr>
            <a:xfrm>
              <a:off x="3751200" y="3087720"/>
              <a:ext cx="1290240" cy="1277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Oval 29"/>
            <p:cNvSpPr/>
            <p:nvPr/>
          </p:nvSpPr>
          <p:spPr>
            <a:xfrm>
              <a:off x="3767760" y="3094920"/>
              <a:ext cx="1259280" cy="1245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Oval 30"/>
            <p:cNvSpPr/>
            <p:nvPr/>
          </p:nvSpPr>
          <p:spPr>
            <a:xfrm>
              <a:off x="3781080" y="3107160"/>
              <a:ext cx="1197360" cy="11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Oval 31"/>
            <p:cNvSpPr/>
            <p:nvPr/>
          </p:nvSpPr>
          <p:spPr>
            <a:xfrm>
              <a:off x="3851280" y="3139920"/>
              <a:ext cx="10645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56" name="弦形 8"/>
          <p:cNvSpPr/>
          <p:nvPr/>
        </p:nvSpPr>
        <p:spPr>
          <a:xfrm rot="6862200">
            <a:off x="4134240" y="2866680"/>
            <a:ext cx="499680" cy="499680"/>
          </a:xfrm>
          <a:prstGeom prst="chord">
            <a:avLst>
              <a:gd name="adj1" fmla="val 2700000"/>
              <a:gd name="adj2" fmla="val 16200000"/>
            </a:avLst>
          </a:prstGeom>
          <a:gradFill rotWithShape="0">
            <a:gsLst>
              <a:gs pos="20000">
                <a:srgbClr val="3e3e3e"/>
              </a:gs>
              <a:gs pos="100000">
                <a:srgbClr val="2f2f2f"/>
              </a:gs>
            </a:gsLst>
            <a:lin ang="20136000"/>
          </a:gradFill>
          <a:ln>
            <a:solidFill>
              <a:srgbClr val="3e3e3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57" name="AutoShape 3"/>
          <p:cNvSpPr/>
          <p:nvPr/>
        </p:nvSpPr>
        <p:spPr>
          <a:xfrm rot="17973000">
            <a:off x="4563000" y="253944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58" name="AutoShape 4"/>
          <p:cNvSpPr/>
          <p:nvPr/>
        </p:nvSpPr>
        <p:spPr>
          <a:xfrm rot="3465600">
            <a:off x="4613040" y="4647960"/>
            <a:ext cx="793440" cy="288720"/>
          </a:xfrm>
          <a:prstGeom prst="rightArrow">
            <a:avLst>
              <a:gd name="adj1" fmla="val 35167"/>
              <a:gd name="adj2" fmla="val 1112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59" name="AutoShape 5"/>
          <p:cNvSpPr/>
          <p:nvPr/>
        </p:nvSpPr>
        <p:spPr>
          <a:xfrm rot="14368800">
            <a:off x="3394800" y="256176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0" name="AutoShape 6"/>
          <p:cNvSpPr/>
          <p:nvPr/>
        </p:nvSpPr>
        <p:spPr>
          <a:xfrm rot="7535400">
            <a:off x="3357000" y="461520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194440" y="3611520"/>
            <a:ext cx="791640" cy="288720"/>
          </a:xfrm>
          <a:prstGeom prst="rightArrow">
            <a:avLst>
              <a:gd name="adj1" fmla="val 35167"/>
              <a:gd name="adj2" fmla="val 11102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2" name="AutoShape 8"/>
          <p:cNvSpPr/>
          <p:nvPr/>
        </p:nvSpPr>
        <p:spPr>
          <a:xfrm rot="10800000">
            <a:off x="2784960" y="3605400"/>
            <a:ext cx="863280" cy="288720"/>
          </a:xfrm>
          <a:prstGeom prst="rightArrow">
            <a:avLst>
              <a:gd name="adj1" fmla="val 35167"/>
              <a:gd name="adj2" fmla="val 12104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2505240" y="1854360"/>
            <a:ext cx="3742920" cy="3744720"/>
          </a:xfrm>
          <a:prstGeom prst="ellipse">
            <a:avLst/>
          </a:prstGeom>
          <a:noFill/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572800" y="182880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683360" y="182880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487200" y="358128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5572800" y="518148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768960" y="358128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1607400" y="511956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6"/>
          <p:cNvSpPr/>
          <p:nvPr/>
        </p:nvSpPr>
        <p:spPr>
          <a:xfrm>
            <a:off x="2362320" y="363204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1" name="Oval 17"/>
          <p:cNvSpPr/>
          <p:nvPr/>
        </p:nvSpPr>
        <p:spPr>
          <a:xfrm>
            <a:off x="3276720" y="19810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2" name="Oval 18"/>
          <p:cNvSpPr/>
          <p:nvPr/>
        </p:nvSpPr>
        <p:spPr>
          <a:xfrm>
            <a:off x="5181480" y="19810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3" name="Oval 19"/>
          <p:cNvSpPr/>
          <p:nvPr/>
        </p:nvSpPr>
        <p:spPr>
          <a:xfrm>
            <a:off x="3200400" y="51814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4" name="Oval 20"/>
          <p:cNvSpPr/>
          <p:nvPr/>
        </p:nvSpPr>
        <p:spPr>
          <a:xfrm>
            <a:off x="5181480" y="51814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6095880" y="361944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6" name="Text Box 32"/>
          <p:cNvSpPr/>
          <p:nvPr/>
        </p:nvSpPr>
        <p:spPr>
          <a:xfrm>
            <a:off x="4030920" y="3560760"/>
            <a:ext cx="74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29"/>
          <p:cNvGrpSpPr/>
          <p:nvPr/>
        </p:nvGrpSpPr>
        <p:grpSpPr>
          <a:xfrm>
            <a:off x="3142800" y="2801160"/>
            <a:ext cx="1906200" cy="1906200"/>
            <a:chOff x="3142800" y="2801160"/>
            <a:chExt cx="1906200" cy="1906200"/>
          </a:xfrm>
        </p:grpSpPr>
        <p:sp>
          <p:nvSpPr>
            <p:cNvPr id="278" name="弦形 30"/>
            <p:cNvSpPr/>
            <p:nvPr/>
          </p:nvSpPr>
          <p:spPr>
            <a:xfrm rot="1539600">
              <a:off x="3381480" y="3039840"/>
              <a:ext cx="1428480" cy="1428480"/>
            </a:xfrm>
            <a:prstGeom prst="chord">
              <a:avLst>
                <a:gd name="adj1" fmla="val 5445557"/>
                <a:gd name="adj2" fmla="val 16200000"/>
              </a:avLst>
            </a:prstGeom>
            <a:gradFill rotWithShape="0">
              <a:gsLst>
                <a:gs pos="0">
                  <a:srgbClr val="bf0000"/>
                </a:gs>
                <a:gs pos="100000">
                  <a:srgbClr val="710000"/>
                </a:gs>
              </a:gsLst>
              <a:lin ang="13500000"/>
            </a:gra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79" name="椭圆 31"/>
            <p:cNvSpPr/>
            <p:nvPr/>
          </p:nvSpPr>
          <p:spPr>
            <a:xfrm rot="1539600">
              <a:off x="4062240" y="32464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椭圆 32"/>
            <p:cNvSpPr/>
            <p:nvPr/>
          </p:nvSpPr>
          <p:spPr>
            <a:xfrm rot="1539600">
              <a:off x="3647520" y="328500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椭圆 33"/>
            <p:cNvSpPr/>
            <p:nvPr/>
          </p:nvSpPr>
          <p:spPr>
            <a:xfrm rot="1539600">
              <a:off x="3753000" y="38905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2" name="椭圆 34"/>
            <p:cNvSpPr/>
            <p:nvPr/>
          </p:nvSpPr>
          <p:spPr>
            <a:xfrm rot="1539600">
              <a:off x="3397320" y="36403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3" name="组合 35"/>
          <p:cNvGrpSpPr/>
          <p:nvPr/>
        </p:nvGrpSpPr>
        <p:grpSpPr>
          <a:xfrm>
            <a:off x="3787560" y="2787480"/>
            <a:ext cx="1933920" cy="1932840"/>
            <a:chOff x="3787560" y="2787480"/>
            <a:chExt cx="1933920" cy="1932840"/>
          </a:xfrm>
        </p:grpSpPr>
        <p:sp>
          <p:nvSpPr>
            <p:cNvPr id="284" name="弦形 36"/>
            <p:cNvSpPr/>
            <p:nvPr/>
          </p:nvSpPr>
          <p:spPr>
            <a:xfrm flipV="1" rot="9102600">
              <a:off x="4040280" y="3040200"/>
              <a:ext cx="1428480" cy="1426320"/>
            </a:xfrm>
            <a:prstGeom prst="chord">
              <a:avLst>
                <a:gd name="adj1" fmla="val 5445557"/>
                <a:gd name="adj2" fmla="val 16200000"/>
              </a:avLst>
            </a:prstGeom>
            <a:gradFill rotWithShape="0">
              <a:gsLst>
                <a:gs pos="0">
                  <a:srgbClr val="bf0000"/>
                </a:gs>
                <a:gs pos="100000">
                  <a:srgbClr val="710000"/>
                </a:gs>
              </a:gsLst>
              <a:lin ang="13500000"/>
            </a:gra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5" name="椭圆 37"/>
            <p:cNvSpPr/>
            <p:nvPr/>
          </p:nvSpPr>
          <p:spPr>
            <a:xfrm flipV="1" rot="9102600">
              <a:off x="4556160" y="32497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椭圆 38"/>
            <p:cNvSpPr/>
            <p:nvPr/>
          </p:nvSpPr>
          <p:spPr>
            <a:xfrm flipV="1" rot="9102600">
              <a:off x="4971960" y="326880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椭圆 39"/>
            <p:cNvSpPr/>
            <p:nvPr/>
          </p:nvSpPr>
          <p:spPr>
            <a:xfrm flipV="1" rot="9102600">
              <a:off x="4894200" y="38779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椭圆 40"/>
            <p:cNvSpPr/>
            <p:nvPr/>
          </p:nvSpPr>
          <p:spPr>
            <a:xfrm flipV="1" rot="9102600">
              <a:off x="5238000" y="36118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290" name="Group 31"/>
          <p:cNvGrpSpPr/>
          <p:nvPr/>
        </p:nvGrpSpPr>
        <p:grpSpPr>
          <a:xfrm>
            <a:off x="1715760" y="1785960"/>
            <a:ext cx="5179680" cy="4495320"/>
            <a:chOff x="1715760" y="1785960"/>
            <a:chExt cx="5179680" cy="4495320"/>
          </a:xfrm>
        </p:grpSpPr>
        <p:sp>
          <p:nvSpPr>
            <p:cNvPr id="291" name="Rectangle 32"/>
            <p:cNvSpPr/>
            <p:nvPr/>
          </p:nvSpPr>
          <p:spPr>
            <a:xfrm rot="13770000">
              <a:off x="4770720" y="396288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917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 rot="20856000">
              <a:off x="2900520" y="3562560"/>
              <a:ext cx="94140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4656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Rectangle 34"/>
            <p:cNvSpPr/>
            <p:nvPr/>
          </p:nvSpPr>
          <p:spPr>
            <a:xfrm rot="18394800">
              <a:off x="4866840" y="2586240"/>
              <a:ext cx="560160" cy="11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19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94" name="Group 40"/>
            <p:cNvGrpSpPr/>
            <p:nvPr/>
          </p:nvGrpSpPr>
          <p:grpSpPr>
            <a:xfrm>
              <a:off x="5057280" y="1785960"/>
              <a:ext cx="909720" cy="769680"/>
              <a:chOff x="5057280" y="1785960"/>
              <a:chExt cx="909720" cy="769680"/>
            </a:xfrm>
          </p:grpSpPr>
          <p:grpSp>
            <p:nvGrpSpPr>
              <p:cNvPr id="295" name="Group 41"/>
              <p:cNvGrpSpPr/>
              <p:nvPr/>
            </p:nvGrpSpPr>
            <p:grpSpPr>
              <a:xfrm>
                <a:off x="5087880" y="1785960"/>
                <a:ext cx="810720" cy="769680"/>
                <a:chOff x="5087880" y="1785960"/>
                <a:chExt cx="810720" cy="769680"/>
              </a:xfrm>
            </p:grpSpPr>
            <p:sp>
              <p:nvSpPr>
                <p:cNvPr id="296" name="Oval 42"/>
                <p:cNvSpPr/>
                <p:nvPr/>
              </p:nvSpPr>
              <p:spPr>
                <a:xfrm>
                  <a:off x="5087880" y="1785960"/>
                  <a:ext cx="81072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102131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97" name="Freeform 43"/>
                <p:cNvSpPr/>
                <p:nvPr/>
              </p:nvSpPr>
              <p:spPr>
                <a:xfrm>
                  <a:off x="5179320" y="1798920"/>
                  <a:ext cx="626040" cy="289800"/>
                </a:xfrm>
                <a:custGeom>
                  <a:avLst/>
                  <a:gdLst>
                    <a:gd name="textAreaLeft" fmla="*/ 0 w 626040"/>
                    <a:gd name="textAreaRight" fmla="*/ 626400 w 62604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298" name="Text Box 44"/>
              <p:cNvSpPr/>
              <p:nvPr/>
            </p:nvSpPr>
            <p:spPr>
              <a:xfrm>
                <a:off x="5057280" y="2082960"/>
                <a:ext cx="90972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45"/>
            <p:cNvGrpSpPr/>
            <p:nvPr/>
          </p:nvGrpSpPr>
          <p:grpSpPr>
            <a:xfrm>
              <a:off x="1715760" y="2910240"/>
              <a:ext cx="1620360" cy="1600200"/>
              <a:chOff x="1715760" y="2910240"/>
              <a:chExt cx="1620360" cy="1600200"/>
            </a:xfrm>
          </p:grpSpPr>
          <p:grpSp>
            <p:nvGrpSpPr>
              <p:cNvPr id="300" name="Group 46"/>
              <p:cNvGrpSpPr/>
              <p:nvPr/>
            </p:nvGrpSpPr>
            <p:grpSpPr>
              <a:xfrm>
                <a:off x="1715760" y="2910240"/>
                <a:ext cx="1620360" cy="1600200"/>
                <a:chOff x="1715760" y="2910240"/>
                <a:chExt cx="1620360" cy="1600200"/>
              </a:xfrm>
            </p:grpSpPr>
            <p:sp>
              <p:nvSpPr>
                <p:cNvPr id="301" name="Oval 47"/>
                <p:cNvSpPr/>
                <p:nvPr/>
              </p:nvSpPr>
              <p:spPr>
                <a:xfrm>
                  <a:off x="1715760" y="2910240"/>
                  <a:ext cx="1620360" cy="160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b6e18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>
                  <a:off x="1901520" y="2937960"/>
                  <a:ext cx="1252440" cy="603000"/>
                </a:xfrm>
                <a:custGeom>
                  <a:avLst/>
                  <a:gdLst>
                    <a:gd name="textAreaLeft" fmla="*/ 0 w 1252440"/>
                    <a:gd name="textAreaRight" fmla="*/ 1252800 w 125244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303" name="Text Box 49"/>
              <p:cNvSpPr/>
              <p:nvPr/>
            </p:nvSpPr>
            <p:spPr>
              <a:xfrm>
                <a:off x="1748160" y="3620880"/>
                <a:ext cx="15436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50"/>
            <p:cNvGrpSpPr/>
            <p:nvPr/>
          </p:nvGrpSpPr>
          <p:grpSpPr>
            <a:xfrm>
              <a:off x="5023080" y="4094280"/>
              <a:ext cx="1872360" cy="1777680"/>
              <a:chOff x="5023080" y="4094280"/>
              <a:chExt cx="1872360" cy="1777680"/>
            </a:xfrm>
          </p:grpSpPr>
          <p:grpSp>
            <p:nvGrpSpPr>
              <p:cNvPr id="305" name="Group 51"/>
              <p:cNvGrpSpPr/>
              <p:nvPr/>
            </p:nvGrpSpPr>
            <p:grpSpPr>
              <a:xfrm>
                <a:off x="5023080" y="4094280"/>
                <a:ext cx="1872360" cy="1777680"/>
                <a:chOff x="5023080" y="4094280"/>
                <a:chExt cx="1872360" cy="1777680"/>
              </a:xfrm>
            </p:grpSpPr>
            <p:sp>
              <p:nvSpPr>
                <p:cNvPr id="306" name="Oval 52"/>
                <p:cNvSpPr/>
                <p:nvPr/>
              </p:nvSpPr>
              <p:spPr>
                <a:xfrm>
                  <a:off x="5023080" y="4094280"/>
                  <a:ext cx="1872360" cy="177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24e3d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7" name="Freeform 53"/>
                <p:cNvSpPr/>
                <p:nvPr/>
              </p:nvSpPr>
              <p:spPr>
                <a:xfrm>
                  <a:off x="5237280" y="4123800"/>
                  <a:ext cx="1444320" cy="669960"/>
                </a:xfrm>
                <a:custGeom>
                  <a:avLst/>
                  <a:gdLst>
                    <a:gd name="textAreaLeft" fmla="*/ 0 w 1444320"/>
                    <a:gd name="textAreaRight" fmla="*/ 1444680 w 1444320"/>
                    <a:gd name="textAreaTop" fmla="*/ 0 h 669960"/>
                    <a:gd name="textAreaBottom" fmla="*/ 670320 h 6699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308" name="Text Box 54"/>
              <p:cNvSpPr/>
              <p:nvPr/>
            </p:nvSpPr>
            <p:spPr>
              <a:xfrm>
                <a:off x="5236920" y="4863600"/>
                <a:ext cx="16012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55"/>
            <p:cNvSpPr/>
            <p:nvPr/>
          </p:nvSpPr>
          <p:spPr>
            <a:xfrm>
              <a:off x="1901880" y="4567680"/>
              <a:ext cx="1318320" cy="411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Oval 56"/>
            <p:cNvSpPr/>
            <p:nvPr/>
          </p:nvSpPr>
          <p:spPr>
            <a:xfrm>
              <a:off x="3899520" y="4037400"/>
              <a:ext cx="1319760" cy="411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5335200" y="5869800"/>
              <a:ext cx="1318320" cy="411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Oval 58"/>
            <p:cNvSpPr/>
            <p:nvPr/>
          </p:nvSpPr>
          <p:spPr>
            <a:xfrm>
              <a:off x="5210640" y="261468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3" name="Picture 2"/>
          <p:cNvSpPr/>
          <p:nvPr/>
        </p:nvSpPr>
        <p:spPr>
          <a:xfrm>
            <a:off x="3929040" y="2928960"/>
            <a:ext cx="1199880" cy="799920"/>
          </a:xfrm>
          <a:prstGeom prst="roundRect">
            <a:avLst>
              <a:gd name="adj" fmla="val 25261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2088000" y="4929120"/>
            <a:ext cx="4804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2"/>
                </a:solidFill>
                <a:latin typeface="Cooper Black"/>
              </a:rPr>
              <a:t>Thank you</a:t>
            </a:r>
            <a:r>
              <a:rPr b="1" lang="zh-CN" sz="6000" spc="-1" strike="noStrike">
                <a:solidFill>
                  <a:schemeClr val="accent2"/>
                </a:solidFill>
                <a:latin typeface="Cooper Black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1909440" y="18864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51640" y="6381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en-US" sz="1050" spc="-1" strike="noStrike" u="sng">
                <a:solidFill>
                  <a:srgbClr val="449878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449878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yingxiao/   </a:t>
            </a: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33</Template>
  <TotalTime>123</TotalTime>
  <Application>LibreOffice/7.4.7.2$Linux_X86_64 LibreOffice_project/40$Build-2</Application>
  <AppVersion>15.0000</AppVersion>
  <Words>63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符号</dc:creator>
  <dc:description/>
  <dc:language>en-US</dc:language>
  <cp:lastModifiedBy>yu wang</cp:lastModifiedBy>
  <dcterms:modified xsi:type="dcterms:W3CDTF">2015-08-08T10:07:22Z</dcterms:modified>
  <cp:revision>24</cp:revision>
  <dc:subject/>
  <dc:title>10月工作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