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5BC-EF60-4758-BA0C-5D0542A2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BF9-6475-40F3-A90E-C3434D34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1C1-3E8F-4296-B8C6-2D30FFFC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74B-7739-434C-B2F0-7AEAB0A4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613-D64B-43F0-B758-2153993A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0C6-5700-4C96-A962-24B1DA44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9D9-10BB-448F-904B-ABA5AAC5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56E-8601-468A-9A29-B9664F5D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FF6-E472-4F82-9286-6C3175F7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89F-4984-4F98-BF89-3BBF004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577-0DD8-43FE-B1FA-A3B33007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BC2-6EFD-4E18-ACD4-092D69E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bfb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D4C-2A17-42A1-91F4-6E6C030842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4D17-997A-4C10-855B-467E276EE9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Desktop\素材\素描城市.png"/>
          <p:cNvPicPr/>
          <p:nvPr/>
        </p:nvPicPr>
        <p:blipFill>
          <a:blip r:embed="rId1"/>
          <a:stretch/>
        </p:blipFill>
        <p:spPr>
          <a:xfrm>
            <a:off x="711360" y="1066680"/>
            <a:ext cx="7753320" cy="2009880"/>
          </a:xfrm>
          <a:prstGeom prst="rect">
            <a:avLst/>
          </a:prstGeom>
          <a:ln w="0">
            <a:noFill/>
          </a:ln>
        </p:spPr>
      </p:pic>
      <p:sp>
        <p:nvSpPr>
          <p:cNvPr id="42" name="矩形 11"/>
          <p:cNvSpPr/>
          <p:nvPr/>
        </p:nvSpPr>
        <p:spPr>
          <a:xfrm>
            <a:off x="4680" y="2698920"/>
            <a:ext cx="9144000" cy="1384200"/>
          </a:xfrm>
          <a:prstGeom prst="rect">
            <a:avLst/>
          </a:prstGeom>
          <a:gradFill rotWithShape="0">
            <a:gsLst>
              <a:gs pos="0">
                <a:srgbClr val="005c9f"/>
              </a:gs>
              <a:gs pos="100000">
                <a:srgbClr val="0051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709360" y="29480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蓝色商务建筑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49360" y="3641760"/>
            <a:ext cx="3807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3"/>
          <p:cNvSpPr/>
          <p:nvPr/>
        </p:nvSpPr>
        <p:spPr>
          <a:xfrm>
            <a:off x="2328840" y="3622680"/>
            <a:ext cx="4454640" cy="1440"/>
          </a:xfrm>
          <a:prstGeom prst="line">
            <a:avLst/>
          </a:prstGeom>
          <a:ln w="9360">
            <a:solidFill>
              <a:srgbClr val="b7cce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3808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Desktop\素材\素描城市.png"/>
          <p:cNvPicPr/>
          <p:nvPr/>
        </p:nvPicPr>
        <p:blipFill>
          <a:blip r:embed="rId1"/>
          <a:stretch/>
        </p:blipFill>
        <p:spPr>
          <a:xfrm>
            <a:off x="4800600" y="3189240"/>
            <a:ext cx="4483080" cy="1162080"/>
          </a:xfrm>
          <a:prstGeom prst="rect">
            <a:avLst/>
          </a:prstGeom>
          <a:ln w="0">
            <a:noFill/>
          </a:ln>
        </p:spPr>
      </p:pic>
      <p:sp>
        <p:nvSpPr>
          <p:cNvPr id="48" name="矩形 11"/>
          <p:cNvSpPr/>
          <p:nvPr/>
        </p:nvSpPr>
        <p:spPr>
          <a:xfrm>
            <a:off x="4680" y="4133880"/>
            <a:ext cx="9144000" cy="692280"/>
          </a:xfrm>
          <a:prstGeom prst="rect">
            <a:avLst/>
          </a:prstGeom>
          <a:gradFill rotWithShape="0">
            <a:gsLst>
              <a:gs pos="0">
                <a:srgbClr val="005c9f"/>
              </a:gs>
              <a:gs pos="100000">
                <a:srgbClr val="0051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93760" y="421956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Slide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73200" y="1487520"/>
            <a:ext cx="78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    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lideIdea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是一款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iPad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上的幻灯片制作软件，它通过简单、流畅的触摸方式，在移动场景下，为办公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教学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会议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商业展示提供从幻灯片制作、播放、到分享、录制的一系列创新功能和体验，让用户在移动设备上进行极具个性化的演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D:\Desktop\素材\素描城市.png"/>
          <p:cNvPicPr/>
          <p:nvPr/>
        </p:nvPicPr>
        <p:blipFill>
          <a:blip r:embed="rId1"/>
          <a:stretch/>
        </p:blipFill>
        <p:spPr>
          <a:xfrm>
            <a:off x="4800600" y="3189240"/>
            <a:ext cx="4483080" cy="1162080"/>
          </a:xfrm>
          <a:prstGeom prst="rect">
            <a:avLst/>
          </a:prstGeom>
          <a:ln w="0">
            <a:noFill/>
          </a:ln>
        </p:spPr>
      </p:pic>
      <p:sp>
        <p:nvSpPr>
          <p:cNvPr id="52" name="矩形 11"/>
          <p:cNvSpPr/>
          <p:nvPr/>
        </p:nvSpPr>
        <p:spPr>
          <a:xfrm>
            <a:off x="4680" y="4133880"/>
            <a:ext cx="9144000" cy="692280"/>
          </a:xfrm>
          <a:prstGeom prst="rect">
            <a:avLst/>
          </a:prstGeom>
          <a:gradFill rotWithShape="0">
            <a:gsLst>
              <a:gs pos="0">
                <a:srgbClr val="005c9f"/>
              </a:gs>
              <a:gs pos="100000">
                <a:srgbClr val="0051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93760" y="421956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  <a:ea typeface="Arial Unicode MS"/>
              </a:rPr>
              <a:t>Slide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5640" y="723960"/>
            <a:ext cx="3930840" cy="2367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5" name="TextBox 8"/>
          <p:cNvSpPr/>
          <p:nvPr/>
        </p:nvSpPr>
        <p:spPr>
          <a:xfrm>
            <a:off x="5076720" y="1030320"/>
            <a:ext cx="32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lideIdea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创新性地重新定义了移动终端上的幻灯片制作与演示方式，让您在移动场景下也能简单快捷捷地制作出漂亮的幻灯片，让您体验与众不同的幻灯片制作与演讲感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0720" y="4834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2:10:00Z</dcterms:created>
  <dc:creator>lxyia_000</dc:creator>
  <dc:description/>
  <cp:keywords/>
  <dc:language>en-US</dc:language>
  <cp:lastModifiedBy>yu wang</cp:lastModifiedBy>
  <dcterms:modified xsi:type="dcterms:W3CDTF">2015-08-08T10:05:46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