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8F2-E2C1-49E6-B289-F14F205F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F4C-6B6F-46AE-B26A-C48E12EE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158-4C5D-4A4F-83C1-2841273E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06D-F0A0-4BA6-B2F0-D66028B6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EE2-625E-46EE-91A6-8A5F3B5E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D5F-8C9B-4FC8-8DCE-9C0FBF6E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782-542B-475E-97E1-75522547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980-8136-4C4A-9118-FA2526AA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31104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776-CF30-491C-B35D-3A9C2BC6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F9F-AB76-47B0-89CF-9B94CE54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1AA-D63F-45B8-83A7-DE997961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BEA-A0CF-4AAA-8FA7-8A89771C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rcRect l="0" t="0" r="61583" b="0"/>
          <a:stretch/>
        </p:blipFill>
        <p:spPr>
          <a:xfrm>
            <a:off x="0" y="637704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104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B590-680C-4A04-813A-6A137E0837DB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51FC-3121-49D9-AE0E-7C077C32FD86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直接连接符 10"/>
          <p:cNvSpPr/>
          <p:nvPr/>
        </p:nvSpPr>
        <p:spPr>
          <a:xfrm>
            <a:off x="0" y="10857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tubiao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rcRect l="0" t="0" r="61583" b="0"/>
          <a:stretch/>
        </p:blipFill>
        <p:spPr>
          <a:xfrm>
            <a:off x="0" y="637704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47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直接连接符 8"/>
          <p:cNvSpPr/>
          <p:nvPr/>
        </p:nvSpPr>
        <p:spPr>
          <a:xfrm>
            <a:off x="0" y="3076560"/>
            <a:ext cx="914400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57300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</a:rPr>
              <a:t>蓝色天空简洁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D827-8D98-4FD6-A20A-DD624982368F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DEF9-0318-42F7-95B9-B35381C97546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8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49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01AA-A57A-4D78-866D-A355D7397AD3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1A2D-EE27-4C28-87B7-49EEE3441339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53" name="Group 2"/>
          <p:cNvGrpSpPr/>
          <p:nvPr/>
        </p:nvGrpSpPr>
        <p:grpSpPr>
          <a:xfrm>
            <a:off x="3642480" y="2943360"/>
            <a:ext cx="39240" cy="33840"/>
            <a:chOff x="3642480" y="2943360"/>
            <a:chExt cx="39240" cy="33840"/>
          </a:xfrm>
        </p:grpSpPr>
        <p:sp>
          <p:nvSpPr>
            <p:cNvPr id="154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2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63600" y="6118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2"/>
          <p:cNvSpPr/>
          <p:nvPr/>
        </p:nvSpPr>
        <p:spPr>
          <a:xfrm>
            <a:off x="2543040" y="87624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"/>
              </a:rPr>
              <a:t>www.1ppt.com/tubiao/</a:t>
            </a:r>
            <a:r>
              <a:rPr b="0" lang="en-US" sz="10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rcRect l="0" t="0" r="61583" b="0"/>
          <a:stretch/>
        </p:blipFill>
        <p:spPr>
          <a:xfrm>
            <a:off x="0" y="637704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直接连接符 11"/>
          <p:cNvSpPr/>
          <p:nvPr/>
        </p:nvSpPr>
        <p:spPr>
          <a:xfrm>
            <a:off x="0" y="3076560"/>
            <a:ext cx="914400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349992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95280" y="429264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1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373737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1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1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5"/>
              </a:rPr>
              <a:t>ppt动态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7"/>
              </a:rPr>
              <a:t>ppt 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9"/>
              </a:rPr>
              <a:t>ppt模板素材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13"/>
              </a:rPr>
              <a:t>商务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15"/>
              </a:rPr>
              <a:t>ppt课件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免费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工业制造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71D9-18E9-479A-92C0-E84247CB8EE6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9709-3768-483F-B55B-C1E2AB650765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0070c0"/>
          </a:solidFill>
          <a:ln w="9360">
            <a:solidFill>
              <a:srgbClr val="003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005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7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直接连接符 150"/>
          <p:cNvSpPr/>
          <p:nvPr/>
        </p:nvSpPr>
        <p:spPr>
          <a:xfrm>
            <a:off x="395280" y="19447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9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hlinkClick r:id="rId1" action="ppaction://hlinksldjump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61583" b="0"/>
          <a:stretch/>
        </p:blipFill>
        <p:spPr>
          <a:xfrm>
            <a:off x="0" y="637704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102" name="直接连接符 11"/>
          <p:cNvSpPr/>
          <p:nvPr/>
        </p:nvSpPr>
        <p:spPr>
          <a:xfrm>
            <a:off x="0" y="3076560"/>
            <a:ext cx="914400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400536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3603600"/>
            <a:ext cx="8353440" cy="40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F0FE-3CD1-4A82-B77F-4973665202E9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9576-55DF-4E26-A9F5-9D812918194A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11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645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A5EB-3FEA-459D-BBD8-F5DFBA8176BC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3096-236A-4BE6-A8E3-419B0E5A1E07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内容占位符 12"/>
          <p:cNvSpPr/>
          <p:nvPr/>
        </p:nvSpPr>
        <p:spPr>
          <a:xfrm>
            <a:off x="395280" y="1339920"/>
            <a:ext cx="8353440" cy="46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F395-4389-4B81-8DE2-76A57B0263BC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1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444C-BE7A-4DCC-8C64-71A1DAB257FA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内容占位符 15"/>
          <p:cNvSpPr/>
          <p:nvPr/>
        </p:nvSpPr>
        <p:spPr>
          <a:xfrm>
            <a:off x="906480" y="1339920"/>
            <a:ext cx="7332480" cy="44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F893-ACCC-4F25-9918-ACBF01C3CADE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6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4194-8CB3-4763-9785-C92660AD2B5F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1480"/>
                <a:gridCol w="1670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5247-F398-40D9-BE96-7A2D1A623BAB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7837-7FD8-4115-93A9-B7F7B7B42FE8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内容占位符 6"/>
          <p:cNvSpPr/>
          <p:nvPr/>
        </p:nvSpPr>
        <p:spPr>
          <a:xfrm>
            <a:off x="39528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内容占位符 6"/>
          <p:cNvSpPr/>
          <p:nvPr/>
        </p:nvSpPr>
        <p:spPr>
          <a:xfrm>
            <a:off x="463536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DF90-1C97-4A10-AB43-E5DD9E7F5FC8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930F-5657-4AC3-A78A-B8A094BCFDB0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110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内容占位符 6"/>
          <p:cNvSpPr/>
          <p:nvPr/>
        </p:nvSpPr>
        <p:spPr>
          <a:xfrm>
            <a:off x="395280" y="1197000"/>
            <a:ext cx="8353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0:00Z</dcterms:created>
  <dc:creator>www.slideto.me</dc:creator>
  <dc:description/>
  <cp:keywords>我爱PPT中文网; 4.3; 浅蓝色; 静态; L</cp:keywords>
  <dc:language>en-US</dc:language>
  <cp:lastModifiedBy>yu wang</cp:lastModifiedBy>
  <cp:lastPrinted>1899-12-30T00:00:00Z</cp:lastPrinted>
  <dcterms:modified xsi:type="dcterms:W3CDTF">2015-08-08T10:07:33Z</dcterms:modified>
  <cp:revision>15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