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4556-AE0F-4025-BF40-F7F0D2739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50CC-41E6-4DF0-8054-5B22599C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05F9-C114-40F3-A5B1-18A8F84AE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68C4-5D51-4033-AD73-22526D10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27CB-B22E-4FB5-AD63-4C7524570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8D85-6C0E-4905-9656-4A55CE33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0962-C2AB-4BA9-BB27-D598BA77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9FC1-AD5C-4D0E-92D3-6EC5C710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FD9F-D75C-4BE1-A29B-DA9D3F8C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081E-E404-4A3B-AA38-5E725E0A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9DC4-1EAD-4907-AE35-D07916AE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064A-E378-4989-A494-CC2ACE4F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2DBB-0029-4970-8767-A4CA57C9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63AB-7757-4500-8D84-055EF79F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832B-18A4-4EB3-AE3B-ED0282C8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8159-01D9-48D2-AB6E-47DFFBA52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3003-B070-46A7-A521-6B5E3402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D7DD-6F64-4BF2-B4F3-DA00C6A1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2832-90D8-48F2-BFC1-5245AAA4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83D8-F2C8-4B9E-AC01-80D3FB9D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0BFD-CEAC-4607-92DF-0E8B830A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6379-F722-47EC-B014-FCEBD7EC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A4ED-4247-4C2D-8DA3-AD7B5365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243D-E401-438F-859F-65C17A79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Rectangle 3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Oval 5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Rectangle 13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B297-9338-4765-98A1-9237D037D1B6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Rectangle 3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Oval 5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Oval 6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Oval 7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Oval 8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Oval 9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Oval 10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Oval 11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Oval 12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Oval 13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Group 14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Oval 15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Oval 16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Oval 17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Oval 18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Oval 19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Oval 20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Oval 21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Oval 22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Oval 23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Group 24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Freeform 25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Freeform 26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Freeform 27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8656-62A4-476B-AFBC-6CB2CE64F6A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bcbcb"/>
                </a:solidFill>
                <a:latin typeface="宋体"/>
              </a:rPr>
              <a:t>蓝色现代型简洁</a:t>
            </a:r>
            <a:r>
              <a:rPr b="0" lang="en-US" sz="4000" spc="-1" strike="noStrike">
                <a:solidFill>
                  <a:srgbClr val="cbcbcb"/>
                </a:solidFill>
                <a:latin typeface="宋体"/>
              </a:rPr>
              <a:t>PPT</a:t>
            </a:r>
            <a:r>
              <a:rPr b="0" lang="zh-CN" sz="4000" spc="-1" strike="noStrike">
                <a:solidFill>
                  <a:srgbClr val="cbcbcb"/>
                </a:solidFill>
                <a:latin typeface="宋体"/>
              </a:rPr>
              <a:t>模板下载</a:t>
            </a:r>
            <a:endParaRPr b="0" lang="en-US" sz="40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使用规范说明</a:t>
            </a:r>
            <a:endParaRPr b="0" lang="en-US" sz="44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宋体"/>
              </a:rPr>
              <a:t>站点介绍：</a:t>
            </a:r>
            <a:endParaRPr b="0" lang="en-US" sz="11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宋体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宋体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宋体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宋体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宋体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宋体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宋体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宋体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宋体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宋体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宋体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宋体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宋体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宋体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宋体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宋体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宋体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宋体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宋体"/>
              </a:rPr>
              <a:t> </a:t>
            </a:r>
            <a:r>
              <a:rPr b="0" lang="zh-CN" sz="1000" spc="-1" strike="noStrike" u="sng">
                <a:solidFill>
                  <a:srgbClr val="330099"/>
                </a:solidFill>
                <a:uFillTx/>
                <a:latin typeface="宋体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330099"/>
                </a:solidFill>
                <a:uFillTx/>
                <a:latin typeface="宋体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宋体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宋体"/>
              </a:rPr>
              <a:t>特别说明：</a:t>
            </a:r>
            <a:endParaRPr b="0" lang="en-US" sz="11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宋体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宋体"/>
              </a:rPr>
              <a:t>栏目推荐：</a:t>
            </a:r>
            <a:endParaRPr b="0" lang="en-US" sz="11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330099"/>
                </a:solidFill>
                <a:uFillTx/>
                <a:latin typeface="宋体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330099"/>
                </a:solidFill>
                <a:uFillTx/>
                <a:latin typeface="宋体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http://www.eeppt.com/beijing/</a:t>
            </a:r>
            <a:endParaRPr b="0" lang="en-US" sz="9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330099"/>
                </a:solidFill>
                <a:uFillTx/>
                <a:latin typeface="宋体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330099"/>
                </a:solidFill>
                <a:uFillTx/>
                <a:latin typeface="宋体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http://www.eeppt.com/moban/tongyong/  </a:t>
            </a:r>
            <a:endParaRPr b="0" lang="en-US" sz="9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330099"/>
                </a:solidFill>
                <a:uFillTx/>
                <a:latin typeface="宋体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330099"/>
                </a:solidFill>
                <a:uFillTx/>
                <a:latin typeface="宋体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http://www.eeppt.com/moban/chuangyi/   </a:t>
            </a:r>
            <a:endParaRPr b="0" lang="en-US" sz="9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330099"/>
                </a:solidFill>
                <a:uFillTx/>
                <a:latin typeface="宋体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330099"/>
                </a:solidFill>
                <a:uFillTx/>
                <a:latin typeface="宋体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http://www.eeppt.com/moban/dabian/</a:t>
            </a:r>
            <a:endParaRPr b="0" lang="en-US" sz="9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330099"/>
                </a:solidFill>
                <a:uFillTx/>
                <a:latin typeface="宋体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http://www.eeppt.com/moban/qiye/</a:t>
            </a:r>
            <a:r>
              <a:rPr b="0" lang="zh-CN" sz="900" spc="-1" strike="noStrike" u="sng">
                <a:solidFill>
                  <a:srgbClr val="330099"/>
                </a:solidFill>
                <a:uFillTx/>
                <a:latin typeface="宋体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http://www.eeppt.com/moban/gongzuo/   </a:t>
            </a:r>
            <a:endParaRPr b="0" lang="en-US" sz="9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330099"/>
                </a:solidFill>
                <a:uFillTx/>
                <a:latin typeface="宋体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http://www.eeppt.com/moban/shangwu/  </a:t>
            </a:r>
            <a:r>
              <a:rPr b="0" lang="zh-CN" sz="900" spc="-1" strike="noStrike" u="sng">
                <a:solidFill>
                  <a:srgbClr val="330099"/>
                </a:solidFill>
                <a:uFillTx/>
                <a:latin typeface="宋体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http://www.eeppt.com/moban/jingpin/ </a:t>
            </a:r>
            <a:endParaRPr b="0" lang="en-US" sz="9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330099"/>
                </a:solidFill>
                <a:uFillTx/>
                <a:latin typeface="宋体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330099"/>
                </a:solidFill>
                <a:uFillTx/>
                <a:latin typeface="宋体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http://www.eeppt.com/moban/zhongguofeng/ </a:t>
            </a:r>
            <a:endParaRPr b="0" lang="en-US" sz="9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330099"/>
                </a:solidFill>
                <a:uFillTx/>
                <a:latin typeface="宋体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http://www.eeppt.com/moban/yingxiao/   </a:t>
            </a:r>
            <a:r>
              <a:rPr b="0" lang="zh-CN" sz="900" spc="-1" strike="noStrike" u="sng">
                <a:solidFill>
                  <a:srgbClr val="330099"/>
                </a:solidFill>
                <a:uFillTx/>
                <a:latin typeface="宋体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http://www.eeppt.com/moban/mianfei/</a:t>
            </a:r>
            <a:endParaRPr b="0" lang="en-US" sz="9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330099"/>
                </a:solidFill>
                <a:uFillTx/>
                <a:latin typeface="宋体"/>
                <a:hlinkClick r:id="rId19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http://www.eeppt.com/moban/gongye/   </a:t>
            </a:r>
            <a:r>
              <a:rPr b="0" lang="zh-CN" sz="900" spc="-1" strike="noStrike" u="sng">
                <a:solidFill>
                  <a:srgbClr val="330099"/>
                </a:solidFill>
                <a:uFillTx/>
                <a:latin typeface="宋体"/>
                <a:hlinkClick r:id="rId20"/>
              </a:rPr>
              <a:t>会议报告ppt模板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http://www.eeppt.com/moban/huiyi/</a:t>
            </a:r>
            <a:endParaRPr b="0" lang="en-US" sz="9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http://www.eeppt.com/moban/jiaoyu/</a:t>
            </a:r>
            <a:endParaRPr b="0" lang="en-US" sz="9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http://www.eeppt.com/moban/yundong/</a:t>
            </a:r>
            <a:endParaRPr b="0" lang="en-US" sz="9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10:57:45Z</dcterms:created>
  <dc:creator>echo</dc:creator>
  <dc:description/>
  <cp:keywords/>
  <dc:language>en-US</dc:language>
  <cp:lastModifiedBy>yu wang</cp:lastModifiedBy>
  <dcterms:modified xsi:type="dcterms:W3CDTF">2015-08-08T10:07:36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072052</vt:lpwstr>
  </property>
</Properties>
</file>