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FE7E-531A-4A15-B622-5234B43FD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A44E-B30F-4DD6-BE5D-047407AB3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B9B-0489-4A9B-992B-E8B23F46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48E-47B5-43DF-BF73-EE531BCB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241-3E01-45AA-8773-B8423128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2F3-5411-47CA-AF61-834E5DAF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4CA-BF35-4232-A179-95022F62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923-11F8-4DC1-9967-60F81D6B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126-7E20-4DF1-AF7F-CAF4DC14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9B3-2F11-4014-A07D-5904E264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8B7-EB08-4786-949E-A8529C0E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191-BB18-470D-BD83-34FD531B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0B9-EA9D-47DD-A301-27808087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9EC-2531-4848-A30B-1A6A5AED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2071-2BBF-494F-BABB-319FF6CA7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清新典雅的论文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XR_001"/>
          <p:cNvPicPr/>
          <p:nvPr/>
        </p:nvPicPr>
        <p:blipFill>
          <a:blip r:embed="rId2"/>
          <a:stretch/>
        </p:blipFill>
        <p:spPr>
          <a:xfrm>
            <a:off x="579600" y="1058760"/>
            <a:ext cx="8076960" cy="5734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辩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导导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辩日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yu wang</cp:lastModifiedBy>
  <dcterms:modified xsi:type="dcterms:W3CDTF">2015-08-08T10:06:20Z</dcterms:modified>
  <cp:revision>4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