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1DD1AD-015E-4BE8-8175-ED5E71A31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3D8907-FC24-4602-9CF9-52C9619AA9E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040" y="387540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9040" y="387540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760" y="387540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2720" y="11620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6400" y="11620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9040" y="387540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2720" y="387540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6400" y="387540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40C-4B72-40A8-8608-2B5850B8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19040" y="116208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503-DA22-42B2-A42A-9CB3CEC7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31D-D7B1-43DE-8DE4-651B942E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9AA-715D-4796-A04C-F979AA15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83B-11F8-4950-BA4B-55BEF2E8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25880" y="339840"/>
            <a:ext cx="8291520" cy="30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E0A-A49B-4D37-9A6F-7D122010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9040" y="387540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03D-8E0A-454B-9850-F1D691B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9040" y="116208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7760" y="387540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528-2B63-4405-907C-6A938159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87540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7E3-6F4B-4211-8A10-101EEC59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9040" y="387540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D77-193F-44A2-95DB-50BC6338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19040" y="387540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7760" y="387540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784-4337-45AD-A07D-5F74791B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720" y="11620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6400" y="11620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19040" y="387540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720" y="387540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6400" y="387540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7C3-94DE-4E4D-9B05-794D761B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9417-0528-44E7-B57D-BE3DEEBF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19040" y="116208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51D7-55D0-427B-9370-1664E27D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179C-E894-401C-9B05-BE995A0F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6AB4-CEDE-49E9-8BCC-C68CAEBC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747D-90EA-4E76-9B6B-1F06093F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25880" y="339840"/>
            <a:ext cx="8291520" cy="30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3501-2906-4429-87DD-5D300EBB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87540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444E-7E70-4803-AFAE-C3FE08D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7760" y="387540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393D-30EE-46A8-AE3F-C59C90D2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9040" y="387540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58C1-FEE4-4F90-859B-0683E34C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9040" y="387540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4FBA-6807-45E7-927E-C786F9D5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19040" y="387540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7760" y="387540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0EF5-3C57-405E-AFEF-C9EC37DD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2720" y="11620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6400" y="11620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19040" y="387540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2720" y="387540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6400" y="387540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4873-EE00-431D-81F5-ECFBA765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880" y="339840"/>
            <a:ext cx="8291520" cy="30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040" y="387540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760" y="387540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1620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9040" y="387540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cf8e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1" name="矩形 10" hidden="1"/>
          <p:cNvSpPr/>
          <p:nvPr/>
        </p:nvSpPr>
        <p:spPr>
          <a:xfrm>
            <a:off x="0" y="6445080"/>
            <a:ext cx="9143640" cy="418680"/>
          </a:xfrm>
          <a:prstGeom prst="rect">
            <a:avLst/>
          </a:prstGeom>
          <a:solidFill>
            <a:srgbClr val="e74c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2" name="矩形 11" hidden="1"/>
          <p:cNvSpPr/>
          <p:nvPr/>
        </p:nvSpPr>
        <p:spPr>
          <a:xfrm>
            <a:off x="0" y="6445080"/>
            <a:ext cx="796320" cy="418680"/>
          </a:xfrm>
          <a:prstGeom prst="rect">
            <a:avLst/>
          </a:prstGeom>
          <a:solidFill>
            <a:srgbClr val="1314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" name="矩形 9"/>
          <p:cNvSpPr/>
          <p:nvPr/>
        </p:nvSpPr>
        <p:spPr>
          <a:xfrm>
            <a:off x="0" y="6445080"/>
            <a:ext cx="9143640" cy="418680"/>
          </a:xfrm>
          <a:prstGeom prst="rect">
            <a:avLst/>
          </a:prstGeom>
          <a:solidFill>
            <a:srgbClr val="e74c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4" name="矩形 10"/>
          <p:cNvSpPr/>
          <p:nvPr/>
        </p:nvSpPr>
        <p:spPr>
          <a:xfrm>
            <a:off x="0" y="6445080"/>
            <a:ext cx="796320" cy="418680"/>
          </a:xfrm>
          <a:prstGeom prst="rect">
            <a:avLst/>
          </a:prstGeom>
          <a:solidFill>
            <a:srgbClr val="1314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5" name="任意多边形 13"/>
          <p:cNvSpPr/>
          <p:nvPr/>
        </p:nvSpPr>
        <p:spPr>
          <a:xfrm>
            <a:off x="0" y="-4680"/>
            <a:ext cx="9143640" cy="28270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2827080"/>
              <a:gd name="textAreaBottom" fmla="*/ 2827440 h 2827080"/>
            </a:gdLst>
            <a:ahLst/>
            <a:rect l="textAreaLeft" t="textAreaTop" r="textAreaRight" b="textAreaBottom"/>
            <a:pathLst>
              <a:path w="9144000" h="2827321">
                <a:moveTo>
                  <a:pt x="0" y="0"/>
                </a:moveTo>
                <a:lnTo>
                  <a:pt x="9144000" y="0"/>
                </a:lnTo>
                <a:lnTo>
                  <a:pt x="9144000" y="2827321"/>
                </a:lnTo>
                <a:lnTo>
                  <a:pt x="3784788" y="2827321"/>
                </a:lnTo>
                <a:lnTo>
                  <a:pt x="3765124" y="2632222"/>
                </a:lnTo>
                <a:cubicBezTo>
                  <a:pt x="3656220" y="2099953"/>
                  <a:pt x="3185333" y="1699560"/>
                  <a:pt x="2620941" y="1699560"/>
                </a:cubicBezTo>
                <a:cubicBezTo>
                  <a:pt x="2056549" y="1699560"/>
                  <a:pt x="1585662" y="2099953"/>
                  <a:pt x="1476759" y="2632222"/>
                </a:cubicBezTo>
                <a:lnTo>
                  <a:pt x="1457094" y="2827321"/>
                </a:lnTo>
                <a:lnTo>
                  <a:pt x="0" y="2827321"/>
                </a:lnTo>
                <a:close/>
              </a:path>
            </a:pathLst>
          </a:custGeom>
          <a:solidFill>
            <a:srgbClr val="1314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6" name="椭圆 12"/>
          <p:cNvSpPr/>
          <p:nvPr/>
        </p:nvSpPr>
        <p:spPr>
          <a:xfrm>
            <a:off x="1778400" y="2069280"/>
            <a:ext cx="1688400" cy="1688400"/>
          </a:xfrm>
          <a:prstGeom prst="ellipse">
            <a:avLst/>
          </a:prstGeom>
          <a:solidFill>
            <a:srgbClr val="e74c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just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chemeClr val="accent1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9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cf8e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0" y="6445080"/>
            <a:ext cx="9143640" cy="418680"/>
          </a:xfrm>
          <a:prstGeom prst="rect">
            <a:avLst/>
          </a:prstGeom>
          <a:solidFill>
            <a:srgbClr val="e74c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0" y="6445080"/>
            <a:ext cx="796320" cy="418680"/>
          </a:xfrm>
          <a:prstGeom prst="rect">
            <a:avLst/>
          </a:prstGeom>
          <a:solidFill>
            <a:srgbClr val="1314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19040" y="116208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c5c31"/>
              </a:buClr>
              <a:buSzPct val="80000"/>
              <a:buFont typeface="Wingdings" charset="2"/>
              <a:buChar char=""/>
            </a:pPr>
            <a:r>
              <a:rPr b="1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单击此处编辑母版文本样式</a:t>
            </a: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  <a:p>
            <a:pPr lvl="1" marL="357120" indent="-357120" algn="just">
              <a:lnSpc>
                <a:spcPct val="120000"/>
              </a:lnSpc>
              <a:spcAft>
                <a:spcPts val="601"/>
              </a:spcAft>
              <a:buClr>
                <a:srgbClr val="f2c37d"/>
              </a:buClr>
              <a:buFont typeface="幼圆"/>
              <a:buChar char=" "/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第二级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9c9c9c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c9c9c"/>
                </a:solidFill>
                <a:latin typeface="Calibri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c9c9c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9335E1-5824-4C8E-BC97-3862ADDCD60E}" type="slidenum">
              <a:rPr b="0" lang="en-US" sz="1200" spc="-1" strike="noStrike">
                <a:solidFill>
                  <a:srgbClr val="9c9c9c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cf8e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0" y="6445080"/>
            <a:ext cx="9143640" cy="418680"/>
          </a:xfrm>
          <a:prstGeom prst="rect">
            <a:avLst/>
          </a:prstGeom>
          <a:solidFill>
            <a:srgbClr val="e74c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0" y="6445080"/>
            <a:ext cx="796320" cy="418680"/>
          </a:xfrm>
          <a:prstGeom prst="rect">
            <a:avLst/>
          </a:prstGeom>
          <a:solidFill>
            <a:srgbClr val="1314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9c9c9c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9c9c9c"/>
                </a:solidFill>
                <a:latin typeface="Calibri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c9c9c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B8D728-1109-4C08-B170-A4E8F1EF4630}" type="slidenum">
              <a:rPr b="0" lang="en-US" sz="1200" spc="-1" strike="noStrike">
                <a:solidFill>
                  <a:srgbClr val="9c9c9c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just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chemeClr val="accent1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chemeClr val="accent1"/>
              </a:solidFill>
              <a:latin typeface="幼圆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4"/>
          <p:cNvSpPr/>
          <p:nvPr/>
        </p:nvSpPr>
        <p:spPr>
          <a:xfrm>
            <a:off x="4356000" y="1196640"/>
            <a:ext cx="427392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7800" spc="-1" strike="noStrike">
                <a:solidFill>
                  <a:srgbClr val="5f5f5f"/>
                </a:solidFill>
                <a:latin typeface="方正姚体"/>
                <a:ea typeface="方正姚体"/>
              </a:rPr>
              <a:t>纯</a:t>
            </a:r>
            <a:r>
              <a:rPr b="0" lang="zh-CN" sz="7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方正姚体"/>
                <a:ea typeface="方正姚体"/>
              </a:rPr>
              <a:t>色</a:t>
            </a:r>
            <a:r>
              <a:rPr b="0" lang="zh-CN" sz="5800" spc="-1" strike="noStrike">
                <a:solidFill>
                  <a:srgbClr val="bfbfbf"/>
                </a:solidFill>
                <a:latin typeface="幼圆"/>
                <a:ea typeface="幼圆"/>
              </a:rPr>
              <a:t>系列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23640" y="3573000"/>
            <a:ext cx="8640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4000" spc="-1" strike="noStrike">
                <a:solidFill>
                  <a:srgbClr val="5f5f5f"/>
                </a:solidFill>
                <a:latin typeface="微软雅黑"/>
                <a:ea typeface="微软雅黑"/>
              </a:rPr>
              <a:t>企业商业报告展示的精美</a:t>
            </a:r>
            <a:r>
              <a:rPr b="0" lang="en-US" sz="4000" spc="-1" strike="noStrike">
                <a:solidFill>
                  <a:srgbClr val="5f5f5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5f5f5f"/>
                </a:solidFill>
                <a:latin typeface="微软雅黑"/>
                <a:ea typeface="微软雅黑"/>
              </a:rPr>
              <a:t>模板</a:t>
            </a:r>
            <a:r>
              <a:rPr b="0" lang="en-US" sz="2200" spc="-1" strike="noStrike">
                <a:solidFill>
                  <a:srgbClr val="5f5f5f"/>
                </a:solidFill>
                <a:latin typeface="微软雅黑"/>
                <a:ea typeface="微软雅黑"/>
              </a:rPr>
              <a:t>LINMINPPTSHEJIGONGZUOSH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en-US" sz="2200" spc="-1" strike="noStrike">
                <a:solidFill>
                  <a:srgbClr val="5f5f5f"/>
                </a:solidFill>
                <a:latin typeface="微软雅黑"/>
                <a:ea typeface="微软雅黑"/>
              </a:rPr>
              <a:t>-2015-4-1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6"/>
          <p:cNvSpPr/>
          <p:nvPr/>
        </p:nvSpPr>
        <p:spPr>
          <a:xfrm>
            <a:off x="4428000" y="1411200"/>
            <a:ext cx="1511640" cy="1223640"/>
          </a:xfrm>
          <a:prstGeom prst="ellipse">
            <a:avLst/>
          </a:prstGeom>
          <a:solidFill>
            <a:schemeClr val="accent1">
              <a:alpha val="2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不做作，不套用，不模仿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65" name="Freeform 5"/>
          <p:cNvSpPr/>
          <p:nvPr/>
        </p:nvSpPr>
        <p:spPr>
          <a:xfrm>
            <a:off x="3513240" y="2830680"/>
            <a:ext cx="2619000" cy="3044520"/>
          </a:xfrm>
          <a:custGeom>
            <a:avLst/>
            <a:gdLst>
              <a:gd name="textAreaLeft" fmla="*/ 0 w 2619000"/>
              <a:gd name="textAreaRight" fmla="*/ 2619360 w 2619000"/>
              <a:gd name="textAreaTop" fmla="*/ 0 h 3044520"/>
              <a:gd name="textAreaBottom" fmla="*/ 3044880 h 304452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266" name="橢圓 3"/>
          <p:cNvSpPr/>
          <p:nvPr/>
        </p:nvSpPr>
        <p:spPr>
          <a:xfrm>
            <a:off x="2857680" y="4167360"/>
            <a:ext cx="711000" cy="712440"/>
          </a:xfrm>
          <a:prstGeom prst="ellipse">
            <a:avLst/>
          </a:prstGeom>
          <a:solidFill>
            <a:schemeClr val="accent1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1599"/>
              </a:spcBef>
              <a:spcAft>
                <a:spcPts val="1120"/>
              </a:spcAft>
            </a:pPr>
            <a:endParaRPr b="0" lang="en-US" sz="3200" spc="-1" strike="noStrike">
              <a:solidFill>
                <a:srgbClr val="000000"/>
              </a:solidFill>
              <a:latin typeface="Arial"/>
              <a:ea typeface="微軟正黑體"/>
            </a:endParaRPr>
          </a:p>
        </p:txBody>
      </p:sp>
      <p:sp>
        <p:nvSpPr>
          <p:cNvPr id="267" name="橢圓 4"/>
          <p:cNvSpPr/>
          <p:nvPr/>
        </p:nvSpPr>
        <p:spPr>
          <a:xfrm>
            <a:off x="3052800" y="3203640"/>
            <a:ext cx="712440" cy="711000"/>
          </a:xfrm>
          <a:prstGeom prst="ellipse">
            <a:avLst/>
          </a:prstGeom>
          <a:solidFill>
            <a:schemeClr val="accent1">
              <a:lumMod val="20000"/>
              <a:lumOff val="80000"/>
            </a:schemeClr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1599"/>
              </a:spcBef>
              <a:spcAft>
                <a:spcPts val="1120"/>
              </a:spcAft>
            </a:pPr>
            <a:endParaRPr b="0" lang="en-US" sz="3200" spc="-1" strike="noStrike">
              <a:solidFill>
                <a:srgbClr val="000000"/>
              </a:solidFill>
              <a:latin typeface="Arial"/>
              <a:ea typeface="微軟正黑體"/>
            </a:endParaRPr>
          </a:p>
        </p:txBody>
      </p:sp>
      <p:sp>
        <p:nvSpPr>
          <p:cNvPr id="268" name="橢圓 5"/>
          <p:cNvSpPr/>
          <p:nvPr/>
        </p:nvSpPr>
        <p:spPr>
          <a:xfrm>
            <a:off x="3673440" y="2674800"/>
            <a:ext cx="712440" cy="711000"/>
          </a:xfrm>
          <a:prstGeom prst="ellipse">
            <a:avLst/>
          </a:prstGeom>
          <a:solidFill>
            <a:schemeClr val="accent1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1599"/>
              </a:spcBef>
              <a:spcAft>
                <a:spcPts val="1120"/>
              </a:spcAft>
            </a:pPr>
            <a:endParaRPr b="0" lang="en-US" sz="3200" spc="-1" strike="noStrike">
              <a:solidFill>
                <a:srgbClr val="000000"/>
              </a:solidFill>
              <a:latin typeface="Arial"/>
              <a:ea typeface="微軟正黑體"/>
            </a:endParaRPr>
          </a:p>
        </p:txBody>
      </p:sp>
      <p:sp>
        <p:nvSpPr>
          <p:cNvPr id="269" name="橢圓 6"/>
          <p:cNvSpPr/>
          <p:nvPr/>
        </p:nvSpPr>
        <p:spPr>
          <a:xfrm>
            <a:off x="4465800" y="2238480"/>
            <a:ext cx="712440" cy="712440"/>
          </a:xfrm>
          <a:prstGeom prst="ellipse">
            <a:avLst/>
          </a:prstGeom>
          <a:solidFill>
            <a:schemeClr val="accent1">
              <a:lumMod val="20000"/>
              <a:lumOff val="80000"/>
            </a:schemeClr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1599"/>
              </a:spcBef>
              <a:spcAft>
                <a:spcPts val="1120"/>
              </a:spcAft>
            </a:pPr>
            <a:endParaRPr b="0" lang="en-US" sz="3200" spc="-1" strike="noStrike">
              <a:solidFill>
                <a:srgbClr val="000000"/>
              </a:solidFill>
              <a:latin typeface="Arial"/>
              <a:ea typeface="微軟正黑體"/>
            </a:endParaRPr>
          </a:p>
        </p:txBody>
      </p:sp>
      <p:sp>
        <p:nvSpPr>
          <p:cNvPr id="270" name="橢圓 7"/>
          <p:cNvSpPr/>
          <p:nvPr/>
        </p:nvSpPr>
        <p:spPr>
          <a:xfrm>
            <a:off x="5178600" y="2827440"/>
            <a:ext cx="712440" cy="712440"/>
          </a:xfrm>
          <a:prstGeom prst="ellipse">
            <a:avLst/>
          </a:prstGeom>
          <a:solidFill>
            <a:schemeClr val="accent1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1599"/>
              </a:spcBef>
              <a:spcAft>
                <a:spcPts val="1120"/>
              </a:spcAft>
            </a:pPr>
            <a:endParaRPr b="0" lang="en-US" sz="3200" spc="-1" strike="noStrike">
              <a:solidFill>
                <a:srgbClr val="000000"/>
              </a:solidFill>
              <a:latin typeface="Arial"/>
              <a:ea typeface="微軟正黑體"/>
            </a:endParaRPr>
          </a:p>
        </p:txBody>
      </p:sp>
      <p:sp>
        <p:nvSpPr>
          <p:cNvPr id="271" name="橢圓 8"/>
          <p:cNvSpPr/>
          <p:nvPr/>
        </p:nvSpPr>
        <p:spPr>
          <a:xfrm>
            <a:off x="5775480" y="3446640"/>
            <a:ext cx="712440" cy="711000"/>
          </a:xfrm>
          <a:prstGeom prst="ellipse">
            <a:avLst/>
          </a:prstGeom>
          <a:solidFill>
            <a:schemeClr val="accent1">
              <a:lumMod val="20000"/>
              <a:lumOff val="80000"/>
            </a:schemeClr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1599"/>
              </a:spcBef>
              <a:spcAft>
                <a:spcPts val="1120"/>
              </a:spcAft>
            </a:pPr>
            <a:endParaRPr b="0" lang="en-US" sz="3200" spc="-1" strike="noStrike">
              <a:solidFill>
                <a:srgbClr val="000000"/>
              </a:solidFill>
              <a:latin typeface="Arial"/>
              <a:ea typeface="微軟正黑體"/>
            </a:endParaRPr>
          </a:p>
        </p:txBody>
      </p:sp>
      <p:sp>
        <p:nvSpPr>
          <p:cNvPr id="272" name="橢圓 9"/>
          <p:cNvSpPr/>
          <p:nvPr/>
        </p:nvSpPr>
        <p:spPr>
          <a:xfrm>
            <a:off x="5891040" y="4352760"/>
            <a:ext cx="711000" cy="711000"/>
          </a:xfrm>
          <a:prstGeom prst="ellipse">
            <a:avLst/>
          </a:prstGeom>
          <a:solidFill>
            <a:schemeClr val="accent1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1599"/>
              </a:spcBef>
              <a:spcAft>
                <a:spcPts val="1120"/>
              </a:spcAft>
            </a:pPr>
            <a:endParaRPr b="0" lang="en-US" sz="3200" spc="-1" strike="noStrike">
              <a:solidFill>
                <a:srgbClr val="000000"/>
              </a:solidFill>
              <a:latin typeface="Arial"/>
              <a:ea typeface="微軟正黑體"/>
            </a:endParaRPr>
          </a:p>
        </p:txBody>
      </p:sp>
      <p:sp>
        <p:nvSpPr>
          <p:cNvPr id="273" name="文本框 26"/>
          <p:cNvSpPr/>
          <p:nvPr/>
        </p:nvSpPr>
        <p:spPr>
          <a:xfrm>
            <a:off x="6794280" y="4587840"/>
            <a:ext cx="6076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afafaf"/>
                </a:solidFill>
                <a:latin typeface="幼圆"/>
                <a:ea typeface="幼圆"/>
              </a:rPr>
              <a:t>尊重作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afafaf"/>
                </a:solidFill>
                <a:latin typeface="幼圆"/>
                <a:ea typeface="幼圆"/>
              </a:rPr>
              <a:t>文明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7"/>
          <p:cNvSpPr/>
          <p:nvPr/>
        </p:nvSpPr>
        <p:spPr>
          <a:xfrm>
            <a:off x="1672920" y="4587840"/>
            <a:ext cx="6076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afafaf"/>
                </a:solidFill>
                <a:latin typeface="幼圆"/>
                <a:ea typeface="幼圆"/>
              </a:rPr>
              <a:t>巅峰之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afafaf"/>
                </a:solidFill>
                <a:latin typeface="幼圆"/>
                <a:ea typeface="幼圆"/>
              </a:rPr>
              <a:t>空灵美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8"/>
          <p:cNvSpPr/>
          <p:nvPr/>
        </p:nvSpPr>
        <p:spPr>
          <a:xfrm>
            <a:off x="6114600" y="2492280"/>
            <a:ext cx="6076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afafaf"/>
                </a:solidFill>
                <a:latin typeface="幼圆"/>
                <a:ea typeface="幼圆"/>
              </a:rPr>
              <a:t>原创灵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afafaf"/>
                </a:solidFill>
                <a:latin typeface="幼圆"/>
                <a:ea typeface="幼圆"/>
              </a:rPr>
              <a:t>设计制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9"/>
          <p:cNvSpPr/>
          <p:nvPr/>
        </p:nvSpPr>
        <p:spPr>
          <a:xfrm>
            <a:off x="2461680" y="2492280"/>
            <a:ext cx="6076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afafaf"/>
                </a:solidFill>
                <a:latin typeface="幼圆"/>
                <a:ea typeface="幼圆"/>
              </a:rPr>
              <a:t>关注林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afafaf"/>
                </a:solidFill>
                <a:latin typeface="幼圆"/>
                <a:ea typeface="幼圆"/>
              </a:rPr>
              <a:t>免费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KSO_Shape"/>
          <p:cNvSpPr/>
          <p:nvPr/>
        </p:nvSpPr>
        <p:spPr>
          <a:xfrm>
            <a:off x="2982960" y="4330800"/>
            <a:ext cx="458280" cy="385560"/>
          </a:xfrm>
          <a:custGeom>
            <a:avLst/>
            <a:gdLst>
              <a:gd name="textAreaLeft" fmla="*/ 0 w 458280"/>
              <a:gd name="textAreaRight" fmla="*/ 458640 w 45828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278" name="KSO_Shape"/>
          <p:cNvSpPr/>
          <p:nvPr/>
        </p:nvSpPr>
        <p:spPr>
          <a:xfrm>
            <a:off x="3884760" y="2868480"/>
            <a:ext cx="288720" cy="323640"/>
          </a:xfrm>
          <a:custGeom>
            <a:avLst/>
            <a:gdLst>
              <a:gd name="textAreaLeft" fmla="*/ 0 w 288720"/>
              <a:gd name="textAreaRight" fmla="*/ 289080 w 2887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279" name="KSO_Shape"/>
          <p:cNvSpPr/>
          <p:nvPr/>
        </p:nvSpPr>
        <p:spPr>
          <a:xfrm>
            <a:off x="5345280" y="2990880"/>
            <a:ext cx="414000" cy="352080"/>
          </a:xfrm>
          <a:custGeom>
            <a:avLst/>
            <a:gdLst>
              <a:gd name="textAreaLeft" fmla="*/ 0 w 414000"/>
              <a:gd name="textAreaRight" fmla="*/ 414360 w 41400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280" name="KSO_Shape"/>
          <p:cNvSpPr/>
          <p:nvPr/>
        </p:nvSpPr>
        <p:spPr>
          <a:xfrm>
            <a:off x="6045120" y="4546440"/>
            <a:ext cx="402840" cy="323640"/>
          </a:xfrm>
          <a:custGeom>
            <a:avLst/>
            <a:gdLst>
              <a:gd name="textAreaLeft" fmla="*/ 0 w 402840"/>
              <a:gd name="textAreaRight" fmla="*/ 403200 w 4028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</p:spTree>
  </p:cSld>
  <mc:AlternateContent>
    <mc:Choice Requires="p14">
      <p:transition spd="slow" advTm="2000" p14:dur="1200"/>
    </mc:Choice>
    <mc:Fallback>
      <p:transition spd="slow" advTm="2000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5"/>
          <p:cNvSpPr/>
          <p:nvPr/>
        </p:nvSpPr>
        <p:spPr>
          <a:xfrm>
            <a:off x="755640" y="3192840"/>
            <a:ext cx="364320" cy="155628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282" name="矩形 4"/>
          <p:cNvSpPr/>
          <p:nvPr/>
        </p:nvSpPr>
        <p:spPr>
          <a:xfrm>
            <a:off x="0" y="4797000"/>
            <a:ext cx="9143640" cy="2060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283" name="文本框 260"/>
          <p:cNvSpPr/>
          <p:nvPr/>
        </p:nvSpPr>
        <p:spPr>
          <a:xfrm>
            <a:off x="688320" y="4835160"/>
            <a:ext cx="4989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61"/>
          <p:cNvSpPr/>
          <p:nvPr/>
        </p:nvSpPr>
        <p:spPr>
          <a:xfrm>
            <a:off x="1353600" y="4835160"/>
            <a:ext cx="4989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62"/>
          <p:cNvSpPr/>
          <p:nvPr/>
        </p:nvSpPr>
        <p:spPr>
          <a:xfrm>
            <a:off x="2018880" y="4835160"/>
            <a:ext cx="4989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263"/>
          <p:cNvSpPr/>
          <p:nvPr/>
        </p:nvSpPr>
        <p:spPr>
          <a:xfrm>
            <a:off x="2684160" y="4835160"/>
            <a:ext cx="4989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64"/>
          <p:cNvSpPr/>
          <p:nvPr/>
        </p:nvSpPr>
        <p:spPr>
          <a:xfrm>
            <a:off x="3349800" y="4835160"/>
            <a:ext cx="4989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65"/>
          <p:cNvSpPr/>
          <p:nvPr/>
        </p:nvSpPr>
        <p:spPr>
          <a:xfrm>
            <a:off x="4015080" y="4835160"/>
            <a:ext cx="4989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66"/>
          <p:cNvSpPr/>
          <p:nvPr/>
        </p:nvSpPr>
        <p:spPr>
          <a:xfrm>
            <a:off x="4680360" y="4835160"/>
            <a:ext cx="4989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267"/>
          <p:cNvSpPr/>
          <p:nvPr/>
        </p:nvSpPr>
        <p:spPr>
          <a:xfrm>
            <a:off x="5345640" y="4835160"/>
            <a:ext cx="4989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68"/>
          <p:cNvSpPr/>
          <p:nvPr/>
        </p:nvSpPr>
        <p:spPr>
          <a:xfrm>
            <a:off x="6010920" y="4835160"/>
            <a:ext cx="4989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69"/>
          <p:cNvSpPr/>
          <p:nvPr/>
        </p:nvSpPr>
        <p:spPr>
          <a:xfrm>
            <a:off x="6676560" y="4835160"/>
            <a:ext cx="4989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270"/>
          <p:cNvSpPr/>
          <p:nvPr/>
        </p:nvSpPr>
        <p:spPr>
          <a:xfrm>
            <a:off x="7341840" y="4835160"/>
            <a:ext cx="4989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271"/>
          <p:cNvSpPr/>
          <p:nvPr/>
        </p:nvSpPr>
        <p:spPr>
          <a:xfrm>
            <a:off x="8007120" y="4835160"/>
            <a:ext cx="49896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315"/>
          <p:cNvSpPr/>
          <p:nvPr/>
        </p:nvSpPr>
        <p:spPr>
          <a:xfrm>
            <a:off x="0" y="5482080"/>
            <a:ext cx="1852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17"/>
          <p:cNvSpPr/>
          <p:nvPr/>
        </p:nvSpPr>
        <p:spPr>
          <a:xfrm>
            <a:off x="2011680" y="5482080"/>
            <a:ext cx="1907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1">
                    <a:lumMod val="50000"/>
                  </a:schemeClr>
                </a:solidFill>
                <a:latin typeface="华文细黑"/>
                <a:ea typeface="华文细黑"/>
              </a:rPr>
              <a:t>1,9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323"/>
          <p:cNvSpPr/>
          <p:nvPr/>
        </p:nvSpPr>
        <p:spPr>
          <a:xfrm>
            <a:off x="4185720" y="5484240"/>
            <a:ext cx="43290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2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林敏唯一指定官方</a:t>
            </a:r>
            <a:r>
              <a:rPr b="0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706523326</a:t>
            </a:r>
            <a:r>
              <a:rPr b="0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，近期将推出微信关注号，关注可获得海量</a:t>
            </a:r>
            <a:r>
              <a:rPr b="0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设计资源。即将建立</a:t>
            </a:r>
            <a:r>
              <a:rPr b="0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群，在群内进行授课指导。欢迎大家选用林敏</a:t>
            </a:r>
            <a:r>
              <a:rPr b="0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设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直接连接符 325"/>
          <p:cNvCxnSpPr/>
          <p:nvPr/>
        </p:nvCxnSpPr>
        <p:spPr>
          <a:xfrm>
            <a:off x="3981960" y="5547240"/>
            <a:ext cx="360" cy="792360"/>
          </a:xfrm>
          <a:prstGeom prst="straightConnector1">
            <a:avLst/>
          </a:prstGeom>
          <a:ln w="41275">
            <a:solidFill>
              <a:srgbClr val="ffffff">
                <a:alpha val="69000"/>
              </a:srgbClr>
            </a:solidFill>
          </a:ln>
        </p:spPr>
      </p:cxnSp>
      <p:sp>
        <p:nvSpPr>
          <p:cNvPr id="299" name="KSO_Shape"/>
          <p:cNvSpPr/>
          <p:nvPr/>
        </p:nvSpPr>
        <p:spPr>
          <a:xfrm>
            <a:off x="6702120" y="3242520"/>
            <a:ext cx="564840" cy="446040"/>
          </a:xfrm>
          <a:prstGeom prst="wedgeEllipseCallout">
            <a:avLst>
              <a:gd name="adj1" fmla="val -25046"/>
              <a:gd name="adj2" fmla="val 65698"/>
            </a:avLst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KSO_Shape"/>
          <p:cNvSpPr/>
          <p:nvPr/>
        </p:nvSpPr>
        <p:spPr>
          <a:xfrm>
            <a:off x="4680360" y="1458000"/>
            <a:ext cx="564840" cy="446040"/>
          </a:xfrm>
          <a:prstGeom prst="wedgeEllipseCallout">
            <a:avLst>
              <a:gd name="adj1" fmla="val -25046"/>
              <a:gd name="adj2" fmla="val 65698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21"/>
          <p:cNvSpPr/>
          <p:nvPr/>
        </p:nvSpPr>
        <p:spPr>
          <a:xfrm>
            <a:off x="1420920" y="3523680"/>
            <a:ext cx="364320" cy="122508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02" name="矩形 222"/>
          <p:cNvSpPr/>
          <p:nvPr/>
        </p:nvSpPr>
        <p:spPr>
          <a:xfrm>
            <a:off x="2086560" y="2734920"/>
            <a:ext cx="364320" cy="20142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03" name="矩形 238"/>
          <p:cNvSpPr/>
          <p:nvPr/>
        </p:nvSpPr>
        <p:spPr>
          <a:xfrm>
            <a:off x="2751840" y="3317760"/>
            <a:ext cx="364320" cy="143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04" name="矩形 254"/>
          <p:cNvSpPr/>
          <p:nvPr/>
        </p:nvSpPr>
        <p:spPr>
          <a:xfrm>
            <a:off x="3417480" y="2421000"/>
            <a:ext cx="364320" cy="23281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05" name="矩形 255"/>
          <p:cNvSpPr/>
          <p:nvPr/>
        </p:nvSpPr>
        <p:spPr>
          <a:xfrm>
            <a:off x="4082760" y="3037320"/>
            <a:ext cx="364320" cy="17118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06" name="矩形 256"/>
          <p:cNvSpPr/>
          <p:nvPr/>
        </p:nvSpPr>
        <p:spPr>
          <a:xfrm>
            <a:off x="4748040" y="2071080"/>
            <a:ext cx="364320" cy="26780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07" name="矩形 257"/>
          <p:cNvSpPr/>
          <p:nvPr/>
        </p:nvSpPr>
        <p:spPr>
          <a:xfrm>
            <a:off x="5413680" y="2937600"/>
            <a:ext cx="364320" cy="18115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08" name="矩形 258"/>
          <p:cNvSpPr/>
          <p:nvPr/>
        </p:nvSpPr>
        <p:spPr>
          <a:xfrm>
            <a:off x="6078960" y="2592720"/>
            <a:ext cx="364320" cy="2156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09" name="矩形 259"/>
          <p:cNvSpPr/>
          <p:nvPr/>
        </p:nvSpPr>
        <p:spPr>
          <a:xfrm>
            <a:off x="6744600" y="3974760"/>
            <a:ext cx="364320" cy="774360"/>
          </a:xfrm>
          <a:prstGeom prst="rect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10" name="矩形 277"/>
          <p:cNvSpPr/>
          <p:nvPr/>
        </p:nvSpPr>
        <p:spPr>
          <a:xfrm>
            <a:off x="7409880" y="3111480"/>
            <a:ext cx="364320" cy="163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11" name="矩形 278"/>
          <p:cNvSpPr/>
          <p:nvPr/>
        </p:nvSpPr>
        <p:spPr>
          <a:xfrm>
            <a:off x="8075520" y="2711520"/>
            <a:ext cx="364320" cy="20376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</p:spTree>
  </p:cSld>
  <mc:AlternateContent>
    <mc:Choice Requires="p14">
      <p:transition spd="med" advTm="2000" p14:dur="800"/>
    </mc:Choice>
    <mc:Fallback>
      <p:transition spd="med" advTm="2000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公司所获荣誉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cxnSp>
        <p:nvCxnSpPr>
          <p:cNvPr id="313" name="Straight Connector 17"/>
          <p:cNvCxnSpPr>
            <a:stCxn id="314" idx="6"/>
            <a:endCxn id="315" idx="2"/>
          </p:cNvCxnSpPr>
          <p:nvPr/>
        </p:nvCxnSpPr>
        <p:spPr>
          <a:xfrm>
            <a:off x="2212920" y="4120920"/>
            <a:ext cx="1000440" cy="360"/>
          </a:xfrm>
          <a:prstGeom prst="straightConnector1">
            <a:avLst/>
          </a:prstGeom>
          <a:ln w="44450">
            <a:solidFill>
              <a:srgbClr val="dc5c31"/>
            </a:solidFill>
            <a:round/>
          </a:ln>
        </p:spPr>
      </p:cxnSp>
      <p:cxnSp>
        <p:nvCxnSpPr>
          <p:cNvPr id="316" name="Straight Connector 18"/>
          <p:cNvCxnSpPr/>
          <p:nvPr/>
        </p:nvCxnSpPr>
        <p:spPr>
          <a:xfrm>
            <a:off x="3501720" y="4119480"/>
            <a:ext cx="991080" cy="1800"/>
          </a:xfrm>
          <a:prstGeom prst="straightConnector1">
            <a:avLst/>
          </a:prstGeom>
          <a:ln w="44450">
            <a:solidFill>
              <a:srgbClr val="dc5c31"/>
            </a:solidFill>
            <a:round/>
          </a:ln>
        </p:spPr>
      </p:cxnSp>
      <p:cxnSp>
        <p:nvCxnSpPr>
          <p:cNvPr id="317" name="Straight Connector 19"/>
          <p:cNvCxnSpPr/>
          <p:nvPr/>
        </p:nvCxnSpPr>
        <p:spPr>
          <a:xfrm>
            <a:off x="4786200" y="4119480"/>
            <a:ext cx="992520" cy="1800"/>
          </a:xfrm>
          <a:prstGeom prst="straightConnector1">
            <a:avLst/>
          </a:prstGeom>
          <a:ln w="44450">
            <a:solidFill>
              <a:srgbClr val="dc5c31"/>
            </a:solidFill>
            <a:round/>
          </a:ln>
        </p:spPr>
      </p:cxnSp>
      <p:cxnSp>
        <p:nvCxnSpPr>
          <p:cNvPr id="318" name="Straight Connector 20"/>
          <p:cNvCxnSpPr/>
          <p:nvPr/>
        </p:nvCxnSpPr>
        <p:spPr>
          <a:xfrm>
            <a:off x="6078240" y="4119480"/>
            <a:ext cx="991080" cy="1800"/>
          </a:xfrm>
          <a:prstGeom prst="straightConnector1">
            <a:avLst/>
          </a:prstGeom>
          <a:ln w="44450">
            <a:solidFill>
              <a:srgbClr val="dc5c31"/>
            </a:solidFill>
            <a:round/>
          </a:ln>
        </p:spPr>
      </p:cxnSp>
      <p:sp>
        <p:nvSpPr>
          <p:cNvPr id="319" name="TextBox 21"/>
          <p:cNvSpPr/>
          <p:nvPr/>
        </p:nvSpPr>
        <p:spPr>
          <a:xfrm>
            <a:off x="1724040" y="4361040"/>
            <a:ext cx="86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nb-NO" sz="1800" spc="-1" strike="noStrike">
                <a:solidFill>
                  <a:srgbClr val="5f5f5f"/>
                </a:solidFill>
                <a:latin typeface="Calibri"/>
                <a:ea typeface="宋体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2"/>
          <p:cNvSpPr/>
          <p:nvPr/>
        </p:nvSpPr>
        <p:spPr>
          <a:xfrm>
            <a:off x="2986200" y="4378320"/>
            <a:ext cx="86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nb-NO" sz="1800" spc="-1" strike="noStrike">
                <a:solidFill>
                  <a:srgbClr val="5f5f5f"/>
                </a:solidFill>
                <a:latin typeface="Calibri"/>
                <a:ea typeface="宋体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3"/>
          <p:cNvSpPr/>
          <p:nvPr/>
        </p:nvSpPr>
        <p:spPr>
          <a:xfrm>
            <a:off x="4265640" y="4378320"/>
            <a:ext cx="86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nb-NO" sz="1800" spc="-1" strike="noStrike">
                <a:solidFill>
                  <a:srgbClr val="5f5f5f"/>
                </a:solidFill>
                <a:latin typeface="Calibri"/>
                <a:ea typeface="宋体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4"/>
          <p:cNvSpPr/>
          <p:nvPr/>
        </p:nvSpPr>
        <p:spPr>
          <a:xfrm>
            <a:off x="5575320" y="4378320"/>
            <a:ext cx="86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nb-NO" sz="1800" spc="-1" strike="noStrike">
                <a:solidFill>
                  <a:srgbClr val="5f5f5f"/>
                </a:solidFill>
                <a:latin typeface="Calibri"/>
                <a:ea typeface="宋体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 flipH="1" flipV="1">
            <a:off x="1795320" y="3340080"/>
            <a:ext cx="270000" cy="568080"/>
          </a:xfrm>
          <a:prstGeom prst="line">
            <a:avLst/>
          </a:prstGeom>
          <a:ln w="19050">
            <a:solidFill>
              <a:srgbClr val="5f5f5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  <a:ea typeface="幼圆"/>
            </a:endParaRPr>
          </a:p>
        </p:txBody>
      </p:sp>
      <p:sp>
        <p:nvSpPr>
          <p:cNvPr id="324" name="Rektangel 52"/>
          <p:cNvSpPr/>
          <p:nvPr/>
        </p:nvSpPr>
        <p:spPr>
          <a:xfrm>
            <a:off x="1103400" y="2475000"/>
            <a:ext cx="1223640" cy="60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>
              <a:lnSpc>
                <a:spcPct val="120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5f5f5f"/>
                </a:solidFill>
                <a:latin typeface="幼圆"/>
                <a:ea typeface="幼圆"/>
              </a:rPr>
              <a:t>中国软件业务收入前百家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3"/>
          <p:cNvSpPr/>
          <p:nvPr/>
        </p:nvSpPr>
        <p:spPr>
          <a:xfrm flipH="1" flipV="1">
            <a:off x="3084480" y="3340080"/>
            <a:ext cx="268200" cy="568080"/>
          </a:xfrm>
          <a:prstGeom prst="line">
            <a:avLst/>
          </a:prstGeom>
          <a:ln w="19050">
            <a:solidFill>
              <a:srgbClr val="5f5f5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  <a:ea typeface="幼圆"/>
            </a:endParaRPr>
          </a:p>
        </p:txBody>
      </p:sp>
      <p:sp>
        <p:nvSpPr>
          <p:cNvPr id="326" name="Rektangel 52"/>
          <p:cNvSpPr/>
          <p:nvPr/>
        </p:nvSpPr>
        <p:spPr>
          <a:xfrm>
            <a:off x="2468520" y="2475000"/>
            <a:ext cx="1223640" cy="60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>
              <a:lnSpc>
                <a:spcPct val="120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5f5f5f"/>
                </a:solidFill>
                <a:latin typeface="幼圆"/>
                <a:ea typeface="幼圆"/>
              </a:rPr>
              <a:t>中国网络游戏最佳雇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3"/>
          <p:cNvSpPr/>
          <p:nvPr/>
        </p:nvSpPr>
        <p:spPr>
          <a:xfrm flipH="1" flipV="1">
            <a:off x="4354200" y="3340080"/>
            <a:ext cx="268560" cy="568080"/>
          </a:xfrm>
          <a:prstGeom prst="line">
            <a:avLst/>
          </a:prstGeom>
          <a:ln w="19050">
            <a:solidFill>
              <a:srgbClr val="5f5f5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  <a:ea typeface="幼圆"/>
            </a:endParaRPr>
          </a:p>
        </p:txBody>
      </p:sp>
      <p:sp>
        <p:nvSpPr>
          <p:cNvPr id="328" name="Rektangel 52"/>
          <p:cNvSpPr/>
          <p:nvPr/>
        </p:nvSpPr>
        <p:spPr>
          <a:xfrm>
            <a:off x="3832200" y="2475000"/>
            <a:ext cx="1223640" cy="34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>
              <a:lnSpc>
                <a:spcPct val="120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5f5f5f"/>
                </a:solidFill>
                <a:latin typeface="幼圆"/>
                <a:ea typeface="幼圆"/>
              </a:rPr>
              <a:t>视频大赛十大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3"/>
          <p:cNvSpPr/>
          <p:nvPr/>
        </p:nvSpPr>
        <p:spPr>
          <a:xfrm flipH="1" flipV="1">
            <a:off x="5622840" y="3340080"/>
            <a:ext cx="269640" cy="568080"/>
          </a:xfrm>
          <a:prstGeom prst="line">
            <a:avLst/>
          </a:prstGeom>
          <a:ln w="19050">
            <a:solidFill>
              <a:srgbClr val="5f5f5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da-DK" sz="1100" spc="-1" strike="noStrike">
              <a:solidFill>
                <a:srgbClr val="000000"/>
              </a:solidFill>
              <a:latin typeface="Arial"/>
              <a:ea typeface="幼圆"/>
            </a:endParaRPr>
          </a:p>
        </p:txBody>
      </p:sp>
      <p:sp>
        <p:nvSpPr>
          <p:cNvPr id="330" name="Rektangel 52"/>
          <p:cNvSpPr/>
          <p:nvPr/>
        </p:nvSpPr>
        <p:spPr>
          <a:xfrm>
            <a:off x="5195880" y="2475000"/>
            <a:ext cx="1223640" cy="60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>
              <a:lnSpc>
                <a:spcPct val="120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5f5f5f"/>
                </a:solidFill>
                <a:latin typeface="幼圆"/>
                <a:ea typeface="幼圆"/>
              </a:rPr>
              <a:t>中国年度最受玩家期待网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3213000" y="3975120"/>
            <a:ext cx="290160" cy="290160"/>
          </a:xfrm>
          <a:prstGeom prst="ellipse">
            <a:avLst/>
          </a:prstGeom>
          <a:noFill/>
          <a:ln w="47625">
            <a:solidFill>
              <a:srgbClr val="dc5c31"/>
            </a:solidFill>
            <a:round/>
          </a:ln>
          <a:effectLst>
            <a:outerShdw blurRad="39960" dir="5400000" dist="2304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1922400" y="3975120"/>
            <a:ext cx="290160" cy="290160"/>
          </a:xfrm>
          <a:prstGeom prst="ellipse">
            <a:avLst/>
          </a:prstGeom>
          <a:noFill/>
          <a:ln w="47625">
            <a:solidFill>
              <a:srgbClr val="dc5c31"/>
            </a:solidFill>
            <a:round/>
          </a:ln>
          <a:effectLst>
            <a:outerShdw blurRad="39960" dir="5400000" dist="2304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331" name="Oval 12"/>
          <p:cNvSpPr/>
          <p:nvPr/>
        </p:nvSpPr>
        <p:spPr>
          <a:xfrm>
            <a:off x="4491000" y="3975120"/>
            <a:ext cx="290160" cy="290160"/>
          </a:xfrm>
          <a:prstGeom prst="ellipse">
            <a:avLst/>
          </a:prstGeom>
          <a:noFill/>
          <a:ln w="47625">
            <a:solidFill>
              <a:srgbClr val="dc5c31"/>
            </a:solidFill>
            <a:round/>
          </a:ln>
          <a:effectLst>
            <a:outerShdw blurRad="39960" dir="5400000" dist="2304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5802480" y="3975120"/>
            <a:ext cx="290160" cy="290160"/>
          </a:xfrm>
          <a:prstGeom prst="ellipse">
            <a:avLst/>
          </a:prstGeom>
          <a:noFill/>
          <a:ln w="47625">
            <a:solidFill>
              <a:srgbClr val="dc5c31"/>
            </a:solidFill>
            <a:round/>
          </a:ln>
          <a:effectLst>
            <a:outerShdw blurRad="39960" dir="5400000" dist="2304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333" name="Oval 14"/>
          <p:cNvSpPr/>
          <p:nvPr/>
        </p:nvSpPr>
        <p:spPr>
          <a:xfrm>
            <a:off x="6986520" y="3666960"/>
            <a:ext cx="871200" cy="869760"/>
          </a:xfrm>
          <a:prstGeom prst="ellipse">
            <a:avLst/>
          </a:prstGeom>
          <a:solidFill>
            <a:schemeClr val="accent1"/>
          </a:solidFill>
          <a:ln w="47625">
            <a:noFill/>
          </a:ln>
          <a:effectLst>
            <a:outerShdw blurRad="39960" dir="5400000" dist="2304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nb-NO" sz="2400" spc="-1" strike="noStrike">
                <a:solidFill>
                  <a:srgbClr val="ffffff"/>
                </a:solidFill>
                <a:latin typeface="Calibri"/>
                <a:ea typeface="幼圆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62"/>
          <p:cNvSpPr/>
          <p:nvPr/>
        </p:nvSpPr>
        <p:spPr>
          <a:xfrm>
            <a:off x="6810480" y="2475000"/>
            <a:ext cx="1114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>
              <a:lnSpc>
                <a:spcPct val="12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幼圆"/>
                <a:ea typeface="幼圆"/>
              </a:rPr>
              <a:t>中国纳税信用</a:t>
            </a:r>
            <a:r>
              <a:rPr b="1" lang="en-US" sz="1800" spc="-1" strike="noStrike">
                <a:solidFill>
                  <a:schemeClr val="accent1"/>
                </a:solidFill>
                <a:latin typeface="幼圆"/>
                <a:ea typeface="幼圆"/>
              </a:rPr>
              <a:t>A</a:t>
            </a:r>
            <a:r>
              <a:rPr b="1" lang="zh-CN" sz="1800" spc="-1" strike="noStrike">
                <a:solidFill>
                  <a:schemeClr val="accent1"/>
                </a:solidFill>
                <a:latin typeface="幼圆"/>
                <a:ea typeface="幼圆"/>
              </a:rPr>
              <a:t>级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文本占位符 4"/>
          <p:cNvSpPr/>
          <p:nvPr/>
        </p:nvSpPr>
        <p:spPr>
          <a:xfrm>
            <a:off x="1418040" y="1672920"/>
            <a:ext cx="228564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18500" spc="-1" strike="noStrike">
                <a:solidFill>
                  <a:srgbClr val="00a1c7"/>
                </a:solidFill>
                <a:latin typeface="Felix Titling"/>
                <a:ea typeface="幼圆"/>
              </a:rPr>
              <a:t>3</a:t>
            </a:r>
            <a:endParaRPr b="0" lang="en-US" sz="1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标题 5"/>
          <p:cNvSpPr/>
          <p:nvPr/>
        </p:nvSpPr>
        <p:spPr>
          <a:xfrm>
            <a:off x="3123360" y="3369600"/>
            <a:ext cx="4686840" cy="609120"/>
          </a:xfrm>
          <a:prstGeom prst="roundRect">
            <a:avLst>
              <a:gd name="adj" fmla="val 50000"/>
            </a:avLst>
          </a:prstGeom>
          <a:noFill/>
          <a:ln w="12700">
            <a:solidFill>
              <a:srgbClr val="00a1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a1c7"/>
                </a:solidFill>
                <a:latin typeface="幼圆"/>
                <a:ea typeface="幼圆"/>
              </a:rPr>
              <a:t>送，更多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占位符 6"/>
          <p:cNvSpPr/>
          <p:nvPr/>
        </p:nvSpPr>
        <p:spPr>
          <a:xfrm>
            <a:off x="2031120" y="2853720"/>
            <a:ext cx="313704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a3c902"/>
                </a:solidFill>
                <a:latin typeface="Felix Titling"/>
                <a:ea typeface="幼圆"/>
              </a:rPr>
              <a:t>Mobile Off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1600">
        <p14:prism isInverted="true"/>
      </p:transition>
    </mc:Choice>
    <mc:Fallback>
      <p:transition spd="slow" advTm="2000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空心弧 32"/>
          <p:cNvSpPr/>
          <p:nvPr/>
        </p:nvSpPr>
        <p:spPr>
          <a:xfrm>
            <a:off x="745560" y="3164400"/>
            <a:ext cx="2750040" cy="2456640"/>
          </a:xfrm>
          <a:prstGeom prst="blockArc">
            <a:avLst>
              <a:gd name="adj1" fmla="val 13186668"/>
              <a:gd name="adj2" fmla="val 19259822"/>
              <a:gd name="adj3" fmla="val 20854"/>
            </a:avLst>
          </a:prstGeom>
          <a:solidFill>
            <a:schemeClr val="accent1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2"/>
          <p:cNvSpPr/>
          <p:nvPr/>
        </p:nvSpPr>
        <p:spPr>
          <a:xfrm>
            <a:off x="1923840" y="4111560"/>
            <a:ext cx="427320" cy="213480"/>
          </a:xfrm>
          <a:custGeom>
            <a:avLst/>
            <a:gdLst>
              <a:gd name="textAreaLeft" fmla="*/ 0 w 427320"/>
              <a:gd name="textAreaRight" fmla="*/ 427680 w 427320"/>
              <a:gd name="textAreaTop" fmla="*/ 0 h 213480"/>
              <a:gd name="textAreaBottom" fmla="*/ 213840 h 213480"/>
            </a:gdLst>
            <a:ahLst/>
            <a:rect l="textAreaLeft" t="textAreaTop" r="textAreaRight" b="textAreaBottom"/>
            <a:pathLst>
              <a:path w="648072" h="324036">
                <a:moveTo>
                  <a:pt x="648072" y="0"/>
                </a:moveTo>
                <a:cubicBezTo>
                  <a:pt x="648072" y="178960"/>
                  <a:pt x="502996" y="324036"/>
                  <a:pt x="324036" y="324036"/>
                </a:cubicBezTo>
                <a:cubicBezTo>
                  <a:pt x="145076" y="324036"/>
                  <a:pt x="0" y="178960"/>
                  <a:pt x="0" y="0"/>
                </a:cubicBezTo>
              </a:path>
            </a:pathLst>
          </a:custGeom>
          <a:noFill/>
          <a:ln w="254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cxnSp>
        <p:nvCxnSpPr>
          <p:cNvPr id="340" name="直接连接符 35"/>
          <p:cNvCxnSpPr/>
          <p:nvPr/>
        </p:nvCxnSpPr>
        <p:spPr>
          <a:xfrm>
            <a:off x="2137680" y="4325040"/>
            <a:ext cx="360" cy="428400"/>
          </a:xfrm>
          <a:prstGeom prst="straightConnector1">
            <a:avLst/>
          </a:prstGeom>
          <a:ln w="25400">
            <a:solidFill>
              <a:srgbClr val="dcdcdc"/>
            </a:solidFill>
            <a:prstDash val="sysDash"/>
            <a:round/>
            <a:tailEnd len="med" type="oval" w="med"/>
          </a:ln>
        </p:spPr>
      </p:cxnSp>
      <p:sp>
        <p:nvSpPr>
          <p:cNvPr id="341" name="TextBox 37"/>
          <p:cNvSpPr/>
          <p:nvPr/>
        </p:nvSpPr>
        <p:spPr>
          <a:xfrm flipH="1">
            <a:off x="1824480" y="3867120"/>
            <a:ext cx="636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Arial Rounded MT Bold"/>
                <a:ea typeface="微软雅黑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2"/>
          <p:cNvSpPr/>
          <p:nvPr/>
        </p:nvSpPr>
        <p:spPr>
          <a:xfrm flipV="1">
            <a:off x="3614040" y="3200400"/>
            <a:ext cx="427320" cy="213480"/>
          </a:xfrm>
          <a:custGeom>
            <a:avLst/>
            <a:gdLst>
              <a:gd name="textAreaLeft" fmla="*/ 0 w 427320"/>
              <a:gd name="textAreaRight" fmla="*/ 427680 w 427320"/>
              <a:gd name="textAreaTop" fmla="*/ -360 h 213480"/>
              <a:gd name="textAreaBottom" fmla="*/ 213480 h 213480"/>
            </a:gdLst>
            <a:ahLst/>
            <a:rect l="textAreaLeft" t="textAreaTop" r="textAreaRight" b="textAreaBottom"/>
            <a:pathLst>
              <a:path w="648072" h="324036">
                <a:moveTo>
                  <a:pt x="648072" y="0"/>
                </a:moveTo>
                <a:cubicBezTo>
                  <a:pt x="648072" y="178960"/>
                  <a:pt x="502996" y="324036"/>
                  <a:pt x="324036" y="324036"/>
                </a:cubicBezTo>
                <a:cubicBezTo>
                  <a:pt x="145076" y="324036"/>
                  <a:pt x="0" y="178960"/>
                  <a:pt x="0" y="0"/>
                </a:cubicBezTo>
              </a:path>
            </a:pathLst>
          </a:custGeom>
          <a:noFill/>
          <a:ln w="254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cxnSp>
        <p:nvCxnSpPr>
          <p:cNvPr id="343" name="直接连接符 41"/>
          <p:cNvCxnSpPr/>
          <p:nvPr/>
        </p:nvCxnSpPr>
        <p:spPr>
          <a:xfrm flipV="1">
            <a:off x="3827880" y="2760480"/>
            <a:ext cx="360" cy="428040"/>
          </a:xfrm>
          <a:prstGeom prst="straightConnector1">
            <a:avLst/>
          </a:prstGeom>
          <a:ln w="25400">
            <a:solidFill>
              <a:srgbClr val="dcdcdc"/>
            </a:solidFill>
            <a:prstDash val="sysDash"/>
            <a:round/>
            <a:tailEnd len="med" type="oval" w="med"/>
          </a:ln>
        </p:spPr>
      </p:cxnSp>
      <p:sp>
        <p:nvSpPr>
          <p:cNvPr id="344" name="TextBox 43"/>
          <p:cNvSpPr/>
          <p:nvPr/>
        </p:nvSpPr>
        <p:spPr>
          <a:xfrm flipH="1">
            <a:off x="3524760" y="3233880"/>
            <a:ext cx="636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Arial Rounded MT Bold"/>
                <a:ea typeface="微软雅黑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椭圆 2"/>
          <p:cNvSpPr/>
          <p:nvPr/>
        </p:nvSpPr>
        <p:spPr>
          <a:xfrm>
            <a:off x="5302440" y="4111560"/>
            <a:ext cx="427320" cy="213480"/>
          </a:xfrm>
          <a:custGeom>
            <a:avLst/>
            <a:gdLst>
              <a:gd name="textAreaLeft" fmla="*/ 0 w 427320"/>
              <a:gd name="textAreaRight" fmla="*/ 427680 w 427320"/>
              <a:gd name="textAreaTop" fmla="*/ 0 h 213480"/>
              <a:gd name="textAreaBottom" fmla="*/ 213840 h 213480"/>
            </a:gdLst>
            <a:ahLst/>
            <a:rect l="textAreaLeft" t="textAreaTop" r="textAreaRight" b="textAreaBottom"/>
            <a:pathLst>
              <a:path w="648072" h="324036">
                <a:moveTo>
                  <a:pt x="648072" y="0"/>
                </a:moveTo>
                <a:cubicBezTo>
                  <a:pt x="648072" y="178960"/>
                  <a:pt x="502996" y="324036"/>
                  <a:pt x="324036" y="324036"/>
                </a:cubicBezTo>
                <a:cubicBezTo>
                  <a:pt x="145076" y="324036"/>
                  <a:pt x="0" y="178960"/>
                  <a:pt x="0" y="0"/>
                </a:cubicBezTo>
              </a:path>
            </a:pathLst>
          </a:custGeom>
          <a:noFill/>
          <a:ln w="254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cxnSp>
        <p:nvCxnSpPr>
          <p:cNvPr id="346" name="直接连接符 47"/>
          <p:cNvCxnSpPr/>
          <p:nvPr/>
        </p:nvCxnSpPr>
        <p:spPr>
          <a:xfrm>
            <a:off x="5516280" y="4325040"/>
            <a:ext cx="360" cy="428400"/>
          </a:xfrm>
          <a:prstGeom prst="straightConnector1">
            <a:avLst/>
          </a:prstGeom>
          <a:ln w="25400">
            <a:solidFill>
              <a:srgbClr val="dcdcdc"/>
            </a:solidFill>
            <a:prstDash val="sysDash"/>
            <a:round/>
            <a:tailEnd len="med" type="oval" w="med"/>
          </a:ln>
        </p:spPr>
      </p:cxnSp>
      <p:sp>
        <p:nvSpPr>
          <p:cNvPr id="347" name="TextBox 49"/>
          <p:cNvSpPr/>
          <p:nvPr/>
        </p:nvSpPr>
        <p:spPr>
          <a:xfrm flipH="1">
            <a:off x="5203080" y="3867120"/>
            <a:ext cx="636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Arial Rounded MT Bold"/>
                <a:ea typeface="微软雅黑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椭圆 2"/>
          <p:cNvSpPr/>
          <p:nvPr/>
        </p:nvSpPr>
        <p:spPr>
          <a:xfrm flipV="1">
            <a:off x="6992640" y="3200400"/>
            <a:ext cx="427320" cy="213480"/>
          </a:xfrm>
          <a:custGeom>
            <a:avLst/>
            <a:gdLst>
              <a:gd name="textAreaLeft" fmla="*/ 0 w 427320"/>
              <a:gd name="textAreaRight" fmla="*/ 427680 w 427320"/>
              <a:gd name="textAreaTop" fmla="*/ -360 h 213480"/>
              <a:gd name="textAreaBottom" fmla="*/ 213480 h 213480"/>
            </a:gdLst>
            <a:ahLst/>
            <a:rect l="textAreaLeft" t="textAreaTop" r="textAreaRight" b="textAreaBottom"/>
            <a:pathLst>
              <a:path w="648072" h="324036">
                <a:moveTo>
                  <a:pt x="648072" y="0"/>
                </a:moveTo>
                <a:cubicBezTo>
                  <a:pt x="648072" y="178960"/>
                  <a:pt x="502996" y="324036"/>
                  <a:pt x="324036" y="324036"/>
                </a:cubicBezTo>
                <a:cubicBezTo>
                  <a:pt x="145076" y="324036"/>
                  <a:pt x="0" y="178960"/>
                  <a:pt x="0" y="0"/>
                </a:cubicBezTo>
              </a:path>
            </a:pathLst>
          </a:custGeom>
          <a:noFill/>
          <a:ln w="254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cxnSp>
        <p:nvCxnSpPr>
          <p:cNvPr id="349" name="直接连接符 53"/>
          <p:cNvCxnSpPr/>
          <p:nvPr/>
        </p:nvCxnSpPr>
        <p:spPr>
          <a:xfrm flipV="1">
            <a:off x="7206480" y="2760480"/>
            <a:ext cx="360" cy="428040"/>
          </a:xfrm>
          <a:prstGeom prst="straightConnector1">
            <a:avLst/>
          </a:prstGeom>
          <a:ln w="25400">
            <a:solidFill>
              <a:srgbClr val="dcdcdc"/>
            </a:solidFill>
            <a:prstDash val="sysDash"/>
            <a:round/>
            <a:tailEnd len="med" type="oval" w="med"/>
          </a:ln>
        </p:spPr>
      </p:cxnSp>
      <p:sp>
        <p:nvSpPr>
          <p:cNvPr id="350" name="TextBox 55"/>
          <p:cNvSpPr/>
          <p:nvPr/>
        </p:nvSpPr>
        <p:spPr>
          <a:xfrm flipH="1">
            <a:off x="6889320" y="3233880"/>
            <a:ext cx="636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Arial Rounded MT Bold"/>
                <a:ea typeface="微软雅黑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6"/>
          <p:cNvSpPr/>
          <p:nvPr/>
        </p:nvSpPr>
        <p:spPr>
          <a:xfrm>
            <a:off x="948960" y="4801320"/>
            <a:ext cx="23832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400" spc="-1" strike="noStrike">
                <a:solidFill>
                  <a:srgbClr val="5f5f5f"/>
                </a:solidFill>
                <a:latin typeface="幼圆"/>
                <a:ea typeface="幼圆"/>
              </a:rPr>
              <a:t>亲，输入信息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400" spc="-1" strike="noStrike">
                <a:solidFill>
                  <a:srgbClr val="5f5f5f"/>
                </a:solidFill>
                <a:latin typeface="幼圆"/>
                <a:ea typeface="幼圆"/>
              </a:rPr>
              <a:t>亲，输入信息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7"/>
          <p:cNvSpPr/>
          <p:nvPr/>
        </p:nvSpPr>
        <p:spPr>
          <a:xfrm>
            <a:off x="2646360" y="2027520"/>
            <a:ext cx="238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400" spc="-1" strike="noStrike">
                <a:solidFill>
                  <a:srgbClr val="5f5f5f"/>
                </a:solidFill>
                <a:latin typeface="幼圆"/>
                <a:ea typeface="幼圆"/>
              </a:rPr>
              <a:t>此类适合企业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8"/>
          <p:cNvSpPr/>
          <p:nvPr/>
        </p:nvSpPr>
        <p:spPr>
          <a:xfrm>
            <a:off x="4324680" y="4801320"/>
            <a:ext cx="238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400" spc="-1" strike="noStrike">
                <a:solidFill>
                  <a:srgbClr val="5f5f5f"/>
                </a:solidFill>
                <a:latin typeface="幼圆"/>
                <a:ea typeface="幼圆"/>
              </a:rPr>
              <a:t>奔跑吧，少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9"/>
          <p:cNvSpPr/>
          <p:nvPr/>
        </p:nvSpPr>
        <p:spPr>
          <a:xfrm>
            <a:off x="6014880" y="2027520"/>
            <a:ext cx="238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400" spc="-1" strike="noStrike">
                <a:solidFill>
                  <a:srgbClr val="5f5f5f"/>
                </a:solidFill>
                <a:latin typeface="幼圆"/>
                <a:ea typeface="幼圆"/>
              </a:rPr>
              <a:t>风格独一无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3"/>
          <p:cNvSpPr/>
          <p:nvPr/>
        </p:nvSpPr>
        <p:spPr>
          <a:xfrm>
            <a:off x="2778840" y="3603240"/>
            <a:ext cx="2065320" cy="761400"/>
          </a:xfrm>
          <a:custGeom>
            <a:avLst/>
            <a:gdLst>
              <a:gd name="textAreaLeft" fmla="*/ 0 w 2065320"/>
              <a:gd name="textAreaRight" fmla="*/ 2065680 w 2065320"/>
              <a:gd name="textAreaTop" fmla="*/ 0 h 761400"/>
              <a:gd name="textAreaBottom" fmla="*/ 761760 h 761400"/>
            </a:gdLst>
            <a:ahLst/>
            <a:rect l="textAreaLeft" t="textAreaTop" r="textAreaRight" b="textAreaBottom"/>
            <a:pathLst>
              <a:path w="2237755" h="923678">
                <a:moveTo>
                  <a:pt x="1828835" y="1264"/>
                </a:moveTo>
                <a:lnTo>
                  <a:pt x="2237755" y="392279"/>
                </a:lnTo>
                <a:cubicBezTo>
                  <a:pt x="1957146" y="738766"/>
                  <a:pt x="1500135" y="922803"/>
                  <a:pt x="1127176" y="923675"/>
                </a:cubicBezTo>
                <a:cubicBezTo>
                  <a:pt x="754217" y="924547"/>
                  <a:pt x="285269" y="740170"/>
                  <a:pt x="0" y="397509"/>
                </a:cubicBezTo>
                <a:cubicBezTo>
                  <a:pt x="159159" y="265007"/>
                  <a:pt x="272138" y="132502"/>
                  <a:pt x="431297" y="0"/>
                </a:cubicBezTo>
                <a:cubicBezTo>
                  <a:pt x="597587" y="199744"/>
                  <a:pt x="890052" y="302191"/>
                  <a:pt x="1122975" y="302402"/>
                </a:cubicBezTo>
                <a:cubicBezTo>
                  <a:pt x="1355898" y="302613"/>
                  <a:pt x="1665262" y="203238"/>
                  <a:pt x="1828835" y="1264"/>
                </a:cubicBezTo>
                <a:close/>
              </a:path>
            </a:pathLst>
          </a:custGeom>
          <a:solidFill>
            <a:schemeClr val="accent1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空心弧 26"/>
          <p:cNvSpPr/>
          <p:nvPr/>
        </p:nvSpPr>
        <p:spPr>
          <a:xfrm>
            <a:off x="4131360" y="3164400"/>
            <a:ext cx="2750040" cy="2456640"/>
          </a:xfrm>
          <a:prstGeom prst="blockArc">
            <a:avLst>
              <a:gd name="adj1" fmla="val 13186668"/>
              <a:gd name="adj2" fmla="val 19259822"/>
              <a:gd name="adj3" fmla="val 20854"/>
            </a:avLst>
          </a:prstGeom>
          <a:solidFill>
            <a:schemeClr val="accent1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3"/>
          <p:cNvSpPr/>
          <p:nvPr/>
        </p:nvSpPr>
        <p:spPr>
          <a:xfrm>
            <a:off x="6173640" y="3612600"/>
            <a:ext cx="2065320" cy="761400"/>
          </a:xfrm>
          <a:custGeom>
            <a:avLst/>
            <a:gdLst>
              <a:gd name="textAreaLeft" fmla="*/ 0 w 2065320"/>
              <a:gd name="textAreaRight" fmla="*/ 2065680 w 2065320"/>
              <a:gd name="textAreaTop" fmla="*/ 0 h 761400"/>
              <a:gd name="textAreaBottom" fmla="*/ 761760 h 761400"/>
            </a:gdLst>
            <a:ahLst/>
            <a:rect l="textAreaLeft" t="textAreaTop" r="textAreaRight" b="textAreaBottom"/>
            <a:pathLst>
              <a:path w="2237755" h="923678">
                <a:moveTo>
                  <a:pt x="1828835" y="1264"/>
                </a:moveTo>
                <a:lnTo>
                  <a:pt x="2237755" y="392279"/>
                </a:lnTo>
                <a:cubicBezTo>
                  <a:pt x="1957146" y="738766"/>
                  <a:pt x="1500135" y="922803"/>
                  <a:pt x="1127176" y="923675"/>
                </a:cubicBezTo>
                <a:cubicBezTo>
                  <a:pt x="754217" y="924547"/>
                  <a:pt x="285269" y="740170"/>
                  <a:pt x="0" y="397509"/>
                </a:cubicBezTo>
                <a:cubicBezTo>
                  <a:pt x="159159" y="265007"/>
                  <a:pt x="272138" y="132502"/>
                  <a:pt x="431297" y="0"/>
                </a:cubicBezTo>
                <a:cubicBezTo>
                  <a:pt x="597587" y="199744"/>
                  <a:pt x="890052" y="302191"/>
                  <a:pt x="1122975" y="302402"/>
                </a:cubicBezTo>
                <a:cubicBezTo>
                  <a:pt x="1355898" y="302613"/>
                  <a:pt x="1665262" y="203238"/>
                  <a:pt x="1828835" y="1264"/>
                </a:cubicBezTo>
                <a:close/>
              </a:path>
            </a:pathLst>
          </a:custGeom>
          <a:solidFill>
            <a:schemeClr val="accent1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亲，输入标题试试吧，很简单的。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mc:AlternateContent>
    <mc:Choice Requires="p14">
      <p:transition spd="slow" advTm="2000" p14:dur="1600"/>
    </mc:Choice>
    <mc:Fallback>
      <p:transition spd="slow" advTm="2000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3"/>
          <p:cNvSpPr/>
          <p:nvPr/>
        </p:nvSpPr>
        <p:spPr>
          <a:xfrm>
            <a:off x="3614760" y="2174760"/>
            <a:ext cx="2087280" cy="258876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60" name="矩形 4"/>
          <p:cNvSpPr/>
          <p:nvPr/>
        </p:nvSpPr>
        <p:spPr>
          <a:xfrm>
            <a:off x="1539720" y="2425680"/>
            <a:ext cx="1684080" cy="208872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6094440" y="2425680"/>
            <a:ext cx="1682280" cy="208872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幼圆"/>
            </a:endParaRPr>
          </a:p>
        </p:txBody>
      </p:sp>
      <p:sp>
        <p:nvSpPr>
          <p:cNvPr id="362" name="文本框 6"/>
          <p:cNvSpPr/>
          <p:nvPr/>
        </p:nvSpPr>
        <p:spPr>
          <a:xfrm>
            <a:off x="1539720" y="4668840"/>
            <a:ext cx="168408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chemeClr val="accent1"/>
                </a:solidFill>
                <a:latin typeface="幼圆"/>
                <a:ea typeface="幼圆"/>
              </a:rPr>
              <a:t>图片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979797"/>
                </a:solidFill>
                <a:latin typeface="幼圆"/>
                <a:ea typeface="幼圆"/>
              </a:rPr>
              <a:t>别忘了将图片进行小小美化哦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10"/>
          <p:cNvSpPr/>
          <p:nvPr/>
        </p:nvSpPr>
        <p:spPr>
          <a:xfrm>
            <a:off x="3614760" y="4906800"/>
            <a:ext cx="208728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chemeClr val="accent1"/>
                </a:solidFill>
                <a:latin typeface="幼圆"/>
                <a:ea typeface="幼圆"/>
              </a:rPr>
              <a:t>增加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979797"/>
                </a:solidFill>
                <a:latin typeface="幼圆"/>
                <a:ea typeface="幼圆"/>
              </a:rPr>
              <a:t>双击图片，可进行图片着色风格等裁剪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11"/>
          <p:cNvSpPr/>
          <p:nvPr/>
        </p:nvSpPr>
        <p:spPr>
          <a:xfrm>
            <a:off x="6094440" y="4668840"/>
            <a:ext cx="168228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chemeClr val="accent1"/>
                </a:solidFill>
                <a:latin typeface="幼圆"/>
                <a:ea typeface="幼圆"/>
              </a:rPr>
              <a:t>更改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979797"/>
                </a:solidFill>
                <a:latin typeface="幼圆"/>
                <a:ea typeface="幼圆"/>
              </a:rPr>
              <a:t>点中图片</a:t>
            </a:r>
            <a:r>
              <a:rPr b="0" lang="en-US" sz="1600" spc="-1" strike="noStrike">
                <a:solidFill>
                  <a:srgbClr val="979797"/>
                </a:solidFill>
                <a:latin typeface="幼圆"/>
                <a:ea typeface="幼圆"/>
              </a:rPr>
              <a:t>-</a:t>
            </a:r>
            <a:r>
              <a:rPr b="0" lang="zh-CN" sz="1600" spc="-1" strike="noStrike">
                <a:solidFill>
                  <a:srgbClr val="979797"/>
                </a:solidFill>
                <a:latin typeface="幼圆"/>
                <a:ea typeface="幼圆"/>
              </a:rPr>
              <a:t>绘图工具</a:t>
            </a:r>
            <a:r>
              <a:rPr b="0" lang="en-US" sz="1600" spc="-1" strike="noStrike">
                <a:solidFill>
                  <a:srgbClr val="979797"/>
                </a:solidFill>
                <a:latin typeface="幼圆"/>
                <a:ea typeface="幼圆"/>
              </a:rPr>
              <a:t>-</a:t>
            </a:r>
            <a:r>
              <a:rPr b="0" lang="zh-CN" sz="1600" spc="-1" strike="noStrike">
                <a:solidFill>
                  <a:srgbClr val="979797"/>
                </a:solidFill>
                <a:latin typeface="幼圆"/>
                <a:ea typeface="幼圆"/>
              </a:rPr>
              <a:t>格式</a:t>
            </a:r>
            <a:r>
              <a:rPr b="0" lang="en-US" sz="1600" spc="-1" strike="noStrike">
                <a:solidFill>
                  <a:srgbClr val="979797"/>
                </a:solidFill>
                <a:latin typeface="幼圆"/>
                <a:ea typeface="幼圆"/>
              </a:rPr>
              <a:t>-</a:t>
            </a:r>
            <a:r>
              <a:rPr b="0" lang="zh-CN" sz="1600" spc="-1" strike="noStrike">
                <a:solidFill>
                  <a:srgbClr val="979797"/>
                </a:solidFill>
                <a:latin typeface="幼圆"/>
                <a:ea typeface="幼圆"/>
              </a:rPr>
              <a:t>填充</a:t>
            </a:r>
            <a:r>
              <a:rPr b="0" lang="en-US" sz="1600" spc="-1" strike="noStrike">
                <a:solidFill>
                  <a:srgbClr val="979797"/>
                </a:solidFill>
                <a:latin typeface="幼圆"/>
                <a:ea typeface="幼圆"/>
              </a:rPr>
              <a:t>-</a:t>
            </a:r>
            <a:r>
              <a:rPr b="0" lang="zh-CN" sz="1600" spc="-1" strike="noStrike">
                <a:solidFill>
                  <a:srgbClr val="979797"/>
                </a:solidFill>
                <a:latin typeface="幼圆"/>
                <a:ea typeface="幼圆"/>
              </a:rPr>
              <a:t>图片</a:t>
            </a:r>
            <a:r>
              <a:rPr b="0" lang="en-US" sz="1600" spc="-1" strike="noStrike">
                <a:solidFill>
                  <a:srgbClr val="979797"/>
                </a:solidFill>
                <a:latin typeface="幼圆"/>
                <a:ea typeface="幼圆"/>
              </a:rPr>
              <a:t>-</a:t>
            </a:r>
            <a:r>
              <a:rPr b="0" lang="zh-CN" sz="1600" spc="-1" strike="noStrike">
                <a:solidFill>
                  <a:srgbClr val="979797"/>
                </a:solidFill>
                <a:latin typeface="幼圆"/>
                <a:ea typeface="幼圆"/>
              </a:rPr>
              <a:t>选择所需图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1481040" y="765000"/>
            <a:ext cx="62384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accent1">
                    <a:lumMod val="75000"/>
                  </a:schemeClr>
                </a:solidFill>
                <a:latin typeface="华文中宋"/>
                <a:ea typeface="华文中宋"/>
              </a:rPr>
              <a:t>图文混排使用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5"/>
          <p:cNvSpPr/>
          <p:nvPr/>
        </p:nvSpPr>
        <p:spPr>
          <a:xfrm>
            <a:off x="2720880" y="127944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 u="sng">
                <a:solidFill>
                  <a:schemeClr val="accent1">
                    <a:lumMod val="60000"/>
                    <a:lumOff val="40000"/>
                  </a:schemeClr>
                </a:solidFill>
                <a:uFillTx/>
                <a:latin typeface="幼圆"/>
                <a:ea typeface="幼圆"/>
              </a:rPr>
              <a:t>这个是送给大家的福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2000"/>
    </mc:Choice>
    <mc:Fallback>
      <p:transition spd="slow" advTm="2000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矩形 4"/>
          <p:cNvSpPr/>
          <p:nvPr/>
        </p:nvSpPr>
        <p:spPr>
          <a:xfrm>
            <a:off x="2496960" y="3908520"/>
            <a:ext cx="19238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chemeClr val="accent1"/>
                </a:solidFill>
                <a:latin typeface="华文细黑"/>
                <a:ea typeface="华文细黑"/>
              </a:rPr>
              <a:t>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KSO_Shape"/>
          <p:cNvSpPr/>
          <p:nvPr/>
        </p:nvSpPr>
        <p:spPr>
          <a:xfrm>
            <a:off x="5288040" y="1262160"/>
            <a:ext cx="336240" cy="425160"/>
          </a:xfrm>
          <a:custGeom>
            <a:avLst/>
            <a:gdLst>
              <a:gd name="textAreaLeft" fmla="*/ 0 w 336240"/>
              <a:gd name="textAreaRight" fmla="*/ 336600 w 33624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1679575" h="2125662">
                <a:moveTo>
                  <a:pt x="481421" y="957262"/>
                </a:moveTo>
                <a:lnTo>
                  <a:pt x="484914" y="961070"/>
                </a:lnTo>
                <a:lnTo>
                  <a:pt x="490948" y="968686"/>
                </a:lnTo>
                <a:lnTo>
                  <a:pt x="497299" y="975667"/>
                </a:lnTo>
                <a:lnTo>
                  <a:pt x="510319" y="990264"/>
                </a:lnTo>
                <a:lnTo>
                  <a:pt x="523657" y="1003909"/>
                </a:lnTo>
                <a:lnTo>
                  <a:pt x="537947" y="1017237"/>
                </a:lnTo>
                <a:lnTo>
                  <a:pt x="552237" y="1029613"/>
                </a:lnTo>
                <a:lnTo>
                  <a:pt x="567480" y="1041671"/>
                </a:lnTo>
                <a:lnTo>
                  <a:pt x="583040" y="1053095"/>
                </a:lnTo>
                <a:lnTo>
                  <a:pt x="598601" y="1063884"/>
                </a:lnTo>
                <a:lnTo>
                  <a:pt x="615114" y="1074039"/>
                </a:lnTo>
                <a:lnTo>
                  <a:pt x="631627" y="1083558"/>
                </a:lnTo>
                <a:lnTo>
                  <a:pt x="649093" y="1092126"/>
                </a:lnTo>
                <a:lnTo>
                  <a:pt x="666241" y="1100377"/>
                </a:lnTo>
                <a:lnTo>
                  <a:pt x="684025" y="1107993"/>
                </a:lnTo>
                <a:lnTo>
                  <a:pt x="701808" y="1114657"/>
                </a:lnTo>
                <a:lnTo>
                  <a:pt x="720226" y="1120686"/>
                </a:lnTo>
                <a:lnTo>
                  <a:pt x="738645" y="1125763"/>
                </a:lnTo>
                <a:lnTo>
                  <a:pt x="734517" y="1130840"/>
                </a:lnTo>
                <a:lnTo>
                  <a:pt x="730706" y="1135283"/>
                </a:lnTo>
                <a:lnTo>
                  <a:pt x="727213" y="1140043"/>
                </a:lnTo>
                <a:lnTo>
                  <a:pt x="723402" y="1145437"/>
                </a:lnTo>
                <a:lnTo>
                  <a:pt x="720544" y="1150515"/>
                </a:lnTo>
                <a:lnTo>
                  <a:pt x="717368" y="1155909"/>
                </a:lnTo>
                <a:lnTo>
                  <a:pt x="714510" y="1161304"/>
                </a:lnTo>
                <a:lnTo>
                  <a:pt x="711970" y="1167016"/>
                </a:lnTo>
                <a:lnTo>
                  <a:pt x="710064" y="1172410"/>
                </a:lnTo>
                <a:lnTo>
                  <a:pt x="708159" y="1178439"/>
                </a:lnTo>
                <a:lnTo>
                  <a:pt x="706254" y="1184151"/>
                </a:lnTo>
                <a:lnTo>
                  <a:pt x="704983" y="1190498"/>
                </a:lnTo>
                <a:lnTo>
                  <a:pt x="704031" y="1196210"/>
                </a:lnTo>
                <a:lnTo>
                  <a:pt x="702761" y="1202556"/>
                </a:lnTo>
                <a:lnTo>
                  <a:pt x="702443" y="1208903"/>
                </a:lnTo>
                <a:lnTo>
                  <a:pt x="702125" y="1215249"/>
                </a:lnTo>
                <a:lnTo>
                  <a:pt x="702443" y="1222548"/>
                </a:lnTo>
                <a:lnTo>
                  <a:pt x="703078" y="1229529"/>
                </a:lnTo>
                <a:lnTo>
                  <a:pt x="704348" y="1236510"/>
                </a:lnTo>
                <a:lnTo>
                  <a:pt x="705619" y="1243174"/>
                </a:lnTo>
                <a:lnTo>
                  <a:pt x="707206" y="1249838"/>
                </a:lnTo>
                <a:lnTo>
                  <a:pt x="709112" y="1256819"/>
                </a:lnTo>
                <a:lnTo>
                  <a:pt x="711652" y="1263166"/>
                </a:lnTo>
                <a:lnTo>
                  <a:pt x="714193" y="1269512"/>
                </a:lnTo>
                <a:lnTo>
                  <a:pt x="717686" y="1275542"/>
                </a:lnTo>
                <a:lnTo>
                  <a:pt x="720861" y="1281571"/>
                </a:lnTo>
                <a:lnTo>
                  <a:pt x="724355" y="1287283"/>
                </a:lnTo>
                <a:lnTo>
                  <a:pt x="728483" y="1292995"/>
                </a:lnTo>
                <a:lnTo>
                  <a:pt x="732611" y="1298389"/>
                </a:lnTo>
                <a:lnTo>
                  <a:pt x="737057" y="1303784"/>
                </a:lnTo>
                <a:lnTo>
                  <a:pt x="742138" y="1308861"/>
                </a:lnTo>
                <a:lnTo>
                  <a:pt x="746901" y="1313304"/>
                </a:lnTo>
                <a:lnTo>
                  <a:pt x="672275" y="1874339"/>
                </a:lnTo>
                <a:lnTo>
                  <a:pt x="854237" y="2050773"/>
                </a:lnTo>
                <a:lnTo>
                  <a:pt x="1030800" y="1874339"/>
                </a:lnTo>
                <a:lnTo>
                  <a:pt x="956173" y="1313304"/>
                </a:lnTo>
                <a:lnTo>
                  <a:pt x="961572" y="1308544"/>
                </a:lnTo>
                <a:lnTo>
                  <a:pt x="966018" y="1303466"/>
                </a:lnTo>
                <a:lnTo>
                  <a:pt x="970781" y="1298072"/>
                </a:lnTo>
                <a:lnTo>
                  <a:pt x="974910" y="1292995"/>
                </a:lnTo>
                <a:lnTo>
                  <a:pt x="978720" y="1286965"/>
                </a:lnTo>
                <a:lnTo>
                  <a:pt x="982531" y="1281571"/>
                </a:lnTo>
                <a:lnTo>
                  <a:pt x="986024" y="1275224"/>
                </a:lnTo>
                <a:lnTo>
                  <a:pt x="988882" y="1269195"/>
                </a:lnTo>
                <a:lnTo>
                  <a:pt x="991423" y="1262849"/>
                </a:lnTo>
                <a:lnTo>
                  <a:pt x="994281" y="1256502"/>
                </a:lnTo>
                <a:lnTo>
                  <a:pt x="996186" y="1249838"/>
                </a:lnTo>
                <a:lnTo>
                  <a:pt x="997774" y="1243174"/>
                </a:lnTo>
                <a:lnTo>
                  <a:pt x="999044" y="1236510"/>
                </a:lnTo>
                <a:lnTo>
                  <a:pt x="999997" y="1229212"/>
                </a:lnTo>
                <a:lnTo>
                  <a:pt x="1000632" y="1222548"/>
                </a:lnTo>
                <a:lnTo>
                  <a:pt x="1000632" y="1215249"/>
                </a:lnTo>
                <a:lnTo>
                  <a:pt x="1000632" y="1208903"/>
                </a:lnTo>
                <a:lnTo>
                  <a:pt x="1000314" y="1203191"/>
                </a:lnTo>
                <a:lnTo>
                  <a:pt x="999679" y="1197479"/>
                </a:lnTo>
                <a:lnTo>
                  <a:pt x="998727" y="1191767"/>
                </a:lnTo>
                <a:lnTo>
                  <a:pt x="997456" y="1186055"/>
                </a:lnTo>
                <a:lnTo>
                  <a:pt x="996186" y="1180661"/>
                </a:lnTo>
                <a:lnTo>
                  <a:pt x="994598" y="1175266"/>
                </a:lnTo>
                <a:lnTo>
                  <a:pt x="992375" y="1169872"/>
                </a:lnTo>
                <a:lnTo>
                  <a:pt x="990152" y="1164794"/>
                </a:lnTo>
                <a:lnTo>
                  <a:pt x="987929" y="1159400"/>
                </a:lnTo>
                <a:lnTo>
                  <a:pt x="985389" y="1154640"/>
                </a:lnTo>
                <a:lnTo>
                  <a:pt x="982849" y="1149563"/>
                </a:lnTo>
                <a:lnTo>
                  <a:pt x="979355" y="1144803"/>
                </a:lnTo>
                <a:lnTo>
                  <a:pt x="976497" y="1139725"/>
                </a:lnTo>
                <a:lnTo>
                  <a:pt x="973004" y="1135283"/>
                </a:lnTo>
                <a:lnTo>
                  <a:pt x="969829" y="1130840"/>
                </a:lnTo>
                <a:lnTo>
                  <a:pt x="987612" y="1126398"/>
                </a:lnTo>
                <a:lnTo>
                  <a:pt x="1005713" y="1121320"/>
                </a:lnTo>
                <a:lnTo>
                  <a:pt x="1023496" y="1115609"/>
                </a:lnTo>
                <a:lnTo>
                  <a:pt x="1041280" y="1109262"/>
                </a:lnTo>
                <a:lnTo>
                  <a:pt x="1058428" y="1101963"/>
                </a:lnTo>
                <a:lnTo>
                  <a:pt x="1075576" y="1094665"/>
                </a:lnTo>
                <a:lnTo>
                  <a:pt x="1092089" y="1086097"/>
                </a:lnTo>
                <a:lnTo>
                  <a:pt x="1108602" y="1076895"/>
                </a:lnTo>
                <a:lnTo>
                  <a:pt x="1124480" y="1067375"/>
                </a:lnTo>
                <a:lnTo>
                  <a:pt x="1140041" y="1056903"/>
                </a:lnTo>
                <a:lnTo>
                  <a:pt x="1155601" y="1046114"/>
                </a:lnTo>
                <a:lnTo>
                  <a:pt x="1170209" y="1034690"/>
                </a:lnTo>
                <a:lnTo>
                  <a:pt x="1184817" y="1022632"/>
                </a:lnTo>
                <a:lnTo>
                  <a:pt x="1198472" y="1009938"/>
                </a:lnTo>
                <a:lnTo>
                  <a:pt x="1211809" y="996928"/>
                </a:lnTo>
                <a:lnTo>
                  <a:pt x="1225147" y="983283"/>
                </a:lnTo>
                <a:lnTo>
                  <a:pt x="1228640" y="979792"/>
                </a:lnTo>
                <a:lnTo>
                  <a:pt x="1232451" y="982966"/>
                </a:lnTo>
                <a:lnTo>
                  <a:pt x="1257220" y="1002005"/>
                </a:lnTo>
                <a:lnTo>
                  <a:pt x="1281037" y="1021680"/>
                </a:lnTo>
                <a:lnTo>
                  <a:pt x="1304537" y="1041989"/>
                </a:lnTo>
                <a:lnTo>
                  <a:pt x="1316604" y="1052143"/>
                </a:lnTo>
                <a:lnTo>
                  <a:pt x="1327719" y="1062615"/>
                </a:lnTo>
                <a:lnTo>
                  <a:pt x="1338833" y="1073404"/>
                </a:lnTo>
                <a:lnTo>
                  <a:pt x="1349948" y="1084193"/>
                </a:lnTo>
                <a:lnTo>
                  <a:pt x="1361062" y="1094982"/>
                </a:lnTo>
                <a:lnTo>
                  <a:pt x="1371860" y="1105771"/>
                </a:lnTo>
                <a:lnTo>
                  <a:pt x="1382339" y="1116561"/>
                </a:lnTo>
                <a:lnTo>
                  <a:pt x="1392818" y="1127984"/>
                </a:lnTo>
                <a:lnTo>
                  <a:pt x="1403298" y="1139408"/>
                </a:lnTo>
                <a:lnTo>
                  <a:pt x="1413460" y="1150832"/>
                </a:lnTo>
                <a:lnTo>
                  <a:pt x="1423304" y="1162573"/>
                </a:lnTo>
                <a:lnTo>
                  <a:pt x="1433149" y="1174314"/>
                </a:lnTo>
                <a:lnTo>
                  <a:pt x="1442675" y="1186373"/>
                </a:lnTo>
                <a:lnTo>
                  <a:pt x="1452202" y="1198748"/>
                </a:lnTo>
                <a:lnTo>
                  <a:pt x="1461411" y="1210807"/>
                </a:lnTo>
                <a:lnTo>
                  <a:pt x="1470621" y="1223183"/>
                </a:lnTo>
                <a:lnTo>
                  <a:pt x="1479830" y="1235876"/>
                </a:lnTo>
                <a:lnTo>
                  <a:pt x="1488404" y="1248569"/>
                </a:lnTo>
                <a:lnTo>
                  <a:pt x="1496978" y="1261262"/>
                </a:lnTo>
                <a:lnTo>
                  <a:pt x="1505552" y="1274272"/>
                </a:lnTo>
                <a:lnTo>
                  <a:pt x="1513809" y="1287600"/>
                </a:lnTo>
                <a:lnTo>
                  <a:pt x="1521748" y="1300611"/>
                </a:lnTo>
                <a:lnTo>
                  <a:pt x="1529687" y="1314573"/>
                </a:lnTo>
                <a:lnTo>
                  <a:pt x="1537308" y="1328218"/>
                </a:lnTo>
                <a:lnTo>
                  <a:pt x="1544930" y="1341863"/>
                </a:lnTo>
                <a:lnTo>
                  <a:pt x="1552234" y="1355826"/>
                </a:lnTo>
                <a:lnTo>
                  <a:pt x="1559537" y="1369788"/>
                </a:lnTo>
                <a:lnTo>
                  <a:pt x="1566206" y="1384385"/>
                </a:lnTo>
                <a:lnTo>
                  <a:pt x="1573193" y="1398982"/>
                </a:lnTo>
                <a:lnTo>
                  <a:pt x="1579544" y="1413579"/>
                </a:lnTo>
                <a:lnTo>
                  <a:pt x="1586213" y="1428176"/>
                </a:lnTo>
                <a:lnTo>
                  <a:pt x="1592246" y="1443725"/>
                </a:lnTo>
                <a:lnTo>
                  <a:pt x="1598280" y="1458640"/>
                </a:lnTo>
                <a:lnTo>
                  <a:pt x="1603996" y="1473871"/>
                </a:lnTo>
                <a:lnTo>
                  <a:pt x="1609712" y="1489738"/>
                </a:lnTo>
                <a:lnTo>
                  <a:pt x="1614793" y="1505287"/>
                </a:lnTo>
                <a:lnTo>
                  <a:pt x="1620191" y="1521153"/>
                </a:lnTo>
                <a:lnTo>
                  <a:pt x="1624955" y="1537337"/>
                </a:lnTo>
                <a:lnTo>
                  <a:pt x="1630036" y="1553521"/>
                </a:lnTo>
                <a:lnTo>
                  <a:pt x="1634482" y="1570339"/>
                </a:lnTo>
                <a:lnTo>
                  <a:pt x="1638610" y="1586840"/>
                </a:lnTo>
                <a:lnTo>
                  <a:pt x="1643056" y="1603976"/>
                </a:lnTo>
                <a:lnTo>
                  <a:pt x="1646867" y="1620794"/>
                </a:lnTo>
                <a:lnTo>
                  <a:pt x="1650677" y="1637930"/>
                </a:lnTo>
                <a:lnTo>
                  <a:pt x="1654170" y="1655383"/>
                </a:lnTo>
                <a:lnTo>
                  <a:pt x="1657664" y="1673153"/>
                </a:lnTo>
                <a:lnTo>
                  <a:pt x="1660522" y="1690923"/>
                </a:lnTo>
                <a:lnTo>
                  <a:pt x="1663697" y="1709011"/>
                </a:lnTo>
                <a:lnTo>
                  <a:pt x="1666238" y="1727099"/>
                </a:lnTo>
                <a:lnTo>
                  <a:pt x="1668461" y="1745821"/>
                </a:lnTo>
                <a:lnTo>
                  <a:pt x="1670684" y="1764226"/>
                </a:lnTo>
                <a:lnTo>
                  <a:pt x="1672589" y="1783266"/>
                </a:lnTo>
                <a:lnTo>
                  <a:pt x="1674177" y="1802305"/>
                </a:lnTo>
                <a:lnTo>
                  <a:pt x="1676082" y="1821345"/>
                </a:lnTo>
                <a:lnTo>
                  <a:pt x="1677352" y="1841019"/>
                </a:lnTo>
                <a:lnTo>
                  <a:pt x="1678305" y="1860694"/>
                </a:lnTo>
                <a:lnTo>
                  <a:pt x="1679258" y="1880368"/>
                </a:lnTo>
                <a:lnTo>
                  <a:pt x="1679575" y="1900677"/>
                </a:lnTo>
                <a:lnTo>
                  <a:pt x="1679575" y="1903850"/>
                </a:lnTo>
                <a:lnTo>
                  <a:pt x="1677035" y="1905437"/>
                </a:lnTo>
                <a:lnTo>
                  <a:pt x="1653853" y="1918765"/>
                </a:lnTo>
                <a:lnTo>
                  <a:pt x="1630353" y="1931775"/>
                </a:lnTo>
                <a:lnTo>
                  <a:pt x="1606854" y="1944151"/>
                </a:lnTo>
                <a:lnTo>
                  <a:pt x="1583037" y="1956209"/>
                </a:lnTo>
                <a:lnTo>
                  <a:pt x="1558902" y="1967950"/>
                </a:lnTo>
                <a:lnTo>
                  <a:pt x="1534768" y="1979374"/>
                </a:lnTo>
                <a:lnTo>
                  <a:pt x="1510316" y="1990163"/>
                </a:lnTo>
                <a:lnTo>
                  <a:pt x="1485864" y="2000635"/>
                </a:lnTo>
                <a:lnTo>
                  <a:pt x="1461411" y="2010790"/>
                </a:lnTo>
                <a:lnTo>
                  <a:pt x="1436642" y="2020627"/>
                </a:lnTo>
                <a:lnTo>
                  <a:pt x="1411872" y="2029512"/>
                </a:lnTo>
                <a:lnTo>
                  <a:pt x="1386785" y="2038397"/>
                </a:lnTo>
                <a:lnTo>
                  <a:pt x="1361380" y="2046965"/>
                </a:lnTo>
                <a:lnTo>
                  <a:pt x="1335975" y="2054581"/>
                </a:lnTo>
                <a:lnTo>
                  <a:pt x="1310570" y="2062514"/>
                </a:lnTo>
                <a:lnTo>
                  <a:pt x="1285166" y="2069495"/>
                </a:lnTo>
                <a:lnTo>
                  <a:pt x="1259443" y="2076159"/>
                </a:lnTo>
                <a:lnTo>
                  <a:pt x="1233403" y="2082506"/>
                </a:lnTo>
                <a:lnTo>
                  <a:pt x="1207681" y="2088535"/>
                </a:lnTo>
                <a:lnTo>
                  <a:pt x="1181959" y="2093929"/>
                </a:lnTo>
                <a:lnTo>
                  <a:pt x="1155919" y="2099007"/>
                </a:lnTo>
                <a:lnTo>
                  <a:pt x="1129561" y="2103767"/>
                </a:lnTo>
                <a:lnTo>
                  <a:pt x="1103204" y="2107892"/>
                </a:lnTo>
                <a:lnTo>
                  <a:pt x="1077164" y="2111382"/>
                </a:lnTo>
                <a:lnTo>
                  <a:pt x="1050806" y="2114873"/>
                </a:lnTo>
                <a:lnTo>
                  <a:pt x="1024131" y="2117729"/>
                </a:lnTo>
                <a:lnTo>
                  <a:pt x="997774" y="2119950"/>
                </a:lnTo>
                <a:lnTo>
                  <a:pt x="971099" y="2121854"/>
                </a:lnTo>
                <a:lnTo>
                  <a:pt x="944424" y="2123441"/>
                </a:lnTo>
                <a:lnTo>
                  <a:pt x="917749" y="2125028"/>
                </a:lnTo>
                <a:lnTo>
                  <a:pt x="891074" y="2125662"/>
                </a:lnTo>
                <a:lnTo>
                  <a:pt x="864399" y="2125662"/>
                </a:lnTo>
                <a:lnTo>
                  <a:pt x="835818" y="2125662"/>
                </a:lnTo>
                <a:lnTo>
                  <a:pt x="807238" y="2124710"/>
                </a:lnTo>
                <a:lnTo>
                  <a:pt x="778657" y="2123124"/>
                </a:lnTo>
                <a:lnTo>
                  <a:pt x="750395" y="2121537"/>
                </a:lnTo>
                <a:lnTo>
                  <a:pt x="722132" y="2119316"/>
                </a:lnTo>
                <a:lnTo>
                  <a:pt x="693869" y="2116777"/>
                </a:lnTo>
                <a:lnTo>
                  <a:pt x="665606" y="2113604"/>
                </a:lnTo>
                <a:lnTo>
                  <a:pt x="637661" y="2109478"/>
                </a:lnTo>
                <a:lnTo>
                  <a:pt x="609398" y="2105353"/>
                </a:lnTo>
                <a:lnTo>
                  <a:pt x="581453" y="2100593"/>
                </a:lnTo>
                <a:lnTo>
                  <a:pt x="553825" y="2095199"/>
                </a:lnTo>
                <a:lnTo>
                  <a:pt x="525880" y="2089487"/>
                </a:lnTo>
                <a:lnTo>
                  <a:pt x="498252" y="2083458"/>
                </a:lnTo>
                <a:lnTo>
                  <a:pt x="470624" y="2076476"/>
                </a:lnTo>
                <a:lnTo>
                  <a:pt x="443314" y="2069495"/>
                </a:lnTo>
                <a:lnTo>
                  <a:pt x="416321" y="2061879"/>
                </a:lnTo>
                <a:lnTo>
                  <a:pt x="389011" y="2053629"/>
                </a:lnTo>
                <a:lnTo>
                  <a:pt x="362019" y="2045378"/>
                </a:lnTo>
                <a:lnTo>
                  <a:pt x="335343" y="2036176"/>
                </a:lnTo>
                <a:lnTo>
                  <a:pt x="308668" y="2026656"/>
                </a:lnTo>
                <a:lnTo>
                  <a:pt x="282311" y="2016502"/>
                </a:lnTo>
                <a:lnTo>
                  <a:pt x="255953" y="2006030"/>
                </a:lnTo>
                <a:lnTo>
                  <a:pt x="229913" y="1994923"/>
                </a:lnTo>
                <a:lnTo>
                  <a:pt x="203556" y="1983499"/>
                </a:lnTo>
                <a:lnTo>
                  <a:pt x="177833" y="1971441"/>
                </a:lnTo>
                <a:lnTo>
                  <a:pt x="152429" y="1959065"/>
                </a:lnTo>
                <a:lnTo>
                  <a:pt x="127024" y="1946372"/>
                </a:lnTo>
                <a:lnTo>
                  <a:pt x="101619" y="1933044"/>
                </a:lnTo>
                <a:lnTo>
                  <a:pt x="76532" y="1919399"/>
                </a:lnTo>
                <a:lnTo>
                  <a:pt x="51762" y="1905437"/>
                </a:lnTo>
                <a:lnTo>
                  <a:pt x="27310" y="1890523"/>
                </a:lnTo>
                <a:lnTo>
                  <a:pt x="2858" y="1875291"/>
                </a:lnTo>
                <a:lnTo>
                  <a:pt x="0" y="1888301"/>
                </a:lnTo>
                <a:lnTo>
                  <a:pt x="0" y="1870531"/>
                </a:lnTo>
                <a:lnTo>
                  <a:pt x="952" y="1850222"/>
                </a:lnTo>
                <a:lnTo>
                  <a:pt x="2223" y="1829913"/>
                </a:lnTo>
                <a:lnTo>
                  <a:pt x="3493" y="1809604"/>
                </a:lnTo>
                <a:lnTo>
                  <a:pt x="5398" y="1790247"/>
                </a:lnTo>
                <a:lnTo>
                  <a:pt x="6986" y="1770573"/>
                </a:lnTo>
                <a:lnTo>
                  <a:pt x="9209" y="1750898"/>
                </a:lnTo>
                <a:lnTo>
                  <a:pt x="11749" y="1732176"/>
                </a:lnTo>
                <a:lnTo>
                  <a:pt x="14290" y="1713136"/>
                </a:lnTo>
                <a:lnTo>
                  <a:pt x="17148" y="1694414"/>
                </a:lnTo>
                <a:lnTo>
                  <a:pt x="20006" y="1676009"/>
                </a:lnTo>
                <a:lnTo>
                  <a:pt x="23499" y="1657604"/>
                </a:lnTo>
                <a:lnTo>
                  <a:pt x="26992" y="1639834"/>
                </a:lnTo>
                <a:lnTo>
                  <a:pt x="30486" y="1621746"/>
                </a:lnTo>
                <a:lnTo>
                  <a:pt x="34931" y="1604293"/>
                </a:lnTo>
                <a:lnTo>
                  <a:pt x="38742" y="1586840"/>
                </a:lnTo>
                <a:lnTo>
                  <a:pt x="43188" y="1569704"/>
                </a:lnTo>
                <a:lnTo>
                  <a:pt x="47951" y="1552569"/>
                </a:lnTo>
                <a:lnTo>
                  <a:pt x="52715" y="1536068"/>
                </a:lnTo>
                <a:lnTo>
                  <a:pt x="57796" y="1519249"/>
                </a:lnTo>
                <a:lnTo>
                  <a:pt x="62877" y="1503066"/>
                </a:lnTo>
                <a:lnTo>
                  <a:pt x="68593" y="1486564"/>
                </a:lnTo>
                <a:lnTo>
                  <a:pt x="73991" y="1470698"/>
                </a:lnTo>
                <a:lnTo>
                  <a:pt x="80025" y="1455149"/>
                </a:lnTo>
                <a:lnTo>
                  <a:pt x="86059" y="1439283"/>
                </a:lnTo>
                <a:lnTo>
                  <a:pt x="92410" y="1424051"/>
                </a:lnTo>
                <a:lnTo>
                  <a:pt x="98761" y="1409137"/>
                </a:lnTo>
                <a:lnTo>
                  <a:pt x="105430" y="1393905"/>
                </a:lnTo>
                <a:lnTo>
                  <a:pt x="112098" y="1378990"/>
                </a:lnTo>
                <a:lnTo>
                  <a:pt x="119402" y="1364393"/>
                </a:lnTo>
                <a:lnTo>
                  <a:pt x="126706" y="1350114"/>
                </a:lnTo>
                <a:lnTo>
                  <a:pt x="134010" y="1335834"/>
                </a:lnTo>
                <a:lnTo>
                  <a:pt x="141632" y="1321871"/>
                </a:lnTo>
                <a:lnTo>
                  <a:pt x="149571" y="1307909"/>
                </a:lnTo>
                <a:lnTo>
                  <a:pt x="157510" y="1294264"/>
                </a:lnTo>
                <a:lnTo>
                  <a:pt x="165766" y="1280936"/>
                </a:lnTo>
                <a:lnTo>
                  <a:pt x="174023" y="1267291"/>
                </a:lnTo>
                <a:lnTo>
                  <a:pt x="182597" y="1253963"/>
                </a:lnTo>
                <a:lnTo>
                  <a:pt x="191171" y="1241270"/>
                </a:lnTo>
                <a:lnTo>
                  <a:pt x="200380" y="1228260"/>
                </a:lnTo>
                <a:lnTo>
                  <a:pt x="209589" y="1215884"/>
                </a:lnTo>
                <a:lnTo>
                  <a:pt x="218799" y="1203191"/>
                </a:lnTo>
                <a:lnTo>
                  <a:pt x="228008" y="1191133"/>
                </a:lnTo>
                <a:lnTo>
                  <a:pt x="237852" y="1178757"/>
                </a:lnTo>
                <a:lnTo>
                  <a:pt x="247697" y="1167016"/>
                </a:lnTo>
                <a:lnTo>
                  <a:pt x="257541" y="1155275"/>
                </a:lnTo>
                <a:lnTo>
                  <a:pt x="267703" y="1143533"/>
                </a:lnTo>
                <a:lnTo>
                  <a:pt x="278182" y="1132110"/>
                </a:lnTo>
                <a:lnTo>
                  <a:pt x="288662" y="1120686"/>
                </a:lnTo>
                <a:lnTo>
                  <a:pt x="298824" y="1109579"/>
                </a:lnTo>
                <a:lnTo>
                  <a:pt x="309938" y="1098473"/>
                </a:lnTo>
                <a:lnTo>
                  <a:pt x="320735" y="1087684"/>
                </a:lnTo>
                <a:lnTo>
                  <a:pt x="331850" y="1076895"/>
                </a:lnTo>
                <a:lnTo>
                  <a:pt x="343282" y="1066423"/>
                </a:lnTo>
                <a:lnTo>
                  <a:pt x="354715" y="1055951"/>
                </a:lnTo>
                <a:lnTo>
                  <a:pt x="366147" y="1045797"/>
                </a:lnTo>
                <a:lnTo>
                  <a:pt x="377897" y="1035642"/>
                </a:lnTo>
                <a:lnTo>
                  <a:pt x="389964" y="1025805"/>
                </a:lnTo>
                <a:lnTo>
                  <a:pt x="401714" y="1015968"/>
                </a:lnTo>
                <a:lnTo>
                  <a:pt x="414099" y="1006448"/>
                </a:lnTo>
                <a:lnTo>
                  <a:pt x="426801" y="996928"/>
                </a:lnTo>
                <a:lnTo>
                  <a:pt x="439186" y="987408"/>
                </a:lnTo>
                <a:lnTo>
                  <a:pt x="451571" y="977888"/>
                </a:lnTo>
                <a:lnTo>
                  <a:pt x="477293" y="960118"/>
                </a:lnTo>
                <a:lnTo>
                  <a:pt x="481421" y="957262"/>
                </a:lnTo>
                <a:close/>
                <a:moveTo>
                  <a:pt x="839471" y="0"/>
                </a:moveTo>
                <a:lnTo>
                  <a:pt x="852171" y="0"/>
                </a:lnTo>
                <a:lnTo>
                  <a:pt x="865506" y="0"/>
                </a:lnTo>
                <a:lnTo>
                  <a:pt x="878206" y="636"/>
                </a:lnTo>
                <a:lnTo>
                  <a:pt x="890906" y="1271"/>
                </a:lnTo>
                <a:lnTo>
                  <a:pt x="903288" y="2542"/>
                </a:lnTo>
                <a:lnTo>
                  <a:pt x="915988" y="3813"/>
                </a:lnTo>
                <a:lnTo>
                  <a:pt x="928371" y="5719"/>
                </a:lnTo>
                <a:lnTo>
                  <a:pt x="940436" y="7943"/>
                </a:lnTo>
                <a:lnTo>
                  <a:pt x="952818" y="10167"/>
                </a:lnTo>
                <a:lnTo>
                  <a:pt x="964883" y="12708"/>
                </a:lnTo>
                <a:lnTo>
                  <a:pt x="976631" y="15568"/>
                </a:lnTo>
                <a:lnTo>
                  <a:pt x="988696" y="19062"/>
                </a:lnTo>
                <a:lnTo>
                  <a:pt x="1000443" y="22239"/>
                </a:lnTo>
                <a:lnTo>
                  <a:pt x="1011873" y="26052"/>
                </a:lnTo>
                <a:lnTo>
                  <a:pt x="1023621" y="30182"/>
                </a:lnTo>
                <a:lnTo>
                  <a:pt x="1034733" y="34630"/>
                </a:lnTo>
                <a:lnTo>
                  <a:pt x="1046163" y="39395"/>
                </a:lnTo>
                <a:lnTo>
                  <a:pt x="1057276" y="44161"/>
                </a:lnTo>
                <a:lnTo>
                  <a:pt x="1068388" y="48926"/>
                </a:lnTo>
                <a:lnTo>
                  <a:pt x="1079183" y="54645"/>
                </a:lnTo>
                <a:lnTo>
                  <a:pt x="1089661" y="60046"/>
                </a:lnTo>
                <a:lnTo>
                  <a:pt x="1100456" y="66082"/>
                </a:lnTo>
                <a:lnTo>
                  <a:pt x="1110616" y="72119"/>
                </a:lnTo>
                <a:lnTo>
                  <a:pt x="1120776" y="78790"/>
                </a:lnTo>
                <a:lnTo>
                  <a:pt x="1130936" y="85462"/>
                </a:lnTo>
                <a:lnTo>
                  <a:pt x="1140461" y="92134"/>
                </a:lnTo>
                <a:lnTo>
                  <a:pt x="1150303" y="99123"/>
                </a:lnTo>
                <a:lnTo>
                  <a:pt x="1159828" y="106430"/>
                </a:lnTo>
                <a:lnTo>
                  <a:pt x="1169353" y="114055"/>
                </a:lnTo>
                <a:lnTo>
                  <a:pt x="1178561" y="121680"/>
                </a:lnTo>
                <a:lnTo>
                  <a:pt x="1187133" y="129623"/>
                </a:lnTo>
                <a:lnTo>
                  <a:pt x="1196023" y="137883"/>
                </a:lnTo>
                <a:lnTo>
                  <a:pt x="1204596" y="146143"/>
                </a:lnTo>
                <a:lnTo>
                  <a:pt x="1213168" y="155039"/>
                </a:lnTo>
                <a:lnTo>
                  <a:pt x="1221106" y="163299"/>
                </a:lnTo>
                <a:lnTo>
                  <a:pt x="1229043" y="172513"/>
                </a:lnTo>
                <a:lnTo>
                  <a:pt x="1236981" y="181726"/>
                </a:lnTo>
                <a:lnTo>
                  <a:pt x="1244283" y="190939"/>
                </a:lnTo>
                <a:lnTo>
                  <a:pt x="1251586" y="200153"/>
                </a:lnTo>
                <a:lnTo>
                  <a:pt x="1258888" y="210001"/>
                </a:lnTo>
                <a:lnTo>
                  <a:pt x="1265556" y="219850"/>
                </a:lnTo>
                <a:lnTo>
                  <a:pt x="1272223" y="230017"/>
                </a:lnTo>
                <a:lnTo>
                  <a:pt x="1278256" y="240183"/>
                </a:lnTo>
                <a:lnTo>
                  <a:pt x="1284606" y="250667"/>
                </a:lnTo>
                <a:lnTo>
                  <a:pt x="1290321" y="261151"/>
                </a:lnTo>
                <a:lnTo>
                  <a:pt x="1296353" y="271953"/>
                </a:lnTo>
                <a:lnTo>
                  <a:pt x="1301433" y="282755"/>
                </a:lnTo>
                <a:lnTo>
                  <a:pt x="1306831" y="293239"/>
                </a:lnTo>
                <a:lnTo>
                  <a:pt x="1311593" y="304359"/>
                </a:lnTo>
                <a:lnTo>
                  <a:pt x="1316356" y="315796"/>
                </a:lnTo>
                <a:lnTo>
                  <a:pt x="1320483" y="327234"/>
                </a:lnTo>
                <a:lnTo>
                  <a:pt x="1324293" y="338671"/>
                </a:lnTo>
                <a:lnTo>
                  <a:pt x="1328421" y="350426"/>
                </a:lnTo>
                <a:lnTo>
                  <a:pt x="1331913" y="362181"/>
                </a:lnTo>
                <a:lnTo>
                  <a:pt x="1335088" y="373936"/>
                </a:lnTo>
                <a:lnTo>
                  <a:pt x="1337946" y="386009"/>
                </a:lnTo>
                <a:lnTo>
                  <a:pt x="1340803" y="398081"/>
                </a:lnTo>
                <a:lnTo>
                  <a:pt x="1343026" y="410472"/>
                </a:lnTo>
                <a:lnTo>
                  <a:pt x="1344931" y="422862"/>
                </a:lnTo>
                <a:lnTo>
                  <a:pt x="1346518" y="435252"/>
                </a:lnTo>
                <a:lnTo>
                  <a:pt x="1348106" y="447643"/>
                </a:lnTo>
                <a:lnTo>
                  <a:pt x="1349058" y="460033"/>
                </a:lnTo>
                <a:lnTo>
                  <a:pt x="1350011" y="472741"/>
                </a:lnTo>
                <a:lnTo>
                  <a:pt x="1350646" y="485449"/>
                </a:lnTo>
                <a:lnTo>
                  <a:pt x="1350963" y="498475"/>
                </a:lnTo>
                <a:lnTo>
                  <a:pt x="1350646" y="513407"/>
                </a:lnTo>
                <a:lnTo>
                  <a:pt x="1349693" y="528975"/>
                </a:lnTo>
                <a:lnTo>
                  <a:pt x="1348423" y="543907"/>
                </a:lnTo>
                <a:lnTo>
                  <a:pt x="1347153" y="558521"/>
                </a:lnTo>
                <a:lnTo>
                  <a:pt x="1345248" y="573453"/>
                </a:lnTo>
                <a:lnTo>
                  <a:pt x="1342708" y="588067"/>
                </a:lnTo>
                <a:lnTo>
                  <a:pt x="1339851" y="602682"/>
                </a:lnTo>
                <a:lnTo>
                  <a:pt x="1336358" y="616660"/>
                </a:lnTo>
                <a:lnTo>
                  <a:pt x="1332866" y="631275"/>
                </a:lnTo>
                <a:lnTo>
                  <a:pt x="1328738" y="645254"/>
                </a:lnTo>
                <a:lnTo>
                  <a:pt x="1324293" y="658915"/>
                </a:lnTo>
                <a:lnTo>
                  <a:pt x="1319531" y="672576"/>
                </a:lnTo>
                <a:lnTo>
                  <a:pt x="1314133" y="685920"/>
                </a:lnTo>
                <a:lnTo>
                  <a:pt x="1308418" y="699263"/>
                </a:lnTo>
                <a:lnTo>
                  <a:pt x="1302386" y="712607"/>
                </a:lnTo>
                <a:lnTo>
                  <a:pt x="1296353" y="725315"/>
                </a:lnTo>
                <a:lnTo>
                  <a:pt x="1289368" y="738023"/>
                </a:lnTo>
                <a:lnTo>
                  <a:pt x="1282383" y="750413"/>
                </a:lnTo>
                <a:lnTo>
                  <a:pt x="1275081" y="762486"/>
                </a:lnTo>
                <a:lnTo>
                  <a:pt x="1267143" y="774559"/>
                </a:lnTo>
                <a:lnTo>
                  <a:pt x="1259206" y="786313"/>
                </a:lnTo>
                <a:lnTo>
                  <a:pt x="1250633" y="797751"/>
                </a:lnTo>
                <a:lnTo>
                  <a:pt x="1242061" y="809188"/>
                </a:lnTo>
                <a:lnTo>
                  <a:pt x="1232853" y="819990"/>
                </a:lnTo>
                <a:lnTo>
                  <a:pt x="1223963" y="830792"/>
                </a:lnTo>
                <a:lnTo>
                  <a:pt x="1214121" y="841276"/>
                </a:lnTo>
                <a:lnTo>
                  <a:pt x="1204278" y="851442"/>
                </a:lnTo>
                <a:lnTo>
                  <a:pt x="1193801" y="860974"/>
                </a:lnTo>
                <a:lnTo>
                  <a:pt x="1183323" y="870822"/>
                </a:lnTo>
                <a:lnTo>
                  <a:pt x="1172528" y="880036"/>
                </a:lnTo>
                <a:lnTo>
                  <a:pt x="1161733" y="889249"/>
                </a:lnTo>
                <a:lnTo>
                  <a:pt x="1150303" y="897827"/>
                </a:lnTo>
                <a:lnTo>
                  <a:pt x="1134746" y="909264"/>
                </a:lnTo>
                <a:lnTo>
                  <a:pt x="1118236" y="920066"/>
                </a:lnTo>
                <a:lnTo>
                  <a:pt x="1101408" y="929915"/>
                </a:lnTo>
                <a:lnTo>
                  <a:pt x="1084581" y="939446"/>
                </a:lnTo>
                <a:lnTo>
                  <a:pt x="1066801" y="948342"/>
                </a:lnTo>
                <a:lnTo>
                  <a:pt x="1048703" y="956602"/>
                </a:lnTo>
                <a:lnTo>
                  <a:pt x="1040131" y="960414"/>
                </a:lnTo>
                <a:lnTo>
                  <a:pt x="1030606" y="963909"/>
                </a:lnTo>
                <a:lnTo>
                  <a:pt x="1021398" y="967722"/>
                </a:lnTo>
                <a:lnTo>
                  <a:pt x="1011873" y="970899"/>
                </a:lnTo>
                <a:lnTo>
                  <a:pt x="1002348" y="973758"/>
                </a:lnTo>
                <a:lnTo>
                  <a:pt x="993141" y="976617"/>
                </a:lnTo>
                <a:lnTo>
                  <a:pt x="983616" y="979794"/>
                </a:lnTo>
                <a:lnTo>
                  <a:pt x="973773" y="982018"/>
                </a:lnTo>
                <a:lnTo>
                  <a:pt x="963931" y="984560"/>
                </a:lnTo>
                <a:lnTo>
                  <a:pt x="954088" y="986466"/>
                </a:lnTo>
                <a:lnTo>
                  <a:pt x="944246" y="988372"/>
                </a:lnTo>
                <a:lnTo>
                  <a:pt x="934403" y="990596"/>
                </a:lnTo>
                <a:lnTo>
                  <a:pt x="924561" y="991867"/>
                </a:lnTo>
                <a:lnTo>
                  <a:pt x="914401" y="993455"/>
                </a:lnTo>
                <a:lnTo>
                  <a:pt x="904241" y="994409"/>
                </a:lnTo>
                <a:lnTo>
                  <a:pt x="893763" y="995362"/>
                </a:lnTo>
                <a:lnTo>
                  <a:pt x="883603" y="995997"/>
                </a:lnTo>
                <a:lnTo>
                  <a:pt x="873126" y="996632"/>
                </a:lnTo>
                <a:lnTo>
                  <a:pt x="862648" y="996950"/>
                </a:lnTo>
                <a:lnTo>
                  <a:pt x="852171" y="996950"/>
                </a:lnTo>
                <a:lnTo>
                  <a:pt x="840423" y="996950"/>
                </a:lnTo>
                <a:lnTo>
                  <a:pt x="828358" y="996315"/>
                </a:lnTo>
                <a:lnTo>
                  <a:pt x="816293" y="995679"/>
                </a:lnTo>
                <a:lnTo>
                  <a:pt x="804546" y="994726"/>
                </a:lnTo>
                <a:lnTo>
                  <a:pt x="792798" y="993455"/>
                </a:lnTo>
                <a:lnTo>
                  <a:pt x="781368" y="992185"/>
                </a:lnTo>
                <a:lnTo>
                  <a:pt x="769621" y="990278"/>
                </a:lnTo>
                <a:lnTo>
                  <a:pt x="758191" y="988054"/>
                </a:lnTo>
                <a:lnTo>
                  <a:pt x="746761" y="985831"/>
                </a:lnTo>
                <a:lnTo>
                  <a:pt x="735331" y="983289"/>
                </a:lnTo>
                <a:lnTo>
                  <a:pt x="724218" y="980430"/>
                </a:lnTo>
                <a:lnTo>
                  <a:pt x="713106" y="977253"/>
                </a:lnTo>
                <a:lnTo>
                  <a:pt x="702311" y="973758"/>
                </a:lnTo>
                <a:lnTo>
                  <a:pt x="691198" y="970263"/>
                </a:lnTo>
                <a:lnTo>
                  <a:pt x="680721" y="966768"/>
                </a:lnTo>
                <a:lnTo>
                  <a:pt x="670243" y="962321"/>
                </a:lnTo>
                <a:lnTo>
                  <a:pt x="659448" y="958190"/>
                </a:lnTo>
                <a:lnTo>
                  <a:pt x="648971" y="953425"/>
                </a:lnTo>
                <a:lnTo>
                  <a:pt x="638811" y="948659"/>
                </a:lnTo>
                <a:lnTo>
                  <a:pt x="628651" y="943894"/>
                </a:lnTo>
                <a:lnTo>
                  <a:pt x="618491" y="938493"/>
                </a:lnTo>
                <a:lnTo>
                  <a:pt x="608648" y="933410"/>
                </a:lnTo>
                <a:lnTo>
                  <a:pt x="599123" y="927373"/>
                </a:lnTo>
                <a:lnTo>
                  <a:pt x="589281" y="921655"/>
                </a:lnTo>
                <a:lnTo>
                  <a:pt x="579756" y="915618"/>
                </a:lnTo>
                <a:lnTo>
                  <a:pt x="570548" y="909264"/>
                </a:lnTo>
                <a:lnTo>
                  <a:pt x="561023" y="902910"/>
                </a:lnTo>
                <a:lnTo>
                  <a:pt x="552133" y="895921"/>
                </a:lnTo>
                <a:lnTo>
                  <a:pt x="543561" y="889249"/>
                </a:lnTo>
                <a:lnTo>
                  <a:pt x="534671" y="881942"/>
                </a:lnTo>
                <a:lnTo>
                  <a:pt x="526098" y="874952"/>
                </a:lnTo>
                <a:lnTo>
                  <a:pt x="517526" y="867328"/>
                </a:lnTo>
                <a:lnTo>
                  <a:pt x="508318" y="858750"/>
                </a:lnTo>
                <a:lnTo>
                  <a:pt x="499428" y="849854"/>
                </a:lnTo>
                <a:lnTo>
                  <a:pt x="490538" y="840958"/>
                </a:lnTo>
                <a:lnTo>
                  <a:pt x="481648" y="831427"/>
                </a:lnTo>
                <a:lnTo>
                  <a:pt x="473711" y="821896"/>
                </a:lnTo>
                <a:lnTo>
                  <a:pt x="465456" y="812047"/>
                </a:lnTo>
                <a:lnTo>
                  <a:pt x="457518" y="801881"/>
                </a:lnTo>
                <a:lnTo>
                  <a:pt x="449898" y="791714"/>
                </a:lnTo>
                <a:lnTo>
                  <a:pt x="442596" y="781548"/>
                </a:lnTo>
                <a:lnTo>
                  <a:pt x="435293" y="770746"/>
                </a:lnTo>
                <a:lnTo>
                  <a:pt x="428626" y="759944"/>
                </a:lnTo>
                <a:lnTo>
                  <a:pt x="421958" y="749142"/>
                </a:lnTo>
                <a:lnTo>
                  <a:pt x="415608" y="738023"/>
                </a:lnTo>
                <a:lnTo>
                  <a:pt x="409576" y="726585"/>
                </a:lnTo>
                <a:lnTo>
                  <a:pt x="403861" y="715148"/>
                </a:lnTo>
                <a:lnTo>
                  <a:pt x="398463" y="703393"/>
                </a:lnTo>
                <a:lnTo>
                  <a:pt x="393383" y="691638"/>
                </a:lnTo>
                <a:lnTo>
                  <a:pt x="388303" y="679566"/>
                </a:lnTo>
                <a:lnTo>
                  <a:pt x="383858" y="667493"/>
                </a:lnTo>
                <a:lnTo>
                  <a:pt x="379731" y="655420"/>
                </a:lnTo>
                <a:lnTo>
                  <a:pt x="375603" y="643030"/>
                </a:lnTo>
                <a:lnTo>
                  <a:pt x="372111" y="630322"/>
                </a:lnTo>
                <a:lnTo>
                  <a:pt x="368936" y="617614"/>
                </a:lnTo>
                <a:lnTo>
                  <a:pt x="365443" y="604588"/>
                </a:lnTo>
                <a:lnTo>
                  <a:pt x="362903" y="591880"/>
                </a:lnTo>
                <a:lnTo>
                  <a:pt x="360681" y="578854"/>
                </a:lnTo>
                <a:lnTo>
                  <a:pt x="358776" y="565828"/>
                </a:lnTo>
                <a:lnTo>
                  <a:pt x="357188" y="552485"/>
                </a:lnTo>
                <a:lnTo>
                  <a:pt x="355601" y="539141"/>
                </a:lnTo>
                <a:lnTo>
                  <a:pt x="354648" y="525480"/>
                </a:lnTo>
                <a:lnTo>
                  <a:pt x="354331" y="511819"/>
                </a:lnTo>
                <a:lnTo>
                  <a:pt x="354013" y="498475"/>
                </a:lnTo>
                <a:lnTo>
                  <a:pt x="354331" y="485449"/>
                </a:lnTo>
                <a:lnTo>
                  <a:pt x="354648" y="472741"/>
                </a:lnTo>
                <a:lnTo>
                  <a:pt x="355601" y="460033"/>
                </a:lnTo>
                <a:lnTo>
                  <a:pt x="356871" y="447643"/>
                </a:lnTo>
                <a:lnTo>
                  <a:pt x="358141" y="434935"/>
                </a:lnTo>
                <a:lnTo>
                  <a:pt x="360046" y="422544"/>
                </a:lnTo>
                <a:lnTo>
                  <a:pt x="361951" y="410472"/>
                </a:lnTo>
                <a:lnTo>
                  <a:pt x="364173" y="397763"/>
                </a:lnTo>
                <a:lnTo>
                  <a:pt x="366713" y="385691"/>
                </a:lnTo>
                <a:lnTo>
                  <a:pt x="369888" y="373936"/>
                </a:lnTo>
                <a:lnTo>
                  <a:pt x="373063" y="361863"/>
                </a:lnTo>
                <a:lnTo>
                  <a:pt x="376556" y="350108"/>
                </a:lnTo>
                <a:lnTo>
                  <a:pt x="380683" y="338671"/>
                </a:lnTo>
                <a:lnTo>
                  <a:pt x="384493" y="326916"/>
                </a:lnTo>
                <a:lnTo>
                  <a:pt x="388621" y="315796"/>
                </a:lnTo>
                <a:lnTo>
                  <a:pt x="393383" y="304359"/>
                </a:lnTo>
                <a:lnTo>
                  <a:pt x="398146" y="293239"/>
                </a:lnTo>
                <a:lnTo>
                  <a:pt x="403543" y="282755"/>
                </a:lnTo>
                <a:lnTo>
                  <a:pt x="408623" y="271636"/>
                </a:lnTo>
                <a:lnTo>
                  <a:pt x="414656" y="261151"/>
                </a:lnTo>
                <a:lnTo>
                  <a:pt x="420371" y="250667"/>
                </a:lnTo>
                <a:lnTo>
                  <a:pt x="426721" y="240183"/>
                </a:lnTo>
                <a:lnTo>
                  <a:pt x="432753" y="230017"/>
                </a:lnTo>
                <a:lnTo>
                  <a:pt x="439421" y="219850"/>
                </a:lnTo>
                <a:lnTo>
                  <a:pt x="446088" y="210001"/>
                </a:lnTo>
                <a:lnTo>
                  <a:pt x="453391" y="200153"/>
                </a:lnTo>
                <a:lnTo>
                  <a:pt x="460693" y="190939"/>
                </a:lnTo>
                <a:lnTo>
                  <a:pt x="467996" y="181408"/>
                </a:lnTo>
                <a:lnTo>
                  <a:pt x="475933" y="172195"/>
                </a:lnTo>
                <a:lnTo>
                  <a:pt x="483871" y="163299"/>
                </a:lnTo>
                <a:lnTo>
                  <a:pt x="491808" y="154403"/>
                </a:lnTo>
                <a:lnTo>
                  <a:pt x="500381" y="146143"/>
                </a:lnTo>
                <a:lnTo>
                  <a:pt x="508953" y="137565"/>
                </a:lnTo>
                <a:lnTo>
                  <a:pt x="517526" y="129305"/>
                </a:lnTo>
                <a:lnTo>
                  <a:pt x="526416" y="121680"/>
                </a:lnTo>
                <a:lnTo>
                  <a:pt x="535623" y="113738"/>
                </a:lnTo>
                <a:lnTo>
                  <a:pt x="545148" y="106113"/>
                </a:lnTo>
                <a:lnTo>
                  <a:pt x="554673" y="99123"/>
                </a:lnTo>
                <a:lnTo>
                  <a:pt x="564516" y="92134"/>
                </a:lnTo>
                <a:lnTo>
                  <a:pt x="574041" y="85462"/>
                </a:lnTo>
                <a:lnTo>
                  <a:pt x="584201" y="78473"/>
                </a:lnTo>
                <a:lnTo>
                  <a:pt x="594361" y="72119"/>
                </a:lnTo>
                <a:lnTo>
                  <a:pt x="604838" y="66082"/>
                </a:lnTo>
                <a:lnTo>
                  <a:pt x="615316" y="60046"/>
                </a:lnTo>
                <a:lnTo>
                  <a:pt x="625793" y="54645"/>
                </a:lnTo>
                <a:lnTo>
                  <a:pt x="636906" y="48926"/>
                </a:lnTo>
                <a:lnTo>
                  <a:pt x="647701" y="44161"/>
                </a:lnTo>
                <a:lnTo>
                  <a:pt x="658813" y="39395"/>
                </a:lnTo>
                <a:lnTo>
                  <a:pt x="670243" y="34630"/>
                </a:lnTo>
                <a:lnTo>
                  <a:pt x="681356" y="30182"/>
                </a:lnTo>
                <a:lnTo>
                  <a:pt x="693103" y="26052"/>
                </a:lnTo>
                <a:lnTo>
                  <a:pt x="704533" y="22239"/>
                </a:lnTo>
                <a:lnTo>
                  <a:pt x="716281" y="19062"/>
                </a:lnTo>
                <a:lnTo>
                  <a:pt x="728346" y="15568"/>
                </a:lnTo>
                <a:lnTo>
                  <a:pt x="740093" y="12708"/>
                </a:lnTo>
                <a:lnTo>
                  <a:pt x="752158" y="10167"/>
                </a:lnTo>
                <a:lnTo>
                  <a:pt x="764541" y="7625"/>
                </a:lnTo>
                <a:lnTo>
                  <a:pt x="776606" y="5719"/>
                </a:lnTo>
                <a:lnTo>
                  <a:pt x="788988" y="3813"/>
                </a:lnTo>
                <a:lnTo>
                  <a:pt x="801688" y="2542"/>
                </a:lnTo>
                <a:lnTo>
                  <a:pt x="814071" y="1271"/>
                </a:lnTo>
                <a:lnTo>
                  <a:pt x="826771" y="636"/>
                </a:lnTo>
                <a:lnTo>
                  <a:pt x="839471" y="0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5da4f8"/>
              </a:solidFill>
              <a:latin typeface="Calibri"/>
              <a:ea typeface="幼圆"/>
            </a:endParaRPr>
          </a:p>
        </p:txBody>
      </p:sp>
      <p:sp>
        <p:nvSpPr>
          <p:cNvPr id="369" name="矩形 5"/>
          <p:cNvSpPr/>
          <p:nvPr/>
        </p:nvSpPr>
        <p:spPr>
          <a:xfrm>
            <a:off x="5937120" y="1262160"/>
            <a:ext cx="269352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5f5f5f"/>
                </a:solidFill>
                <a:latin typeface="幼圆"/>
                <a:ea typeface="幼圆"/>
              </a:rPr>
              <a:t>林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KSO_Shape"/>
          <p:cNvSpPr/>
          <p:nvPr/>
        </p:nvSpPr>
        <p:spPr>
          <a:xfrm>
            <a:off x="5165640" y="5222880"/>
            <a:ext cx="580680" cy="342720"/>
          </a:xfrm>
          <a:custGeom>
            <a:avLst/>
            <a:gdLst>
              <a:gd name="textAreaLeft" fmla="*/ 0 w 580680"/>
              <a:gd name="textAreaRight" fmla="*/ 581040 w 5806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5da4f8"/>
              </a:solidFill>
              <a:latin typeface="Calibri"/>
              <a:ea typeface="幼圆"/>
            </a:endParaRPr>
          </a:p>
        </p:txBody>
      </p:sp>
      <p:sp>
        <p:nvSpPr>
          <p:cNvPr id="371" name="矩形 7"/>
          <p:cNvSpPr/>
          <p:nvPr/>
        </p:nvSpPr>
        <p:spPr>
          <a:xfrm>
            <a:off x="5937120" y="5122800"/>
            <a:ext cx="269352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5f5f5f"/>
                </a:solidFill>
                <a:latin typeface="幼圆"/>
                <a:ea typeface="幼圆"/>
              </a:rPr>
              <a:t>不是本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KSO_Shape"/>
          <p:cNvSpPr/>
          <p:nvPr/>
        </p:nvSpPr>
        <p:spPr>
          <a:xfrm>
            <a:off x="5303880" y="3225960"/>
            <a:ext cx="304560" cy="572760"/>
          </a:xfrm>
          <a:custGeom>
            <a:avLst/>
            <a:gdLst>
              <a:gd name="textAreaLeft" fmla="*/ 0 w 304560"/>
              <a:gd name="textAreaRight" fmla="*/ 304920 w 304560"/>
              <a:gd name="textAreaTop" fmla="*/ 0 h 572760"/>
              <a:gd name="textAreaBottom" fmla="*/ 573120 h 57276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5da4f8"/>
              </a:solidFill>
              <a:latin typeface="Calibri"/>
              <a:ea typeface="幼圆"/>
            </a:endParaRPr>
          </a:p>
        </p:txBody>
      </p:sp>
      <p:sp>
        <p:nvSpPr>
          <p:cNvPr id="373" name="矩形 9"/>
          <p:cNvSpPr/>
          <p:nvPr/>
        </p:nvSpPr>
        <p:spPr>
          <a:xfrm>
            <a:off x="5937120" y="3263760"/>
            <a:ext cx="269352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f5f5f"/>
                </a:solidFill>
                <a:latin typeface="幼圆"/>
                <a:ea typeface="幼圆"/>
              </a:rPr>
              <a:t>158894936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KSO_Shape"/>
          <p:cNvSpPr/>
          <p:nvPr/>
        </p:nvSpPr>
        <p:spPr>
          <a:xfrm>
            <a:off x="5254560" y="2254320"/>
            <a:ext cx="402840" cy="402840"/>
          </a:xfrm>
          <a:custGeom>
            <a:avLst/>
            <a:gdLst>
              <a:gd name="textAreaLeft" fmla="*/ 0 w 402840"/>
              <a:gd name="textAreaRight" fmla="*/ 403200 w 402840"/>
              <a:gd name="textAreaTop" fmla="*/ 0 h 402840"/>
              <a:gd name="textAreaBottom" fmla="*/ 403200 h 402840"/>
            </a:gdLst>
            <a:ahLst/>
            <a:rect l="textAreaLeft" t="textAreaTop" r="textAreaRight" b="textAreaBottom"/>
            <a:pathLst>
              <a:path w="792088" h="792088">
                <a:moveTo>
                  <a:pt x="320662" y="99114"/>
                </a:moveTo>
                <a:lnTo>
                  <a:pt x="320662" y="475062"/>
                </a:lnTo>
                <a:lnTo>
                  <a:pt x="696610" y="475062"/>
                </a:lnTo>
                <a:lnTo>
                  <a:pt x="696610" y="434076"/>
                </a:lnTo>
                <a:lnTo>
                  <a:pt x="361648" y="434076"/>
                </a:lnTo>
                <a:lnTo>
                  <a:pt x="361648" y="99114"/>
                </a:lnTo>
                <a:close/>
                <a:moveTo>
                  <a:pt x="396044" y="0"/>
                </a:moveTo>
                <a:cubicBezTo>
                  <a:pt x="614773" y="0"/>
                  <a:pt x="792088" y="177315"/>
                  <a:pt x="792088" y="396044"/>
                </a:cubicBezTo>
                <a:cubicBezTo>
                  <a:pt x="792088" y="614773"/>
                  <a:pt x="614773" y="792088"/>
                  <a:pt x="396044" y="792088"/>
                </a:cubicBezTo>
                <a:cubicBezTo>
                  <a:pt x="177315" y="792088"/>
                  <a:pt x="0" y="614773"/>
                  <a:pt x="0" y="396044"/>
                </a:cubicBezTo>
                <a:cubicBezTo>
                  <a:pt x="0" y="177315"/>
                  <a:pt x="177315" y="0"/>
                  <a:pt x="396044" y="0"/>
                </a:cubicBezTo>
                <a:close/>
              </a:path>
            </a:pathLst>
          </a:custGeom>
          <a:solidFill>
            <a:schemeClr val="accent1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5da4f8"/>
              </a:solidFill>
              <a:latin typeface="Calibri"/>
              <a:ea typeface="幼圆"/>
            </a:endParaRPr>
          </a:p>
        </p:txBody>
      </p:sp>
      <p:sp>
        <p:nvSpPr>
          <p:cNvPr id="375" name="矩形 11"/>
          <p:cNvSpPr/>
          <p:nvPr/>
        </p:nvSpPr>
        <p:spPr>
          <a:xfrm>
            <a:off x="5937120" y="2219400"/>
            <a:ext cx="269352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f5f5f"/>
                </a:solidFill>
                <a:latin typeface="幼圆"/>
                <a:ea typeface="幼圆"/>
              </a:rPr>
              <a:t>28</a:t>
            </a:r>
            <a:r>
              <a:rPr b="0" lang="zh-CN" sz="2400" spc="-1" strike="noStrike">
                <a:solidFill>
                  <a:srgbClr val="5f5f5f"/>
                </a:solidFill>
                <a:latin typeface="幼圆"/>
                <a:ea typeface="幼圆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KSO_Shape"/>
          <p:cNvSpPr/>
          <p:nvPr/>
        </p:nvSpPr>
        <p:spPr>
          <a:xfrm>
            <a:off x="5264280" y="4365720"/>
            <a:ext cx="383760" cy="290160"/>
          </a:xfrm>
          <a:custGeom>
            <a:avLst/>
            <a:gdLst>
              <a:gd name="textAreaLeft" fmla="*/ 0 w 383760"/>
              <a:gd name="textAreaRight" fmla="*/ 384120 w 38376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529316" h="401026">
                <a:moveTo>
                  <a:pt x="367281" y="196274"/>
                </a:moveTo>
                <a:lnTo>
                  <a:pt x="355293" y="208263"/>
                </a:lnTo>
                <a:lnTo>
                  <a:pt x="465090" y="318060"/>
                </a:lnTo>
                <a:cubicBezTo>
                  <a:pt x="465822" y="318792"/>
                  <a:pt x="466527" y="319541"/>
                  <a:pt x="466739" y="320716"/>
                </a:cubicBezTo>
                <a:lnTo>
                  <a:pt x="491723" y="320716"/>
                </a:lnTo>
                <a:close/>
                <a:moveTo>
                  <a:pt x="162035" y="196274"/>
                </a:moveTo>
                <a:lnTo>
                  <a:pt x="37593" y="320716"/>
                </a:lnTo>
                <a:lnTo>
                  <a:pt x="62577" y="320716"/>
                </a:lnTo>
                <a:lnTo>
                  <a:pt x="64225" y="318061"/>
                </a:lnTo>
                <a:lnTo>
                  <a:pt x="174023" y="208263"/>
                </a:lnTo>
                <a:close/>
                <a:moveTo>
                  <a:pt x="46349" y="80311"/>
                </a:moveTo>
                <a:lnTo>
                  <a:pt x="222791" y="256753"/>
                </a:lnTo>
                <a:cubicBezTo>
                  <a:pt x="234032" y="267995"/>
                  <a:pt x="248767" y="273616"/>
                  <a:pt x="263500" y="273616"/>
                </a:cubicBezTo>
                <a:cubicBezTo>
                  <a:pt x="263887" y="273616"/>
                  <a:pt x="264274" y="273611"/>
                  <a:pt x="264659" y="273504"/>
                </a:cubicBezTo>
                <a:cubicBezTo>
                  <a:pt x="279774" y="273906"/>
                  <a:pt x="294989" y="268289"/>
                  <a:pt x="306525" y="256753"/>
                </a:cubicBezTo>
                <a:lnTo>
                  <a:pt x="482968" y="80311"/>
                </a:lnTo>
                <a:lnTo>
                  <a:pt x="458990" y="80311"/>
                </a:lnTo>
                <a:lnTo>
                  <a:pt x="300904" y="238397"/>
                </a:lnTo>
                <a:cubicBezTo>
                  <a:pt x="290917" y="248385"/>
                  <a:pt x="277745" y="253247"/>
                  <a:pt x="264659" y="252899"/>
                </a:cubicBezTo>
                <a:cubicBezTo>
                  <a:pt x="264325" y="252991"/>
                  <a:pt x="263990" y="252995"/>
                  <a:pt x="263656" y="252995"/>
                </a:cubicBezTo>
                <a:cubicBezTo>
                  <a:pt x="250900" y="252995"/>
                  <a:pt x="238144" y="248128"/>
                  <a:pt x="228412" y="238397"/>
                </a:cubicBezTo>
                <a:lnTo>
                  <a:pt x="70326" y="80311"/>
                </a:lnTo>
                <a:close/>
                <a:moveTo>
                  <a:pt x="92015" y="0"/>
                </a:moveTo>
                <a:lnTo>
                  <a:pt x="437301" y="0"/>
                </a:lnTo>
                <a:cubicBezTo>
                  <a:pt x="488119" y="0"/>
                  <a:pt x="529316" y="41197"/>
                  <a:pt x="529316" y="92015"/>
                </a:cubicBezTo>
                <a:lnTo>
                  <a:pt x="529316" y="309011"/>
                </a:lnTo>
                <a:cubicBezTo>
                  <a:pt x="529316" y="359829"/>
                  <a:pt x="488119" y="401026"/>
                  <a:pt x="437301" y="401026"/>
                </a:cubicBezTo>
                <a:lnTo>
                  <a:pt x="92015" y="401026"/>
                </a:lnTo>
                <a:cubicBezTo>
                  <a:pt x="41197" y="401026"/>
                  <a:pt x="0" y="359829"/>
                  <a:pt x="0" y="309011"/>
                </a:cubicBezTo>
                <a:lnTo>
                  <a:pt x="0" y="92015"/>
                </a:lnTo>
                <a:cubicBezTo>
                  <a:pt x="0" y="41197"/>
                  <a:pt x="41197" y="0"/>
                  <a:pt x="92015" y="0"/>
                </a:cubicBezTo>
                <a:close/>
              </a:path>
            </a:pathLst>
          </a:custGeom>
          <a:solidFill>
            <a:schemeClr val="accent1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5da4f8"/>
              </a:solidFill>
              <a:latin typeface="Calibri"/>
              <a:ea typeface="幼圆"/>
            </a:endParaRPr>
          </a:p>
        </p:txBody>
      </p:sp>
      <p:sp>
        <p:nvSpPr>
          <p:cNvPr id="377" name="矩形 13"/>
          <p:cNvSpPr/>
          <p:nvPr/>
        </p:nvSpPr>
        <p:spPr>
          <a:xfrm>
            <a:off x="5937120" y="4230720"/>
            <a:ext cx="269352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f5f5f"/>
                </a:solidFill>
                <a:latin typeface="幼圆"/>
                <a:ea typeface="幼圆"/>
              </a:rPr>
              <a:t>706523326@qq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空心弧 14"/>
          <p:cNvSpPr/>
          <p:nvPr/>
        </p:nvSpPr>
        <p:spPr>
          <a:xfrm>
            <a:off x="500040" y="2089080"/>
            <a:ext cx="2091960" cy="2091960"/>
          </a:xfrm>
          <a:prstGeom prst="blockArc">
            <a:avLst>
              <a:gd name="adj1" fmla="val 3152173"/>
              <a:gd name="adj2" fmla="val 21452365"/>
              <a:gd name="adj3" fmla="val 2959"/>
            </a:avLst>
          </a:prstGeom>
          <a:solidFill>
            <a:schemeClr val="accent1"/>
          </a:solidFill>
          <a:ln w="730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5da4f8"/>
              </a:solidFill>
              <a:latin typeface="Calibri"/>
              <a:ea typeface="幼圆"/>
            </a:endParaRPr>
          </a:p>
        </p:txBody>
      </p:sp>
      <p:sp>
        <p:nvSpPr>
          <p:cNvPr id="379" name="矩形 15"/>
          <p:cNvSpPr/>
          <p:nvPr/>
        </p:nvSpPr>
        <p:spPr>
          <a:xfrm>
            <a:off x="731880" y="2116080"/>
            <a:ext cx="38541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6600" spc="599" strike="noStrike">
                <a:solidFill>
                  <a:schemeClr val="accent1"/>
                </a:solidFill>
                <a:latin typeface="华文细黑"/>
                <a:ea typeface="华文细黑"/>
              </a:rPr>
              <a:t>A</a:t>
            </a:r>
            <a:r>
              <a:rPr b="0" lang="en-US" sz="7200" spc="-1" strike="noStrike">
                <a:solidFill>
                  <a:schemeClr val="accent1"/>
                </a:solidFill>
                <a:latin typeface="华文细黑"/>
                <a:ea typeface="华文细黑"/>
              </a:rPr>
              <a:t>bou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1300"/>
    </mc:Choice>
    <mc:Fallback>
      <p:transition spd="slow" advTm="2000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2761920" y="2816280"/>
            <a:ext cx="3268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c00000"/>
                </a:solidFill>
                <a:latin typeface="Arial"/>
                <a:ea typeface="Kozuka Gothic Pr6N B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空心弧 4"/>
          <p:cNvSpPr/>
          <p:nvPr/>
        </p:nvSpPr>
        <p:spPr>
          <a:xfrm rot="7086000">
            <a:off x="5027760" y="2576520"/>
            <a:ext cx="1482480" cy="1482480"/>
          </a:xfrm>
          <a:prstGeom prst="blockArc">
            <a:avLst>
              <a:gd name="adj1" fmla="val 5502533"/>
              <a:gd name="adj2" fmla="val 1980318"/>
              <a:gd name="adj3" fmla="val 1053"/>
            </a:avLst>
          </a:prstGeom>
          <a:solidFill>
            <a:srgbClr val="c00000"/>
          </a:solidFill>
          <a:ln w="3175">
            <a:solidFill>
              <a:srgbClr val="c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2890800" y="3660840"/>
            <a:ext cx="219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78787"/>
                </a:solidFill>
                <a:latin typeface="微软雅黑"/>
                <a:ea typeface="微软雅黑"/>
              </a:rPr>
              <a:t>谢谢聆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4400">
        <p14:honeycomb/>
      </p:transition>
    </mc:Choice>
    <mc:Fallback>
      <p:transition spd="slow" advTm="2000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图片 3" descr=""/>
          <p:cNvPicPr/>
          <p:nvPr/>
        </p:nvPicPr>
        <p:blipFill>
          <a:blip r:embed="rId1"/>
          <a:stretch/>
        </p:blipFill>
        <p:spPr>
          <a:xfrm>
            <a:off x="44280" y="44280"/>
            <a:ext cx="9048960" cy="30355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7"/>
          <p:cNvSpPr/>
          <p:nvPr/>
        </p:nvSpPr>
        <p:spPr>
          <a:xfrm>
            <a:off x="899640" y="61520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4000">
        <p14:vortex/>
      </p:transition>
    </mc:Choice>
    <mc:Fallback>
      <p:transition spd="slow" advTm="2000">
        <p:fad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使用规范说明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幼圆"/>
                <a:ea typeface="幼圆"/>
              </a:rPr>
              <a:t>站点介绍：</a:t>
            </a:r>
            <a:endParaRPr b="1" lang="en-US" sz="113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幼圆"/>
                <a:ea typeface="幼圆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幼圆"/>
                <a:ea typeface="幼圆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幼圆"/>
                <a:ea typeface="幼圆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幼圆"/>
                <a:ea typeface="幼圆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幼圆"/>
                <a:ea typeface="幼圆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幼圆"/>
                <a:ea typeface="幼圆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幼圆"/>
                <a:ea typeface="幼圆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幼圆"/>
                <a:ea typeface="幼圆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幼圆"/>
                <a:ea typeface="幼圆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幼圆"/>
                <a:ea typeface="幼圆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幼圆"/>
                <a:ea typeface="幼圆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幼圆"/>
                <a:ea typeface="幼圆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幼圆"/>
                <a:ea typeface="幼圆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幼圆"/>
                <a:ea typeface="幼圆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幼圆"/>
                <a:ea typeface="幼圆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幼圆"/>
                <a:ea typeface="幼圆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幼圆"/>
                <a:ea typeface="幼圆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幼圆"/>
                <a:ea typeface="幼圆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幼圆"/>
                <a:ea typeface="幼圆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幼圆"/>
                <a:ea typeface="幼圆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幼圆"/>
                <a:ea typeface="幼圆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幼圆"/>
                <a:ea typeface="幼圆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幼圆"/>
                <a:ea typeface="幼圆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幼圆"/>
                <a:ea typeface="幼圆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幼圆"/>
                <a:ea typeface="幼圆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幼圆"/>
                <a:ea typeface="幼圆"/>
              </a:rPr>
              <a:t>模板 </a:t>
            </a:r>
            <a:r>
              <a:rPr b="1" lang="en-US" sz="105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幼圆"/>
                <a:ea typeface="幼圆"/>
              </a:rPr>
              <a:t> </a:t>
            </a:r>
            <a:endParaRPr b="1" lang="en-US" sz="105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90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幼圆"/>
                <a:ea typeface="幼圆"/>
              </a:rPr>
              <a:t>特别说明：</a:t>
            </a:r>
            <a:endParaRPr b="1" lang="en-US" sz="113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幼圆"/>
                <a:ea typeface="幼圆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幼圆"/>
                <a:ea typeface="幼圆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幼圆"/>
                <a:ea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5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幼圆"/>
                <a:ea typeface="幼圆"/>
              </a:rPr>
              <a:t>栏目推荐：</a:t>
            </a:r>
            <a:endParaRPr b="1" lang="en-US" sz="113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113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3"/>
              </a:rPr>
              <a:t>幻灯片模板下载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                      </a:t>
            </a:r>
            <a:r>
              <a:rPr b="1" lang="en-US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4"/>
              </a:rPr>
              <a:t>ppt背景图片素材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beijing/</a:t>
            </a:r>
            <a:endParaRPr b="1" lang="en-US" sz="98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5"/>
              </a:rPr>
              <a:t>ppt动态模板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dongtai/              </a:t>
            </a: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6"/>
              </a:rPr>
              <a:t>通用ppt模板下载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tongyong/  </a:t>
            </a:r>
            <a:endParaRPr b="1" lang="en-US" sz="98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7"/>
              </a:rPr>
              <a:t>ppt 模板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                       </a:t>
            </a:r>
            <a:r>
              <a:rPr b="1" lang="en-US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8"/>
              </a:rPr>
              <a:t>ppt设计模板下载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chuangyi/   </a:t>
            </a:r>
            <a:endParaRPr b="1" lang="en-US" sz="98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9"/>
              </a:rPr>
              <a:t>ppt模板素材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sucai/                   </a:t>
            </a: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10"/>
              </a:rPr>
              <a:t>毕业答辩ppt模板下载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dabian/</a:t>
            </a:r>
            <a:endParaRPr b="1" lang="en-US" sz="98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11"/>
              </a:rPr>
              <a:t>企业文化ppt模板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qiye/</a:t>
            </a: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12"/>
              </a:rPr>
              <a:t>月工作总结ppt模板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gongzuo/   </a:t>
            </a:r>
            <a:endParaRPr b="1" lang="en-US" sz="98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13"/>
              </a:rPr>
              <a:t>商务ppt模板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shangwu/  </a:t>
            </a: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14"/>
              </a:rPr>
              <a:t>精品ppt模板下载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jingpin/ </a:t>
            </a:r>
            <a:endParaRPr b="1" lang="en-US" sz="98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15"/>
              </a:rPr>
              <a:t>ppt课件模板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kejian/       </a:t>
            </a: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16"/>
              </a:rPr>
              <a:t>中国风ppt模板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zhongguofeng/ </a:t>
            </a:r>
            <a:endParaRPr b="1" lang="en-US" sz="98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17"/>
              </a:rPr>
              <a:t>活动策划方案ppt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yingxiao/   </a:t>
            </a:r>
            <a:r>
              <a:rPr b="1" lang="en-US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18"/>
              </a:rPr>
              <a:t>ppt免费下载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mianfei/</a:t>
            </a:r>
            <a:endParaRPr b="1" lang="en-US" sz="98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19"/>
              </a:rPr>
              <a:t>工业制造ppt模板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gongye/   </a:t>
            </a: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20"/>
              </a:rPr>
              <a:t>会议报告ppt模板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huiyi/</a:t>
            </a:r>
            <a:endParaRPr b="1" lang="en-US" sz="98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21"/>
              </a:rPr>
              <a:t>交通安全ppt模板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jiaotong/   </a:t>
            </a: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22"/>
              </a:rPr>
              <a:t>教育培训ppt模板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jiaoyu/</a:t>
            </a:r>
            <a:endParaRPr b="1" lang="en-US" sz="98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23"/>
              </a:rPr>
              <a:t>卡通动漫ppt模板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katong/   </a:t>
            </a:r>
            <a:r>
              <a:rPr b="1" lang="zh-CN" sz="980" spc="-1" strike="noStrike" u="sng">
                <a:solidFill>
                  <a:srgbClr val="00b0f0"/>
                </a:solidFill>
                <a:uFillTx/>
                <a:latin typeface="幼圆"/>
                <a:ea typeface="幼圆"/>
                <a:hlinkClick r:id="rId24"/>
              </a:rPr>
              <a:t>体育运动ppt模板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幼圆"/>
                <a:ea typeface="幼圆"/>
              </a:rPr>
              <a:t>http://www.eeppt.com/moban/yundong/</a:t>
            </a:r>
            <a:endParaRPr b="1" lang="en-US" sz="98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98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98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1"/>
              </a:solidFill>
              <a:latin typeface="幼圆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2000"/>
    </mc:Choice>
    <mc:Fallback>
      <p:transition spd="slow" advTm="2000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圆角矩形 11"/>
          <p:cNvSpPr/>
          <p:nvPr/>
        </p:nvSpPr>
        <p:spPr>
          <a:xfrm flipH="1">
            <a:off x="7671600" y="1036800"/>
            <a:ext cx="464760" cy="114120"/>
          </a:xfrm>
          <a:custGeom>
            <a:avLst/>
            <a:gdLst>
              <a:gd name="textAreaLeft" fmla="*/ -360 w 464760"/>
              <a:gd name="textAreaRight" fmla="*/ 464760 w 4647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11052" h="174096">
                <a:moveTo>
                  <a:pt x="87048" y="0"/>
                </a:moveTo>
                <a:lnTo>
                  <a:pt x="711052" y="0"/>
                </a:lnTo>
                <a:lnTo>
                  <a:pt x="711052" y="174096"/>
                </a:lnTo>
                <a:lnTo>
                  <a:pt x="87048" y="174096"/>
                </a:lnTo>
                <a:cubicBezTo>
                  <a:pt x="38973" y="174096"/>
                  <a:pt x="0" y="135123"/>
                  <a:pt x="0" y="87048"/>
                </a:cubicBezTo>
                <a:cubicBezTo>
                  <a:pt x="0" y="38973"/>
                  <a:pt x="38973" y="0"/>
                  <a:pt x="87048" y="0"/>
                </a:cubicBezTo>
                <a:close/>
              </a:path>
            </a:pathLst>
          </a:custGeom>
          <a:gradFill rotWithShape="0">
            <a:gsLst>
              <a:gs pos="0">
                <a:srgbClr val="f06262"/>
              </a:gs>
              <a:gs pos="100000">
                <a:srgbClr val="fbd1d1"/>
              </a:gs>
            </a:gsLst>
            <a:lin ang="108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144" name="圆角矩形 11"/>
          <p:cNvSpPr/>
          <p:nvPr/>
        </p:nvSpPr>
        <p:spPr>
          <a:xfrm>
            <a:off x="2062800" y="2219040"/>
            <a:ext cx="464760" cy="114120"/>
          </a:xfrm>
          <a:custGeom>
            <a:avLst/>
            <a:gdLst>
              <a:gd name="textAreaLeft" fmla="*/ 0 w 464760"/>
              <a:gd name="textAreaRight" fmla="*/ 465120 w 4647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11052" h="174096">
                <a:moveTo>
                  <a:pt x="87048" y="0"/>
                </a:moveTo>
                <a:lnTo>
                  <a:pt x="711052" y="0"/>
                </a:lnTo>
                <a:lnTo>
                  <a:pt x="711052" y="174096"/>
                </a:lnTo>
                <a:lnTo>
                  <a:pt x="87048" y="174096"/>
                </a:lnTo>
                <a:cubicBezTo>
                  <a:pt x="38973" y="174096"/>
                  <a:pt x="0" y="135123"/>
                  <a:pt x="0" y="87048"/>
                </a:cubicBezTo>
                <a:cubicBezTo>
                  <a:pt x="0" y="38973"/>
                  <a:pt x="38973" y="0"/>
                  <a:pt x="87048" y="0"/>
                </a:cubicBezTo>
                <a:close/>
              </a:path>
            </a:pathLst>
          </a:custGeom>
          <a:gradFill rotWithShape="0">
            <a:gsLst>
              <a:gs pos="0">
                <a:srgbClr val="f06262"/>
              </a:gs>
              <a:gs pos="100000">
                <a:srgbClr val="fbd1d1"/>
              </a:gs>
            </a:gsLst>
            <a:lin ang="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145" name="圆角矩形 11"/>
          <p:cNvSpPr/>
          <p:nvPr/>
        </p:nvSpPr>
        <p:spPr>
          <a:xfrm>
            <a:off x="2062800" y="3414240"/>
            <a:ext cx="464760" cy="114120"/>
          </a:xfrm>
          <a:custGeom>
            <a:avLst/>
            <a:gdLst>
              <a:gd name="textAreaLeft" fmla="*/ 0 w 464760"/>
              <a:gd name="textAreaRight" fmla="*/ 465120 w 4647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11052" h="174096">
                <a:moveTo>
                  <a:pt x="87048" y="0"/>
                </a:moveTo>
                <a:lnTo>
                  <a:pt x="711052" y="0"/>
                </a:lnTo>
                <a:lnTo>
                  <a:pt x="711052" y="174096"/>
                </a:lnTo>
                <a:lnTo>
                  <a:pt x="87048" y="174096"/>
                </a:lnTo>
                <a:cubicBezTo>
                  <a:pt x="38973" y="174096"/>
                  <a:pt x="0" y="135123"/>
                  <a:pt x="0" y="87048"/>
                </a:cubicBezTo>
                <a:cubicBezTo>
                  <a:pt x="0" y="38973"/>
                  <a:pt x="38973" y="0"/>
                  <a:pt x="87048" y="0"/>
                </a:cubicBezTo>
                <a:close/>
              </a:path>
            </a:pathLst>
          </a:custGeom>
          <a:gradFill rotWithShape="0">
            <a:gsLst>
              <a:gs pos="0">
                <a:srgbClr val="f06262"/>
              </a:gs>
              <a:gs pos="100000">
                <a:srgbClr val="fbd1d1"/>
              </a:gs>
            </a:gsLst>
            <a:lin ang="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146" name="圆角矩形 11"/>
          <p:cNvSpPr/>
          <p:nvPr/>
        </p:nvSpPr>
        <p:spPr>
          <a:xfrm>
            <a:off x="2062800" y="4609800"/>
            <a:ext cx="464760" cy="114120"/>
          </a:xfrm>
          <a:custGeom>
            <a:avLst/>
            <a:gdLst>
              <a:gd name="textAreaLeft" fmla="*/ 0 w 464760"/>
              <a:gd name="textAreaRight" fmla="*/ 465120 w 4647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11052" h="174096">
                <a:moveTo>
                  <a:pt x="87048" y="0"/>
                </a:moveTo>
                <a:lnTo>
                  <a:pt x="711052" y="0"/>
                </a:lnTo>
                <a:lnTo>
                  <a:pt x="711052" y="174096"/>
                </a:lnTo>
                <a:lnTo>
                  <a:pt x="87048" y="174096"/>
                </a:lnTo>
                <a:cubicBezTo>
                  <a:pt x="38973" y="174096"/>
                  <a:pt x="0" y="135123"/>
                  <a:pt x="0" y="87048"/>
                </a:cubicBezTo>
                <a:cubicBezTo>
                  <a:pt x="0" y="38973"/>
                  <a:pt x="38973" y="0"/>
                  <a:pt x="87048" y="0"/>
                </a:cubicBezTo>
                <a:close/>
              </a:path>
            </a:pathLst>
          </a:custGeom>
          <a:gradFill rotWithShape="0">
            <a:gsLst>
              <a:gs pos="0">
                <a:srgbClr val="f06262"/>
              </a:gs>
              <a:gs pos="100000">
                <a:srgbClr val="fbd1d1"/>
              </a:gs>
            </a:gsLst>
            <a:lin ang="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147" name="任意多边形 21"/>
          <p:cNvSpPr/>
          <p:nvPr/>
        </p:nvSpPr>
        <p:spPr>
          <a:xfrm>
            <a:off x="2085120" y="1672920"/>
            <a:ext cx="169560" cy="4708080"/>
          </a:xfrm>
          <a:custGeom>
            <a:avLst/>
            <a:gdLst>
              <a:gd name="textAreaLeft" fmla="*/ 0 w 169560"/>
              <a:gd name="textAreaRight" fmla="*/ 169920 w 169560"/>
              <a:gd name="textAreaTop" fmla="*/ 0 h 4708080"/>
              <a:gd name="textAreaBottom" fmla="*/ 4708440 h 4708080"/>
            </a:gdLst>
            <a:ahLst/>
            <a:rect l="textAreaLeft" t="textAreaTop" r="textAreaRight" b="textAreaBottom"/>
            <a:pathLst>
              <a:path w="169863" h="4347924">
                <a:moveTo>
                  <a:pt x="0" y="0"/>
                </a:moveTo>
                <a:lnTo>
                  <a:pt x="169863" y="0"/>
                </a:lnTo>
                <a:lnTo>
                  <a:pt x="169863" y="4347924"/>
                </a:lnTo>
                <a:lnTo>
                  <a:pt x="0" y="434792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babab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48" name="圆角矩形 4"/>
          <p:cNvSpPr/>
          <p:nvPr/>
        </p:nvSpPr>
        <p:spPr>
          <a:xfrm>
            <a:off x="2062800" y="2277720"/>
            <a:ext cx="1274400" cy="707760"/>
          </a:xfrm>
          <a:custGeom>
            <a:avLst/>
            <a:gdLst>
              <a:gd name="textAreaLeft" fmla="*/ 0 w 1274400"/>
              <a:gd name="textAreaRight" fmla="*/ 1274760 w 12744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1944216" h="1080120">
                <a:moveTo>
                  <a:pt x="0" y="0"/>
                </a:moveTo>
                <a:lnTo>
                  <a:pt x="1404156" y="0"/>
                </a:lnTo>
                <a:cubicBezTo>
                  <a:pt x="1702423" y="0"/>
                  <a:pt x="1944216" y="241793"/>
                  <a:pt x="1944216" y="540060"/>
                </a:cubicBezTo>
                <a:cubicBezTo>
                  <a:pt x="1944216" y="838327"/>
                  <a:pt x="1702423" y="1080120"/>
                  <a:pt x="1404156" y="1080120"/>
                </a:cubicBezTo>
                <a:lnTo>
                  <a:pt x="0" y="1080120"/>
                </a:lnTo>
                <a:close/>
              </a:path>
            </a:pathLst>
          </a:custGeom>
          <a:solidFill>
            <a:srgbClr val="f06262"/>
          </a:solidFill>
          <a:ln w="25400">
            <a:noFill/>
          </a:ln>
          <a:effectLst>
            <a:outerShdw algn="tl" blurRad="76320" dir="2700000" dist="25455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149" name="椭圆 26"/>
          <p:cNvSpPr/>
          <p:nvPr/>
        </p:nvSpPr>
        <p:spPr>
          <a:xfrm>
            <a:off x="2702160" y="2376720"/>
            <a:ext cx="520920" cy="52092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  <a:effectLst>
            <a:innerShdw blurRad="76200" dir="18900000" dist="25400">
              <a:srgbClr val="000000">
                <a:alpha val="15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</a:pPr>
            <a:r>
              <a:rPr b="1" lang="en-US" sz="2400" spc="-1" strike="noStrike">
                <a:solidFill>
                  <a:srgbClr val="f06262"/>
                </a:solidFill>
                <a:latin typeface="Segoe UI"/>
                <a:ea typeface="Segoe U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4"/>
          <p:cNvSpPr/>
          <p:nvPr/>
        </p:nvSpPr>
        <p:spPr>
          <a:xfrm>
            <a:off x="2062800" y="3472920"/>
            <a:ext cx="1274400" cy="707760"/>
          </a:xfrm>
          <a:custGeom>
            <a:avLst/>
            <a:gdLst>
              <a:gd name="textAreaLeft" fmla="*/ 0 w 1274400"/>
              <a:gd name="textAreaRight" fmla="*/ 1274760 w 12744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1944216" h="1080120">
                <a:moveTo>
                  <a:pt x="0" y="0"/>
                </a:moveTo>
                <a:lnTo>
                  <a:pt x="1404156" y="0"/>
                </a:lnTo>
                <a:cubicBezTo>
                  <a:pt x="1702423" y="0"/>
                  <a:pt x="1944216" y="241793"/>
                  <a:pt x="1944216" y="540060"/>
                </a:cubicBezTo>
                <a:cubicBezTo>
                  <a:pt x="1944216" y="838327"/>
                  <a:pt x="1702423" y="1080120"/>
                  <a:pt x="1404156" y="1080120"/>
                </a:cubicBezTo>
                <a:lnTo>
                  <a:pt x="0" y="1080120"/>
                </a:lnTo>
                <a:close/>
              </a:path>
            </a:pathLst>
          </a:custGeom>
          <a:solidFill>
            <a:srgbClr val="f06262"/>
          </a:solidFill>
          <a:ln w="25400">
            <a:noFill/>
          </a:ln>
          <a:effectLst>
            <a:outerShdw algn="tl" blurRad="76320" dir="2700000" dist="25455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151" name="椭圆 28"/>
          <p:cNvSpPr/>
          <p:nvPr/>
        </p:nvSpPr>
        <p:spPr>
          <a:xfrm>
            <a:off x="2702160" y="3571920"/>
            <a:ext cx="520920" cy="52092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  <a:effectLst>
            <a:innerShdw blurRad="76200" dir="18900000" dist="25400">
              <a:srgbClr val="000000">
                <a:alpha val="15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</a:pPr>
            <a:r>
              <a:rPr b="1" lang="en-US" sz="2400" spc="-1" strike="noStrike">
                <a:solidFill>
                  <a:srgbClr val="f06262"/>
                </a:solidFill>
                <a:latin typeface="Segoe UI"/>
                <a:ea typeface="Segoe U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 4"/>
          <p:cNvSpPr/>
          <p:nvPr/>
        </p:nvSpPr>
        <p:spPr>
          <a:xfrm>
            <a:off x="2062800" y="4668480"/>
            <a:ext cx="1274400" cy="707760"/>
          </a:xfrm>
          <a:custGeom>
            <a:avLst/>
            <a:gdLst>
              <a:gd name="textAreaLeft" fmla="*/ 0 w 1274400"/>
              <a:gd name="textAreaRight" fmla="*/ 1274760 w 12744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1944216" h="1080120">
                <a:moveTo>
                  <a:pt x="0" y="0"/>
                </a:moveTo>
                <a:lnTo>
                  <a:pt x="1404156" y="0"/>
                </a:lnTo>
                <a:cubicBezTo>
                  <a:pt x="1702423" y="0"/>
                  <a:pt x="1944216" y="241793"/>
                  <a:pt x="1944216" y="540060"/>
                </a:cubicBezTo>
                <a:cubicBezTo>
                  <a:pt x="1944216" y="838327"/>
                  <a:pt x="1702423" y="1080120"/>
                  <a:pt x="1404156" y="1080120"/>
                </a:cubicBezTo>
                <a:lnTo>
                  <a:pt x="0" y="1080120"/>
                </a:lnTo>
                <a:close/>
              </a:path>
            </a:pathLst>
          </a:custGeom>
          <a:solidFill>
            <a:srgbClr val="f06262"/>
          </a:solidFill>
          <a:ln w="25400">
            <a:noFill/>
          </a:ln>
          <a:effectLst>
            <a:outerShdw algn="tl" blurRad="76320" dir="2700000" dist="25455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153" name="椭圆 30"/>
          <p:cNvSpPr/>
          <p:nvPr/>
        </p:nvSpPr>
        <p:spPr>
          <a:xfrm>
            <a:off x="2702160" y="4767120"/>
            <a:ext cx="520920" cy="52092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  <a:effectLst>
            <a:innerShdw blurRad="76200" dir="18900000" dist="25400">
              <a:srgbClr val="000000">
                <a:alpha val="15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</a:pPr>
            <a:r>
              <a:rPr b="1" lang="en-US" sz="2400" spc="-1" strike="noStrike">
                <a:solidFill>
                  <a:srgbClr val="f06262"/>
                </a:solidFill>
                <a:latin typeface="Segoe UI"/>
                <a:ea typeface="Segoe U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3"/>
          <p:cNvSpPr/>
          <p:nvPr/>
        </p:nvSpPr>
        <p:spPr>
          <a:xfrm>
            <a:off x="3464640" y="2442600"/>
            <a:ext cx="49953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2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模板，就要原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3"/>
          <p:cNvSpPr/>
          <p:nvPr/>
        </p:nvSpPr>
        <p:spPr>
          <a:xfrm>
            <a:off x="3464640" y="3612600"/>
            <a:ext cx="49953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2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如果你收藏店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3"/>
          <p:cNvSpPr/>
          <p:nvPr/>
        </p:nvSpPr>
        <p:spPr>
          <a:xfrm>
            <a:off x="3464640" y="4808160"/>
            <a:ext cx="49953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2200" spc="-1" strike="noStrike">
                <a:solidFill>
                  <a:srgbClr val="4d4d4d"/>
                </a:solidFill>
                <a:latin typeface="微软雅黑"/>
                <a:ea typeface="微软雅黑"/>
              </a:rPr>
              <a:t>送更多模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7931160" y="0"/>
            <a:ext cx="167760" cy="1428480"/>
          </a:xfrm>
          <a:prstGeom prst="rect">
            <a:avLst/>
          </a:prstGeom>
          <a:gradFill rotWithShape="0">
            <a:gsLst>
              <a:gs pos="0">
                <a:srgbClr val="ababab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20000"/>
              </a:lnSpc>
            </a:pPr>
            <a:endParaRPr b="0" lang="en-US" sz="1400" spc="-1" strike="noStrike"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158" name="任意多边形 35"/>
          <p:cNvSpPr/>
          <p:nvPr/>
        </p:nvSpPr>
        <p:spPr>
          <a:xfrm flipH="1">
            <a:off x="4167360" y="385920"/>
            <a:ext cx="3970080" cy="707760"/>
          </a:xfrm>
          <a:custGeom>
            <a:avLst/>
            <a:gdLst>
              <a:gd name="textAreaLeft" fmla="*/ 360 w 3970080"/>
              <a:gd name="textAreaRight" fmla="*/ 3970800 w 397008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3970185" h="708025">
                <a:moveTo>
                  <a:pt x="3616084" y="0"/>
                </a:moveTo>
                <a:lnTo>
                  <a:pt x="2838983" y="0"/>
                </a:lnTo>
                <a:lnTo>
                  <a:pt x="2695422" y="0"/>
                </a:lnTo>
                <a:lnTo>
                  <a:pt x="0" y="0"/>
                </a:lnTo>
                <a:lnTo>
                  <a:pt x="0" y="708025"/>
                </a:lnTo>
                <a:lnTo>
                  <a:pt x="2695422" y="708025"/>
                </a:lnTo>
                <a:lnTo>
                  <a:pt x="2838983" y="708025"/>
                </a:lnTo>
                <a:lnTo>
                  <a:pt x="3616084" y="708025"/>
                </a:lnTo>
                <a:cubicBezTo>
                  <a:pt x="3811649" y="708025"/>
                  <a:pt x="3970185" y="549528"/>
                  <a:pt x="3970185" y="354013"/>
                </a:cubicBezTo>
                <a:cubicBezTo>
                  <a:pt x="3970185" y="158497"/>
                  <a:pt x="3811649" y="0"/>
                  <a:pt x="3616084" y="0"/>
                </a:cubicBezTo>
                <a:close/>
              </a:path>
            </a:pathLst>
          </a:custGeom>
          <a:solidFill>
            <a:srgbClr val="f06262"/>
          </a:solidFill>
          <a:ln w="25400">
            <a:noFill/>
          </a:ln>
          <a:effectLst>
            <a:outerShdw algn="tl" blurRad="76320" dir="2700000" dist="25455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幼圆"/>
              </a:rPr>
              <a:t>/ </a:t>
            </a:r>
            <a:r>
              <a:rPr b="0" lang="en-US" sz="3600" spc="-1" strike="noStrike">
                <a:solidFill>
                  <a:srgbClr val="f9bfbf"/>
                </a:solidFill>
                <a:latin typeface="Baskerville Old Face"/>
                <a:ea typeface="幼圆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占位符 4"/>
          <p:cNvSpPr/>
          <p:nvPr/>
        </p:nvSpPr>
        <p:spPr>
          <a:xfrm>
            <a:off x="1418040" y="1672920"/>
            <a:ext cx="228564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18500" spc="-1" strike="noStrike">
                <a:solidFill>
                  <a:srgbClr val="00a1c7"/>
                </a:solidFill>
                <a:latin typeface="Felix Titling"/>
                <a:ea typeface="幼圆"/>
              </a:rPr>
              <a:t>1</a:t>
            </a:r>
            <a:endParaRPr b="0" lang="en-US" sz="1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标题 5"/>
          <p:cNvSpPr/>
          <p:nvPr/>
        </p:nvSpPr>
        <p:spPr>
          <a:xfrm>
            <a:off x="3123360" y="3369600"/>
            <a:ext cx="4686840" cy="609120"/>
          </a:xfrm>
          <a:prstGeom prst="roundRect">
            <a:avLst>
              <a:gd name="adj" fmla="val 50000"/>
            </a:avLst>
          </a:prstGeom>
          <a:noFill/>
          <a:ln w="12700">
            <a:solidFill>
              <a:srgbClr val="00a1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a1c7"/>
                </a:solidFill>
                <a:latin typeface="幼圆"/>
                <a:ea typeface="幼圆"/>
              </a:rPr>
              <a:t>模板，就要原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占位符 6"/>
          <p:cNvSpPr/>
          <p:nvPr/>
        </p:nvSpPr>
        <p:spPr>
          <a:xfrm>
            <a:off x="2031120" y="2853720"/>
            <a:ext cx="313704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a3c902"/>
                </a:solidFill>
                <a:latin typeface="Felix Titling"/>
                <a:ea typeface="幼圆"/>
              </a:rPr>
              <a:t>Mobile Off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2000" p14:dur="800">
        <p:circle/>
      </p:transition>
    </mc:Choice>
    <mc:Fallback>
      <p:transition spd="med" advTm="2000">
        <p:circl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任意多边形 37"/>
          <p:cNvSpPr/>
          <p:nvPr/>
        </p:nvSpPr>
        <p:spPr>
          <a:xfrm>
            <a:off x="2963880" y="2049480"/>
            <a:ext cx="1582200" cy="1582200"/>
          </a:xfrm>
          <a:custGeom>
            <a:avLst/>
            <a:gdLst>
              <a:gd name="textAreaLeft" fmla="*/ 0 w 1582200"/>
              <a:gd name="textAreaRight" fmla="*/ 1582560 w 1582200"/>
              <a:gd name="textAreaTop" fmla="*/ 0 h 1582200"/>
              <a:gd name="textAreaBottom" fmla="*/ 1582560 h 1582200"/>
            </a:gdLst>
            <a:ahLst/>
            <a:rect l="textAreaLeft" t="textAreaTop" r="textAreaRight" b="textAreaBottom"/>
            <a:pathLst>
              <a:path w="1583559" h="1583558">
                <a:moveTo>
                  <a:pt x="1583559" y="0"/>
                </a:moveTo>
                <a:lnTo>
                  <a:pt x="1583559" y="1583558"/>
                </a:lnTo>
                <a:lnTo>
                  <a:pt x="0" y="1583558"/>
                </a:lnTo>
                <a:cubicBezTo>
                  <a:pt x="0" y="708983"/>
                  <a:pt x="708984" y="0"/>
                  <a:pt x="1583559" y="0"/>
                </a:cubicBezTo>
                <a:close/>
              </a:path>
            </a:pathLst>
          </a:custGeom>
          <a:solidFill>
            <a:srgbClr val="dc5c3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astellar"/>
                <a:ea typeface="幼圆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33"/>
          <p:cNvSpPr/>
          <p:nvPr/>
        </p:nvSpPr>
        <p:spPr>
          <a:xfrm>
            <a:off x="4667400" y="2049480"/>
            <a:ext cx="1584000" cy="15822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1582200"/>
              <a:gd name="textAreaBottom" fmla="*/ 1582560 h 1582200"/>
            </a:gdLst>
            <a:ahLst/>
            <a:rect l="textAreaLeft" t="textAreaTop" r="textAreaRight" b="textAreaBottom"/>
            <a:pathLst>
              <a:path w="1583559" h="1583558">
                <a:moveTo>
                  <a:pt x="0" y="0"/>
                </a:moveTo>
                <a:cubicBezTo>
                  <a:pt x="874575" y="0"/>
                  <a:pt x="1583559" y="708983"/>
                  <a:pt x="1583559" y="1583558"/>
                </a:cubicBezTo>
                <a:lnTo>
                  <a:pt x="0" y="1583558"/>
                </a:lnTo>
                <a:close/>
              </a:path>
            </a:pathLst>
          </a:custGeom>
          <a:solidFill>
            <a:srgbClr val="d4d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astellar"/>
                <a:ea typeface="幼圆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200" spc="-1" strike="noStrike">
                <a:solidFill>
                  <a:schemeClr val="accent1"/>
                </a:solidFill>
                <a:latin typeface="Broadway"/>
                <a:ea typeface="微软雅黑"/>
              </a:rPr>
              <a:t>SWOT</a:t>
            </a:r>
            <a:r>
              <a:rPr b="1" lang="zh-CN" sz="3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分析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65" name="任意多边形 14"/>
          <p:cNvSpPr/>
          <p:nvPr/>
        </p:nvSpPr>
        <p:spPr>
          <a:xfrm>
            <a:off x="4667400" y="3747960"/>
            <a:ext cx="1584000" cy="15822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1582200"/>
              <a:gd name="textAreaBottom" fmla="*/ 1582560 h 1582200"/>
            </a:gdLst>
            <a:ahLst/>
            <a:rect l="textAreaLeft" t="textAreaTop" r="textAreaRight" b="textAreaBottom"/>
            <a:pathLst>
              <a:path w="1583559" h="1583558">
                <a:moveTo>
                  <a:pt x="0" y="0"/>
                </a:moveTo>
                <a:lnTo>
                  <a:pt x="1583559" y="0"/>
                </a:lnTo>
                <a:cubicBezTo>
                  <a:pt x="1583559" y="874575"/>
                  <a:pt x="874575" y="1583558"/>
                  <a:pt x="0" y="1583558"/>
                </a:cubicBezTo>
                <a:close/>
              </a:path>
            </a:pathLst>
          </a:custGeom>
          <a:solidFill>
            <a:srgbClr val="d4d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astellar"/>
                <a:ea typeface="幼圆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10"/>
          <p:cNvSpPr/>
          <p:nvPr/>
        </p:nvSpPr>
        <p:spPr>
          <a:xfrm flipH="1">
            <a:off x="2963160" y="3747960"/>
            <a:ext cx="1582200" cy="1582200"/>
          </a:xfrm>
          <a:custGeom>
            <a:avLst/>
            <a:gdLst>
              <a:gd name="textAreaLeft" fmla="*/ -360 w 1582200"/>
              <a:gd name="textAreaRight" fmla="*/ 1582200 w 1582200"/>
              <a:gd name="textAreaTop" fmla="*/ 0 h 1582200"/>
              <a:gd name="textAreaBottom" fmla="*/ 1582560 h 1582200"/>
            </a:gdLst>
            <a:ahLst/>
            <a:rect l="textAreaLeft" t="textAreaTop" r="textAreaRight" b="textAreaBottom"/>
            <a:pathLst>
              <a:path w="1583553" h="1583440">
                <a:moveTo>
                  <a:pt x="1583553" y="0"/>
                </a:moveTo>
                <a:lnTo>
                  <a:pt x="0" y="0"/>
                </a:lnTo>
                <a:lnTo>
                  <a:pt x="0" y="1583440"/>
                </a:lnTo>
                <a:cubicBezTo>
                  <a:pt x="819914" y="1583440"/>
                  <a:pt x="1494289" y="960311"/>
                  <a:pt x="1575383" y="161792"/>
                </a:cubicBezTo>
                <a:close/>
              </a:path>
            </a:pathLst>
          </a:custGeom>
          <a:solidFill>
            <a:srgbClr val="d4d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astellar"/>
                <a:ea typeface="幼圆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7"/>
          <p:cNvSpPr/>
          <p:nvPr/>
        </p:nvSpPr>
        <p:spPr>
          <a:xfrm>
            <a:off x="3774960" y="2865600"/>
            <a:ext cx="1650600" cy="1649160"/>
          </a:xfrm>
          <a:prstGeom prst="ellipse">
            <a:avLst/>
          </a:prstGeom>
          <a:solidFill>
            <a:srgbClr val="ffffff"/>
          </a:solidFill>
          <a:ln w="38100">
            <a:noFill/>
          </a:ln>
          <a:effectLst>
            <a:outerShdw algn="ctr" blurRad="63360" rotWithShape="0" sx="102000" sy="102000">
              <a:schemeClr val="tx1">
                <a:lumMod val="60000"/>
                <a:lumOff val="40000"/>
                <a:alpha val="40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9"/>
          <p:cNvSpPr/>
          <p:nvPr/>
        </p:nvSpPr>
        <p:spPr>
          <a:xfrm>
            <a:off x="725400" y="1914480"/>
            <a:ext cx="21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0"/>
          <p:cNvSpPr/>
          <p:nvPr/>
        </p:nvSpPr>
        <p:spPr>
          <a:xfrm>
            <a:off x="822240" y="2287440"/>
            <a:ext cx="2123640" cy="45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c233e"/>
              </a:solidFill>
              <a:latin typeface="Calibri"/>
              <a:ea typeface="幼圆"/>
            </a:endParaRPr>
          </a:p>
        </p:txBody>
      </p:sp>
      <p:sp>
        <p:nvSpPr>
          <p:cNvPr id="170" name="矩形 41"/>
          <p:cNvSpPr/>
          <p:nvPr/>
        </p:nvSpPr>
        <p:spPr>
          <a:xfrm>
            <a:off x="725400" y="4762440"/>
            <a:ext cx="2115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5f5f5f"/>
                </a:solidFill>
                <a:latin typeface="幼圆"/>
                <a:ea typeface="幼圆"/>
              </a:rPr>
              <a:t>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42"/>
          <p:cNvSpPr/>
          <p:nvPr/>
        </p:nvSpPr>
        <p:spPr>
          <a:xfrm>
            <a:off x="725400" y="4329000"/>
            <a:ext cx="21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劣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3"/>
          <p:cNvSpPr/>
          <p:nvPr/>
        </p:nvSpPr>
        <p:spPr>
          <a:xfrm>
            <a:off x="822240" y="4711680"/>
            <a:ext cx="2123640" cy="45720"/>
          </a:xfrm>
          <a:prstGeom prst="rect">
            <a:avLst/>
          </a:prstGeom>
          <a:solidFill>
            <a:schemeClr val="tx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c233e"/>
              </a:solidFill>
              <a:latin typeface="Calibri"/>
              <a:ea typeface="幼圆"/>
            </a:endParaRPr>
          </a:p>
        </p:txBody>
      </p:sp>
      <p:sp>
        <p:nvSpPr>
          <p:cNvPr id="173" name="矩形 50"/>
          <p:cNvSpPr/>
          <p:nvPr/>
        </p:nvSpPr>
        <p:spPr>
          <a:xfrm>
            <a:off x="725400" y="2346480"/>
            <a:ext cx="22284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5f5f5f"/>
                </a:solidFill>
                <a:latin typeface="幼圆"/>
                <a:ea typeface="幼圆"/>
              </a:rPr>
              <a:t>有利的竞争态势；充足的财政来源；良好的企业形象；产品质量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1"/>
          <p:cNvSpPr/>
          <p:nvPr/>
        </p:nvSpPr>
        <p:spPr>
          <a:xfrm>
            <a:off x="6168960" y="4762440"/>
            <a:ext cx="2246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5f5f5f"/>
                </a:solidFill>
                <a:latin typeface="幼圆"/>
                <a:ea typeface="幼圆"/>
              </a:rPr>
              <a:t>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2"/>
          <p:cNvSpPr/>
          <p:nvPr/>
        </p:nvSpPr>
        <p:spPr>
          <a:xfrm>
            <a:off x="6168960" y="4329000"/>
            <a:ext cx="21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机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3"/>
          <p:cNvSpPr/>
          <p:nvPr/>
        </p:nvSpPr>
        <p:spPr>
          <a:xfrm>
            <a:off x="6259680" y="4710240"/>
            <a:ext cx="2123640" cy="45720"/>
          </a:xfrm>
          <a:prstGeom prst="rect">
            <a:avLst/>
          </a:prstGeom>
          <a:solidFill>
            <a:schemeClr val="tx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c233e"/>
              </a:solidFill>
              <a:latin typeface="Calibri"/>
              <a:ea typeface="幼圆"/>
            </a:endParaRPr>
          </a:p>
        </p:txBody>
      </p:sp>
      <p:sp>
        <p:nvSpPr>
          <p:cNvPr id="177" name="矩形 54"/>
          <p:cNvSpPr/>
          <p:nvPr/>
        </p:nvSpPr>
        <p:spPr>
          <a:xfrm>
            <a:off x="6168960" y="2346480"/>
            <a:ext cx="2246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5f5f5f"/>
                </a:solidFill>
                <a:latin typeface="幼圆"/>
                <a:ea typeface="幼圆"/>
              </a:rPr>
              <a:t>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55"/>
          <p:cNvSpPr/>
          <p:nvPr/>
        </p:nvSpPr>
        <p:spPr>
          <a:xfrm>
            <a:off x="6168960" y="1914480"/>
            <a:ext cx="21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威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56"/>
          <p:cNvSpPr/>
          <p:nvPr/>
        </p:nvSpPr>
        <p:spPr>
          <a:xfrm>
            <a:off x="6267600" y="2287440"/>
            <a:ext cx="2123640" cy="45720"/>
          </a:xfrm>
          <a:prstGeom prst="rect">
            <a:avLst/>
          </a:prstGeom>
          <a:solidFill>
            <a:schemeClr val="tx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b050"/>
              </a:solidFill>
              <a:latin typeface="Calibri"/>
              <a:ea typeface="幼圆"/>
            </a:endParaRPr>
          </a:p>
        </p:txBody>
      </p:sp>
    </p:spTree>
  </p:cSld>
  <mc:AlternateContent>
    <mc:Choice Requires="p14">
      <p:transition spd="slow" advTm="2000" p14:dur="3000"/>
    </mc:Choice>
    <mc:Fallback>
      <p:transition spd="slow" advTm="2000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原创，就选林敏</a:t>
            </a:r>
            <a:r>
              <a:rPr b="1" lang="en-US" sz="3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设计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2736720" y="2265480"/>
            <a:ext cx="3692160" cy="3198600"/>
          </a:xfrm>
          <a:custGeom>
            <a:avLst/>
            <a:gdLst>
              <a:gd name="textAreaLeft" fmla="*/ 0 w 3692160"/>
              <a:gd name="textAreaRight" fmla="*/ 3692520 w 3692160"/>
              <a:gd name="textAreaTop" fmla="*/ 0 h 3198600"/>
              <a:gd name="textAreaBottom" fmla="*/ 3198960 h 3198600"/>
            </a:gdLst>
            <a:ahLst/>
            <a:rect l="textAreaLeft" t="textAreaTop" r="textAreaRight" b="textAreaBottom"/>
            <a:pathLst>
              <a:path w="3100" h="2686">
                <a:moveTo>
                  <a:pt x="2326" y="0"/>
                </a:moveTo>
                <a:lnTo>
                  <a:pt x="3100" y="1344"/>
                </a:lnTo>
                <a:lnTo>
                  <a:pt x="2326" y="2686"/>
                </a:lnTo>
                <a:lnTo>
                  <a:pt x="774" y="2686"/>
                </a:lnTo>
                <a:lnTo>
                  <a:pt x="0" y="1344"/>
                </a:lnTo>
                <a:lnTo>
                  <a:pt x="774" y="0"/>
                </a:lnTo>
                <a:lnTo>
                  <a:pt x="2326" y="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82" name="Freeform 345"/>
          <p:cNvSpPr/>
          <p:nvPr/>
        </p:nvSpPr>
        <p:spPr>
          <a:xfrm>
            <a:off x="3660840" y="2268360"/>
            <a:ext cx="2769840" cy="1599840"/>
          </a:xfrm>
          <a:custGeom>
            <a:avLst/>
            <a:gdLst>
              <a:gd name="textAreaLeft" fmla="*/ 0 w 2769840"/>
              <a:gd name="textAreaRight" fmla="*/ 2770200 w 2769840"/>
              <a:gd name="textAreaTop" fmla="*/ 0 h 1599840"/>
              <a:gd name="textAreaBottom" fmla="*/ 1600200 h 1599840"/>
            </a:gdLst>
            <a:ahLst/>
            <a:rect l="textAreaLeft" t="textAreaTop" r="textAreaRight" b="textAreaBottom"/>
            <a:pathLst>
              <a:path w="3407" h="1968">
                <a:moveTo>
                  <a:pt x="2273" y="0"/>
                </a:moveTo>
                <a:lnTo>
                  <a:pt x="0" y="0"/>
                </a:lnTo>
                <a:lnTo>
                  <a:pt x="3407" y="1968"/>
                </a:lnTo>
                <a:lnTo>
                  <a:pt x="2273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83" name="Freeform 22"/>
          <p:cNvSpPr/>
          <p:nvPr/>
        </p:nvSpPr>
        <p:spPr>
          <a:xfrm>
            <a:off x="2736720" y="2266920"/>
            <a:ext cx="2771280" cy="1599840"/>
          </a:xfrm>
          <a:custGeom>
            <a:avLst/>
            <a:gdLst>
              <a:gd name="textAreaLeft" fmla="*/ 0 w 2771280"/>
              <a:gd name="textAreaRight" fmla="*/ 2771640 w 2771280"/>
              <a:gd name="textAreaTop" fmla="*/ 0 h 1599840"/>
              <a:gd name="textAreaBottom" fmla="*/ 1600200 h 1599840"/>
            </a:gdLst>
            <a:ahLst/>
            <a:rect l="textAreaLeft" t="textAreaTop" r="textAreaRight" b="textAreaBottom"/>
            <a:pathLst>
              <a:path w="3407" h="1968">
                <a:moveTo>
                  <a:pt x="3407" y="0"/>
                </a:moveTo>
                <a:lnTo>
                  <a:pt x="1134" y="0"/>
                </a:lnTo>
                <a:lnTo>
                  <a:pt x="0" y="1968"/>
                </a:lnTo>
                <a:lnTo>
                  <a:pt x="3407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84" name="Freeform 25"/>
          <p:cNvSpPr/>
          <p:nvPr/>
        </p:nvSpPr>
        <p:spPr>
          <a:xfrm>
            <a:off x="2736720" y="3868560"/>
            <a:ext cx="2771280" cy="1598400"/>
          </a:xfrm>
          <a:custGeom>
            <a:avLst/>
            <a:gdLst>
              <a:gd name="textAreaLeft" fmla="*/ 0 w 2771280"/>
              <a:gd name="textAreaRight" fmla="*/ 2771640 w 2771280"/>
              <a:gd name="textAreaTop" fmla="*/ 0 h 1598400"/>
              <a:gd name="textAreaBottom" fmla="*/ 1598760 h 1598400"/>
            </a:gdLst>
            <a:ahLst/>
            <a:rect l="textAreaLeft" t="textAreaTop" r="textAreaRight" b="textAreaBottom"/>
            <a:pathLst>
              <a:path w="3407" h="1965">
                <a:moveTo>
                  <a:pt x="0" y="0"/>
                </a:moveTo>
                <a:lnTo>
                  <a:pt x="1134" y="1965"/>
                </a:lnTo>
                <a:lnTo>
                  <a:pt x="3407" y="1965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85" name="Freeform 33"/>
          <p:cNvSpPr/>
          <p:nvPr/>
        </p:nvSpPr>
        <p:spPr>
          <a:xfrm>
            <a:off x="3660840" y="3868560"/>
            <a:ext cx="2769840" cy="1598400"/>
          </a:xfrm>
          <a:custGeom>
            <a:avLst/>
            <a:gdLst>
              <a:gd name="textAreaLeft" fmla="*/ 0 w 2769840"/>
              <a:gd name="textAreaRight" fmla="*/ 2770200 w 2769840"/>
              <a:gd name="textAreaTop" fmla="*/ 0 h 1598400"/>
              <a:gd name="textAreaBottom" fmla="*/ 1598760 h 1598400"/>
            </a:gdLst>
            <a:ahLst/>
            <a:rect l="textAreaLeft" t="textAreaTop" r="textAreaRight" b="textAreaBottom"/>
            <a:pathLst>
              <a:path w="3407" h="1965">
                <a:moveTo>
                  <a:pt x="3407" y="0"/>
                </a:moveTo>
                <a:lnTo>
                  <a:pt x="0" y="1965"/>
                </a:lnTo>
                <a:lnTo>
                  <a:pt x="2273" y="1965"/>
                </a:lnTo>
                <a:lnTo>
                  <a:pt x="3407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86" name="Freeform 131"/>
          <p:cNvSpPr/>
          <p:nvPr/>
        </p:nvSpPr>
        <p:spPr>
          <a:xfrm>
            <a:off x="2735280" y="2257560"/>
            <a:ext cx="3644640" cy="3153960"/>
          </a:xfrm>
          <a:custGeom>
            <a:avLst/>
            <a:gdLst>
              <a:gd name="textAreaLeft" fmla="*/ 0 w 3644640"/>
              <a:gd name="textAreaRight" fmla="*/ 3645000 w 3644640"/>
              <a:gd name="textAreaTop" fmla="*/ 0 h 3153960"/>
              <a:gd name="textAreaBottom" fmla="*/ 3154320 h 3153960"/>
            </a:gdLst>
            <a:ahLst/>
            <a:rect l="textAreaLeft" t="textAreaTop" r="textAreaRight" b="textAreaBottom"/>
            <a:pathLst>
              <a:path w="3061" h="2649">
                <a:moveTo>
                  <a:pt x="2297" y="0"/>
                </a:moveTo>
                <a:lnTo>
                  <a:pt x="3061" y="1325"/>
                </a:lnTo>
                <a:lnTo>
                  <a:pt x="2297" y="2649"/>
                </a:lnTo>
                <a:lnTo>
                  <a:pt x="764" y="2649"/>
                </a:lnTo>
                <a:lnTo>
                  <a:pt x="0" y="1325"/>
                </a:lnTo>
                <a:lnTo>
                  <a:pt x="764" y="0"/>
                </a:lnTo>
                <a:lnTo>
                  <a:pt x="229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87" name="Freeform 133"/>
          <p:cNvSpPr/>
          <p:nvPr/>
        </p:nvSpPr>
        <p:spPr>
          <a:xfrm>
            <a:off x="4557600" y="2257560"/>
            <a:ext cx="1821960" cy="1577520"/>
          </a:xfrm>
          <a:custGeom>
            <a:avLst/>
            <a:gdLst>
              <a:gd name="textAreaLeft" fmla="*/ 0 w 1821960"/>
              <a:gd name="textAreaRight" fmla="*/ 1822320 w 1821960"/>
              <a:gd name="textAreaTop" fmla="*/ 0 h 1577520"/>
              <a:gd name="textAreaBottom" fmla="*/ 1577880 h 1577520"/>
            </a:gdLst>
            <a:ahLst/>
            <a:rect l="textAreaLeft" t="textAreaTop" r="textAreaRight" b="textAreaBottom"/>
            <a:pathLst>
              <a:path w="1531" h="1325">
                <a:moveTo>
                  <a:pt x="767" y="0"/>
                </a:moveTo>
                <a:lnTo>
                  <a:pt x="767" y="0"/>
                </a:lnTo>
                <a:lnTo>
                  <a:pt x="0" y="442"/>
                </a:lnTo>
                <a:lnTo>
                  <a:pt x="1531" y="1325"/>
                </a:lnTo>
                <a:lnTo>
                  <a:pt x="76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88" name="Freeform 135"/>
          <p:cNvSpPr/>
          <p:nvPr/>
        </p:nvSpPr>
        <p:spPr>
          <a:xfrm>
            <a:off x="2735280" y="3835440"/>
            <a:ext cx="2734920" cy="1576080"/>
          </a:xfrm>
          <a:custGeom>
            <a:avLst/>
            <a:gdLst>
              <a:gd name="textAreaLeft" fmla="*/ 0 w 2734920"/>
              <a:gd name="textAreaRight" fmla="*/ 2735280 w 2734920"/>
              <a:gd name="textAreaTop" fmla="*/ 0 h 1576080"/>
              <a:gd name="textAreaBottom" fmla="*/ 1576440 h 1576080"/>
            </a:gdLst>
            <a:ahLst/>
            <a:rect l="textAreaLeft" t="textAreaTop" r="textAreaRight" b="textAreaBottom"/>
            <a:pathLst>
              <a:path w="2297" h="1324">
                <a:moveTo>
                  <a:pt x="0" y="0"/>
                </a:moveTo>
                <a:lnTo>
                  <a:pt x="764" y="1324"/>
                </a:lnTo>
                <a:lnTo>
                  <a:pt x="2297" y="1324"/>
                </a:lnTo>
                <a:lnTo>
                  <a:pt x="764" y="1324"/>
                </a:lnTo>
                <a:lnTo>
                  <a:pt x="1530" y="8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89" name="Freeform 137"/>
          <p:cNvSpPr/>
          <p:nvPr/>
        </p:nvSpPr>
        <p:spPr>
          <a:xfrm>
            <a:off x="4557600" y="3835440"/>
            <a:ext cx="1821960" cy="1576080"/>
          </a:xfrm>
          <a:custGeom>
            <a:avLst/>
            <a:gdLst>
              <a:gd name="textAreaLeft" fmla="*/ 0 w 1821960"/>
              <a:gd name="textAreaRight" fmla="*/ 1822320 w 1821960"/>
              <a:gd name="textAreaTop" fmla="*/ 0 h 1576080"/>
              <a:gd name="textAreaBottom" fmla="*/ 1576440 h 1576080"/>
            </a:gdLst>
            <a:ahLst/>
            <a:rect l="textAreaLeft" t="textAreaTop" r="textAreaRight" b="textAreaBottom"/>
            <a:pathLst>
              <a:path w="1531" h="1324">
                <a:moveTo>
                  <a:pt x="1531" y="0"/>
                </a:moveTo>
                <a:lnTo>
                  <a:pt x="0" y="882"/>
                </a:lnTo>
                <a:lnTo>
                  <a:pt x="767" y="1324"/>
                </a:lnTo>
                <a:lnTo>
                  <a:pt x="153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90" name="Freeform 139"/>
          <p:cNvSpPr/>
          <p:nvPr/>
        </p:nvSpPr>
        <p:spPr>
          <a:xfrm>
            <a:off x="3645000" y="4884840"/>
            <a:ext cx="1825200" cy="52668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526680"/>
              <a:gd name="textAreaBottom" fmla="*/ 527040 h 526680"/>
            </a:gdLst>
            <a:ahLst/>
            <a:rect l="textAreaLeft" t="textAreaTop" r="textAreaRight" b="textAreaBottom"/>
            <a:pathLst>
              <a:path w="1533" h="442">
                <a:moveTo>
                  <a:pt x="766" y="0"/>
                </a:moveTo>
                <a:lnTo>
                  <a:pt x="0" y="442"/>
                </a:lnTo>
                <a:lnTo>
                  <a:pt x="1533" y="442"/>
                </a:lnTo>
                <a:lnTo>
                  <a:pt x="76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91" name="Freeform 141"/>
          <p:cNvSpPr/>
          <p:nvPr/>
        </p:nvSpPr>
        <p:spPr>
          <a:xfrm>
            <a:off x="2735280" y="2257560"/>
            <a:ext cx="1821960" cy="1577520"/>
          </a:xfrm>
          <a:custGeom>
            <a:avLst/>
            <a:gdLst>
              <a:gd name="textAreaLeft" fmla="*/ 0 w 1821960"/>
              <a:gd name="textAreaRight" fmla="*/ 1822320 w 1821960"/>
              <a:gd name="textAreaTop" fmla="*/ 0 h 1577520"/>
              <a:gd name="textAreaBottom" fmla="*/ 1577880 h 1577520"/>
            </a:gdLst>
            <a:ahLst/>
            <a:rect l="textAreaLeft" t="textAreaTop" r="textAreaRight" b="textAreaBottom"/>
            <a:pathLst>
              <a:path w="1530" h="1325">
                <a:moveTo>
                  <a:pt x="764" y="0"/>
                </a:moveTo>
                <a:lnTo>
                  <a:pt x="764" y="0"/>
                </a:lnTo>
                <a:lnTo>
                  <a:pt x="0" y="1325"/>
                </a:lnTo>
                <a:lnTo>
                  <a:pt x="1530" y="442"/>
                </a:lnTo>
                <a:lnTo>
                  <a:pt x="76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92" name="Freeform 143"/>
          <p:cNvSpPr/>
          <p:nvPr/>
        </p:nvSpPr>
        <p:spPr>
          <a:xfrm>
            <a:off x="3645000" y="2257560"/>
            <a:ext cx="1825200" cy="52524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1533" h="442">
                <a:moveTo>
                  <a:pt x="1533" y="0"/>
                </a:moveTo>
                <a:lnTo>
                  <a:pt x="0" y="0"/>
                </a:lnTo>
                <a:lnTo>
                  <a:pt x="766" y="442"/>
                </a:lnTo>
                <a:lnTo>
                  <a:pt x="15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93" name="Freeform 144"/>
          <p:cNvSpPr/>
          <p:nvPr/>
        </p:nvSpPr>
        <p:spPr>
          <a:xfrm>
            <a:off x="4110120" y="3154320"/>
            <a:ext cx="945720" cy="885600"/>
          </a:xfrm>
          <a:custGeom>
            <a:avLst/>
            <a:gdLst>
              <a:gd name="textAreaLeft" fmla="*/ 0 w 945720"/>
              <a:gd name="textAreaRight" fmla="*/ 946080 w 94572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499" h="467">
                <a:moveTo>
                  <a:pt x="9" y="467"/>
                </a:moveTo>
                <a:cubicBezTo>
                  <a:pt x="9" y="467"/>
                  <a:pt x="0" y="395"/>
                  <a:pt x="16" y="354"/>
                </a:cubicBezTo>
                <a:cubicBezTo>
                  <a:pt x="32" y="312"/>
                  <a:pt x="42" y="303"/>
                  <a:pt x="91" y="296"/>
                </a:cubicBezTo>
                <a:cubicBezTo>
                  <a:pt x="141" y="289"/>
                  <a:pt x="168" y="269"/>
                  <a:pt x="174" y="263"/>
                </a:cubicBezTo>
                <a:cubicBezTo>
                  <a:pt x="181" y="257"/>
                  <a:pt x="192" y="250"/>
                  <a:pt x="199" y="247"/>
                </a:cubicBezTo>
                <a:cubicBezTo>
                  <a:pt x="199" y="247"/>
                  <a:pt x="197" y="197"/>
                  <a:pt x="173" y="168"/>
                </a:cubicBezTo>
                <a:cubicBezTo>
                  <a:pt x="173" y="168"/>
                  <a:pt x="164" y="165"/>
                  <a:pt x="162" y="158"/>
                </a:cubicBezTo>
                <a:cubicBezTo>
                  <a:pt x="161" y="152"/>
                  <a:pt x="156" y="123"/>
                  <a:pt x="163" y="110"/>
                </a:cubicBezTo>
                <a:cubicBezTo>
                  <a:pt x="163" y="110"/>
                  <a:pt x="167" y="105"/>
                  <a:pt x="167" y="101"/>
                </a:cubicBezTo>
                <a:cubicBezTo>
                  <a:pt x="166" y="96"/>
                  <a:pt x="161" y="60"/>
                  <a:pt x="194" y="30"/>
                </a:cubicBezTo>
                <a:cubicBezTo>
                  <a:pt x="194" y="30"/>
                  <a:pt x="203" y="15"/>
                  <a:pt x="180" y="12"/>
                </a:cubicBezTo>
                <a:cubicBezTo>
                  <a:pt x="180" y="12"/>
                  <a:pt x="191" y="7"/>
                  <a:pt x="207" y="15"/>
                </a:cubicBezTo>
                <a:cubicBezTo>
                  <a:pt x="207" y="15"/>
                  <a:pt x="200" y="5"/>
                  <a:pt x="211" y="0"/>
                </a:cubicBezTo>
                <a:cubicBezTo>
                  <a:pt x="211" y="0"/>
                  <a:pt x="206" y="15"/>
                  <a:pt x="223" y="10"/>
                </a:cubicBezTo>
                <a:cubicBezTo>
                  <a:pt x="241" y="5"/>
                  <a:pt x="265" y="0"/>
                  <a:pt x="281" y="6"/>
                </a:cubicBezTo>
                <a:cubicBezTo>
                  <a:pt x="297" y="12"/>
                  <a:pt x="301" y="21"/>
                  <a:pt x="322" y="22"/>
                </a:cubicBezTo>
                <a:cubicBezTo>
                  <a:pt x="343" y="23"/>
                  <a:pt x="350" y="50"/>
                  <a:pt x="351" y="60"/>
                </a:cubicBezTo>
                <a:cubicBezTo>
                  <a:pt x="351" y="69"/>
                  <a:pt x="350" y="110"/>
                  <a:pt x="354" y="115"/>
                </a:cubicBezTo>
                <a:cubicBezTo>
                  <a:pt x="358" y="121"/>
                  <a:pt x="359" y="125"/>
                  <a:pt x="358" y="134"/>
                </a:cubicBezTo>
                <a:cubicBezTo>
                  <a:pt x="356" y="144"/>
                  <a:pt x="349" y="169"/>
                  <a:pt x="344" y="170"/>
                </a:cubicBezTo>
                <a:cubicBezTo>
                  <a:pt x="340" y="170"/>
                  <a:pt x="336" y="174"/>
                  <a:pt x="336" y="175"/>
                </a:cubicBezTo>
                <a:cubicBezTo>
                  <a:pt x="336" y="177"/>
                  <a:pt x="323" y="212"/>
                  <a:pt x="323" y="224"/>
                </a:cubicBezTo>
                <a:cubicBezTo>
                  <a:pt x="324" y="236"/>
                  <a:pt x="324" y="250"/>
                  <a:pt x="334" y="253"/>
                </a:cubicBezTo>
                <a:cubicBezTo>
                  <a:pt x="343" y="256"/>
                  <a:pt x="356" y="273"/>
                  <a:pt x="363" y="281"/>
                </a:cubicBezTo>
                <a:cubicBezTo>
                  <a:pt x="371" y="289"/>
                  <a:pt x="416" y="299"/>
                  <a:pt x="437" y="309"/>
                </a:cubicBezTo>
                <a:cubicBezTo>
                  <a:pt x="457" y="318"/>
                  <a:pt x="465" y="317"/>
                  <a:pt x="477" y="357"/>
                </a:cubicBezTo>
                <a:cubicBezTo>
                  <a:pt x="489" y="397"/>
                  <a:pt x="499" y="438"/>
                  <a:pt x="499" y="467"/>
                </a:cubicBezTo>
                <a:lnTo>
                  <a:pt x="9" y="4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94" name="Freeform 166"/>
          <p:cNvSpPr/>
          <p:nvPr/>
        </p:nvSpPr>
        <p:spPr>
          <a:xfrm>
            <a:off x="5532480" y="5440320"/>
            <a:ext cx="306000" cy="485280"/>
          </a:xfrm>
          <a:custGeom>
            <a:avLst/>
            <a:gdLst>
              <a:gd name="textAreaLeft" fmla="*/ 0 w 306000"/>
              <a:gd name="textAreaRight" fmla="*/ 306360 w 30600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161" h="256">
                <a:moveTo>
                  <a:pt x="93" y="256"/>
                </a:moveTo>
                <a:cubicBezTo>
                  <a:pt x="67" y="256"/>
                  <a:pt x="67" y="256"/>
                  <a:pt x="67" y="256"/>
                </a:cubicBezTo>
                <a:cubicBezTo>
                  <a:pt x="67" y="226"/>
                  <a:pt x="67" y="226"/>
                  <a:pt x="67" y="226"/>
                </a:cubicBezTo>
                <a:cubicBezTo>
                  <a:pt x="50" y="224"/>
                  <a:pt x="36" y="219"/>
                  <a:pt x="24" y="210"/>
                </a:cubicBezTo>
                <a:cubicBezTo>
                  <a:pt x="12" y="201"/>
                  <a:pt x="4" y="188"/>
                  <a:pt x="0" y="172"/>
                </a:cubicBezTo>
                <a:cubicBezTo>
                  <a:pt x="42" y="163"/>
                  <a:pt x="42" y="163"/>
                  <a:pt x="42" y="163"/>
                </a:cubicBezTo>
                <a:cubicBezTo>
                  <a:pt x="47" y="181"/>
                  <a:pt x="61" y="190"/>
                  <a:pt x="83" y="190"/>
                </a:cubicBezTo>
                <a:cubicBezTo>
                  <a:pt x="91" y="190"/>
                  <a:pt x="98" y="188"/>
                  <a:pt x="105" y="185"/>
                </a:cubicBezTo>
                <a:cubicBezTo>
                  <a:pt x="111" y="182"/>
                  <a:pt x="114" y="176"/>
                  <a:pt x="114" y="169"/>
                </a:cubicBezTo>
                <a:cubicBezTo>
                  <a:pt x="114" y="162"/>
                  <a:pt x="111" y="157"/>
                  <a:pt x="105" y="155"/>
                </a:cubicBezTo>
                <a:cubicBezTo>
                  <a:pt x="99" y="152"/>
                  <a:pt x="91" y="150"/>
                  <a:pt x="80" y="147"/>
                </a:cubicBezTo>
                <a:cubicBezTo>
                  <a:pt x="66" y="144"/>
                  <a:pt x="54" y="141"/>
                  <a:pt x="44" y="137"/>
                </a:cubicBezTo>
                <a:cubicBezTo>
                  <a:pt x="34" y="133"/>
                  <a:pt x="26" y="127"/>
                  <a:pt x="20" y="119"/>
                </a:cubicBezTo>
                <a:cubicBezTo>
                  <a:pt x="13" y="111"/>
                  <a:pt x="10" y="100"/>
                  <a:pt x="10" y="87"/>
                </a:cubicBezTo>
                <a:cubicBezTo>
                  <a:pt x="10" y="70"/>
                  <a:pt x="16" y="56"/>
                  <a:pt x="26" y="45"/>
                </a:cubicBezTo>
                <a:cubicBezTo>
                  <a:pt x="37" y="34"/>
                  <a:pt x="51" y="27"/>
                  <a:pt x="67" y="25"/>
                </a:cubicBezTo>
                <a:cubicBezTo>
                  <a:pt x="67" y="0"/>
                  <a:pt x="67" y="0"/>
                  <a:pt x="67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3" y="25"/>
                  <a:pt x="93" y="25"/>
                  <a:pt x="93" y="25"/>
                </a:cubicBezTo>
                <a:cubicBezTo>
                  <a:pt x="100" y="25"/>
                  <a:pt x="107" y="26"/>
                  <a:pt x="113" y="28"/>
                </a:cubicBezTo>
                <a:cubicBezTo>
                  <a:pt x="120" y="30"/>
                  <a:pt x="126" y="34"/>
                  <a:pt x="132" y="38"/>
                </a:cubicBezTo>
                <a:cubicBezTo>
                  <a:pt x="143" y="45"/>
                  <a:pt x="151" y="56"/>
                  <a:pt x="155" y="70"/>
                </a:cubicBezTo>
                <a:cubicBezTo>
                  <a:pt x="116" y="83"/>
                  <a:pt x="116" y="83"/>
                  <a:pt x="116" y="83"/>
                </a:cubicBezTo>
                <a:cubicBezTo>
                  <a:pt x="111" y="68"/>
                  <a:pt x="100" y="60"/>
                  <a:pt x="83" y="60"/>
                </a:cubicBezTo>
                <a:cubicBezTo>
                  <a:pt x="64" y="60"/>
                  <a:pt x="55" y="66"/>
                  <a:pt x="55" y="78"/>
                </a:cubicBezTo>
                <a:cubicBezTo>
                  <a:pt x="55" y="85"/>
                  <a:pt x="58" y="89"/>
                  <a:pt x="63" y="92"/>
                </a:cubicBezTo>
                <a:cubicBezTo>
                  <a:pt x="67" y="94"/>
                  <a:pt x="74" y="96"/>
                  <a:pt x="84" y="98"/>
                </a:cubicBezTo>
                <a:cubicBezTo>
                  <a:pt x="108" y="103"/>
                  <a:pt x="124" y="108"/>
                  <a:pt x="134" y="114"/>
                </a:cubicBezTo>
                <a:cubicBezTo>
                  <a:pt x="152" y="125"/>
                  <a:pt x="161" y="141"/>
                  <a:pt x="161" y="162"/>
                </a:cubicBezTo>
                <a:cubicBezTo>
                  <a:pt x="161" y="174"/>
                  <a:pt x="158" y="185"/>
                  <a:pt x="152" y="194"/>
                </a:cubicBezTo>
                <a:cubicBezTo>
                  <a:pt x="146" y="204"/>
                  <a:pt x="137" y="211"/>
                  <a:pt x="127" y="217"/>
                </a:cubicBezTo>
                <a:cubicBezTo>
                  <a:pt x="122" y="219"/>
                  <a:pt x="116" y="222"/>
                  <a:pt x="110" y="224"/>
                </a:cubicBezTo>
                <a:cubicBezTo>
                  <a:pt x="105" y="225"/>
                  <a:pt x="99" y="226"/>
                  <a:pt x="93" y="226"/>
                </a:cubicBezTo>
                <a:lnTo>
                  <a:pt x="93" y="256"/>
                </a:lnTo>
                <a:close/>
              </a:path>
            </a:pathLst>
          </a:cu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95" name="任意多边形 52"/>
          <p:cNvSpPr/>
          <p:nvPr/>
        </p:nvSpPr>
        <p:spPr>
          <a:xfrm>
            <a:off x="1990800" y="3616200"/>
            <a:ext cx="614160" cy="515520"/>
          </a:xfrm>
          <a:custGeom>
            <a:avLst/>
            <a:gdLst>
              <a:gd name="textAreaLeft" fmla="*/ 0 w 614160"/>
              <a:gd name="textAreaRight" fmla="*/ 614520 w 614160"/>
              <a:gd name="textAreaTop" fmla="*/ 0 h 515520"/>
              <a:gd name="textAreaBottom" fmla="*/ 515880 h 515520"/>
            </a:gdLst>
            <a:ahLst/>
            <a:rect l="textAreaLeft" t="textAreaTop" r="textAreaRight" b="textAreaBottom"/>
            <a:pathLst>
              <a:path w="659566" h="554753">
                <a:moveTo>
                  <a:pt x="332979" y="471667"/>
                </a:moveTo>
                <a:cubicBezTo>
                  <a:pt x="355923" y="471667"/>
                  <a:pt x="374522" y="490266"/>
                  <a:pt x="374522" y="513210"/>
                </a:cubicBezTo>
                <a:cubicBezTo>
                  <a:pt x="374522" y="536154"/>
                  <a:pt x="355923" y="554753"/>
                  <a:pt x="332979" y="554753"/>
                </a:cubicBezTo>
                <a:cubicBezTo>
                  <a:pt x="310035" y="554753"/>
                  <a:pt x="291436" y="536154"/>
                  <a:pt x="291436" y="513210"/>
                </a:cubicBezTo>
                <a:cubicBezTo>
                  <a:pt x="291436" y="490266"/>
                  <a:pt x="310035" y="471667"/>
                  <a:pt x="332979" y="471667"/>
                </a:cubicBezTo>
                <a:close/>
                <a:moveTo>
                  <a:pt x="113124" y="471667"/>
                </a:moveTo>
                <a:cubicBezTo>
                  <a:pt x="136068" y="471667"/>
                  <a:pt x="154667" y="490266"/>
                  <a:pt x="154667" y="513210"/>
                </a:cubicBezTo>
                <a:cubicBezTo>
                  <a:pt x="154667" y="536154"/>
                  <a:pt x="136068" y="554753"/>
                  <a:pt x="113124" y="554753"/>
                </a:cubicBezTo>
                <a:cubicBezTo>
                  <a:pt x="90180" y="554753"/>
                  <a:pt x="71581" y="536154"/>
                  <a:pt x="71581" y="513210"/>
                </a:cubicBezTo>
                <a:cubicBezTo>
                  <a:pt x="71581" y="490266"/>
                  <a:pt x="90180" y="471667"/>
                  <a:pt x="113124" y="471667"/>
                </a:cubicBezTo>
                <a:close/>
                <a:moveTo>
                  <a:pt x="438433" y="89476"/>
                </a:moveTo>
                <a:lnTo>
                  <a:pt x="333618" y="383469"/>
                </a:lnTo>
                <a:lnTo>
                  <a:pt x="42182" y="383469"/>
                </a:lnTo>
                <a:lnTo>
                  <a:pt x="0" y="149553"/>
                </a:lnTo>
                <a:lnTo>
                  <a:pt x="438433" y="89476"/>
                </a:lnTo>
                <a:close/>
                <a:moveTo>
                  <a:pt x="521193" y="0"/>
                </a:moveTo>
                <a:cubicBezTo>
                  <a:pt x="521193" y="0"/>
                  <a:pt x="521193" y="0"/>
                  <a:pt x="641252" y="0"/>
                </a:cubicBezTo>
                <a:cubicBezTo>
                  <a:pt x="651427" y="0"/>
                  <a:pt x="659566" y="8120"/>
                  <a:pt x="659566" y="18271"/>
                </a:cubicBezTo>
                <a:cubicBezTo>
                  <a:pt x="659566" y="28422"/>
                  <a:pt x="651427" y="36542"/>
                  <a:pt x="641252" y="36542"/>
                </a:cubicBezTo>
                <a:cubicBezTo>
                  <a:pt x="641252" y="36542"/>
                  <a:pt x="641252" y="36542"/>
                  <a:pt x="535437" y="36542"/>
                </a:cubicBezTo>
                <a:cubicBezTo>
                  <a:pt x="535437" y="36542"/>
                  <a:pt x="535437" y="36542"/>
                  <a:pt x="386889" y="436478"/>
                </a:cubicBezTo>
                <a:cubicBezTo>
                  <a:pt x="386889" y="436478"/>
                  <a:pt x="386889" y="436478"/>
                  <a:pt x="386889" y="438508"/>
                </a:cubicBezTo>
                <a:cubicBezTo>
                  <a:pt x="384854" y="440539"/>
                  <a:pt x="384854" y="440539"/>
                  <a:pt x="382819" y="442569"/>
                </a:cubicBezTo>
                <a:cubicBezTo>
                  <a:pt x="380784" y="444599"/>
                  <a:pt x="380784" y="444599"/>
                  <a:pt x="378749" y="446629"/>
                </a:cubicBezTo>
                <a:cubicBezTo>
                  <a:pt x="378749" y="446629"/>
                  <a:pt x="378749" y="446629"/>
                  <a:pt x="376714" y="446629"/>
                </a:cubicBezTo>
                <a:cubicBezTo>
                  <a:pt x="374679" y="448659"/>
                  <a:pt x="372644" y="448659"/>
                  <a:pt x="370609" y="448659"/>
                </a:cubicBezTo>
                <a:cubicBezTo>
                  <a:pt x="370609" y="448659"/>
                  <a:pt x="370609" y="448659"/>
                  <a:pt x="69443" y="448659"/>
                </a:cubicBezTo>
                <a:cubicBezTo>
                  <a:pt x="59269" y="448659"/>
                  <a:pt x="51129" y="440539"/>
                  <a:pt x="51129" y="430388"/>
                </a:cubicBezTo>
                <a:cubicBezTo>
                  <a:pt x="51129" y="420237"/>
                  <a:pt x="59269" y="412117"/>
                  <a:pt x="69443" y="412117"/>
                </a:cubicBezTo>
                <a:cubicBezTo>
                  <a:pt x="69443" y="412117"/>
                  <a:pt x="69443" y="412117"/>
                  <a:pt x="358400" y="412117"/>
                </a:cubicBezTo>
                <a:cubicBezTo>
                  <a:pt x="358400" y="412117"/>
                  <a:pt x="358400" y="412117"/>
                  <a:pt x="504913" y="12181"/>
                </a:cubicBezTo>
                <a:cubicBezTo>
                  <a:pt x="504913" y="10151"/>
                  <a:pt x="506948" y="10151"/>
                  <a:pt x="506948" y="8120"/>
                </a:cubicBezTo>
                <a:cubicBezTo>
                  <a:pt x="506948" y="8120"/>
                  <a:pt x="508983" y="6090"/>
                  <a:pt x="508983" y="6090"/>
                </a:cubicBezTo>
                <a:cubicBezTo>
                  <a:pt x="508983" y="4060"/>
                  <a:pt x="511018" y="4060"/>
                  <a:pt x="511018" y="4060"/>
                </a:cubicBezTo>
                <a:cubicBezTo>
                  <a:pt x="513053" y="4060"/>
                  <a:pt x="513053" y="2030"/>
                  <a:pt x="515088" y="2030"/>
                </a:cubicBezTo>
                <a:cubicBezTo>
                  <a:pt x="515088" y="2030"/>
                  <a:pt x="517123" y="2030"/>
                  <a:pt x="517123" y="2030"/>
                </a:cubicBezTo>
                <a:cubicBezTo>
                  <a:pt x="519158" y="0"/>
                  <a:pt x="521193" y="0"/>
                  <a:pt x="521193" y="0"/>
                </a:cubicBezTo>
                <a:close/>
              </a:path>
            </a:pathLst>
          </a:cu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196" name="任意多边形 56"/>
          <p:cNvSpPr/>
          <p:nvPr/>
        </p:nvSpPr>
        <p:spPr>
          <a:xfrm>
            <a:off x="5586480" y="1704960"/>
            <a:ext cx="441000" cy="421920"/>
          </a:xfrm>
          <a:custGeom>
            <a:avLst/>
            <a:gdLst>
              <a:gd name="textAreaLeft" fmla="*/ 0 w 441000"/>
              <a:gd name="textAreaRight" fmla="*/ 441360 w 441000"/>
              <a:gd name="textAreaTop" fmla="*/ 0 h 421920"/>
              <a:gd name="textAreaBottom" fmla="*/ 422280 h 421920"/>
            </a:gdLst>
            <a:ahLst/>
            <a:rect l="textAreaLeft" t="textAreaTop" r="textAreaRight" b="textAreaBottom"/>
            <a:pathLst>
              <a:path w="472944" h="452494">
                <a:moveTo>
                  <a:pt x="130379" y="208352"/>
                </a:moveTo>
                <a:lnTo>
                  <a:pt x="216021" y="208352"/>
                </a:lnTo>
                <a:lnTo>
                  <a:pt x="216021" y="452494"/>
                </a:lnTo>
                <a:lnTo>
                  <a:pt x="130379" y="452494"/>
                </a:lnTo>
                <a:lnTo>
                  <a:pt x="130379" y="208352"/>
                </a:lnTo>
                <a:close/>
                <a:moveTo>
                  <a:pt x="259480" y="154666"/>
                </a:moveTo>
                <a:lnTo>
                  <a:pt x="345122" y="154666"/>
                </a:lnTo>
                <a:lnTo>
                  <a:pt x="345122" y="452494"/>
                </a:lnTo>
                <a:lnTo>
                  <a:pt x="259480" y="452494"/>
                </a:lnTo>
                <a:lnTo>
                  <a:pt x="259480" y="154666"/>
                </a:lnTo>
                <a:close/>
                <a:moveTo>
                  <a:pt x="387302" y="98424"/>
                </a:moveTo>
                <a:lnTo>
                  <a:pt x="472944" y="98424"/>
                </a:lnTo>
                <a:lnTo>
                  <a:pt x="472944" y="452494"/>
                </a:lnTo>
                <a:lnTo>
                  <a:pt x="387302" y="452494"/>
                </a:lnTo>
                <a:lnTo>
                  <a:pt x="387302" y="98424"/>
                </a:lnTo>
                <a:close/>
                <a:moveTo>
                  <a:pt x="317645" y="0"/>
                </a:moveTo>
                <a:cubicBezTo>
                  <a:pt x="340008" y="106349"/>
                  <a:pt x="340008" y="106349"/>
                  <a:pt x="340008" y="106349"/>
                </a:cubicBezTo>
                <a:cubicBezTo>
                  <a:pt x="293249" y="81807"/>
                  <a:pt x="293249" y="81807"/>
                  <a:pt x="293249" y="81807"/>
                </a:cubicBezTo>
                <a:cubicBezTo>
                  <a:pt x="293249" y="81807"/>
                  <a:pt x="260722" y="173839"/>
                  <a:pt x="126544" y="173839"/>
                </a:cubicBezTo>
                <a:cubicBezTo>
                  <a:pt x="126544" y="173839"/>
                  <a:pt x="240392" y="143162"/>
                  <a:pt x="250557" y="57265"/>
                </a:cubicBezTo>
                <a:cubicBezTo>
                  <a:pt x="207864" y="26587"/>
                  <a:pt x="207864" y="26587"/>
                  <a:pt x="207864" y="26587"/>
                </a:cubicBezTo>
                <a:cubicBezTo>
                  <a:pt x="317645" y="0"/>
                  <a:pt x="317645" y="0"/>
                  <a:pt x="317645" y="0"/>
                </a:cubicBezTo>
                <a:close/>
                <a:moveTo>
                  <a:pt x="0" y="0"/>
                </a:moveTo>
                <a:lnTo>
                  <a:pt x="85642" y="0"/>
                </a:lnTo>
                <a:lnTo>
                  <a:pt x="85642" y="452493"/>
                </a:lnTo>
                <a:lnTo>
                  <a:pt x="0" y="452493"/>
                </a:lnTo>
                <a:lnTo>
                  <a:pt x="0" y="0"/>
                </a:lnTo>
                <a:close/>
              </a:path>
            </a:pathLst>
          </a:cu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grpSp>
        <p:nvGrpSpPr>
          <p:cNvPr id="197" name="组合 53"/>
          <p:cNvGrpSpPr/>
          <p:nvPr/>
        </p:nvGrpSpPr>
        <p:grpSpPr>
          <a:xfrm>
            <a:off x="2930400" y="5572080"/>
            <a:ext cx="622080" cy="473040"/>
            <a:chOff x="2930400" y="5572080"/>
            <a:chExt cx="622080" cy="473040"/>
          </a:xfrm>
        </p:grpSpPr>
        <p:sp>
          <p:nvSpPr>
            <p:cNvPr id="198" name="Freeform 328"/>
            <p:cNvSpPr/>
            <p:nvPr/>
          </p:nvSpPr>
          <p:spPr>
            <a:xfrm>
              <a:off x="2930400" y="5635440"/>
              <a:ext cx="410760" cy="4096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17" h="216">
                  <a:moveTo>
                    <a:pt x="217" y="122"/>
                  </a:moveTo>
                  <a:cubicBezTo>
                    <a:pt x="217" y="94"/>
                    <a:pt x="217" y="94"/>
                    <a:pt x="217" y="94"/>
                  </a:cubicBezTo>
                  <a:cubicBezTo>
                    <a:pt x="196" y="89"/>
                    <a:pt x="196" y="89"/>
                    <a:pt x="196" y="89"/>
                  </a:cubicBezTo>
                  <a:cubicBezTo>
                    <a:pt x="194" y="83"/>
                    <a:pt x="193" y="78"/>
                    <a:pt x="190" y="72"/>
                  </a:cubicBezTo>
                  <a:cubicBezTo>
                    <a:pt x="205" y="56"/>
                    <a:pt x="205" y="56"/>
                    <a:pt x="205" y="56"/>
                  </a:cubicBezTo>
                  <a:cubicBezTo>
                    <a:pt x="188" y="33"/>
                    <a:pt x="188" y="33"/>
                    <a:pt x="188" y="33"/>
                  </a:cubicBezTo>
                  <a:cubicBezTo>
                    <a:pt x="168" y="42"/>
                    <a:pt x="168" y="42"/>
                    <a:pt x="168" y="42"/>
                  </a:cubicBezTo>
                  <a:cubicBezTo>
                    <a:pt x="163" y="38"/>
                    <a:pt x="159" y="34"/>
                    <a:pt x="154" y="31"/>
                  </a:cubicBezTo>
                  <a:cubicBezTo>
                    <a:pt x="156" y="9"/>
                    <a:pt x="156" y="9"/>
                    <a:pt x="156" y="9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18" y="20"/>
                    <a:pt x="118" y="20"/>
                    <a:pt x="118" y="20"/>
                  </a:cubicBezTo>
                  <a:cubicBezTo>
                    <a:pt x="115" y="19"/>
                    <a:pt x="112" y="19"/>
                    <a:pt x="109" y="19"/>
                  </a:cubicBezTo>
                  <a:cubicBezTo>
                    <a:pt x="106" y="19"/>
                    <a:pt x="103" y="19"/>
                    <a:pt x="100" y="2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4" y="31"/>
                    <a:pt x="64" y="31"/>
                    <a:pt x="64" y="31"/>
                  </a:cubicBezTo>
                  <a:cubicBezTo>
                    <a:pt x="59" y="34"/>
                    <a:pt x="54" y="38"/>
                    <a:pt x="50" y="42"/>
                  </a:cubicBezTo>
                  <a:cubicBezTo>
                    <a:pt x="29" y="33"/>
                    <a:pt x="29" y="33"/>
                    <a:pt x="29" y="33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28" y="72"/>
                    <a:pt x="28" y="72"/>
                    <a:pt x="28" y="72"/>
                  </a:cubicBezTo>
                  <a:cubicBezTo>
                    <a:pt x="25" y="78"/>
                    <a:pt x="23" y="83"/>
                    <a:pt x="22" y="89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22" y="127"/>
                    <a:pt x="22" y="127"/>
                    <a:pt x="22" y="127"/>
                  </a:cubicBezTo>
                  <a:cubicBezTo>
                    <a:pt x="23" y="133"/>
                    <a:pt x="25" y="138"/>
                    <a:pt x="28" y="144"/>
                  </a:cubicBezTo>
                  <a:cubicBezTo>
                    <a:pt x="13" y="160"/>
                    <a:pt x="13" y="160"/>
                    <a:pt x="13" y="160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50" y="174"/>
                    <a:pt x="50" y="174"/>
                    <a:pt x="50" y="174"/>
                  </a:cubicBezTo>
                  <a:cubicBezTo>
                    <a:pt x="54" y="178"/>
                    <a:pt x="59" y="182"/>
                    <a:pt x="64" y="185"/>
                  </a:cubicBezTo>
                  <a:cubicBezTo>
                    <a:pt x="62" y="207"/>
                    <a:pt x="62" y="207"/>
                    <a:pt x="62" y="207"/>
                  </a:cubicBezTo>
                  <a:cubicBezTo>
                    <a:pt x="89" y="216"/>
                    <a:pt x="89" y="216"/>
                    <a:pt x="89" y="216"/>
                  </a:cubicBezTo>
                  <a:cubicBezTo>
                    <a:pt x="100" y="196"/>
                    <a:pt x="100" y="196"/>
                    <a:pt x="100" y="196"/>
                  </a:cubicBezTo>
                  <a:cubicBezTo>
                    <a:pt x="103" y="197"/>
                    <a:pt x="106" y="197"/>
                    <a:pt x="109" y="197"/>
                  </a:cubicBezTo>
                  <a:cubicBezTo>
                    <a:pt x="112" y="197"/>
                    <a:pt x="115" y="197"/>
                    <a:pt x="118" y="196"/>
                  </a:cubicBezTo>
                  <a:cubicBezTo>
                    <a:pt x="129" y="216"/>
                    <a:pt x="129" y="216"/>
                    <a:pt x="129" y="216"/>
                  </a:cubicBezTo>
                  <a:cubicBezTo>
                    <a:pt x="156" y="207"/>
                    <a:pt x="156" y="207"/>
                    <a:pt x="156" y="207"/>
                  </a:cubicBezTo>
                  <a:cubicBezTo>
                    <a:pt x="154" y="185"/>
                    <a:pt x="154" y="185"/>
                    <a:pt x="154" y="185"/>
                  </a:cubicBezTo>
                  <a:cubicBezTo>
                    <a:pt x="159" y="182"/>
                    <a:pt x="164" y="178"/>
                    <a:pt x="168" y="174"/>
                  </a:cubicBezTo>
                  <a:cubicBezTo>
                    <a:pt x="188" y="183"/>
                    <a:pt x="188" y="183"/>
                    <a:pt x="188" y="183"/>
                  </a:cubicBezTo>
                  <a:cubicBezTo>
                    <a:pt x="205" y="160"/>
                    <a:pt x="205" y="160"/>
                    <a:pt x="205" y="160"/>
                  </a:cubicBezTo>
                  <a:cubicBezTo>
                    <a:pt x="190" y="144"/>
                    <a:pt x="190" y="144"/>
                    <a:pt x="190" y="144"/>
                  </a:cubicBezTo>
                  <a:cubicBezTo>
                    <a:pt x="193" y="138"/>
                    <a:pt x="194" y="133"/>
                    <a:pt x="196" y="127"/>
                  </a:cubicBezTo>
                  <a:lnTo>
                    <a:pt x="217" y="122"/>
                  </a:lnTo>
                  <a:close/>
                  <a:moveTo>
                    <a:pt x="109" y="172"/>
                  </a:moveTo>
                  <a:cubicBezTo>
                    <a:pt x="74" y="172"/>
                    <a:pt x="45" y="143"/>
                    <a:pt x="45" y="108"/>
                  </a:cubicBezTo>
                  <a:cubicBezTo>
                    <a:pt x="45" y="73"/>
                    <a:pt x="74" y="44"/>
                    <a:pt x="109" y="44"/>
                  </a:cubicBezTo>
                  <a:cubicBezTo>
                    <a:pt x="144" y="44"/>
                    <a:pt x="172" y="73"/>
                    <a:pt x="172" y="108"/>
                  </a:cubicBezTo>
                  <a:cubicBezTo>
                    <a:pt x="172" y="143"/>
                    <a:pt x="144" y="172"/>
                    <a:pt x="109" y="172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5f5f5f"/>
                </a:solidFill>
                <a:latin typeface="Calibri"/>
                <a:ea typeface="幼圆"/>
              </a:endParaRPr>
            </a:p>
          </p:txBody>
        </p:sp>
        <p:sp>
          <p:nvSpPr>
            <p:cNvPr id="199" name="Freeform 329"/>
            <p:cNvSpPr/>
            <p:nvPr/>
          </p:nvSpPr>
          <p:spPr>
            <a:xfrm>
              <a:off x="3308400" y="5572080"/>
              <a:ext cx="244080" cy="2426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29" h="128">
                  <a:moveTo>
                    <a:pt x="129" y="72"/>
                  </a:moveTo>
                  <a:cubicBezTo>
                    <a:pt x="129" y="55"/>
                    <a:pt x="129" y="55"/>
                    <a:pt x="129" y="55"/>
                  </a:cubicBezTo>
                  <a:cubicBezTo>
                    <a:pt x="116" y="53"/>
                    <a:pt x="116" y="53"/>
                    <a:pt x="116" y="53"/>
                  </a:cubicBezTo>
                  <a:cubicBezTo>
                    <a:pt x="116" y="49"/>
                    <a:pt x="115" y="46"/>
                    <a:pt x="113" y="43"/>
                  </a:cubicBezTo>
                  <a:cubicBezTo>
                    <a:pt x="122" y="33"/>
                    <a:pt x="122" y="33"/>
                    <a:pt x="122" y="33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97" y="22"/>
                    <a:pt x="95" y="20"/>
                    <a:pt x="91" y="18"/>
                  </a:cubicBezTo>
                  <a:cubicBezTo>
                    <a:pt x="93" y="5"/>
                    <a:pt x="93" y="5"/>
                    <a:pt x="93" y="5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0" y="11"/>
                    <a:pt x="70" y="11"/>
                    <a:pt x="70" y="11"/>
                  </a:cubicBezTo>
                  <a:cubicBezTo>
                    <a:pt x="68" y="11"/>
                    <a:pt x="67" y="11"/>
                    <a:pt x="65" y="11"/>
                  </a:cubicBezTo>
                  <a:cubicBezTo>
                    <a:pt x="63" y="11"/>
                    <a:pt x="61" y="11"/>
                    <a:pt x="60" y="1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35" y="20"/>
                    <a:pt x="32" y="22"/>
                    <a:pt x="30" y="25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5" y="46"/>
                    <a:pt x="14" y="49"/>
                    <a:pt x="13" y="5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3" y="75"/>
                    <a:pt x="13" y="75"/>
                    <a:pt x="13" y="75"/>
                  </a:cubicBezTo>
                  <a:cubicBezTo>
                    <a:pt x="14" y="79"/>
                    <a:pt x="15" y="82"/>
                    <a:pt x="17" y="85"/>
                  </a:cubicBezTo>
                  <a:cubicBezTo>
                    <a:pt x="8" y="95"/>
                    <a:pt x="8" y="95"/>
                    <a:pt x="8" y="95"/>
                  </a:cubicBezTo>
                  <a:cubicBezTo>
                    <a:pt x="18" y="109"/>
                    <a:pt x="18" y="109"/>
                    <a:pt x="18" y="109"/>
                  </a:cubicBezTo>
                  <a:cubicBezTo>
                    <a:pt x="30" y="103"/>
                    <a:pt x="30" y="103"/>
                    <a:pt x="30" y="103"/>
                  </a:cubicBezTo>
                  <a:cubicBezTo>
                    <a:pt x="32" y="106"/>
                    <a:pt x="35" y="108"/>
                    <a:pt x="38" y="110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53" y="128"/>
                    <a:pt x="53" y="128"/>
                    <a:pt x="53" y="12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7"/>
                    <a:pt x="63" y="117"/>
                    <a:pt x="65" y="117"/>
                  </a:cubicBezTo>
                  <a:cubicBezTo>
                    <a:pt x="67" y="117"/>
                    <a:pt x="68" y="117"/>
                    <a:pt x="70" y="116"/>
                  </a:cubicBezTo>
                  <a:cubicBezTo>
                    <a:pt x="77" y="128"/>
                    <a:pt x="77" y="128"/>
                    <a:pt x="77" y="128"/>
                  </a:cubicBezTo>
                  <a:cubicBezTo>
                    <a:pt x="93" y="123"/>
                    <a:pt x="93" y="123"/>
                    <a:pt x="93" y="123"/>
                  </a:cubicBezTo>
                  <a:cubicBezTo>
                    <a:pt x="92" y="110"/>
                    <a:pt x="92" y="110"/>
                    <a:pt x="92" y="110"/>
                  </a:cubicBezTo>
                  <a:cubicBezTo>
                    <a:pt x="95" y="108"/>
                    <a:pt x="97" y="106"/>
                    <a:pt x="100" y="103"/>
                  </a:cubicBezTo>
                  <a:cubicBezTo>
                    <a:pt x="112" y="109"/>
                    <a:pt x="112" y="109"/>
                    <a:pt x="112" y="109"/>
                  </a:cubicBezTo>
                  <a:cubicBezTo>
                    <a:pt x="122" y="95"/>
                    <a:pt x="122" y="95"/>
                    <a:pt x="122" y="95"/>
                  </a:cubicBezTo>
                  <a:cubicBezTo>
                    <a:pt x="113" y="85"/>
                    <a:pt x="113" y="85"/>
                    <a:pt x="113" y="85"/>
                  </a:cubicBezTo>
                  <a:cubicBezTo>
                    <a:pt x="115" y="82"/>
                    <a:pt x="116" y="79"/>
                    <a:pt x="116" y="75"/>
                  </a:cubicBezTo>
                  <a:lnTo>
                    <a:pt x="129" y="72"/>
                  </a:lnTo>
                  <a:close/>
                  <a:moveTo>
                    <a:pt x="65" y="102"/>
                  </a:moveTo>
                  <a:cubicBezTo>
                    <a:pt x="44" y="102"/>
                    <a:pt x="27" y="85"/>
                    <a:pt x="27" y="64"/>
                  </a:cubicBezTo>
                  <a:cubicBezTo>
                    <a:pt x="27" y="43"/>
                    <a:pt x="44" y="26"/>
                    <a:pt x="65" y="26"/>
                  </a:cubicBezTo>
                  <a:cubicBezTo>
                    <a:pt x="86" y="26"/>
                    <a:pt x="103" y="43"/>
                    <a:pt x="103" y="64"/>
                  </a:cubicBezTo>
                  <a:cubicBezTo>
                    <a:pt x="103" y="85"/>
                    <a:pt x="86" y="102"/>
                    <a:pt x="65" y="102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5f5f5f"/>
                </a:solidFill>
                <a:latin typeface="Calibri"/>
                <a:ea typeface="幼圆"/>
              </a:endParaRPr>
            </a:p>
          </p:txBody>
        </p:sp>
      </p:grpSp>
      <p:sp>
        <p:nvSpPr>
          <p:cNvPr id="200" name="任意多边形 57"/>
          <p:cNvSpPr/>
          <p:nvPr/>
        </p:nvSpPr>
        <p:spPr>
          <a:xfrm>
            <a:off x="3002040" y="1731960"/>
            <a:ext cx="482400" cy="501120"/>
          </a:xfrm>
          <a:custGeom>
            <a:avLst/>
            <a:gdLst>
              <a:gd name="textAreaLeft" fmla="*/ 0 w 482400"/>
              <a:gd name="textAreaRight" fmla="*/ 482760 w 482400"/>
              <a:gd name="textAreaTop" fmla="*/ 0 h 501120"/>
              <a:gd name="textAreaBottom" fmla="*/ 501480 h 501120"/>
            </a:gdLst>
            <a:ahLst/>
            <a:rect l="textAreaLeft" t="textAreaTop" r="textAreaRight" b="textAreaBottom"/>
            <a:pathLst>
              <a:path w="517683" h="539412">
                <a:moveTo>
                  <a:pt x="270984" y="0"/>
                </a:moveTo>
                <a:cubicBezTo>
                  <a:pt x="270984" y="0"/>
                  <a:pt x="270984" y="0"/>
                  <a:pt x="270984" y="10305"/>
                </a:cubicBezTo>
                <a:lnTo>
                  <a:pt x="270984" y="24287"/>
                </a:lnTo>
                <a:cubicBezTo>
                  <a:pt x="407586" y="24287"/>
                  <a:pt x="517683" y="136080"/>
                  <a:pt x="517683" y="272263"/>
                </a:cubicBezTo>
                <a:cubicBezTo>
                  <a:pt x="517683" y="408447"/>
                  <a:pt x="407586" y="518207"/>
                  <a:pt x="270984" y="520239"/>
                </a:cubicBezTo>
                <a:cubicBezTo>
                  <a:pt x="270984" y="520239"/>
                  <a:pt x="270984" y="520239"/>
                  <a:pt x="270984" y="518207"/>
                </a:cubicBezTo>
                <a:lnTo>
                  <a:pt x="270984" y="504900"/>
                </a:lnTo>
                <a:lnTo>
                  <a:pt x="268951" y="504900"/>
                </a:lnTo>
                <a:cubicBezTo>
                  <a:pt x="140806" y="504900"/>
                  <a:pt x="37069" y="401111"/>
                  <a:pt x="37069" y="272902"/>
                </a:cubicBezTo>
                <a:cubicBezTo>
                  <a:pt x="37069" y="144692"/>
                  <a:pt x="140806" y="40903"/>
                  <a:pt x="268951" y="40903"/>
                </a:cubicBezTo>
                <a:cubicBezTo>
                  <a:pt x="268951" y="40903"/>
                  <a:pt x="268951" y="40903"/>
                  <a:pt x="270985" y="40903"/>
                </a:cubicBezTo>
                <a:cubicBezTo>
                  <a:pt x="270985" y="40903"/>
                  <a:pt x="270985" y="40903"/>
                  <a:pt x="270985" y="230407"/>
                </a:cubicBezTo>
                <a:lnTo>
                  <a:pt x="270985" y="323276"/>
                </a:lnTo>
                <a:lnTo>
                  <a:pt x="272732" y="320802"/>
                </a:lnTo>
                <a:cubicBezTo>
                  <a:pt x="277977" y="313374"/>
                  <a:pt x="298957" y="283664"/>
                  <a:pt x="382874" y="164823"/>
                </a:cubicBezTo>
                <a:cubicBezTo>
                  <a:pt x="386943" y="156698"/>
                  <a:pt x="397115" y="154666"/>
                  <a:pt x="405252" y="160760"/>
                </a:cubicBezTo>
                <a:cubicBezTo>
                  <a:pt x="413390" y="166855"/>
                  <a:pt x="415424" y="177012"/>
                  <a:pt x="409321" y="185138"/>
                </a:cubicBezTo>
                <a:cubicBezTo>
                  <a:pt x="409321" y="185138"/>
                  <a:pt x="409321" y="185138"/>
                  <a:pt x="270984" y="382190"/>
                </a:cubicBezTo>
                <a:cubicBezTo>
                  <a:pt x="270984" y="382190"/>
                  <a:pt x="270984" y="382190"/>
                  <a:pt x="270984" y="357336"/>
                </a:cubicBezTo>
                <a:lnTo>
                  <a:pt x="270984" y="323779"/>
                </a:lnTo>
                <a:lnTo>
                  <a:pt x="266917" y="327849"/>
                </a:lnTo>
                <a:cubicBezTo>
                  <a:pt x="266917" y="327849"/>
                  <a:pt x="266917" y="327849"/>
                  <a:pt x="228270" y="270866"/>
                </a:cubicBezTo>
                <a:cubicBezTo>
                  <a:pt x="222168" y="262726"/>
                  <a:pt x="211997" y="260691"/>
                  <a:pt x="203861" y="266796"/>
                </a:cubicBezTo>
                <a:cubicBezTo>
                  <a:pt x="197759" y="270866"/>
                  <a:pt x="195725" y="281042"/>
                  <a:pt x="199793" y="289182"/>
                </a:cubicBezTo>
                <a:lnTo>
                  <a:pt x="266917" y="386866"/>
                </a:lnTo>
                <a:cubicBezTo>
                  <a:pt x="266917" y="386866"/>
                  <a:pt x="266917" y="386866"/>
                  <a:pt x="270985" y="382796"/>
                </a:cubicBezTo>
                <a:cubicBezTo>
                  <a:pt x="270985" y="382796"/>
                  <a:pt x="270985" y="382796"/>
                  <a:pt x="270985" y="464596"/>
                </a:cubicBezTo>
                <a:lnTo>
                  <a:pt x="270985" y="503978"/>
                </a:lnTo>
                <a:lnTo>
                  <a:pt x="317176" y="498607"/>
                </a:lnTo>
                <a:cubicBezTo>
                  <a:pt x="421762" y="475681"/>
                  <a:pt x="501372" y="382531"/>
                  <a:pt x="501372" y="272263"/>
                </a:cubicBezTo>
                <a:cubicBezTo>
                  <a:pt x="501372" y="144210"/>
                  <a:pt x="397392" y="40548"/>
                  <a:pt x="270984" y="40548"/>
                </a:cubicBezTo>
                <a:cubicBezTo>
                  <a:pt x="270984" y="40548"/>
                  <a:pt x="270984" y="40548"/>
                  <a:pt x="270984" y="38515"/>
                </a:cubicBezTo>
                <a:lnTo>
                  <a:pt x="270984" y="24426"/>
                </a:lnTo>
                <a:cubicBezTo>
                  <a:pt x="270984" y="24426"/>
                  <a:pt x="270984" y="24426"/>
                  <a:pt x="268946" y="22391"/>
                </a:cubicBezTo>
                <a:cubicBezTo>
                  <a:pt x="130398" y="22391"/>
                  <a:pt x="18337" y="134344"/>
                  <a:pt x="18337" y="272759"/>
                </a:cubicBezTo>
                <a:cubicBezTo>
                  <a:pt x="18337" y="409139"/>
                  <a:pt x="130398" y="521092"/>
                  <a:pt x="268946" y="521092"/>
                </a:cubicBezTo>
                <a:cubicBezTo>
                  <a:pt x="268946" y="521092"/>
                  <a:pt x="268946" y="521092"/>
                  <a:pt x="270984" y="521092"/>
                </a:cubicBezTo>
                <a:cubicBezTo>
                  <a:pt x="270984" y="521092"/>
                  <a:pt x="270984" y="521092"/>
                  <a:pt x="270984" y="539412"/>
                </a:cubicBezTo>
                <a:cubicBezTo>
                  <a:pt x="120211" y="539412"/>
                  <a:pt x="0" y="419317"/>
                  <a:pt x="0" y="270724"/>
                </a:cubicBezTo>
                <a:cubicBezTo>
                  <a:pt x="0" y="120096"/>
                  <a:pt x="120211" y="0"/>
                  <a:pt x="270984" y="0"/>
                </a:cubicBezTo>
                <a:close/>
              </a:path>
            </a:pathLst>
          </a:cu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201" name="文本框 47"/>
          <p:cNvSpPr/>
          <p:nvPr/>
        </p:nvSpPr>
        <p:spPr>
          <a:xfrm>
            <a:off x="1725120" y="4213080"/>
            <a:ext cx="714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605e5e"/>
                </a:solidFill>
                <a:latin typeface="幼圆"/>
                <a:ea typeface="幼圆"/>
              </a:rPr>
              <a:t>配色，方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50"/>
          <p:cNvSpPr/>
          <p:nvPr/>
        </p:nvSpPr>
        <p:spPr>
          <a:xfrm>
            <a:off x="3193200" y="4060800"/>
            <a:ext cx="3019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定制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D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KSO_Shape"/>
          <p:cNvSpPr/>
          <p:nvPr/>
        </p:nvSpPr>
        <p:spPr>
          <a:xfrm>
            <a:off x="6624720" y="3616200"/>
            <a:ext cx="326520" cy="517320"/>
          </a:xfrm>
          <a:custGeom>
            <a:avLst/>
            <a:gdLst>
              <a:gd name="textAreaLeft" fmla="*/ 0 w 326520"/>
              <a:gd name="textAreaRight" fmla="*/ 326880 w 3265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3056" h="5429">
                <a:moveTo>
                  <a:pt x="2609" y="448"/>
                </a:moveTo>
                <a:lnTo>
                  <a:pt x="2609" y="448"/>
                </a:lnTo>
                <a:lnTo>
                  <a:pt x="2575" y="415"/>
                </a:lnTo>
                <a:lnTo>
                  <a:pt x="2538" y="383"/>
                </a:lnTo>
                <a:lnTo>
                  <a:pt x="2503" y="352"/>
                </a:lnTo>
                <a:lnTo>
                  <a:pt x="2465" y="322"/>
                </a:lnTo>
                <a:lnTo>
                  <a:pt x="2426" y="293"/>
                </a:lnTo>
                <a:lnTo>
                  <a:pt x="2388" y="265"/>
                </a:lnTo>
                <a:lnTo>
                  <a:pt x="2348" y="239"/>
                </a:lnTo>
                <a:lnTo>
                  <a:pt x="2307" y="213"/>
                </a:lnTo>
                <a:lnTo>
                  <a:pt x="2266" y="190"/>
                </a:lnTo>
                <a:lnTo>
                  <a:pt x="2224" y="168"/>
                </a:lnTo>
                <a:lnTo>
                  <a:pt x="2182" y="146"/>
                </a:lnTo>
                <a:lnTo>
                  <a:pt x="2138" y="127"/>
                </a:lnTo>
                <a:lnTo>
                  <a:pt x="2095" y="108"/>
                </a:lnTo>
                <a:lnTo>
                  <a:pt x="2049" y="91"/>
                </a:lnTo>
                <a:lnTo>
                  <a:pt x="2005" y="75"/>
                </a:lnTo>
                <a:lnTo>
                  <a:pt x="1960" y="61"/>
                </a:lnTo>
                <a:lnTo>
                  <a:pt x="1907" y="46"/>
                </a:lnTo>
                <a:lnTo>
                  <a:pt x="1853" y="34"/>
                </a:lnTo>
                <a:lnTo>
                  <a:pt x="1800" y="24"/>
                </a:lnTo>
                <a:lnTo>
                  <a:pt x="1746" y="15"/>
                </a:lnTo>
                <a:lnTo>
                  <a:pt x="1692" y="9"/>
                </a:lnTo>
                <a:lnTo>
                  <a:pt x="1638" y="3"/>
                </a:lnTo>
                <a:lnTo>
                  <a:pt x="1582" y="1"/>
                </a:lnTo>
                <a:lnTo>
                  <a:pt x="1527" y="0"/>
                </a:lnTo>
                <a:lnTo>
                  <a:pt x="1490" y="0"/>
                </a:lnTo>
                <a:lnTo>
                  <a:pt x="1451" y="2"/>
                </a:lnTo>
                <a:lnTo>
                  <a:pt x="1413" y="4"/>
                </a:lnTo>
                <a:lnTo>
                  <a:pt x="1376" y="8"/>
                </a:lnTo>
                <a:lnTo>
                  <a:pt x="1338" y="11"/>
                </a:lnTo>
                <a:lnTo>
                  <a:pt x="1302" y="17"/>
                </a:lnTo>
                <a:lnTo>
                  <a:pt x="1264" y="22"/>
                </a:lnTo>
                <a:lnTo>
                  <a:pt x="1227" y="29"/>
                </a:lnTo>
                <a:lnTo>
                  <a:pt x="1191" y="36"/>
                </a:lnTo>
                <a:lnTo>
                  <a:pt x="1154" y="45"/>
                </a:lnTo>
                <a:lnTo>
                  <a:pt x="1118" y="55"/>
                </a:lnTo>
                <a:lnTo>
                  <a:pt x="1083" y="65"/>
                </a:lnTo>
                <a:lnTo>
                  <a:pt x="1047" y="76"/>
                </a:lnTo>
                <a:lnTo>
                  <a:pt x="1012" y="88"/>
                </a:lnTo>
                <a:lnTo>
                  <a:pt x="977" y="102"/>
                </a:lnTo>
                <a:lnTo>
                  <a:pt x="942" y="115"/>
                </a:lnTo>
                <a:lnTo>
                  <a:pt x="909" y="130"/>
                </a:lnTo>
                <a:lnTo>
                  <a:pt x="875" y="146"/>
                </a:lnTo>
                <a:lnTo>
                  <a:pt x="841" y="161"/>
                </a:lnTo>
                <a:lnTo>
                  <a:pt x="808" y="179"/>
                </a:lnTo>
                <a:lnTo>
                  <a:pt x="775" y="197"/>
                </a:lnTo>
                <a:lnTo>
                  <a:pt x="743" y="216"/>
                </a:lnTo>
                <a:lnTo>
                  <a:pt x="712" y="235"/>
                </a:lnTo>
                <a:lnTo>
                  <a:pt x="680" y="255"/>
                </a:lnTo>
                <a:lnTo>
                  <a:pt x="649" y="277"/>
                </a:lnTo>
                <a:lnTo>
                  <a:pt x="619" y="300"/>
                </a:lnTo>
                <a:lnTo>
                  <a:pt x="589" y="322"/>
                </a:lnTo>
                <a:lnTo>
                  <a:pt x="559" y="345"/>
                </a:lnTo>
                <a:lnTo>
                  <a:pt x="531" y="370"/>
                </a:lnTo>
                <a:lnTo>
                  <a:pt x="502" y="395"/>
                </a:lnTo>
                <a:lnTo>
                  <a:pt x="474" y="421"/>
                </a:lnTo>
                <a:lnTo>
                  <a:pt x="447" y="448"/>
                </a:lnTo>
                <a:lnTo>
                  <a:pt x="420" y="475"/>
                </a:lnTo>
                <a:lnTo>
                  <a:pt x="395" y="503"/>
                </a:lnTo>
                <a:lnTo>
                  <a:pt x="369" y="531"/>
                </a:lnTo>
                <a:lnTo>
                  <a:pt x="345" y="561"/>
                </a:lnTo>
                <a:lnTo>
                  <a:pt x="322" y="589"/>
                </a:lnTo>
                <a:lnTo>
                  <a:pt x="298" y="619"/>
                </a:lnTo>
                <a:lnTo>
                  <a:pt x="276" y="650"/>
                </a:lnTo>
                <a:lnTo>
                  <a:pt x="255" y="681"/>
                </a:lnTo>
                <a:lnTo>
                  <a:pt x="235" y="712"/>
                </a:lnTo>
                <a:lnTo>
                  <a:pt x="215" y="744"/>
                </a:lnTo>
                <a:lnTo>
                  <a:pt x="197" y="776"/>
                </a:lnTo>
                <a:lnTo>
                  <a:pt x="179" y="808"/>
                </a:lnTo>
                <a:lnTo>
                  <a:pt x="161" y="841"/>
                </a:lnTo>
                <a:lnTo>
                  <a:pt x="145" y="875"/>
                </a:lnTo>
                <a:lnTo>
                  <a:pt x="129" y="909"/>
                </a:lnTo>
                <a:lnTo>
                  <a:pt x="115" y="943"/>
                </a:lnTo>
                <a:lnTo>
                  <a:pt x="101" y="977"/>
                </a:lnTo>
                <a:lnTo>
                  <a:pt x="88" y="1012"/>
                </a:lnTo>
                <a:lnTo>
                  <a:pt x="76" y="1047"/>
                </a:lnTo>
                <a:lnTo>
                  <a:pt x="65" y="1082"/>
                </a:lnTo>
                <a:lnTo>
                  <a:pt x="55" y="1118"/>
                </a:lnTo>
                <a:lnTo>
                  <a:pt x="45" y="1154"/>
                </a:lnTo>
                <a:lnTo>
                  <a:pt x="36" y="1191"/>
                </a:lnTo>
                <a:lnTo>
                  <a:pt x="28" y="1227"/>
                </a:lnTo>
                <a:lnTo>
                  <a:pt x="22" y="1264"/>
                </a:lnTo>
                <a:lnTo>
                  <a:pt x="16" y="1301"/>
                </a:lnTo>
                <a:lnTo>
                  <a:pt x="11" y="1338"/>
                </a:lnTo>
                <a:lnTo>
                  <a:pt x="7" y="1376"/>
                </a:lnTo>
                <a:lnTo>
                  <a:pt x="4" y="1413"/>
                </a:lnTo>
                <a:lnTo>
                  <a:pt x="2" y="1452"/>
                </a:lnTo>
                <a:lnTo>
                  <a:pt x="0" y="1489"/>
                </a:lnTo>
                <a:lnTo>
                  <a:pt x="0" y="1527"/>
                </a:lnTo>
                <a:lnTo>
                  <a:pt x="6" y="1667"/>
                </a:lnTo>
                <a:lnTo>
                  <a:pt x="10" y="1707"/>
                </a:lnTo>
                <a:lnTo>
                  <a:pt x="15" y="1746"/>
                </a:lnTo>
                <a:lnTo>
                  <a:pt x="22" y="1785"/>
                </a:lnTo>
                <a:lnTo>
                  <a:pt x="28" y="1823"/>
                </a:lnTo>
                <a:lnTo>
                  <a:pt x="36" y="1862"/>
                </a:lnTo>
                <a:lnTo>
                  <a:pt x="45" y="1900"/>
                </a:lnTo>
                <a:lnTo>
                  <a:pt x="55" y="1937"/>
                </a:lnTo>
                <a:lnTo>
                  <a:pt x="66" y="1975"/>
                </a:lnTo>
                <a:lnTo>
                  <a:pt x="78" y="2012"/>
                </a:lnTo>
                <a:lnTo>
                  <a:pt x="92" y="2049"/>
                </a:lnTo>
                <a:lnTo>
                  <a:pt x="105" y="2085"/>
                </a:lnTo>
                <a:lnTo>
                  <a:pt x="119" y="2122"/>
                </a:lnTo>
                <a:lnTo>
                  <a:pt x="136" y="2157"/>
                </a:lnTo>
                <a:lnTo>
                  <a:pt x="152" y="2193"/>
                </a:lnTo>
                <a:lnTo>
                  <a:pt x="170" y="2228"/>
                </a:lnTo>
                <a:lnTo>
                  <a:pt x="189" y="2262"/>
                </a:lnTo>
                <a:lnTo>
                  <a:pt x="195" y="2277"/>
                </a:lnTo>
                <a:lnTo>
                  <a:pt x="213" y="2312"/>
                </a:lnTo>
                <a:lnTo>
                  <a:pt x="242" y="2366"/>
                </a:lnTo>
                <a:lnTo>
                  <a:pt x="278" y="2439"/>
                </a:lnTo>
                <a:lnTo>
                  <a:pt x="323" y="2528"/>
                </a:lnTo>
                <a:lnTo>
                  <a:pt x="371" y="2631"/>
                </a:lnTo>
                <a:lnTo>
                  <a:pt x="422" y="2743"/>
                </a:lnTo>
                <a:lnTo>
                  <a:pt x="450" y="2804"/>
                </a:lnTo>
                <a:lnTo>
                  <a:pt x="476" y="2867"/>
                </a:lnTo>
                <a:lnTo>
                  <a:pt x="503" y="2931"/>
                </a:lnTo>
                <a:lnTo>
                  <a:pt x="530" y="2998"/>
                </a:lnTo>
                <a:lnTo>
                  <a:pt x="556" y="3065"/>
                </a:lnTo>
                <a:lnTo>
                  <a:pt x="582" y="3134"/>
                </a:lnTo>
                <a:lnTo>
                  <a:pt x="607" y="3202"/>
                </a:lnTo>
                <a:lnTo>
                  <a:pt x="630" y="3273"/>
                </a:lnTo>
                <a:lnTo>
                  <a:pt x="653" y="3343"/>
                </a:lnTo>
                <a:lnTo>
                  <a:pt x="674" y="3413"/>
                </a:lnTo>
                <a:lnTo>
                  <a:pt x="693" y="3483"/>
                </a:lnTo>
                <a:lnTo>
                  <a:pt x="711" y="3553"/>
                </a:lnTo>
                <a:lnTo>
                  <a:pt x="726" y="3621"/>
                </a:lnTo>
                <a:lnTo>
                  <a:pt x="739" y="3690"/>
                </a:lnTo>
                <a:lnTo>
                  <a:pt x="750" y="3756"/>
                </a:lnTo>
                <a:lnTo>
                  <a:pt x="754" y="3788"/>
                </a:lnTo>
                <a:lnTo>
                  <a:pt x="757" y="3822"/>
                </a:lnTo>
                <a:lnTo>
                  <a:pt x="760" y="3854"/>
                </a:lnTo>
                <a:lnTo>
                  <a:pt x="762" y="3885"/>
                </a:lnTo>
                <a:lnTo>
                  <a:pt x="763" y="3915"/>
                </a:lnTo>
                <a:lnTo>
                  <a:pt x="764" y="3946"/>
                </a:lnTo>
                <a:lnTo>
                  <a:pt x="783" y="4137"/>
                </a:lnTo>
                <a:lnTo>
                  <a:pt x="789" y="4160"/>
                </a:lnTo>
                <a:lnTo>
                  <a:pt x="796" y="4181"/>
                </a:lnTo>
                <a:lnTo>
                  <a:pt x="804" y="4202"/>
                </a:lnTo>
                <a:lnTo>
                  <a:pt x="813" y="4220"/>
                </a:lnTo>
                <a:lnTo>
                  <a:pt x="823" y="4237"/>
                </a:lnTo>
                <a:lnTo>
                  <a:pt x="833" y="4253"/>
                </a:lnTo>
                <a:lnTo>
                  <a:pt x="844" y="4267"/>
                </a:lnTo>
                <a:lnTo>
                  <a:pt x="855" y="4280"/>
                </a:lnTo>
                <a:lnTo>
                  <a:pt x="867" y="4291"/>
                </a:lnTo>
                <a:lnTo>
                  <a:pt x="880" y="4301"/>
                </a:lnTo>
                <a:lnTo>
                  <a:pt x="895" y="4309"/>
                </a:lnTo>
                <a:lnTo>
                  <a:pt x="909" y="4316"/>
                </a:lnTo>
                <a:lnTo>
                  <a:pt x="924" y="4321"/>
                </a:lnTo>
                <a:lnTo>
                  <a:pt x="941" y="4325"/>
                </a:lnTo>
                <a:lnTo>
                  <a:pt x="959" y="4328"/>
                </a:lnTo>
                <a:lnTo>
                  <a:pt x="976" y="4328"/>
                </a:lnTo>
                <a:lnTo>
                  <a:pt x="2079" y="4328"/>
                </a:lnTo>
                <a:lnTo>
                  <a:pt x="2097" y="4328"/>
                </a:lnTo>
                <a:lnTo>
                  <a:pt x="2114" y="4325"/>
                </a:lnTo>
                <a:lnTo>
                  <a:pt x="2130" y="4321"/>
                </a:lnTo>
                <a:lnTo>
                  <a:pt x="2145" y="4316"/>
                </a:lnTo>
                <a:lnTo>
                  <a:pt x="2161" y="4309"/>
                </a:lnTo>
                <a:lnTo>
                  <a:pt x="2174" y="4301"/>
                </a:lnTo>
                <a:lnTo>
                  <a:pt x="2187" y="4291"/>
                </a:lnTo>
                <a:lnTo>
                  <a:pt x="2201" y="4280"/>
                </a:lnTo>
                <a:lnTo>
                  <a:pt x="2212" y="4267"/>
                </a:lnTo>
                <a:lnTo>
                  <a:pt x="2223" y="4253"/>
                </a:lnTo>
                <a:lnTo>
                  <a:pt x="2233" y="4237"/>
                </a:lnTo>
                <a:lnTo>
                  <a:pt x="2243" y="4220"/>
                </a:lnTo>
                <a:lnTo>
                  <a:pt x="2251" y="4202"/>
                </a:lnTo>
                <a:lnTo>
                  <a:pt x="2259" y="4181"/>
                </a:lnTo>
                <a:lnTo>
                  <a:pt x="2266" y="4160"/>
                </a:lnTo>
                <a:lnTo>
                  <a:pt x="2272" y="4137"/>
                </a:lnTo>
                <a:lnTo>
                  <a:pt x="2291" y="3946"/>
                </a:lnTo>
                <a:lnTo>
                  <a:pt x="2293" y="3915"/>
                </a:lnTo>
                <a:lnTo>
                  <a:pt x="2294" y="3885"/>
                </a:lnTo>
                <a:lnTo>
                  <a:pt x="2295" y="3854"/>
                </a:lnTo>
                <a:lnTo>
                  <a:pt x="2298" y="3822"/>
                </a:lnTo>
                <a:lnTo>
                  <a:pt x="2301" y="3788"/>
                </a:lnTo>
                <a:lnTo>
                  <a:pt x="2306" y="3756"/>
                </a:lnTo>
                <a:lnTo>
                  <a:pt x="2316" y="3690"/>
                </a:lnTo>
                <a:lnTo>
                  <a:pt x="2329" y="3621"/>
                </a:lnTo>
                <a:lnTo>
                  <a:pt x="2345" y="3553"/>
                </a:lnTo>
                <a:lnTo>
                  <a:pt x="2362" y="3483"/>
                </a:lnTo>
                <a:lnTo>
                  <a:pt x="2381" y="3413"/>
                </a:lnTo>
                <a:lnTo>
                  <a:pt x="2402" y="3343"/>
                </a:lnTo>
                <a:lnTo>
                  <a:pt x="2425" y="3273"/>
                </a:lnTo>
                <a:lnTo>
                  <a:pt x="2449" y="3202"/>
                </a:lnTo>
                <a:lnTo>
                  <a:pt x="2474" y="3134"/>
                </a:lnTo>
                <a:lnTo>
                  <a:pt x="2499" y="3065"/>
                </a:lnTo>
                <a:lnTo>
                  <a:pt x="2526" y="2998"/>
                </a:lnTo>
                <a:lnTo>
                  <a:pt x="2552" y="2931"/>
                </a:lnTo>
                <a:lnTo>
                  <a:pt x="2579" y="2867"/>
                </a:lnTo>
                <a:lnTo>
                  <a:pt x="2607" y="2804"/>
                </a:lnTo>
                <a:lnTo>
                  <a:pt x="2633" y="2743"/>
                </a:lnTo>
                <a:lnTo>
                  <a:pt x="2685" y="2631"/>
                </a:lnTo>
                <a:lnTo>
                  <a:pt x="2735" y="2528"/>
                </a:lnTo>
                <a:lnTo>
                  <a:pt x="2778" y="2439"/>
                </a:lnTo>
                <a:lnTo>
                  <a:pt x="2816" y="2366"/>
                </a:lnTo>
                <a:lnTo>
                  <a:pt x="2846" y="2312"/>
                </a:lnTo>
                <a:lnTo>
                  <a:pt x="2872" y="2262"/>
                </a:lnTo>
                <a:lnTo>
                  <a:pt x="2890" y="2228"/>
                </a:lnTo>
                <a:lnTo>
                  <a:pt x="2906" y="2193"/>
                </a:lnTo>
                <a:lnTo>
                  <a:pt x="2923" y="2157"/>
                </a:lnTo>
                <a:lnTo>
                  <a:pt x="2937" y="2122"/>
                </a:lnTo>
                <a:lnTo>
                  <a:pt x="2952" y="2085"/>
                </a:lnTo>
                <a:lnTo>
                  <a:pt x="2965" y="2049"/>
                </a:lnTo>
                <a:lnTo>
                  <a:pt x="2978" y="2012"/>
                </a:lnTo>
                <a:lnTo>
                  <a:pt x="2989" y="1975"/>
                </a:lnTo>
                <a:lnTo>
                  <a:pt x="3000" y="1937"/>
                </a:lnTo>
                <a:lnTo>
                  <a:pt x="3010" y="1900"/>
                </a:lnTo>
                <a:lnTo>
                  <a:pt x="3019" y="1862"/>
                </a:lnTo>
                <a:lnTo>
                  <a:pt x="3027" y="1823"/>
                </a:lnTo>
                <a:lnTo>
                  <a:pt x="3034" y="1785"/>
                </a:lnTo>
                <a:lnTo>
                  <a:pt x="3040" y="1746"/>
                </a:lnTo>
                <a:lnTo>
                  <a:pt x="3045" y="1707"/>
                </a:lnTo>
                <a:lnTo>
                  <a:pt x="3049" y="1667"/>
                </a:lnTo>
                <a:lnTo>
                  <a:pt x="3056" y="1527"/>
                </a:lnTo>
                <a:lnTo>
                  <a:pt x="3055" y="1489"/>
                </a:lnTo>
                <a:lnTo>
                  <a:pt x="3054" y="1452"/>
                </a:lnTo>
                <a:lnTo>
                  <a:pt x="3051" y="1413"/>
                </a:lnTo>
                <a:lnTo>
                  <a:pt x="3048" y="1376"/>
                </a:lnTo>
                <a:lnTo>
                  <a:pt x="3044" y="1338"/>
                </a:lnTo>
                <a:lnTo>
                  <a:pt x="3039" y="1301"/>
                </a:lnTo>
                <a:lnTo>
                  <a:pt x="3034" y="1264"/>
                </a:lnTo>
                <a:lnTo>
                  <a:pt x="3026" y="1227"/>
                </a:lnTo>
                <a:lnTo>
                  <a:pt x="3018" y="1191"/>
                </a:lnTo>
                <a:lnTo>
                  <a:pt x="3010" y="1154"/>
                </a:lnTo>
                <a:lnTo>
                  <a:pt x="3000" y="1118"/>
                </a:lnTo>
                <a:lnTo>
                  <a:pt x="2990" y="1082"/>
                </a:lnTo>
                <a:lnTo>
                  <a:pt x="2979" y="1047"/>
                </a:lnTo>
                <a:lnTo>
                  <a:pt x="2967" y="1012"/>
                </a:lnTo>
                <a:lnTo>
                  <a:pt x="2954" y="977"/>
                </a:lnTo>
                <a:lnTo>
                  <a:pt x="2941" y="943"/>
                </a:lnTo>
                <a:lnTo>
                  <a:pt x="2925" y="909"/>
                </a:lnTo>
                <a:lnTo>
                  <a:pt x="2910" y="875"/>
                </a:lnTo>
                <a:lnTo>
                  <a:pt x="2894" y="841"/>
                </a:lnTo>
                <a:lnTo>
                  <a:pt x="2877" y="808"/>
                </a:lnTo>
                <a:lnTo>
                  <a:pt x="2859" y="776"/>
                </a:lnTo>
                <a:lnTo>
                  <a:pt x="2840" y="744"/>
                </a:lnTo>
                <a:lnTo>
                  <a:pt x="2820" y="712"/>
                </a:lnTo>
                <a:lnTo>
                  <a:pt x="2800" y="681"/>
                </a:lnTo>
                <a:lnTo>
                  <a:pt x="2779" y="650"/>
                </a:lnTo>
                <a:lnTo>
                  <a:pt x="2757" y="619"/>
                </a:lnTo>
                <a:lnTo>
                  <a:pt x="2734" y="589"/>
                </a:lnTo>
                <a:lnTo>
                  <a:pt x="2711" y="561"/>
                </a:lnTo>
                <a:lnTo>
                  <a:pt x="2686" y="531"/>
                </a:lnTo>
                <a:lnTo>
                  <a:pt x="2661" y="503"/>
                </a:lnTo>
                <a:lnTo>
                  <a:pt x="2635" y="475"/>
                </a:lnTo>
                <a:lnTo>
                  <a:pt x="2609" y="448"/>
                </a:lnTo>
                <a:close/>
                <a:moveTo>
                  <a:pt x="2661" y="1641"/>
                </a:moveTo>
                <a:lnTo>
                  <a:pt x="2661" y="1641"/>
                </a:lnTo>
                <a:lnTo>
                  <a:pt x="2658" y="1669"/>
                </a:lnTo>
                <a:lnTo>
                  <a:pt x="2654" y="1697"/>
                </a:lnTo>
                <a:lnTo>
                  <a:pt x="2650" y="1725"/>
                </a:lnTo>
                <a:lnTo>
                  <a:pt x="2644" y="1753"/>
                </a:lnTo>
                <a:lnTo>
                  <a:pt x="2639" y="1781"/>
                </a:lnTo>
                <a:lnTo>
                  <a:pt x="2632" y="1809"/>
                </a:lnTo>
                <a:lnTo>
                  <a:pt x="2624" y="1837"/>
                </a:lnTo>
                <a:lnTo>
                  <a:pt x="2617" y="1863"/>
                </a:lnTo>
                <a:lnTo>
                  <a:pt x="2608" y="1891"/>
                </a:lnTo>
                <a:lnTo>
                  <a:pt x="2599" y="1918"/>
                </a:lnTo>
                <a:lnTo>
                  <a:pt x="2589" y="1945"/>
                </a:lnTo>
                <a:lnTo>
                  <a:pt x="2579" y="1972"/>
                </a:lnTo>
                <a:lnTo>
                  <a:pt x="2567" y="1998"/>
                </a:lnTo>
                <a:lnTo>
                  <a:pt x="2556" y="2025"/>
                </a:lnTo>
                <a:lnTo>
                  <a:pt x="2543" y="2051"/>
                </a:lnTo>
                <a:lnTo>
                  <a:pt x="2529" y="2078"/>
                </a:lnTo>
                <a:lnTo>
                  <a:pt x="2485" y="2158"/>
                </a:lnTo>
                <a:lnTo>
                  <a:pt x="2450" y="2227"/>
                </a:lnTo>
                <a:lnTo>
                  <a:pt x="2408" y="2311"/>
                </a:lnTo>
                <a:lnTo>
                  <a:pt x="2359" y="2409"/>
                </a:lnTo>
                <a:lnTo>
                  <a:pt x="2307" y="2519"/>
                </a:lnTo>
                <a:lnTo>
                  <a:pt x="2253" y="2641"/>
                </a:lnTo>
                <a:lnTo>
                  <a:pt x="2225" y="2705"/>
                </a:lnTo>
                <a:lnTo>
                  <a:pt x="2197" y="2771"/>
                </a:lnTo>
                <a:lnTo>
                  <a:pt x="2170" y="2838"/>
                </a:lnTo>
                <a:lnTo>
                  <a:pt x="2142" y="2908"/>
                </a:lnTo>
                <a:lnTo>
                  <a:pt x="2116" y="2979"/>
                </a:lnTo>
                <a:lnTo>
                  <a:pt x="2090" y="3051"/>
                </a:lnTo>
                <a:lnTo>
                  <a:pt x="2065" y="3124"/>
                </a:lnTo>
                <a:lnTo>
                  <a:pt x="2040" y="3198"/>
                </a:lnTo>
                <a:lnTo>
                  <a:pt x="2018" y="3272"/>
                </a:lnTo>
                <a:lnTo>
                  <a:pt x="1996" y="3346"/>
                </a:lnTo>
                <a:lnTo>
                  <a:pt x="1977" y="3420"/>
                </a:lnTo>
                <a:lnTo>
                  <a:pt x="1960" y="3494"/>
                </a:lnTo>
                <a:lnTo>
                  <a:pt x="1944" y="3568"/>
                </a:lnTo>
                <a:lnTo>
                  <a:pt x="1930" y="3641"/>
                </a:lnTo>
                <a:lnTo>
                  <a:pt x="1919" y="3714"/>
                </a:lnTo>
                <a:lnTo>
                  <a:pt x="1911" y="3785"/>
                </a:lnTo>
                <a:lnTo>
                  <a:pt x="1908" y="3820"/>
                </a:lnTo>
                <a:lnTo>
                  <a:pt x="1905" y="3856"/>
                </a:lnTo>
                <a:lnTo>
                  <a:pt x="1903" y="3890"/>
                </a:lnTo>
                <a:lnTo>
                  <a:pt x="1902" y="3924"/>
                </a:lnTo>
                <a:lnTo>
                  <a:pt x="1901" y="3939"/>
                </a:lnTo>
                <a:lnTo>
                  <a:pt x="1722" y="3939"/>
                </a:lnTo>
                <a:lnTo>
                  <a:pt x="1722" y="3230"/>
                </a:lnTo>
                <a:lnTo>
                  <a:pt x="1333" y="3230"/>
                </a:lnTo>
                <a:lnTo>
                  <a:pt x="1333" y="3939"/>
                </a:lnTo>
                <a:lnTo>
                  <a:pt x="1154" y="3939"/>
                </a:lnTo>
                <a:lnTo>
                  <a:pt x="1152" y="3924"/>
                </a:lnTo>
                <a:lnTo>
                  <a:pt x="1151" y="3873"/>
                </a:lnTo>
                <a:lnTo>
                  <a:pt x="1148" y="3820"/>
                </a:lnTo>
                <a:lnTo>
                  <a:pt x="1142" y="3767"/>
                </a:lnTo>
                <a:lnTo>
                  <a:pt x="1136" y="3714"/>
                </a:lnTo>
                <a:lnTo>
                  <a:pt x="1128" y="3659"/>
                </a:lnTo>
                <a:lnTo>
                  <a:pt x="1118" y="3604"/>
                </a:lnTo>
                <a:lnTo>
                  <a:pt x="1108" y="3547"/>
                </a:lnTo>
                <a:lnTo>
                  <a:pt x="1096" y="3491"/>
                </a:lnTo>
                <a:lnTo>
                  <a:pt x="1081" y="3434"/>
                </a:lnTo>
                <a:lnTo>
                  <a:pt x="1067" y="3377"/>
                </a:lnTo>
                <a:lnTo>
                  <a:pt x="1052" y="3319"/>
                </a:lnTo>
                <a:lnTo>
                  <a:pt x="1035" y="3261"/>
                </a:lnTo>
                <a:lnTo>
                  <a:pt x="1016" y="3203"/>
                </a:lnTo>
                <a:lnTo>
                  <a:pt x="997" y="3145"/>
                </a:lnTo>
                <a:lnTo>
                  <a:pt x="977" y="3086"/>
                </a:lnTo>
                <a:lnTo>
                  <a:pt x="958" y="3029"/>
                </a:lnTo>
                <a:lnTo>
                  <a:pt x="937" y="2970"/>
                </a:lnTo>
                <a:lnTo>
                  <a:pt x="914" y="2911"/>
                </a:lnTo>
                <a:lnTo>
                  <a:pt x="868" y="2796"/>
                </a:lnTo>
                <a:lnTo>
                  <a:pt x="820" y="2681"/>
                </a:lnTo>
                <a:lnTo>
                  <a:pt x="771" y="2570"/>
                </a:lnTo>
                <a:lnTo>
                  <a:pt x="721" y="2459"/>
                </a:lnTo>
                <a:lnTo>
                  <a:pt x="669" y="2353"/>
                </a:lnTo>
                <a:lnTo>
                  <a:pt x="618" y="2249"/>
                </a:lnTo>
                <a:lnTo>
                  <a:pt x="568" y="2150"/>
                </a:lnTo>
                <a:lnTo>
                  <a:pt x="567" y="2144"/>
                </a:lnTo>
                <a:lnTo>
                  <a:pt x="530" y="2075"/>
                </a:lnTo>
                <a:lnTo>
                  <a:pt x="515" y="2050"/>
                </a:lnTo>
                <a:lnTo>
                  <a:pt x="503" y="2024"/>
                </a:lnTo>
                <a:lnTo>
                  <a:pt x="491" y="1998"/>
                </a:lnTo>
                <a:lnTo>
                  <a:pt x="479" y="1972"/>
                </a:lnTo>
                <a:lnTo>
                  <a:pt x="468" y="1945"/>
                </a:lnTo>
                <a:lnTo>
                  <a:pt x="458" y="1918"/>
                </a:lnTo>
                <a:lnTo>
                  <a:pt x="449" y="1892"/>
                </a:lnTo>
                <a:lnTo>
                  <a:pt x="440" y="1864"/>
                </a:lnTo>
                <a:lnTo>
                  <a:pt x="431" y="1838"/>
                </a:lnTo>
                <a:lnTo>
                  <a:pt x="424" y="1810"/>
                </a:lnTo>
                <a:lnTo>
                  <a:pt x="418" y="1782"/>
                </a:lnTo>
                <a:lnTo>
                  <a:pt x="411" y="1754"/>
                </a:lnTo>
                <a:lnTo>
                  <a:pt x="406" y="1726"/>
                </a:lnTo>
                <a:lnTo>
                  <a:pt x="401" y="1697"/>
                </a:lnTo>
                <a:lnTo>
                  <a:pt x="398" y="1670"/>
                </a:lnTo>
                <a:lnTo>
                  <a:pt x="395" y="1641"/>
                </a:lnTo>
                <a:lnTo>
                  <a:pt x="389" y="1519"/>
                </a:lnTo>
                <a:lnTo>
                  <a:pt x="389" y="1492"/>
                </a:lnTo>
                <a:lnTo>
                  <a:pt x="390" y="1463"/>
                </a:lnTo>
                <a:lnTo>
                  <a:pt x="392" y="1435"/>
                </a:lnTo>
                <a:lnTo>
                  <a:pt x="395" y="1408"/>
                </a:lnTo>
                <a:lnTo>
                  <a:pt x="398" y="1380"/>
                </a:lnTo>
                <a:lnTo>
                  <a:pt x="402" y="1352"/>
                </a:lnTo>
                <a:lnTo>
                  <a:pt x="407" y="1325"/>
                </a:lnTo>
                <a:lnTo>
                  <a:pt x="412" y="1298"/>
                </a:lnTo>
                <a:lnTo>
                  <a:pt x="418" y="1270"/>
                </a:lnTo>
                <a:lnTo>
                  <a:pt x="424" y="1244"/>
                </a:lnTo>
                <a:lnTo>
                  <a:pt x="431" y="1217"/>
                </a:lnTo>
                <a:lnTo>
                  <a:pt x="439" y="1191"/>
                </a:lnTo>
                <a:lnTo>
                  <a:pt x="448" y="1165"/>
                </a:lnTo>
                <a:lnTo>
                  <a:pt x="457" y="1139"/>
                </a:lnTo>
                <a:lnTo>
                  <a:pt x="466" y="1113"/>
                </a:lnTo>
                <a:lnTo>
                  <a:pt x="476" y="1088"/>
                </a:lnTo>
                <a:lnTo>
                  <a:pt x="487" y="1063"/>
                </a:lnTo>
                <a:lnTo>
                  <a:pt x="499" y="1038"/>
                </a:lnTo>
                <a:lnTo>
                  <a:pt x="511" y="1013"/>
                </a:lnTo>
                <a:lnTo>
                  <a:pt x="524" y="989"/>
                </a:lnTo>
                <a:lnTo>
                  <a:pt x="537" y="965"/>
                </a:lnTo>
                <a:lnTo>
                  <a:pt x="551" y="941"/>
                </a:lnTo>
                <a:lnTo>
                  <a:pt x="565" y="918"/>
                </a:lnTo>
                <a:lnTo>
                  <a:pt x="580" y="895"/>
                </a:lnTo>
                <a:lnTo>
                  <a:pt x="596" y="871"/>
                </a:lnTo>
                <a:lnTo>
                  <a:pt x="612" y="849"/>
                </a:lnTo>
                <a:lnTo>
                  <a:pt x="629" y="827"/>
                </a:lnTo>
                <a:lnTo>
                  <a:pt x="647" y="806"/>
                </a:lnTo>
                <a:lnTo>
                  <a:pt x="664" y="784"/>
                </a:lnTo>
                <a:lnTo>
                  <a:pt x="683" y="763"/>
                </a:lnTo>
                <a:lnTo>
                  <a:pt x="702" y="743"/>
                </a:lnTo>
                <a:lnTo>
                  <a:pt x="722" y="723"/>
                </a:lnTo>
                <a:lnTo>
                  <a:pt x="743" y="703"/>
                </a:lnTo>
                <a:lnTo>
                  <a:pt x="764" y="683"/>
                </a:lnTo>
                <a:lnTo>
                  <a:pt x="785" y="665"/>
                </a:lnTo>
                <a:lnTo>
                  <a:pt x="806" y="647"/>
                </a:lnTo>
                <a:lnTo>
                  <a:pt x="828" y="629"/>
                </a:lnTo>
                <a:lnTo>
                  <a:pt x="850" y="611"/>
                </a:lnTo>
                <a:lnTo>
                  <a:pt x="874" y="596"/>
                </a:lnTo>
                <a:lnTo>
                  <a:pt x="896" y="579"/>
                </a:lnTo>
                <a:lnTo>
                  <a:pt x="920" y="565"/>
                </a:lnTo>
                <a:lnTo>
                  <a:pt x="943" y="550"/>
                </a:lnTo>
                <a:lnTo>
                  <a:pt x="968" y="536"/>
                </a:lnTo>
                <a:lnTo>
                  <a:pt x="992" y="523"/>
                </a:lnTo>
                <a:lnTo>
                  <a:pt x="1016" y="510"/>
                </a:lnTo>
                <a:lnTo>
                  <a:pt x="1041" y="498"/>
                </a:lnTo>
                <a:lnTo>
                  <a:pt x="1066" y="486"/>
                </a:lnTo>
                <a:lnTo>
                  <a:pt x="1091" y="475"/>
                </a:lnTo>
                <a:lnTo>
                  <a:pt x="1117" y="464"/>
                </a:lnTo>
                <a:lnTo>
                  <a:pt x="1143" y="456"/>
                </a:lnTo>
                <a:lnTo>
                  <a:pt x="1170" y="446"/>
                </a:lnTo>
                <a:lnTo>
                  <a:pt x="1195" y="438"/>
                </a:lnTo>
                <a:lnTo>
                  <a:pt x="1223" y="430"/>
                </a:lnTo>
                <a:lnTo>
                  <a:pt x="1250" y="423"/>
                </a:lnTo>
                <a:lnTo>
                  <a:pt x="1276" y="417"/>
                </a:lnTo>
                <a:lnTo>
                  <a:pt x="1304" y="411"/>
                </a:lnTo>
                <a:lnTo>
                  <a:pt x="1331" y="406"/>
                </a:lnTo>
                <a:lnTo>
                  <a:pt x="1359" y="401"/>
                </a:lnTo>
                <a:lnTo>
                  <a:pt x="1387" y="398"/>
                </a:lnTo>
                <a:lnTo>
                  <a:pt x="1414" y="395"/>
                </a:lnTo>
                <a:lnTo>
                  <a:pt x="1443" y="392"/>
                </a:lnTo>
                <a:lnTo>
                  <a:pt x="1471" y="390"/>
                </a:lnTo>
                <a:lnTo>
                  <a:pt x="1500" y="389"/>
                </a:lnTo>
                <a:lnTo>
                  <a:pt x="1527" y="389"/>
                </a:lnTo>
                <a:lnTo>
                  <a:pt x="1569" y="389"/>
                </a:lnTo>
                <a:lnTo>
                  <a:pt x="1610" y="391"/>
                </a:lnTo>
                <a:lnTo>
                  <a:pt x="1651" y="396"/>
                </a:lnTo>
                <a:lnTo>
                  <a:pt x="1691" y="400"/>
                </a:lnTo>
                <a:lnTo>
                  <a:pt x="1732" y="407"/>
                </a:lnTo>
                <a:lnTo>
                  <a:pt x="1771" y="415"/>
                </a:lnTo>
                <a:lnTo>
                  <a:pt x="1810" y="423"/>
                </a:lnTo>
                <a:lnTo>
                  <a:pt x="1849" y="435"/>
                </a:lnTo>
                <a:lnTo>
                  <a:pt x="1882" y="444"/>
                </a:lnTo>
                <a:lnTo>
                  <a:pt x="1917" y="457"/>
                </a:lnTo>
                <a:lnTo>
                  <a:pt x="1950" y="470"/>
                </a:lnTo>
                <a:lnTo>
                  <a:pt x="1983" y="483"/>
                </a:lnTo>
                <a:lnTo>
                  <a:pt x="2015" y="498"/>
                </a:lnTo>
                <a:lnTo>
                  <a:pt x="2047" y="514"/>
                </a:lnTo>
                <a:lnTo>
                  <a:pt x="2078" y="531"/>
                </a:lnTo>
                <a:lnTo>
                  <a:pt x="2109" y="548"/>
                </a:lnTo>
                <a:lnTo>
                  <a:pt x="2139" y="567"/>
                </a:lnTo>
                <a:lnTo>
                  <a:pt x="2169" y="586"/>
                </a:lnTo>
                <a:lnTo>
                  <a:pt x="2197" y="607"/>
                </a:lnTo>
                <a:lnTo>
                  <a:pt x="2226" y="628"/>
                </a:lnTo>
                <a:lnTo>
                  <a:pt x="2254" y="650"/>
                </a:lnTo>
                <a:lnTo>
                  <a:pt x="2281" y="673"/>
                </a:lnTo>
                <a:lnTo>
                  <a:pt x="2308" y="698"/>
                </a:lnTo>
                <a:lnTo>
                  <a:pt x="2333" y="723"/>
                </a:lnTo>
                <a:lnTo>
                  <a:pt x="2353" y="743"/>
                </a:lnTo>
                <a:lnTo>
                  <a:pt x="2372" y="763"/>
                </a:lnTo>
                <a:lnTo>
                  <a:pt x="2391" y="784"/>
                </a:lnTo>
                <a:lnTo>
                  <a:pt x="2409" y="806"/>
                </a:lnTo>
                <a:lnTo>
                  <a:pt x="2426" y="827"/>
                </a:lnTo>
                <a:lnTo>
                  <a:pt x="2443" y="849"/>
                </a:lnTo>
                <a:lnTo>
                  <a:pt x="2460" y="872"/>
                </a:lnTo>
                <a:lnTo>
                  <a:pt x="2475" y="895"/>
                </a:lnTo>
                <a:lnTo>
                  <a:pt x="2489" y="918"/>
                </a:lnTo>
                <a:lnTo>
                  <a:pt x="2505" y="941"/>
                </a:lnTo>
                <a:lnTo>
                  <a:pt x="2518" y="965"/>
                </a:lnTo>
                <a:lnTo>
                  <a:pt x="2531" y="989"/>
                </a:lnTo>
                <a:lnTo>
                  <a:pt x="2545" y="1013"/>
                </a:lnTo>
                <a:lnTo>
                  <a:pt x="2557" y="1038"/>
                </a:lnTo>
                <a:lnTo>
                  <a:pt x="2568" y="1063"/>
                </a:lnTo>
                <a:lnTo>
                  <a:pt x="2579" y="1088"/>
                </a:lnTo>
                <a:lnTo>
                  <a:pt x="2589" y="1113"/>
                </a:lnTo>
                <a:lnTo>
                  <a:pt x="2599" y="1139"/>
                </a:lnTo>
                <a:lnTo>
                  <a:pt x="2608" y="1164"/>
                </a:lnTo>
                <a:lnTo>
                  <a:pt x="2617" y="1191"/>
                </a:lnTo>
                <a:lnTo>
                  <a:pt x="2624" y="1217"/>
                </a:lnTo>
                <a:lnTo>
                  <a:pt x="2631" y="1244"/>
                </a:lnTo>
                <a:lnTo>
                  <a:pt x="2638" y="1270"/>
                </a:lnTo>
                <a:lnTo>
                  <a:pt x="2643" y="1297"/>
                </a:lnTo>
                <a:lnTo>
                  <a:pt x="2649" y="1325"/>
                </a:lnTo>
                <a:lnTo>
                  <a:pt x="2653" y="1352"/>
                </a:lnTo>
                <a:lnTo>
                  <a:pt x="2658" y="1379"/>
                </a:lnTo>
                <a:lnTo>
                  <a:pt x="2660" y="1406"/>
                </a:lnTo>
                <a:lnTo>
                  <a:pt x="2663" y="1435"/>
                </a:lnTo>
                <a:lnTo>
                  <a:pt x="2664" y="1463"/>
                </a:lnTo>
                <a:lnTo>
                  <a:pt x="2666" y="1491"/>
                </a:lnTo>
                <a:lnTo>
                  <a:pt x="2666" y="1519"/>
                </a:lnTo>
                <a:lnTo>
                  <a:pt x="2661" y="1641"/>
                </a:lnTo>
                <a:close/>
                <a:moveTo>
                  <a:pt x="907" y="4981"/>
                </a:moveTo>
                <a:lnTo>
                  <a:pt x="2149" y="4981"/>
                </a:lnTo>
                <a:lnTo>
                  <a:pt x="2149" y="4592"/>
                </a:lnTo>
                <a:lnTo>
                  <a:pt x="907" y="4592"/>
                </a:lnTo>
                <a:lnTo>
                  <a:pt x="907" y="4981"/>
                </a:lnTo>
                <a:close/>
                <a:moveTo>
                  <a:pt x="1177" y="5429"/>
                </a:moveTo>
                <a:lnTo>
                  <a:pt x="1879" y="5429"/>
                </a:lnTo>
                <a:lnTo>
                  <a:pt x="1879" y="5209"/>
                </a:lnTo>
                <a:lnTo>
                  <a:pt x="1177" y="5209"/>
                </a:lnTo>
                <a:lnTo>
                  <a:pt x="1177" y="5429"/>
                </a:lnTo>
                <a:close/>
              </a:path>
            </a:pathLst>
          </a:cu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204" name="文本框 58"/>
          <p:cNvSpPr/>
          <p:nvPr/>
        </p:nvSpPr>
        <p:spPr>
          <a:xfrm>
            <a:off x="3698280" y="5526000"/>
            <a:ext cx="714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605e5e"/>
                </a:solidFill>
                <a:latin typeface="幼圆"/>
                <a:ea typeface="幼圆"/>
              </a:rPr>
              <a:t>洞察，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59"/>
          <p:cNvSpPr/>
          <p:nvPr/>
        </p:nvSpPr>
        <p:spPr>
          <a:xfrm>
            <a:off x="6011280" y="5400720"/>
            <a:ext cx="714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605e5e"/>
                </a:solidFill>
                <a:latin typeface="幼圆"/>
                <a:ea typeface="幼圆"/>
              </a:rPr>
              <a:t>个性，做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60"/>
          <p:cNvSpPr/>
          <p:nvPr/>
        </p:nvSpPr>
        <p:spPr>
          <a:xfrm>
            <a:off x="6339960" y="4148280"/>
            <a:ext cx="714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605e5e"/>
                </a:solidFill>
                <a:latin typeface="幼圆"/>
                <a:ea typeface="幼圆"/>
              </a:rPr>
              <a:t>飞扬，青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61"/>
          <p:cNvSpPr/>
          <p:nvPr/>
        </p:nvSpPr>
        <p:spPr>
          <a:xfrm>
            <a:off x="3673080" y="1700280"/>
            <a:ext cx="714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605e5e"/>
                </a:solidFill>
                <a:latin typeface="幼圆"/>
                <a:ea typeface="幼圆"/>
              </a:rPr>
              <a:t>灵感，空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62"/>
          <p:cNvSpPr/>
          <p:nvPr/>
        </p:nvSpPr>
        <p:spPr>
          <a:xfrm>
            <a:off x="6211440" y="1633680"/>
            <a:ext cx="714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400" spc="-1" strike="noStrike">
                <a:solidFill>
                  <a:srgbClr val="605e5e"/>
                </a:solidFill>
                <a:latin typeface="幼圆"/>
                <a:ea typeface="幼圆"/>
              </a:rPr>
              <a:t>选择，优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1100"/>
    </mc:Choice>
    <mc:Fallback>
      <p:transition spd="slow" advTm="2000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占位符 4"/>
          <p:cNvSpPr/>
          <p:nvPr/>
        </p:nvSpPr>
        <p:spPr>
          <a:xfrm>
            <a:off x="1418040" y="1672920"/>
            <a:ext cx="228564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18500" spc="-1" strike="noStrike">
                <a:solidFill>
                  <a:srgbClr val="00a1c7"/>
                </a:solidFill>
                <a:latin typeface="Felix Titling"/>
                <a:ea typeface="幼圆"/>
              </a:rPr>
              <a:t>2</a:t>
            </a:r>
            <a:endParaRPr b="0" lang="en-US" sz="1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标题 5"/>
          <p:cNvSpPr/>
          <p:nvPr/>
        </p:nvSpPr>
        <p:spPr>
          <a:xfrm>
            <a:off x="3123360" y="3369600"/>
            <a:ext cx="4686840" cy="609120"/>
          </a:xfrm>
          <a:prstGeom prst="roundRect">
            <a:avLst>
              <a:gd name="adj" fmla="val 50000"/>
            </a:avLst>
          </a:prstGeom>
          <a:noFill/>
          <a:ln w="12700">
            <a:solidFill>
              <a:srgbClr val="00a1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a1c7"/>
                </a:solidFill>
                <a:latin typeface="幼圆"/>
                <a:ea typeface="幼圆"/>
              </a:rPr>
              <a:t>收藏，店铺送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占位符 6"/>
          <p:cNvSpPr/>
          <p:nvPr/>
        </p:nvSpPr>
        <p:spPr>
          <a:xfrm>
            <a:off x="2031120" y="2853720"/>
            <a:ext cx="3137040" cy="39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a3c902"/>
                </a:solidFill>
                <a:latin typeface="Felix Titling"/>
                <a:ea typeface="幼圆"/>
              </a:rPr>
              <a:t>Mobile Off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1400">
        <p14:ripple/>
      </p:transition>
    </mc:Choice>
    <mc:Fallback>
      <p:transition spd="slow" advTm="2000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不花哨，不简单，就要这样的风格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13" name="Freeform 9"/>
          <p:cNvSpPr/>
          <p:nvPr/>
        </p:nvSpPr>
        <p:spPr>
          <a:xfrm>
            <a:off x="3532320" y="3881520"/>
            <a:ext cx="1628280" cy="1598400"/>
          </a:xfrm>
          <a:custGeom>
            <a:avLst/>
            <a:gdLst>
              <a:gd name="textAreaLeft" fmla="*/ 0 w 1628280"/>
              <a:gd name="textAreaRight" fmla="*/ 1628640 w 1628280"/>
              <a:gd name="textAreaTop" fmla="*/ 0 h 1598400"/>
              <a:gd name="textAreaBottom" fmla="*/ 1598760 h 1598400"/>
            </a:gdLst>
            <a:ahLst/>
            <a:rect l="textAreaLeft" t="textAreaTop" r="textAreaRight" b="textAreaBottom"/>
            <a:pathLst>
              <a:path w="207" h="203">
                <a:moveTo>
                  <a:pt x="177" y="70"/>
                </a:moveTo>
                <a:cubicBezTo>
                  <a:pt x="177" y="69"/>
                  <a:pt x="176" y="67"/>
                  <a:pt x="176" y="66"/>
                </a:cubicBezTo>
                <a:cubicBezTo>
                  <a:pt x="176" y="63"/>
                  <a:pt x="177" y="60"/>
                  <a:pt x="179" y="58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93" y="45"/>
                  <a:pt x="198" y="41"/>
                  <a:pt x="200" y="41"/>
                </a:cubicBezTo>
                <a:cubicBezTo>
                  <a:pt x="203" y="41"/>
                  <a:pt x="205" y="42"/>
                  <a:pt x="207" y="43"/>
                </a:cubicBezTo>
                <a:cubicBezTo>
                  <a:pt x="180" y="17"/>
                  <a:pt x="180" y="17"/>
                  <a:pt x="180" y="17"/>
                </a:cubicBezTo>
                <a:cubicBezTo>
                  <a:pt x="182" y="19"/>
                  <a:pt x="183" y="21"/>
                  <a:pt x="183" y="24"/>
                </a:cubicBezTo>
                <a:cubicBezTo>
                  <a:pt x="183" y="27"/>
                  <a:pt x="179" y="33"/>
                  <a:pt x="177" y="35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3" y="49"/>
                  <a:pt x="161" y="49"/>
                  <a:pt x="159" y="49"/>
                </a:cubicBezTo>
                <a:cubicBezTo>
                  <a:pt x="157" y="49"/>
                  <a:pt x="155" y="49"/>
                  <a:pt x="154" y="48"/>
                </a:cubicBezTo>
                <a:cubicBezTo>
                  <a:pt x="111" y="7"/>
                  <a:pt x="111" y="7"/>
                  <a:pt x="111" y="7"/>
                </a:cubicBezTo>
                <a:cubicBezTo>
                  <a:pt x="105" y="0"/>
                  <a:pt x="94" y="1"/>
                  <a:pt x="87" y="7"/>
                </a:cubicBezTo>
                <a:cubicBezTo>
                  <a:pt x="7" y="92"/>
                  <a:pt x="7" y="92"/>
                  <a:pt x="7" y="92"/>
                </a:cubicBezTo>
                <a:cubicBezTo>
                  <a:pt x="0" y="98"/>
                  <a:pt x="1" y="109"/>
                  <a:pt x="7" y="11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8" y="203"/>
                  <a:pt x="109" y="202"/>
                  <a:pt x="116" y="196"/>
                </a:cubicBezTo>
                <a:cubicBezTo>
                  <a:pt x="196" y="111"/>
                  <a:pt x="196" y="111"/>
                  <a:pt x="196" y="111"/>
                </a:cubicBezTo>
                <a:cubicBezTo>
                  <a:pt x="203" y="105"/>
                  <a:pt x="202" y="94"/>
                  <a:pt x="195" y="87"/>
                </a:cubicBezTo>
                <a:lnTo>
                  <a:pt x="177" y="70"/>
                </a:lnTo>
                <a:close/>
              </a:path>
            </a:pathLst>
          </a:cu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pic>
        <p:nvPicPr>
          <p:cNvPr id="214" name="图片 3" descr=""/>
          <p:cNvPicPr/>
          <p:nvPr/>
        </p:nvPicPr>
        <p:blipFill>
          <a:blip r:embed="rId1"/>
          <a:stretch/>
        </p:blipFill>
        <p:spPr>
          <a:xfrm>
            <a:off x="3641760" y="4030560"/>
            <a:ext cx="1445760" cy="1393560"/>
          </a:xfrm>
          <a:prstGeom prst="rect">
            <a:avLst/>
          </a:prstGeom>
          <a:ln w="0">
            <a:noFill/>
          </a:ln>
        </p:spPr>
      </p:pic>
      <p:sp>
        <p:nvSpPr>
          <p:cNvPr id="215" name="Freeform 10"/>
          <p:cNvSpPr/>
          <p:nvPr/>
        </p:nvSpPr>
        <p:spPr>
          <a:xfrm>
            <a:off x="4870440" y="3094200"/>
            <a:ext cx="1598400" cy="159192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1591920"/>
              <a:gd name="textAreaBottom" fmla="*/ 1592280 h 1591920"/>
            </a:gdLst>
            <a:ahLst/>
            <a:rect l="textAreaLeft" t="textAreaTop" r="textAreaRight" b="textAreaBottom"/>
            <a:pathLst>
              <a:path w="203" h="202">
                <a:moveTo>
                  <a:pt x="116" y="195"/>
                </a:moveTo>
                <a:cubicBezTo>
                  <a:pt x="109" y="202"/>
                  <a:pt x="98" y="202"/>
                  <a:pt x="92" y="196"/>
                </a:cubicBezTo>
                <a:cubicBezTo>
                  <a:pt x="8" y="115"/>
                  <a:pt x="8" y="115"/>
                  <a:pt x="8" y="115"/>
                </a:cubicBezTo>
                <a:cubicBezTo>
                  <a:pt x="1" y="109"/>
                  <a:pt x="0" y="98"/>
                  <a:pt x="7" y="91"/>
                </a:cubicBezTo>
                <a:cubicBezTo>
                  <a:pt x="87" y="7"/>
                  <a:pt x="87" y="7"/>
                  <a:pt x="87" y="7"/>
                </a:cubicBezTo>
                <a:cubicBezTo>
                  <a:pt x="94" y="0"/>
                  <a:pt x="105" y="0"/>
                  <a:pt x="111" y="6"/>
                </a:cubicBezTo>
                <a:cubicBezTo>
                  <a:pt x="196" y="87"/>
                  <a:pt x="196" y="87"/>
                  <a:pt x="196" y="87"/>
                </a:cubicBezTo>
                <a:cubicBezTo>
                  <a:pt x="202" y="93"/>
                  <a:pt x="203" y="104"/>
                  <a:pt x="196" y="111"/>
                </a:cubicBezTo>
                <a:lnTo>
                  <a:pt x="116" y="195"/>
                </a:lnTo>
                <a:close/>
              </a:path>
            </a:pathLst>
          </a:custGeom>
          <a:solidFill>
            <a:schemeClr val="accent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pic>
        <p:nvPicPr>
          <p:cNvPr id="216" name="图片 5" descr=""/>
          <p:cNvPicPr/>
          <p:nvPr/>
        </p:nvPicPr>
        <p:blipFill>
          <a:blip r:embed="rId2"/>
          <a:stretch/>
        </p:blipFill>
        <p:spPr>
          <a:xfrm>
            <a:off x="4975200" y="3228840"/>
            <a:ext cx="1445760" cy="1393560"/>
          </a:xfrm>
          <a:prstGeom prst="rect">
            <a:avLst/>
          </a:prstGeom>
          <a:ln w="0">
            <a:noFill/>
          </a:ln>
        </p:spPr>
      </p:pic>
      <p:sp>
        <p:nvSpPr>
          <p:cNvPr id="217" name="Freeform 8"/>
          <p:cNvSpPr/>
          <p:nvPr/>
        </p:nvSpPr>
        <p:spPr>
          <a:xfrm>
            <a:off x="2705040" y="2583000"/>
            <a:ext cx="1590480" cy="1715760"/>
          </a:xfrm>
          <a:custGeom>
            <a:avLst/>
            <a:gdLst>
              <a:gd name="textAreaLeft" fmla="*/ 0 w 1590480"/>
              <a:gd name="textAreaRight" fmla="*/ 1590840 w 1590480"/>
              <a:gd name="textAreaTop" fmla="*/ 0 h 1715760"/>
              <a:gd name="textAreaBottom" fmla="*/ 1716120 h 1715760"/>
            </a:gdLst>
            <a:ahLst/>
            <a:rect l="textAreaLeft" t="textAreaTop" r="textAreaRight" b="textAreaBottom"/>
            <a:pathLst>
              <a:path w="202" h="218">
                <a:moveTo>
                  <a:pt x="195" y="87"/>
                </a:moveTo>
                <a:cubicBezTo>
                  <a:pt x="111" y="7"/>
                  <a:pt x="111" y="7"/>
                  <a:pt x="111" y="7"/>
                </a:cubicBezTo>
                <a:cubicBezTo>
                  <a:pt x="104" y="0"/>
                  <a:pt x="94" y="0"/>
                  <a:pt x="87" y="7"/>
                </a:cubicBezTo>
                <a:cubicBezTo>
                  <a:pt x="7" y="91"/>
                  <a:pt x="7" y="91"/>
                  <a:pt x="7" y="91"/>
                </a:cubicBezTo>
                <a:cubicBezTo>
                  <a:pt x="0" y="98"/>
                  <a:pt x="0" y="109"/>
                  <a:pt x="7" y="11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8" y="202"/>
                  <a:pt x="109" y="202"/>
                  <a:pt x="116" y="195"/>
                </a:cubicBezTo>
                <a:cubicBezTo>
                  <a:pt x="121" y="189"/>
                  <a:pt x="121" y="189"/>
                  <a:pt x="121" y="189"/>
                </a:cubicBezTo>
                <a:cubicBezTo>
                  <a:pt x="123" y="188"/>
                  <a:pt x="125" y="187"/>
                  <a:pt x="127" y="187"/>
                </a:cubicBezTo>
                <a:cubicBezTo>
                  <a:pt x="130" y="187"/>
                  <a:pt x="132" y="188"/>
                  <a:pt x="134" y="190"/>
                </a:cubicBezTo>
                <a:cubicBezTo>
                  <a:pt x="147" y="202"/>
                  <a:pt x="147" y="202"/>
                  <a:pt x="147" y="202"/>
                </a:cubicBezTo>
                <a:cubicBezTo>
                  <a:pt x="148" y="204"/>
                  <a:pt x="152" y="209"/>
                  <a:pt x="152" y="211"/>
                </a:cubicBezTo>
                <a:cubicBezTo>
                  <a:pt x="152" y="213"/>
                  <a:pt x="151" y="216"/>
                  <a:pt x="149" y="218"/>
                </a:cubicBezTo>
                <a:cubicBezTo>
                  <a:pt x="175" y="191"/>
                  <a:pt x="175" y="191"/>
                  <a:pt x="175" y="191"/>
                </a:cubicBezTo>
                <a:cubicBezTo>
                  <a:pt x="174" y="193"/>
                  <a:pt x="171" y="194"/>
                  <a:pt x="168" y="194"/>
                </a:cubicBezTo>
                <a:cubicBezTo>
                  <a:pt x="166" y="194"/>
                  <a:pt x="160" y="190"/>
                  <a:pt x="158" y="188"/>
                </a:cubicBezTo>
                <a:cubicBezTo>
                  <a:pt x="145" y="176"/>
                  <a:pt x="145" y="176"/>
                  <a:pt x="145" y="176"/>
                </a:cubicBezTo>
                <a:cubicBezTo>
                  <a:pt x="144" y="174"/>
                  <a:pt x="143" y="172"/>
                  <a:pt x="143" y="170"/>
                </a:cubicBezTo>
                <a:cubicBezTo>
                  <a:pt x="143" y="168"/>
                  <a:pt x="144" y="166"/>
                  <a:pt x="145" y="164"/>
                </a:cubicBezTo>
                <a:cubicBezTo>
                  <a:pt x="129" y="181"/>
                  <a:pt x="129" y="181"/>
                  <a:pt x="129" y="181"/>
                </a:cubicBezTo>
                <a:cubicBezTo>
                  <a:pt x="196" y="111"/>
                  <a:pt x="196" y="111"/>
                  <a:pt x="196" y="111"/>
                </a:cubicBezTo>
                <a:cubicBezTo>
                  <a:pt x="202" y="104"/>
                  <a:pt x="202" y="93"/>
                  <a:pt x="195" y="87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pic>
        <p:nvPicPr>
          <p:cNvPr id="218" name="图片 7" descr=""/>
          <p:cNvPicPr/>
          <p:nvPr/>
        </p:nvPicPr>
        <p:blipFill>
          <a:blip r:embed="rId3"/>
          <a:stretch/>
        </p:blipFill>
        <p:spPr>
          <a:xfrm>
            <a:off x="2808360" y="2725560"/>
            <a:ext cx="1445760" cy="1393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7"/>
          <p:cNvSpPr/>
          <p:nvPr/>
        </p:nvSpPr>
        <p:spPr>
          <a:xfrm>
            <a:off x="1287360" y="3289320"/>
            <a:ext cx="1692000" cy="1591920"/>
          </a:xfrm>
          <a:custGeom>
            <a:avLst/>
            <a:gdLst>
              <a:gd name="textAreaLeft" fmla="*/ 0 w 1692000"/>
              <a:gd name="textAreaRight" fmla="*/ 1692360 w 1692000"/>
              <a:gd name="textAreaTop" fmla="*/ 0 h 1591920"/>
              <a:gd name="textAreaBottom" fmla="*/ 1592280 h 1591920"/>
            </a:gdLst>
            <a:ahLst/>
            <a:rect l="textAreaLeft" t="textAreaTop" r="textAreaRight" b="textAreaBottom"/>
            <a:pathLst>
              <a:path w="215" h="202">
                <a:moveTo>
                  <a:pt x="188" y="67"/>
                </a:moveTo>
                <a:cubicBezTo>
                  <a:pt x="200" y="54"/>
                  <a:pt x="200" y="54"/>
                  <a:pt x="200" y="54"/>
                </a:cubicBezTo>
                <a:cubicBezTo>
                  <a:pt x="201" y="53"/>
                  <a:pt x="206" y="49"/>
                  <a:pt x="208" y="49"/>
                </a:cubicBezTo>
                <a:cubicBezTo>
                  <a:pt x="211" y="49"/>
                  <a:pt x="214" y="50"/>
                  <a:pt x="215" y="52"/>
                </a:cubicBezTo>
                <a:cubicBezTo>
                  <a:pt x="188" y="25"/>
                  <a:pt x="188" y="25"/>
                  <a:pt x="188" y="25"/>
                </a:cubicBezTo>
                <a:cubicBezTo>
                  <a:pt x="190" y="27"/>
                  <a:pt x="191" y="30"/>
                  <a:pt x="191" y="32"/>
                </a:cubicBezTo>
                <a:cubicBezTo>
                  <a:pt x="192" y="35"/>
                  <a:pt x="187" y="41"/>
                  <a:pt x="185" y="43"/>
                </a:cubicBezTo>
                <a:cubicBezTo>
                  <a:pt x="173" y="56"/>
                  <a:pt x="173" y="56"/>
                  <a:pt x="173" y="56"/>
                </a:cubicBezTo>
                <a:cubicBezTo>
                  <a:pt x="172" y="57"/>
                  <a:pt x="170" y="57"/>
                  <a:pt x="168" y="57"/>
                </a:cubicBezTo>
                <a:cubicBezTo>
                  <a:pt x="166" y="57"/>
                  <a:pt x="164" y="57"/>
                  <a:pt x="163" y="56"/>
                </a:cubicBezTo>
                <a:cubicBezTo>
                  <a:pt x="111" y="6"/>
                  <a:pt x="111" y="6"/>
                  <a:pt x="111" y="6"/>
                </a:cubicBezTo>
                <a:cubicBezTo>
                  <a:pt x="104" y="0"/>
                  <a:pt x="93" y="0"/>
                  <a:pt x="87" y="7"/>
                </a:cubicBezTo>
                <a:cubicBezTo>
                  <a:pt x="6" y="91"/>
                  <a:pt x="6" y="91"/>
                  <a:pt x="6" y="91"/>
                </a:cubicBezTo>
                <a:cubicBezTo>
                  <a:pt x="0" y="98"/>
                  <a:pt x="0" y="109"/>
                  <a:pt x="7" y="11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8" y="202"/>
                  <a:pt x="109" y="202"/>
                  <a:pt x="115" y="195"/>
                </a:cubicBezTo>
                <a:cubicBezTo>
                  <a:pt x="196" y="111"/>
                  <a:pt x="196" y="111"/>
                  <a:pt x="196" y="111"/>
                </a:cubicBezTo>
                <a:cubicBezTo>
                  <a:pt x="202" y="104"/>
                  <a:pt x="202" y="93"/>
                  <a:pt x="195" y="87"/>
                </a:cubicBezTo>
                <a:cubicBezTo>
                  <a:pt x="186" y="78"/>
                  <a:pt x="186" y="78"/>
                  <a:pt x="186" y="78"/>
                </a:cubicBezTo>
                <a:cubicBezTo>
                  <a:pt x="185" y="77"/>
                  <a:pt x="185" y="75"/>
                  <a:pt x="185" y="74"/>
                </a:cubicBezTo>
                <a:cubicBezTo>
                  <a:pt x="185" y="71"/>
                  <a:pt x="186" y="68"/>
                  <a:pt x="188" y="67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pic>
        <p:nvPicPr>
          <p:cNvPr id="220" name="图片 9" descr=""/>
          <p:cNvPicPr/>
          <p:nvPr/>
        </p:nvPicPr>
        <p:blipFill>
          <a:blip r:embed="rId4"/>
          <a:stretch/>
        </p:blipFill>
        <p:spPr>
          <a:xfrm>
            <a:off x="1374840" y="3417840"/>
            <a:ext cx="1445760" cy="1393560"/>
          </a:xfrm>
          <a:prstGeom prst="rect">
            <a:avLst/>
          </a:prstGeom>
          <a:ln w="0">
            <a:noFill/>
          </a:ln>
        </p:spPr>
      </p:pic>
      <p:sp>
        <p:nvSpPr>
          <p:cNvPr id="221" name="Freeform 11"/>
          <p:cNvSpPr/>
          <p:nvPr/>
        </p:nvSpPr>
        <p:spPr>
          <a:xfrm>
            <a:off x="2097000" y="4976640"/>
            <a:ext cx="433080" cy="707760"/>
          </a:xfrm>
          <a:custGeom>
            <a:avLst/>
            <a:gdLst>
              <a:gd name="textAreaLeft" fmla="*/ 0 w 433080"/>
              <a:gd name="textAreaRight" fmla="*/ 433440 w 43308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390" h="637">
                <a:moveTo>
                  <a:pt x="0" y="0"/>
                </a:moveTo>
                <a:lnTo>
                  <a:pt x="0" y="241"/>
                </a:lnTo>
                <a:lnTo>
                  <a:pt x="390" y="637"/>
                </a:lnTo>
              </a:path>
            </a:pathLst>
          </a:custGeom>
          <a:noFill/>
          <a:ln cap="rnd" w="11113">
            <a:solidFill>
              <a:srgbClr val="9c96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222" name="Freeform 12"/>
          <p:cNvSpPr/>
          <p:nvPr/>
        </p:nvSpPr>
        <p:spPr>
          <a:xfrm>
            <a:off x="3492360" y="1809720"/>
            <a:ext cx="441000" cy="701280"/>
          </a:xfrm>
          <a:custGeom>
            <a:avLst/>
            <a:gdLst>
              <a:gd name="textAreaLeft" fmla="*/ 0 w 441000"/>
              <a:gd name="textAreaRight" fmla="*/ 441360 w 441000"/>
              <a:gd name="textAreaTop" fmla="*/ 0 h 701280"/>
              <a:gd name="textAreaBottom" fmla="*/ 701640 h 701280"/>
            </a:gdLst>
            <a:ahLst/>
            <a:rect l="textAreaLeft" t="textAreaTop" r="textAreaRight" b="textAreaBottom"/>
            <a:pathLst>
              <a:path w="397" h="631">
                <a:moveTo>
                  <a:pt x="0" y="631"/>
                </a:moveTo>
                <a:lnTo>
                  <a:pt x="0" y="390"/>
                </a:lnTo>
                <a:lnTo>
                  <a:pt x="397" y="0"/>
                </a:lnTo>
              </a:path>
            </a:pathLst>
          </a:custGeom>
          <a:noFill/>
          <a:ln cap="rnd" w="11113">
            <a:solidFill>
              <a:srgbClr val="9c96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223" name="Freeform 13"/>
          <p:cNvSpPr/>
          <p:nvPr/>
        </p:nvSpPr>
        <p:spPr>
          <a:xfrm>
            <a:off x="5641920" y="2436840"/>
            <a:ext cx="290160" cy="558360"/>
          </a:xfrm>
          <a:custGeom>
            <a:avLst/>
            <a:gdLst>
              <a:gd name="textAreaLeft" fmla="*/ 0 w 290160"/>
              <a:gd name="textAreaRight" fmla="*/ 290520 w 29016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262" h="503">
                <a:moveTo>
                  <a:pt x="0" y="503"/>
                </a:moveTo>
                <a:lnTo>
                  <a:pt x="0" y="262"/>
                </a:lnTo>
                <a:lnTo>
                  <a:pt x="262" y="0"/>
                </a:lnTo>
              </a:path>
            </a:pathLst>
          </a:custGeom>
          <a:noFill/>
          <a:ln cap="rnd" w="11113">
            <a:solidFill>
              <a:srgbClr val="9c96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224" name="Freeform 14"/>
          <p:cNvSpPr/>
          <p:nvPr/>
        </p:nvSpPr>
        <p:spPr>
          <a:xfrm>
            <a:off x="4359240" y="5583240"/>
            <a:ext cx="290160" cy="558360"/>
          </a:xfrm>
          <a:custGeom>
            <a:avLst/>
            <a:gdLst>
              <a:gd name="textAreaLeft" fmla="*/ 0 w 290160"/>
              <a:gd name="textAreaRight" fmla="*/ 290520 w 29016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262" h="503">
                <a:moveTo>
                  <a:pt x="0" y="0"/>
                </a:moveTo>
                <a:lnTo>
                  <a:pt x="0" y="241"/>
                </a:lnTo>
                <a:lnTo>
                  <a:pt x="262" y="503"/>
                </a:lnTo>
              </a:path>
            </a:pathLst>
          </a:custGeom>
          <a:noFill/>
          <a:ln cap="rnd" w="11113">
            <a:solidFill>
              <a:srgbClr val="9c96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225" name="Freeform 15"/>
          <p:cNvSpPr/>
          <p:nvPr/>
        </p:nvSpPr>
        <p:spPr>
          <a:xfrm>
            <a:off x="5862600" y="2436840"/>
            <a:ext cx="78840" cy="70920"/>
          </a:xfrm>
          <a:custGeom>
            <a:avLst/>
            <a:gdLst>
              <a:gd name="textAreaLeft" fmla="*/ 0 w 78840"/>
              <a:gd name="textAreaRight" fmla="*/ 79200 w 7884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71" h="64">
                <a:moveTo>
                  <a:pt x="0" y="14"/>
                </a:moveTo>
                <a:lnTo>
                  <a:pt x="71" y="0"/>
                </a:lnTo>
                <a:lnTo>
                  <a:pt x="49" y="64"/>
                </a:lnTo>
                <a:lnTo>
                  <a:pt x="0" y="14"/>
                </a:lnTo>
                <a:close/>
              </a:path>
            </a:pathLst>
          </a:custGeom>
          <a:solidFill>
            <a:srgbClr val="9c96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226" name="Freeform 16"/>
          <p:cNvSpPr/>
          <p:nvPr/>
        </p:nvSpPr>
        <p:spPr>
          <a:xfrm>
            <a:off x="3870360" y="1793880"/>
            <a:ext cx="77400" cy="78840"/>
          </a:xfrm>
          <a:custGeom>
            <a:avLst/>
            <a:gdLst>
              <a:gd name="textAreaLeft" fmla="*/ 0 w 77400"/>
              <a:gd name="textAreaRight" fmla="*/ 77760 w 7740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71" h="71">
                <a:moveTo>
                  <a:pt x="0" y="21"/>
                </a:moveTo>
                <a:lnTo>
                  <a:pt x="71" y="0"/>
                </a:lnTo>
                <a:lnTo>
                  <a:pt x="50" y="71"/>
                </a:lnTo>
                <a:lnTo>
                  <a:pt x="0" y="21"/>
                </a:lnTo>
                <a:close/>
              </a:path>
            </a:pathLst>
          </a:custGeom>
          <a:solidFill>
            <a:srgbClr val="9c96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227" name="Freeform 17"/>
          <p:cNvSpPr/>
          <p:nvPr/>
        </p:nvSpPr>
        <p:spPr>
          <a:xfrm>
            <a:off x="2468520" y="5607000"/>
            <a:ext cx="77400" cy="77400"/>
          </a:xfrm>
          <a:custGeom>
            <a:avLst/>
            <a:gdLst>
              <a:gd name="textAreaLeft" fmla="*/ 0 w 77400"/>
              <a:gd name="textAreaRight" fmla="*/ 77760 w 77400"/>
              <a:gd name="textAreaTop" fmla="*/ 0 h 77400"/>
              <a:gd name="textAreaBottom" fmla="*/ 77760 h 77400"/>
            </a:gdLst>
            <a:ahLst/>
            <a:rect l="textAreaLeft" t="textAreaTop" r="textAreaRight" b="textAreaBottom"/>
            <a:pathLst>
              <a:path w="71" h="70">
                <a:moveTo>
                  <a:pt x="0" y="49"/>
                </a:moveTo>
                <a:lnTo>
                  <a:pt x="50" y="0"/>
                </a:lnTo>
                <a:lnTo>
                  <a:pt x="71" y="70"/>
                </a:lnTo>
                <a:lnTo>
                  <a:pt x="0" y="49"/>
                </a:lnTo>
                <a:close/>
              </a:path>
            </a:pathLst>
          </a:custGeom>
          <a:solidFill>
            <a:srgbClr val="9c96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sp>
        <p:nvSpPr>
          <p:cNvPr id="228" name="Freeform 18"/>
          <p:cNvSpPr/>
          <p:nvPr/>
        </p:nvSpPr>
        <p:spPr>
          <a:xfrm>
            <a:off x="4586400" y="6087960"/>
            <a:ext cx="78840" cy="78840"/>
          </a:xfrm>
          <a:custGeom>
            <a:avLst/>
            <a:gdLst>
              <a:gd name="textAreaLeft" fmla="*/ 0 w 78840"/>
              <a:gd name="textAreaRight" fmla="*/ 79200 w 78840"/>
              <a:gd name="textAreaTop" fmla="*/ 0 h 78840"/>
              <a:gd name="textAreaBottom" fmla="*/ 79200 h 78840"/>
            </a:gdLst>
            <a:ahLst/>
            <a:rect l="textAreaLeft" t="textAreaTop" r="textAreaRight" b="textAreaBottom"/>
            <a:pathLst>
              <a:path w="71" h="71">
                <a:moveTo>
                  <a:pt x="0" y="49"/>
                </a:moveTo>
                <a:lnTo>
                  <a:pt x="50" y="0"/>
                </a:lnTo>
                <a:lnTo>
                  <a:pt x="71" y="71"/>
                </a:lnTo>
                <a:lnTo>
                  <a:pt x="0" y="49"/>
                </a:lnTo>
                <a:close/>
              </a:path>
            </a:pathLst>
          </a:custGeom>
          <a:solidFill>
            <a:srgbClr val="9c96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grpSp>
        <p:nvGrpSpPr>
          <p:cNvPr id="229" name="组合 18"/>
          <p:cNvGrpSpPr/>
          <p:nvPr/>
        </p:nvGrpSpPr>
        <p:grpSpPr>
          <a:xfrm>
            <a:off x="1811160" y="3857040"/>
            <a:ext cx="530640" cy="432000"/>
            <a:chOff x="1811160" y="3857040"/>
            <a:chExt cx="530640" cy="432000"/>
          </a:xfrm>
        </p:grpSpPr>
        <p:sp>
          <p:nvSpPr>
            <p:cNvPr id="230" name="Freeform 19"/>
            <p:cNvSpPr/>
            <p:nvPr/>
          </p:nvSpPr>
          <p:spPr>
            <a:xfrm>
              <a:off x="1977840" y="4005000"/>
              <a:ext cx="216000" cy="2347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3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0" y="14"/>
                    <a:pt x="13" y="11"/>
                    <a:pt x="13" y="7"/>
                  </a:cubicBezTo>
                  <a:cubicBezTo>
                    <a:pt x="13" y="3"/>
                    <a:pt x="10" y="0"/>
                    <a:pt x="7" y="0"/>
                  </a:cubicBezTo>
                  <a:close/>
                  <a:moveTo>
                    <a:pt x="7" y="12"/>
                  </a:moveTo>
                  <a:cubicBezTo>
                    <a:pt x="4" y="12"/>
                    <a:pt x="1" y="10"/>
                    <a:pt x="1" y="7"/>
                  </a:cubicBezTo>
                  <a:cubicBezTo>
                    <a:pt x="1" y="4"/>
                    <a:pt x="4" y="2"/>
                    <a:pt x="7" y="2"/>
                  </a:cubicBezTo>
                  <a:cubicBezTo>
                    <a:pt x="10" y="2"/>
                    <a:pt x="12" y="4"/>
                    <a:pt x="12" y="7"/>
                  </a:cubicBezTo>
                  <a:cubicBezTo>
                    <a:pt x="12" y="10"/>
                    <a:pt x="10" y="12"/>
                    <a:pt x="7" y="12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5f5f5f"/>
                </a:solidFill>
                <a:latin typeface="Calibri"/>
                <a:ea typeface="幼圆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1811160" y="3857040"/>
              <a:ext cx="530640" cy="432000"/>
            </a:xfrm>
            <a:custGeom>
              <a:avLst/>
              <a:gdLst>
                <a:gd name="textAreaLeft" fmla="*/ 0 w 530640"/>
                <a:gd name="textAreaRight" fmla="*/ 531000 w 530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32" h="26">
                  <a:moveTo>
                    <a:pt x="30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1"/>
                    <a:pt x="22" y="0"/>
                    <a:pt x="21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1" y="1"/>
                    <a:pt x="11" y="2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4"/>
                    <a:pt x="9" y="3"/>
                    <a:pt x="8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4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6"/>
                    <a:pt x="0" y="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6"/>
                    <a:pt x="1" y="26"/>
                    <a:pt x="2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1" y="26"/>
                    <a:pt x="32" y="26"/>
                    <a:pt x="32" y="24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6"/>
                    <a:pt x="31" y="5"/>
                    <a:pt x="30" y="5"/>
                  </a:cubicBezTo>
                  <a:close/>
                  <a:moveTo>
                    <a:pt x="7" y="9"/>
                  </a:move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2" y="9"/>
                    <a:pt x="2" y="8"/>
                  </a:cubicBezTo>
                  <a:cubicBezTo>
                    <a:pt x="2" y="8"/>
                    <a:pt x="3" y="7"/>
                    <a:pt x="3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8" y="8"/>
                    <a:pt x="8" y="8"/>
                  </a:cubicBezTo>
                  <a:cubicBezTo>
                    <a:pt x="8" y="9"/>
                    <a:pt x="7" y="9"/>
                    <a:pt x="7" y="9"/>
                  </a:cubicBezTo>
                  <a:close/>
                  <a:moveTo>
                    <a:pt x="14" y="2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1" y="2"/>
                    <a:pt x="21" y="2"/>
                  </a:cubicBezTo>
                  <a:cubicBezTo>
                    <a:pt x="21" y="3"/>
                    <a:pt x="20" y="3"/>
                    <a:pt x="20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3"/>
                    <a:pt x="13" y="3"/>
                    <a:pt x="13" y="2"/>
                  </a:cubicBezTo>
                  <a:cubicBezTo>
                    <a:pt x="13" y="2"/>
                    <a:pt x="13" y="2"/>
                    <a:pt x="14" y="2"/>
                  </a:cubicBezTo>
                  <a:close/>
                  <a:moveTo>
                    <a:pt x="17" y="24"/>
                  </a:moveTo>
                  <a:cubicBezTo>
                    <a:pt x="12" y="24"/>
                    <a:pt x="9" y="20"/>
                    <a:pt x="9" y="16"/>
                  </a:cubicBezTo>
                  <a:cubicBezTo>
                    <a:pt x="9" y="11"/>
                    <a:pt x="12" y="8"/>
                    <a:pt x="17" y="8"/>
                  </a:cubicBezTo>
                  <a:cubicBezTo>
                    <a:pt x="21" y="8"/>
                    <a:pt x="25" y="11"/>
                    <a:pt x="25" y="16"/>
                  </a:cubicBezTo>
                  <a:cubicBezTo>
                    <a:pt x="25" y="20"/>
                    <a:pt x="21" y="24"/>
                    <a:pt x="17" y="24"/>
                  </a:cubicBezTo>
                  <a:close/>
                  <a:moveTo>
                    <a:pt x="29" y="9"/>
                  </a:moveTo>
                  <a:cubicBezTo>
                    <a:pt x="28" y="9"/>
                    <a:pt x="27" y="9"/>
                    <a:pt x="27" y="8"/>
                  </a:cubicBezTo>
                  <a:cubicBezTo>
                    <a:pt x="27" y="7"/>
                    <a:pt x="28" y="7"/>
                    <a:pt x="29" y="7"/>
                  </a:cubicBezTo>
                  <a:cubicBezTo>
                    <a:pt x="29" y="7"/>
                    <a:pt x="30" y="7"/>
                    <a:pt x="30" y="8"/>
                  </a:cubicBezTo>
                  <a:cubicBezTo>
                    <a:pt x="30" y="9"/>
                    <a:pt x="29" y="9"/>
                    <a:pt x="29" y="9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5f5f5f"/>
                </a:solidFill>
                <a:latin typeface="Calibri"/>
                <a:ea typeface="幼圆"/>
              </a:endParaRPr>
            </a:p>
          </p:txBody>
        </p:sp>
      </p:grpSp>
      <p:grpSp>
        <p:nvGrpSpPr>
          <p:cNvPr id="232" name="组合 21"/>
          <p:cNvGrpSpPr/>
          <p:nvPr/>
        </p:nvGrpSpPr>
        <p:grpSpPr>
          <a:xfrm>
            <a:off x="3222360" y="3133800"/>
            <a:ext cx="543600" cy="489600"/>
            <a:chOff x="3222360" y="3133800"/>
            <a:chExt cx="543600" cy="489600"/>
          </a:xfrm>
        </p:grpSpPr>
        <p:sp>
          <p:nvSpPr>
            <p:cNvPr id="233" name="Oval 21"/>
            <p:cNvSpPr/>
            <p:nvPr/>
          </p:nvSpPr>
          <p:spPr>
            <a:xfrm>
              <a:off x="3291480" y="3133800"/>
              <a:ext cx="192600" cy="17280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5f5f5f"/>
                </a:solidFill>
                <a:latin typeface="Calibri"/>
                <a:ea typeface="幼圆"/>
              </a:endParaRPr>
            </a:p>
          </p:txBody>
        </p:sp>
        <p:sp>
          <p:nvSpPr>
            <p:cNvPr id="234" name="Freeform 22"/>
            <p:cNvSpPr/>
            <p:nvPr/>
          </p:nvSpPr>
          <p:spPr>
            <a:xfrm>
              <a:off x="3222360" y="3361680"/>
              <a:ext cx="333360" cy="2617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9" h="15">
                  <a:moveTo>
                    <a:pt x="10" y="0"/>
                  </a:moveTo>
                  <a:cubicBezTo>
                    <a:pt x="2" y="0"/>
                    <a:pt x="0" y="15"/>
                    <a:pt x="0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7" y="0"/>
                    <a:pt x="10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5f5f5f"/>
                </a:solidFill>
                <a:latin typeface="Calibri"/>
                <a:ea typeface="幼圆"/>
              </a:endParaRPr>
            </a:p>
          </p:txBody>
        </p:sp>
        <p:sp>
          <p:nvSpPr>
            <p:cNvPr id="235" name="Oval 23"/>
            <p:cNvSpPr/>
            <p:nvPr/>
          </p:nvSpPr>
          <p:spPr>
            <a:xfrm>
              <a:off x="3591000" y="3255120"/>
              <a:ext cx="138240" cy="14076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5f5f5f"/>
                </a:solidFill>
                <a:latin typeface="Calibri"/>
                <a:ea typeface="幼圆"/>
              </a:endParaRPr>
            </a:p>
          </p:txBody>
        </p:sp>
        <p:sp>
          <p:nvSpPr>
            <p:cNvPr id="236" name="Freeform 24"/>
            <p:cNvSpPr/>
            <p:nvPr/>
          </p:nvSpPr>
          <p:spPr>
            <a:xfrm>
              <a:off x="3556080" y="3430800"/>
              <a:ext cx="209880" cy="19260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2" h="11">
                  <a:moveTo>
                    <a:pt x="6" y="0"/>
                  </a:moveTo>
                  <a:cubicBezTo>
                    <a:pt x="3" y="0"/>
                    <a:pt x="1" y="2"/>
                    <a:pt x="0" y="5"/>
                  </a:cubicBezTo>
                  <a:cubicBezTo>
                    <a:pt x="1" y="8"/>
                    <a:pt x="2" y="11"/>
                    <a:pt x="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1" y="0"/>
                    <a:pt x="6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5f5f5f"/>
                </a:solidFill>
                <a:latin typeface="Calibri"/>
                <a:ea typeface="幼圆"/>
              </a:endParaRPr>
            </a:p>
          </p:txBody>
        </p:sp>
      </p:grpSp>
      <p:sp>
        <p:nvSpPr>
          <p:cNvPr id="237" name="Freeform 25"/>
          <p:cNvSpPr/>
          <p:nvPr/>
        </p:nvSpPr>
        <p:spPr>
          <a:xfrm>
            <a:off x="4040280" y="4448160"/>
            <a:ext cx="509400" cy="474480"/>
          </a:xfrm>
          <a:custGeom>
            <a:avLst/>
            <a:gdLst>
              <a:gd name="textAreaLeft" fmla="*/ 0 w 509400"/>
              <a:gd name="textAreaRight" fmla="*/ 509760 w 50940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29" h="27">
                <a:moveTo>
                  <a:pt x="27" y="0"/>
                </a:moveTo>
                <a:cubicBezTo>
                  <a:pt x="8" y="0"/>
                  <a:pt x="8" y="0"/>
                  <a:pt x="8" y="0"/>
                </a:cubicBezTo>
                <a:cubicBezTo>
                  <a:pt x="7" y="0"/>
                  <a:pt x="6" y="1"/>
                  <a:pt x="6" y="2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22"/>
                  <a:pt x="6" y="22"/>
                  <a:pt x="6" y="22"/>
                </a:cubicBezTo>
                <a:cubicBezTo>
                  <a:pt x="5" y="21"/>
                  <a:pt x="5" y="21"/>
                  <a:pt x="4" y="21"/>
                </a:cubicBezTo>
                <a:cubicBezTo>
                  <a:pt x="1" y="21"/>
                  <a:pt x="0" y="23"/>
                  <a:pt x="0" y="24"/>
                </a:cubicBezTo>
                <a:cubicBezTo>
                  <a:pt x="0" y="26"/>
                  <a:pt x="1" y="27"/>
                  <a:pt x="4" y="27"/>
                </a:cubicBezTo>
                <a:cubicBezTo>
                  <a:pt x="6" y="27"/>
                  <a:pt x="8" y="26"/>
                  <a:pt x="8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10"/>
                  <a:pt x="8" y="10"/>
                  <a:pt x="8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2"/>
                  <a:pt x="28" y="22"/>
                  <a:pt x="28" y="22"/>
                </a:cubicBezTo>
                <a:cubicBezTo>
                  <a:pt x="27" y="21"/>
                  <a:pt x="26" y="21"/>
                  <a:pt x="25" y="21"/>
                </a:cubicBezTo>
                <a:cubicBezTo>
                  <a:pt x="23" y="21"/>
                  <a:pt x="21" y="23"/>
                  <a:pt x="21" y="24"/>
                </a:cubicBezTo>
                <a:cubicBezTo>
                  <a:pt x="21" y="26"/>
                  <a:pt x="23" y="27"/>
                  <a:pt x="25" y="27"/>
                </a:cubicBezTo>
                <a:cubicBezTo>
                  <a:pt x="27" y="27"/>
                  <a:pt x="29" y="26"/>
                  <a:pt x="29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1"/>
                  <a:pt x="28" y="0"/>
                  <a:pt x="27" y="0"/>
                </a:cubicBezTo>
                <a:close/>
                <a:moveTo>
                  <a:pt x="8" y="8"/>
                </a:moveTo>
                <a:cubicBezTo>
                  <a:pt x="8" y="6"/>
                  <a:pt x="8" y="6"/>
                  <a:pt x="8" y="6"/>
                </a:cubicBezTo>
                <a:cubicBezTo>
                  <a:pt x="8" y="6"/>
                  <a:pt x="8" y="6"/>
                  <a:pt x="8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6"/>
                  <a:pt x="27" y="6"/>
                  <a:pt x="28" y="6"/>
                </a:cubicBezTo>
                <a:cubicBezTo>
                  <a:pt x="28" y="8"/>
                  <a:pt x="28" y="8"/>
                  <a:pt x="28" y="8"/>
                </a:cubicBezTo>
                <a:lnTo>
                  <a:pt x="8" y="8"/>
                </a:lnTo>
                <a:close/>
              </a:path>
            </a:pathLst>
          </a:cu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Calibri"/>
              <a:ea typeface="幼圆"/>
            </a:endParaRPr>
          </a:p>
        </p:txBody>
      </p:sp>
      <p:grpSp>
        <p:nvGrpSpPr>
          <p:cNvPr id="238" name="组合 27"/>
          <p:cNvGrpSpPr/>
          <p:nvPr/>
        </p:nvGrpSpPr>
        <p:grpSpPr>
          <a:xfrm>
            <a:off x="5379120" y="3604320"/>
            <a:ext cx="570600" cy="570600"/>
            <a:chOff x="5379120" y="3604320"/>
            <a:chExt cx="570600" cy="570600"/>
          </a:xfrm>
        </p:grpSpPr>
        <p:sp>
          <p:nvSpPr>
            <p:cNvPr id="239" name="Freeform 26"/>
            <p:cNvSpPr/>
            <p:nvPr/>
          </p:nvSpPr>
          <p:spPr>
            <a:xfrm>
              <a:off x="5379120" y="3604320"/>
              <a:ext cx="570600" cy="5706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570600"/>
                <a:gd name="textAreaBottom" fmla="*/ 570960 h 570600"/>
              </a:gdLst>
              <a:ahLst/>
              <a:rect l="textAreaLeft" t="textAreaTop" r="textAreaRight" b="textAreaBottom"/>
              <a:pathLst>
                <a:path w="34" h="34">
                  <a:moveTo>
                    <a:pt x="17" y="0"/>
                  </a:moveTo>
                  <a:cubicBezTo>
                    <a:pt x="7" y="0"/>
                    <a:pt x="0" y="7"/>
                    <a:pt x="0" y="17"/>
                  </a:cubicBezTo>
                  <a:cubicBezTo>
                    <a:pt x="0" y="26"/>
                    <a:pt x="7" y="34"/>
                    <a:pt x="17" y="34"/>
                  </a:cubicBezTo>
                  <a:cubicBezTo>
                    <a:pt x="26" y="34"/>
                    <a:pt x="34" y="26"/>
                    <a:pt x="34" y="17"/>
                  </a:cubicBezTo>
                  <a:cubicBezTo>
                    <a:pt x="34" y="7"/>
                    <a:pt x="26" y="0"/>
                    <a:pt x="17" y="0"/>
                  </a:cubicBezTo>
                  <a:close/>
                  <a:moveTo>
                    <a:pt x="17" y="31"/>
                  </a:moveTo>
                  <a:cubicBezTo>
                    <a:pt x="9" y="31"/>
                    <a:pt x="2" y="25"/>
                    <a:pt x="2" y="17"/>
                  </a:cubicBezTo>
                  <a:cubicBezTo>
                    <a:pt x="2" y="9"/>
                    <a:pt x="9" y="2"/>
                    <a:pt x="17" y="2"/>
                  </a:cubicBezTo>
                  <a:cubicBezTo>
                    <a:pt x="25" y="2"/>
                    <a:pt x="31" y="9"/>
                    <a:pt x="31" y="17"/>
                  </a:cubicBezTo>
                  <a:cubicBezTo>
                    <a:pt x="31" y="25"/>
                    <a:pt x="25" y="31"/>
                    <a:pt x="17" y="31"/>
                  </a:cubicBezTo>
                  <a:close/>
                </a:path>
              </a:pathLst>
            </a:custGeom>
            <a:solidFill>
              <a:schemeClr val="accent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5f5f5f"/>
                </a:solidFill>
                <a:latin typeface="Calibri"/>
                <a:ea typeface="幼圆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5445720" y="3670560"/>
              <a:ext cx="438120" cy="4215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26" h="25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5"/>
                    <a:pt x="13" y="25"/>
                  </a:cubicBezTo>
                  <a:cubicBezTo>
                    <a:pt x="20" y="25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21" y="14"/>
                  </a:moveTo>
                  <a:cubicBezTo>
                    <a:pt x="12" y="14"/>
                    <a:pt x="12" y="14"/>
                    <a:pt x="12" y="14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21" y="12"/>
                    <a:pt x="21" y="12"/>
                    <a:pt x="21" y="12"/>
                  </a:cubicBezTo>
                  <a:lnTo>
                    <a:pt x="21" y="14"/>
                  </a:lnTo>
                  <a:close/>
                </a:path>
              </a:pathLst>
            </a:custGeom>
            <a:solidFill>
              <a:schemeClr val="accent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5f5f5f"/>
                </a:solidFill>
                <a:latin typeface="Calibri"/>
                <a:ea typeface="幼圆"/>
              </a:endParaRPr>
            </a:p>
          </p:txBody>
        </p:sp>
      </p:grpSp>
      <p:sp>
        <p:nvSpPr>
          <p:cNvPr id="241" name="文本框 30"/>
          <p:cNvSpPr/>
          <p:nvPr/>
        </p:nvSpPr>
        <p:spPr>
          <a:xfrm>
            <a:off x="3943440" y="1603440"/>
            <a:ext cx="5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5f5f5f"/>
                </a:solidFill>
                <a:latin typeface="Impact"/>
                <a:ea typeface="宋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32"/>
          <p:cNvSpPr/>
          <p:nvPr/>
        </p:nvSpPr>
        <p:spPr>
          <a:xfrm>
            <a:off x="5928120" y="2087640"/>
            <a:ext cx="5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5f5f5f"/>
                </a:solidFill>
                <a:latin typeface="Impact"/>
                <a:ea typeface="宋体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4"/>
          <p:cNvSpPr/>
          <p:nvPr/>
        </p:nvSpPr>
        <p:spPr>
          <a:xfrm>
            <a:off x="2530800" y="5335560"/>
            <a:ext cx="5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5f5f5f"/>
                </a:solidFill>
                <a:latin typeface="Impact"/>
                <a:ea typeface="宋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35"/>
          <p:cNvSpPr/>
          <p:nvPr/>
        </p:nvSpPr>
        <p:spPr>
          <a:xfrm>
            <a:off x="2735280" y="5745240"/>
            <a:ext cx="668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限时免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6"/>
          <p:cNvSpPr/>
          <p:nvPr/>
        </p:nvSpPr>
        <p:spPr>
          <a:xfrm>
            <a:off x="4662720" y="5634000"/>
            <a:ext cx="58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5f5f5f"/>
                </a:solidFill>
                <a:latin typeface="Impact"/>
                <a:ea typeface="宋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8"/>
          <p:cNvSpPr/>
          <p:nvPr/>
        </p:nvSpPr>
        <p:spPr>
          <a:xfrm>
            <a:off x="4146480" y="2014560"/>
            <a:ext cx="668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首选林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9"/>
          <p:cNvSpPr/>
          <p:nvPr/>
        </p:nvSpPr>
        <p:spPr>
          <a:xfrm>
            <a:off x="6546600" y="2454120"/>
            <a:ext cx="668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风格独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40"/>
          <p:cNvSpPr/>
          <p:nvPr/>
        </p:nvSpPr>
        <p:spPr>
          <a:xfrm>
            <a:off x="5295600" y="5203800"/>
            <a:ext cx="668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各种动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661320" y="65156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1600">
        <p14:prism isInverted="true"/>
      </p:transition>
    </mc:Choice>
    <mc:Fallback>
      <p:transition spd="slow" advTm="2000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3" descr=""/>
          <p:cNvPicPr/>
          <p:nvPr/>
        </p:nvPicPr>
        <p:blipFill>
          <a:blip r:embed="rId1"/>
          <a:stretch/>
        </p:blipFill>
        <p:spPr>
          <a:xfrm>
            <a:off x="1259640" y="936720"/>
            <a:ext cx="2736000" cy="40910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4860000" y="1989000"/>
            <a:ext cx="37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对不起，我来晚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林敏</a:t>
            </a:r>
            <a:r>
              <a:rPr b="0" lang="en-US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PPT</a:t>
            </a: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设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如青花瓷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48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韵味</a:t>
            </a: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飘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1600">
        <p14:prism isInverted="true"/>
      </p:transition>
    </mc:Choice>
    <mc:Fallback>
      <p:transition spd="slow" advTm="2000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880" y="339840"/>
            <a:ext cx="8291520" cy="6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2015</a:t>
            </a:r>
            <a:r>
              <a:rPr b="1" lang="zh-CN" sz="3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年度计划</a:t>
            </a:r>
            <a:endParaRPr b="0" lang="en-US" sz="3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53" name="矩形 10307"/>
          <p:cNvSpPr/>
          <p:nvPr/>
        </p:nvSpPr>
        <p:spPr>
          <a:xfrm>
            <a:off x="4759200" y="2390760"/>
            <a:ext cx="1972800" cy="5043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新魏"/>
              </a:rPr>
              <a:t>60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新魏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08"/>
          <p:cNvSpPr/>
          <p:nvPr/>
        </p:nvSpPr>
        <p:spPr>
          <a:xfrm>
            <a:off x="4759200" y="2967120"/>
            <a:ext cx="3052440" cy="5043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新魏"/>
              </a:rPr>
              <a:t>90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新魏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09"/>
          <p:cNvSpPr/>
          <p:nvPr/>
        </p:nvSpPr>
        <p:spPr>
          <a:xfrm>
            <a:off x="4759200" y="3543480"/>
            <a:ext cx="2476080" cy="5043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新魏"/>
              </a:rPr>
              <a:t>75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新魏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10"/>
          <p:cNvSpPr/>
          <p:nvPr/>
        </p:nvSpPr>
        <p:spPr>
          <a:xfrm>
            <a:off x="4759200" y="4119480"/>
            <a:ext cx="3341160" cy="5029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新魏"/>
              </a:rPr>
              <a:t>95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新魏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直接连接符 10310"/>
          <p:cNvCxnSpPr/>
          <p:nvPr/>
        </p:nvCxnSpPr>
        <p:spPr>
          <a:xfrm>
            <a:off x="4759200" y="2145960"/>
            <a:ext cx="360" cy="2729520"/>
          </a:xfrm>
          <a:prstGeom prst="straightConnector1">
            <a:avLst/>
          </a:prstGeom>
          <a:ln>
            <a:solidFill>
              <a:srgbClr val="b2b2b2"/>
            </a:solidFill>
          </a:ln>
        </p:spPr>
      </p:cxnSp>
      <p:sp>
        <p:nvSpPr>
          <p:cNvPr id="258" name="KSO_Shape"/>
          <p:cNvSpPr/>
          <p:nvPr/>
        </p:nvSpPr>
        <p:spPr>
          <a:xfrm>
            <a:off x="1028880" y="2168640"/>
            <a:ext cx="2592000" cy="2491920"/>
          </a:xfrm>
          <a:custGeom>
            <a:avLst/>
            <a:gdLst>
              <a:gd name="textAreaLeft" fmla="*/ 0 w 2592000"/>
              <a:gd name="textAreaRight" fmla="*/ 2592360 w 2592000"/>
              <a:gd name="textAreaTop" fmla="*/ 0 h 2491920"/>
              <a:gd name="textAreaBottom" fmla="*/ 2492280 h 2491920"/>
            </a:gdLst>
            <a:ahLst/>
            <a:rect l="textAreaLeft" t="textAreaTop" r="textAreaRight" b="textAreaBottom"/>
            <a:pathLst>
              <a:path w="25904824" h="24920575">
                <a:moveTo>
                  <a:pt x="11909428" y="21167723"/>
                </a:moveTo>
                <a:lnTo>
                  <a:pt x="11947529" y="21167723"/>
                </a:lnTo>
                <a:lnTo>
                  <a:pt x="11985628" y="21167723"/>
                </a:lnTo>
                <a:lnTo>
                  <a:pt x="12023728" y="21174075"/>
                </a:lnTo>
                <a:lnTo>
                  <a:pt x="12058653" y="21180423"/>
                </a:lnTo>
                <a:lnTo>
                  <a:pt x="12093578" y="21189949"/>
                </a:lnTo>
                <a:lnTo>
                  <a:pt x="12125328" y="21205823"/>
                </a:lnTo>
                <a:lnTo>
                  <a:pt x="12153904" y="21221699"/>
                </a:lnTo>
                <a:lnTo>
                  <a:pt x="12179304" y="21240749"/>
                </a:lnTo>
                <a:lnTo>
                  <a:pt x="12204704" y="21262975"/>
                </a:lnTo>
                <a:lnTo>
                  <a:pt x="12226929" y="21288375"/>
                </a:lnTo>
                <a:lnTo>
                  <a:pt x="12249154" y="21320123"/>
                </a:lnTo>
                <a:lnTo>
                  <a:pt x="12265028" y="21355049"/>
                </a:lnTo>
                <a:lnTo>
                  <a:pt x="12277729" y="21393149"/>
                </a:lnTo>
                <a:lnTo>
                  <a:pt x="12287253" y="21437599"/>
                </a:lnTo>
                <a:lnTo>
                  <a:pt x="12296779" y="21485223"/>
                </a:lnTo>
                <a:lnTo>
                  <a:pt x="12299954" y="21539199"/>
                </a:lnTo>
                <a:lnTo>
                  <a:pt x="12303129" y="21596349"/>
                </a:lnTo>
                <a:lnTo>
                  <a:pt x="12303129" y="23949023"/>
                </a:lnTo>
                <a:lnTo>
                  <a:pt x="12299954" y="24006175"/>
                </a:lnTo>
                <a:lnTo>
                  <a:pt x="12296779" y="24056975"/>
                </a:lnTo>
                <a:lnTo>
                  <a:pt x="12287253" y="24104599"/>
                </a:lnTo>
                <a:lnTo>
                  <a:pt x="12277729" y="24149049"/>
                </a:lnTo>
                <a:lnTo>
                  <a:pt x="12265028" y="24190323"/>
                </a:lnTo>
                <a:lnTo>
                  <a:pt x="12249154" y="24225249"/>
                </a:lnTo>
                <a:lnTo>
                  <a:pt x="12226929" y="24253823"/>
                </a:lnTo>
                <a:lnTo>
                  <a:pt x="12204704" y="24282399"/>
                </a:lnTo>
                <a:lnTo>
                  <a:pt x="12179304" y="24304623"/>
                </a:lnTo>
                <a:lnTo>
                  <a:pt x="12153904" y="24323675"/>
                </a:lnTo>
                <a:lnTo>
                  <a:pt x="12125328" y="24339549"/>
                </a:lnTo>
                <a:lnTo>
                  <a:pt x="12093578" y="24352249"/>
                </a:lnTo>
                <a:lnTo>
                  <a:pt x="12058653" y="24364949"/>
                </a:lnTo>
                <a:lnTo>
                  <a:pt x="12023728" y="24371299"/>
                </a:lnTo>
                <a:lnTo>
                  <a:pt x="11985628" y="24374475"/>
                </a:lnTo>
                <a:lnTo>
                  <a:pt x="11947529" y="24377649"/>
                </a:lnTo>
                <a:lnTo>
                  <a:pt x="11909428" y="24374475"/>
                </a:lnTo>
                <a:lnTo>
                  <a:pt x="11871329" y="24371299"/>
                </a:lnTo>
                <a:lnTo>
                  <a:pt x="11836403" y="24364949"/>
                </a:lnTo>
                <a:lnTo>
                  <a:pt x="11801479" y="24352249"/>
                </a:lnTo>
                <a:lnTo>
                  <a:pt x="11769728" y="24339549"/>
                </a:lnTo>
                <a:lnTo>
                  <a:pt x="11741153" y="24323675"/>
                </a:lnTo>
                <a:lnTo>
                  <a:pt x="11715754" y="24304623"/>
                </a:lnTo>
                <a:lnTo>
                  <a:pt x="11690354" y="24282399"/>
                </a:lnTo>
                <a:lnTo>
                  <a:pt x="11668128" y="24253823"/>
                </a:lnTo>
                <a:lnTo>
                  <a:pt x="11645903" y="24225249"/>
                </a:lnTo>
                <a:lnTo>
                  <a:pt x="11630028" y="24190323"/>
                </a:lnTo>
                <a:lnTo>
                  <a:pt x="11617328" y="24149049"/>
                </a:lnTo>
                <a:lnTo>
                  <a:pt x="11607803" y="24104599"/>
                </a:lnTo>
                <a:lnTo>
                  <a:pt x="11598278" y="24056975"/>
                </a:lnTo>
                <a:lnTo>
                  <a:pt x="11595104" y="24006175"/>
                </a:lnTo>
                <a:lnTo>
                  <a:pt x="11591928" y="23949023"/>
                </a:lnTo>
                <a:lnTo>
                  <a:pt x="11591928" y="21596349"/>
                </a:lnTo>
                <a:lnTo>
                  <a:pt x="11595104" y="21539199"/>
                </a:lnTo>
                <a:lnTo>
                  <a:pt x="11598278" y="21485223"/>
                </a:lnTo>
                <a:lnTo>
                  <a:pt x="11607803" y="21437599"/>
                </a:lnTo>
                <a:lnTo>
                  <a:pt x="11617328" y="21393149"/>
                </a:lnTo>
                <a:lnTo>
                  <a:pt x="11630028" y="21355049"/>
                </a:lnTo>
                <a:lnTo>
                  <a:pt x="11645903" y="21320123"/>
                </a:lnTo>
                <a:lnTo>
                  <a:pt x="11668128" y="21288375"/>
                </a:lnTo>
                <a:lnTo>
                  <a:pt x="11690354" y="21262975"/>
                </a:lnTo>
                <a:lnTo>
                  <a:pt x="11715754" y="21240749"/>
                </a:lnTo>
                <a:lnTo>
                  <a:pt x="11741153" y="21221699"/>
                </a:lnTo>
                <a:lnTo>
                  <a:pt x="11769728" y="21205823"/>
                </a:lnTo>
                <a:lnTo>
                  <a:pt x="11801479" y="21189949"/>
                </a:lnTo>
                <a:lnTo>
                  <a:pt x="11836403" y="21180423"/>
                </a:lnTo>
                <a:lnTo>
                  <a:pt x="11871329" y="21174075"/>
                </a:lnTo>
                <a:lnTo>
                  <a:pt x="11909428" y="21167723"/>
                </a:lnTo>
                <a:close/>
                <a:moveTo>
                  <a:pt x="15249525" y="20259675"/>
                </a:moveTo>
                <a:lnTo>
                  <a:pt x="15240000" y="20300949"/>
                </a:lnTo>
                <a:lnTo>
                  <a:pt x="15230475" y="20332699"/>
                </a:lnTo>
                <a:lnTo>
                  <a:pt x="15224125" y="20361275"/>
                </a:lnTo>
                <a:lnTo>
                  <a:pt x="15211425" y="20383499"/>
                </a:lnTo>
                <a:lnTo>
                  <a:pt x="15201900" y="20402549"/>
                </a:lnTo>
                <a:lnTo>
                  <a:pt x="15189200" y="20415249"/>
                </a:lnTo>
                <a:lnTo>
                  <a:pt x="15176500" y="20427949"/>
                </a:lnTo>
                <a:lnTo>
                  <a:pt x="15163800" y="20434299"/>
                </a:lnTo>
                <a:lnTo>
                  <a:pt x="15154275" y="20434299"/>
                </a:lnTo>
                <a:lnTo>
                  <a:pt x="15141575" y="20434299"/>
                </a:lnTo>
                <a:lnTo>
                  <a:pt x="15132050" y="20431123"/>
                </a:lnTo>
                <a:lnTo>
                  <a:pt x="15122525" y="20424775"/>
                </a:lnTo>
                <a:lnTo>
                  <a:pt x="15116175" y="20418423"/>
                </a:lnTo>
                <a:lnTo>
                  <a:pt x="15106650" y="20402549"/>
                </a:lnTo>
                <a:lnTo>
                  <a:pt x="15103475" y="20386675"/>
                </a:lnTo>
                <a:lnTo>
                  <a:pt x="15106650" y="20364449"/>
                </a:lnTo>
                <a:lnTo>
                  <a:pt x="15116175" y="20345399"/>
                </a:lnTo>
                <a:lnTo>
                  <a:pt x="15128875" y="20326349"/>
                </a:lnTo>
                <a:lnTo>
                  <a:pt x="15147925" y="20310475"/>
                </a:lnTo>
                <a:lnTo>
                  <a:pt x="15170150" y="20294599"/>
                </a:lnTo>
                <a:lnTo>
                  <a:pt x="15192375" y="20281899"/>
                </a:lnTo>
                <a:lnTo>
                  <a:pt x="15249525" y="20259675"/>
                </a:lnTo>
                <a:close/>
                <a:moveTo>
                  <a:pt x="12093579" y="20215223"/>
                </a:moveTo>
                <a:lnTo>
                  <a:pt x="12074529" y="20300949"/>
                </a:lnTo>
                <a:lnTo>
                  <a:pt x="12065004" y="20332699"/>
                </a:lnTo>
                <a:lnTo>
                  <a:pt x="12055479" y="20358099"/>
                </a:lnTo>
                <a:lnTo>
                  <a:pt x="12045954" y="20377149"/>
                </a:lnTo>
                <a:lnTo>
                  <a:pt x="12036429" y="20393023"/>
                </a:lnTo>
                <a:lnTo>
                  <a:pt x="12023729" y="20405723"/>
                </a:lnTo>
                <a:lnTo>
                  <a:pt x="12011029" y="20412075"/>
                </a:lnTo>
                <a:lnTo>
                  <a:pt x="12001504" y="20418423"/>
                </a:lnTo>
                <a:lnTo>
                  <a:pt x="11988804" y="20418423"/>
                </a:lnTo>
                <a:lnTo>
                  <a:pt x="11976104" y="20418423"/>
                </a:lnTo>
                <a:lnTo>
                  <a:pt x="11966579" y="20415249"/>
                </a:lnTo>
                <a:lnTo>
                  <a:pt x="11953879" y="20408899"/>
                </a:lnTo>
                <a:lnTo>
                  <a:pt x="11947529" y="20402549"/>
                </a:lnTo>
                <a:lnTo>
                  <a:pt x="11934829" y="20386675"/>
                </a:lnTo>
                <a:lnTo>
                  <a:pt x="11928479" y="20377149"/>
                </a:lnTo>
                <a:lnTo>
                  <a:pt x="11928479" y="20370799"/>
                </a:lnTo>
                <a:lnTo>
                  <a:pt x="11931654" y="20342223"/>
                </a:lnTo>
                <a:lnTo>
                  <a:pt x="11941179" y="20316823"/>
                </a:lnTo>
                <a:lnTo>
                  <a:pt x="11957054" y="20294599"/>
                </a:lnTo>
                <a:lnTo>
                  <a:pt x="11976104" y="20275549"/>
                </a:lnTo>
                <a:lnTo>
                  <a:pt x="11998329" y="20256499"/>
                </a:lnTo>
                <a:lnTo>
                  <a:pt x="12026904" y="20240623"/>
                </a:lnTo>
                <a:lnTo>
                  <a:pt x="12058654" y="20227923"/>
                </a:lnTo>
                <a:lnTo>
                  <a:pt x="12093579" y="20215223"/>
                </a:lnTo>
                <a:close/>
                <a:moveTo>
                  <a:pt x="16744950" y="19516723"/>
                </a:moveTo>
                <a:lnTo>
                  <a:pt x="16760825" y="19519899"/>
                </a:lnTo>
                <a:lnTo>
                  <a:pt x="16773525" y="19523075"/>
                </a:lnTo>
                <a:lnTo>
                  <a:pt x="16783050" y="19532599"/>
                </a:lnTo>
                <a:lnTo>
                  <a:pt x="16792576" y="19538949"/>
                </a:lnTo>
                <a:lnTo>
                  <a:pt x="16798924" y="19548475"/>
                </a:lnTo>
                <a:lnTo>
                  <a:pt x="16802100" y="19557999"/>
                </a:lnTo>
                <a:lnTo>
                  <a:pt x="16805276" y="19573875"/>
                </a:lnTo>
                <a:lnTo>
                  <a:pt x="16732250" y="19910423"/>
                </a:lnTo>
                <a:lnTo>
                  <a:pt x="16725900" y="19942175"/>
                </a:lnTo>
                <a:lnTo>
                  <a:pt x="16713200" y="19967575"/>
                </a:lnTo>
                <a:lnTo>
                  <a:pt x="16697325" y="19992975"/>
                </a:lnTo>
                <a:lnTo>
                  <a:pt x="16681450" y="20008849"/>
                </a:lnTo>
                <a:lnTo>
                  <a:pt x="16662400" y="20024723"/>
                </a:lnTo>
                <a:lnTo>
                  <a:pt x="16643350" y="20034249"/>
                </a:lnTo>
                <a:lnTo>
                  <a:pt x="16627475" y="20040599"/>
                </a:lnTo>
                <a:lnTo>
                  <a:pt x="16608425" y="20043775"/>
                </a:lnTo>
                <a:lnTo>
                  <a:pt x="16586200" y="20040599"/>
                </a:lnTo>
                <a:lnTo>
                  <a:pt x="16573500" y="20037423"/>
                </a:lnTo>
                <a:lnTo>
                  <a:pt x="16560800" y="20027899"/>
                </a:lnTo>
                <a:lnTo>
                  <a:pt x="16551275" y="20015199"/>
                </a:lnTo>
                <a:lnTo>
                  <a:pt x="16541750" y="19992975"/>
                </a:lnTo>
                <a:lnTo>
                  <a:pt x="16535400" y="19964399"/>
                </a:lnTo>
                <a:lnTo>
                  <a:pt x="16535400" y="19926299"/>
                </a:lnTo>
                <a:lnTo>
                  <a:pt x="16538575" y="19869149"/>
                </a:lnTo>
                <a:lnTo>
                  <a:pt x="16548100" y="19802475"/>
                </a:lnTo>
                <a:lnTo>
                  <a:pt x="16567150" y="19735799"/>
                </a:lnTo>
                <a:lnTo>
                  <a:pt x="16592550" y="19669123"/>
                </a:lnTo>
                <a:lnTo>
                  <a:pt x="16605250" y="19640549"/>
                </a:lnTo>
                <a:lnTo>
                  <a:pt x="16621125" y="19611975"/>
                </a:lnTo>
                <a:lnTo>
                  <a:pt x="16640175" y="19583399"/>
                </a:lnTo>
                <a:lnTo>
                  <a:pt x="16656050" y="19561175"/>
                </a:lnTo>
                <a:lnTo>
                  <a:pt x="16678275" y="19545299"/>
                </a:lnTo>
                <a:lnTo>
                  <a:pt x="16697325" y="19529423"/>
                </a:lnTo>
                <a:lnTo>
                  <a:pt x="16719550" y="19519899"/>
                </a:lnTo>
                <a:lnTo>
                  <a:pt x="16744950" y="19516723"/>
                </a:lnTo>
                <a:close/>
                <a:moveTo>
                  <a:pt x="15335250" y="19516723"/>
                </a:moveTo>
                <a:lnTo>
                  <a:pt x="15351125" y="19519899"/>
                </a:lnTo>
                <a:lnTo>
                  <a:pt x="15363825" y="19523075"/>
                </a:lnTo>
                <a:lnTo>
                  <a:pt x="15373350" y="19532599"/>
                </a:lnTo>
                <a:lnTo>
                  <a:pt x="15382875" y="19538949"/>
                </a:lnTo>
                <a:lnTo>
                  <a:pt x="15392400" y="19557999"/>
                </a:lnTo>
                <a:lnTo>
                  <a:pt x="15395575" y="19573875"/>
                </a:lnTo>
                <a:lnTo>
                  <a:pt x="15319375" y="19926299"/>
                </a:lnTo>
                <a:lnTo>
                  <a:pt x="15309850" y="19954875"/>
                </a:lnTo>
                <a:lnTo>
                  <a:pt x="15297150" y="19977099"/>
                </a:lnTo>
                <a:lnTo>
                  <a:pt x="15281275" y="19996149"/>
                </a:lnTo>
                <a:lnTo>
                  <a:pt x="15265400" y="20015199"/>
                </a:lnTo>
                <a:lnTo>
                  <a:pt x="15249525" y="20027899"/>
                </a:lnTo>
                <a:lnTo>
                  <a:pt x="15233650" y="20037423"/>
                </a:lnTo>
                <a:lnTo>
                  <a:pt x="15214600" y="20040599"/>
                </a:lnTo>
                <a:lnTo>
                  <a:pt x="15198725" y="20043775"/>
                </a:lnTo>
                <a:lnTo>
                  <a:pt x="15176500" y="20040599"/>
                </a:lnTo>
                <a:lnTo>
                  <a:pt x="15163800" y="20037423"/>
                </a:lnTo>
                <a:lnTo>
                  <a:pt x="15151100" y="20027899"/>
                </a:lnTo>
                <a:lnTo>
                  <a:pt x="15141575" y="20015199"/>
                </a:lnTo>
                <a:lnTo>
                  <a:pt x="15132050" y="19992975"/>
                </a:lnTo>
                <a:lnTo>
                  <a:pt x="15128875" y="19964399"/>
                </a:lnTo>
                <a:lnTo>
                  <a:pt x="15125700" y="19926299"/>
                </a:lnTo>
                <a:lnTo>
                  <a:pt x="15128875" y="19869149"/>
                </a:lnTo>
                <a:lnTo>
                  <a:pt x="15141575" y="19802475"/>
                </a:lnTo>
                <a:lnTo>
                  <a:pt x="15157450" y="19735799"/>
                </a:lnTo>
                <a:lnTo>
                  <a:pt x="15182850" y="19669123"/>
                </a:lnTo>
                <a:lnTo>
                  <a:pt x="15195550" y="19640549"/>
                </a:lnTo>
                <a:lnTo>
                  <a:pt x="15211425" y="19611975"/>
                </a:lnTo>
                <a:lnTo>
                  <a:pt x="15230475" y="19583399"/>
                </a:lnTo>
                <a:lnTo>
                  <a:pt x="15246350" y="19561175"/>
                </a:lnTo>
                <a:lnTo>
                  <a:pt x="15268575" y="19545299"/>
                </a:lnTo>
                <a:lnTo>
                  <a:pt x="15287625" y="19529423"/>
                </a:lnTo>
                <a:lnTo>
                  <a:pt x="15309850" y="19519899"/>
                </a:lnTo>
                <a:lnTo>
                  <a:pt x="15335250" y="19516723"/>
                </a:lnTo>
                <a:close/>
                <a:moveTo>
                  <a:pt x="10245728" y="19516723"/>
                </a:moveTo>
                <a:lnTo>
                  <a:pt x="10261603" y="19519899"/>
                </a:lnTo>
                <a:lnTo>
                  <a:pt x="10274302" y="19523075"/>
                </a:lnTo>
                <a:lnTo>
                  <a:pt x="10283828" y="19532599"/>
                </a:lnTo>
                <a:lnTo>
                  <a:pt x="10293353" y="19538949"/>
                </a:lnTo>
                <a:lnTo>
                  <a:pt x="10299702" y="19548475"/>
                </a:lnTo>
                <a:lnTo>
                  <a:pt x="10302878" y="19557999"/>
                </a:lnTo>
                <a:lnTo>
                  <a:pt x="10306053" y="19573875"/>
                </a:lnTo>
                <a:lnTo>
                  <a:pt x="10233028" y="19910423"/>
                </a:lnTo>
                <a:lnTo>
                  <a:pt x="10226678" y="19942175"/>
                </a:lnTo>
                <a:lnTo>
                  <a:pt x="10213978" y="19967575"/>
                </a:lnTo>
                <a:lnTo>
                  <a:pt x="10198103" y="19992975"/>
                </a:lnTo>
                <a:lnTo>
                  <a:pt x="10182228" y="20008849"/>
                </a:lnTo>
                <a:lnTo>
                  <a:pt x="10163178" y="20024723"/>
                </a:lnTo>
                <a:lnTo>
                  <a:pt x="10144128" y="20034249"/>
                </a:lnTo>
                <a:lnTo>
                  <a:pt x="10128253" y="20040599"/>
                </a:lnTo>
                <a:lnTo>
                  <a:pt x="10109202" y="20043775"/>
                </a:lnTo>
                <a:lnTo>
                  <a:pt x="10086978" y="20040599"/>
                </a:lnTo>
                <a:lnTo>
                  <a:pt x="10074278" y="20037423"/>
                </a:lnTo>
                <a:lnTo>
                  <a:pt x="10064752" y="20027899"/>
                </a:lnTo>
                <a:lnTo>
                  <a:pt x="10052053" y="20015199"/>
                </a:lnTo>
                <a:lnTo>
                  <a:pt x="10042528" y="19992975"/>
                </a:lnTo>
                <a:lnTo>
                  <a:pt x="10039352" y="19964399"/>
                </a:lnTo>
                <a:lnTo>
                  <a:pt x="10036178" y="19926299"/>
                </a:lnTo>
                <a:lnTo>
                  <a:pt x="10039352" y="19869149"/>
                </a:lnTo>
                <a:lnTo>
                  <a:pt x="10052053" y="19802475"/>
                </a:lnTo>
                <a:lnTo>
                  <a:pt x="10067928" y="19735799"/>
                </a:lnTo>
                <a:lnTo>
                  <a:pt x="10093328" y="19669123"/>
                </a:lnTo>
                <a:lnTo>
                  <a:pt x="10106028" y="19640549"/>
                </a:lnTo>
                <a:lnTo>
                  <a:pt x="10121903" y="19611975"/>
                </a:lnTo>
                <a:lnTo>
                  <a:pt x="10140953" y="19583399"/>
                </a:lnTo>
                <a:lnTo>
                  <a:pt x="10160002" y="19561175"/>
                </a:lnTo>
                <a:lnTo>
                  <a:pt x="10179052" y="19545299"/>
                </a:lnTo>
                <a:lnTo>
                  <a:pt x="10198103" y="19529423"/>
                </a:lnTo>
                <a:lnTo>
                  <a:pt x="10220328" y="19519899"/>
                </a:lnTo>
                <a:lnTo>
                  <a:pt x="10245728" y="19516723"/>
                </a:lnTo>
                <a:close/>
                <a:moveTo>
                  <a:pt x="16078200" y="19510375"/>
                </a:moveTo>
                <a:lnTo>
                  <a:pt x="16090900" y="19513549"/>
                </a:lnTo>
                <a:lnTo>
                  <a:pt x="16103600" y="19516723"/>
                </a:lnTo>
                <a:lnTo>
                  <a:pt x="16113125" y="19523075"/>
                </a:lnTo>
                <a:lnTo>
                  <a:pt x="16119475" y="19529423"/>
                </a:lnTo>
                <a:lnTo>
                  <a:pt x="16125825" y="19542123"/>
                </a:lnTo>
                <a:lnTo>
                  <a:pt x="16132175" y="19557999"/>
                </a:lnTo>
                <a:lnTo>
                  <a:pt x="16135350" y="19596099"/>
                </a:lnTo>
                <a:lnTo>
                  <a:pt x="16116300" y="19608799"/>
                </a:lnTo>
                <a:lnTo>
                  <a:pt x="16103600" y="19627849"/>
                </a:lnTo>
                <a:lnTo>
                  <a:pt x="16094075" y="19650075"/>
                </a:lnTo>
                <a:lnTo>
                  <a:pt x="16087725" y="19678649"/>
                </a:lnTo>
                <a:lnTo>
                  <a:pt x="16090900" y="19700875"/>
                </a:lnTo>
                <a:lnTo>
                  <a:pt x="16097250" y="19716749"/>
                </a:lnTo>
                <a:lnTo>
                  <a:pt x="16103600" y="19726275"/>
                </a:lnTo>
                <a:lnTo>
                  <a:pt x="16109950" y="19732623"/>
                </a:lnTo>
                <a:lnTo>
                  <a:pt x="16119475" y="19735799"/>
                </a:lnTo>
                <a:lnTo>
                  <a:pt x="16129000" y="19738975"/>
                </a:lnTo>
                <a:lnTo>
                  <a:pt x="16119475" y="19805649"/>
                </a:lnTo>
                <a:lnTo>
                  <a:pt x="16103600" y="19862799"/>
                </a:lnTo>
                <a:lnTo>
                  <a:pt x="16084550" y="19916775"/>
                </a:lnTo>
                <a:lnTo>
                  <a:pt x="16062325" y="19961223"/>
                </a:lnTo>
                <a:lnTo>
                  <a:pt x="16036925" y="19999323"/>
                </a:lnTo>
                <a:lnTo>
                  <a:pt x="16024225" y="20015199"/>
                </a:lnTo>
                <a:lnTo>
                  <a:pt x="16011525" y="20027899"/>
                </a:lnTo>
                <a:lnTo>
                  <a:pt x="15998825" y="20037423"/>
                </a:lnTo>
                <a:lnTo>
                  <a:pt x="15982950" y="20043775"/>
                </a:lnTo>
                <a:lnTo>
                  <a:pt x="15970250" y="20050123"/>
                </a:lnTo>
                <a:lnTo>
                  <a:pt x="15957550" y="20050123"/>
                </a:lnTo>
                <a:lnTo>
                  <a:pt x="15938500" y="20050123"/>
                </a:lnTo>
                <a:lnTo>
                  <a:pt x="15919450" y="20046949"/>
                </a:lnTo>
                <a:lnTo>
                  <a:pt x="15906750" y="20037423"/>
                </a:lnTo>
                <a:lnTo>
                  <a:pt x="15897225" y="20027899"/>
                </a:lnTo>
                <a:lnTo>
                  <a:pt x="15890875" y="20012023"/>
                </a:lnTo>
                <a:lnTo>
                  <a:pt x="15884525" y="19989799"/>
                </a:lnTo>
                <a:lnTo>
                  <a:pt x="15881350" y="19964399"/>
                </a:lnTo>
                <a:lnTo>
                  <a:pt x="15881350" y="19929475"/>
                </a:lnTo>
                <a:lnTo>
                  <a:pt x="15884525" y="19869149"/>
                </a:lnTo>
                <a:lnTo>
                  <a:pt x="15897225" y="19802475"/>
                </a:lnTo>
                <a:lnTo>
                  <a:pt x="15916275" y="19732623"/>
                </a:lnTo>
                <a:lnTo>
                  <a:pt x="15938500" y="19665949"/>
                </a:lnTo>
                <a:lnTo>
                  <a:pt x="15954375" y="19634199"/>
                </a:lnTo>
                <a:lnTo>
                  <a:pt x="15970250" y="19605623"/>
                </a:lnTo>
                <a:lnTo>
                  <a:pt x="15986125" y="19580223"/>
                </a:lnTo>
                <a:lnTo>
                  <a:pt x="16002000" y="19554823"/>
                </a:lnTo>
                <a:lnTo>
                  <a:pt x="16021050" y="19535775"/>
                </a:lnTo>
                <a:lnTo>
                  <a:pt x="16040100" y="19523075"/>
                </a:lnTo>
                <a:lnTo>
                  <a:pt x="16059150" y="19513549"/>
                </a:lnTo>
                <a:lnTo>
                  <a:pt x="16078200" y="19510375"/>
                </a:lnTo>
                <a:close/>
                <a:moveTo>
                  <a:pt x="11903077" y="19510375"/>
                </a:moveTo>
                <a:lnTo>
                  <a:pt x="11915777" y="19513549"/>
                </a:lnTo>
                <a:lnTo>
                  <a:pt x="11925302" y="19516723"/>
                </a:lnTo>
                <a:lnTo>
                  <a:pt x="11934827" y="19523075"/>
                </a:lnTo>
                <a:lnTo>
                  <a:pt x="11944352" y="19529423"/>
                </a:lnTo>
                <a:lnTo>
                  <a:pt x="11950702" y="19542123"/>
                </a:lnTo>
                <a:lnTo>
                  <a:pt x="11953877" y="19557999"/>
                </a:lnTo>
                <a:lnTo>
                  <a:pt x="11957052" y="19596099"/>
                </a:lnTo>
                <a:lnTo>
                  <a:pt x="11941177" y="19608799"/>
                </a:lnTo>
                <a:lnTo>
                  <a:pt x="11925302" y="19627849"/>
                </a:lnTo>
                <a:lnTo>
                  <a:pt x="11915777" y="19650075"/>
                </a:lnTo>
                <a:lnTo>
                  <a:pt x="11912602" y="19678649"/>
                </a:lnTo>
                <a:lnTo>
                  <a:pt x="11912602" y="19700875"/>
                </a:lnTo>
                <a:lnTo>
                  <a:pt x="11922127" y="19716749"/>
                </a:lnTo>
                <a:lnTo>
                  <a:pt x="11925302" y="19726275"/>
                </a:lnTo>
                <a:lnTo>
                  <a:pt x="11931652" y="19732623"/>
                </a:lnTo>
                <a:lnTo>
                  <a:pt x="11941177" y="19735799"/>
                </a:lnTo>
                <a:lnTo>
                  <a:pt x="11953877" y="19738975"/>
                </a:lnTo>
                <a:lnTo>
                  <a:pt x="11941177" y="19805649"/>
                </a:lnTo>
                <a:lnTo>
                  <a:pt x="11925302" y="19862799"/>
                </a:lnTo>
                <a:lnTo>
                  <a:pt x="11906252" y="19916775"/>
                </a:lnTo>
                <a:lnTo>
                  <a:pt x="11884027" y="19961223"/>
                </a:lnTo>
                <a:lnTo>
                  <a:pt x="11858627" y="19999323"/>
                </a:lnTo>
                <a:lnTo>
                  <a:pt x="11845927" y="20015199"/>
                </a:lnTo>
                <a:lnTo>
                  <a:pt x="11833227" y="20027899"/>
                </a:lnTo>
                <a:lnTo>
                  <a:pt x="11820527" y="20037423"/>
                </a:lnTo>
                <a:lnTo>
                  <a:pt x="11807827" y="20043775"/>
                </a:lnTo>
                <a:lnTo>
                  <a:pt x="11791952" y="20050123"/>
                </a:lnTo>
                <a:lnTo>
                  <a:pt x="11779252" y="20050123"/>
                </a:lnTo>
                <a:lnTo>
                  <a:pt x="11760202" y="20050123"/>
                </a:lnTo>
                <a:lnTo>
                  <a:pt x="11744327" y="20046949"/>
                </a:lnTo>
                <a:lnTo>
                  <a:pt x="11731627" y="20037423"/>
                </a:lnTo>
                <a:lnTo>
                  <a:pt x="11718927" y="20027899"/>
                </a:lnTo>
                <a:lnTo>
                  <a:pt x="11712577" y="20012023"/>
                </a:lnTo>
                <a:lnTo>
                  <a:pt x="11706227" y="19989799"/>
                </a:lnTo>
                <a:lnTo>
                  <a:pt x="11703052" y="19964399"/>
                </a:lnTo>
                <a:lnTo>
                  <a:pt x="11703052" y="19929475"/>
                </a:lnTo>
                <a:lnTo>
                  <a:pt x="11703052" y="19900899"/>
                </a:lnTo>
                <a:lnTo>
                  <a:pt x="11706227" y="19869149"/>
                </a:lnTo>
                <a:lnTo>
                  <a:pt x="11718927" y="19802475"/>
                </a:lnTo>
                <a:lnTo>
                  <a:pt x="11737977" y="19732623"/>
                </a:lnTo>
                <a:lnTo>
                  <a:pt x="11763377" y="19665949"/>
                </a:lnTo>
                <a:lnTo>
                  <a:pt x="11776077" y="19634199"/>
                </a:lnTo>
                <a:lnTo>
                  <a:pt x="11791952" y="19605623"/>
                </a:lnTo>
                <a:lnTo>
                  <a:pt x="11807827" y="19580223"/>
                </a:lnTo>
                <a:lnTo>
                  <a:pt x="11826877" y="19554823"/>
                </a:lnTo>
                <a:lnTo>
                  <a:pt x="11842752" y="19535775"/>
                </a:lnTo>
                <a:lnTo>
                  <a:pt x="11861802" y="19523075"/>
                </a:lnTo>
                <a:lnTo>
                  <a:pt x="11880852" y="19513549"/>
                </a:lnTo>
                <a:lnTo>
                  <a:pt x="11903077" y="19510375"/>
                </a:lnTo>
                <a:close/>
                <a:moveTo>
                  <a:pt x="14424025" y="19497675"/>
                </a:moveTo>
                <a:lnTo>
                  <a:pt x="14433550" y="19500849"/>
                </a:lnTo>
                <a:lnTo>
                  <a:pt x="14439900" y="19504023"/>
                </a:lnTo>
                <a:lnTo>
                  <a:pt x="14446250" y="19507199"/>
                </a:lnTo>
                <a:lnTo>
                  <a:pt x="14452600" y="19516723"/>
                </a:lnTo>
                <a:lnTo>
                  <a:pt x="14458950" y="19535775"/>
                </a:lnTo>
                <a:lnTo>
                  <a:pt x="14462125" y="19561175"/>
                </a:lnTo>
                <a:lnTo>
                  <a:pt x="14458950" y="19583399"/>
                </a:lnTo>
                <a:lnTo>
                  <a:pt x="14455775" y="19605623"/>
                </a:lnTo>
                <a:lnTo>
                  <a:pt x="14449425" y="19627849"/>
                </a:lnTo>
                <a:lnTo>
                  <a:pt x="14443075" y="19650075"/>
                </a:lnTo>
                <a:lnTo>
                  <a:pt x="14433550" y="19669123"/>
                </a:lnTo>
                <a:lnTo>
                  <a:pt x="14424025" y="19691349"/>
                </a:lnTo>
                <a:lnTo>
                  <a:pt x="14411325" y="19710399"/>
                </a:lnTo>
                <a:lnTo>
                  <a:pt x="14395450" y="19726275"/>
                </a:lnTo>
                <a:lnTo>
                  <a:pt x="14379575" y="19742149"/>
                </a:lnTo>
                <a:lnTo>
                  <a:pt x="14363700" y="19758023"/>
                </a:lnTo>
                <a:lnTo>
                  <a:pt x="14344650" y="19770723"/>
                </a:lnTo>
                <a:lnTo>
                  <a:pt x="14325600" y="19783423"/>
                </a:lnTo>
                <a:lnTo>
                  <a:pt x="14306550" y="19789775"/>
                </a:lnTo>
                <a:lnTo>
                  <a:pt x="14287500" y="19799299"/>
                </a:lnTo>
                <a:lnTo>
                  <a:pt x="14265275" y="19802475"/>
                </a:lnTo>
                <a:lnTo>
                  <a:pt x="14243050" y="19805649"/>
                </a:lnTo>
                <a:lnTo>
                  <a:pt x="14258925" y="19751675"/>
                </a:lnTo>
                <a:lnTo>
                  <a:pt x="14274800" y="19694523"/>
                </a:lnTo>
                <a:lnTo>
                  <a:pt x="14293850" y="19643723"/>
                </a:lnTo>
                <a:lnTo>
                  <a:pt x="14316075" y="19596099"/>
                </a:lnTo>
                <a:lnTo>
                  <a:pt x="14341475" y="19557999"/>
                </a:lnTo>
                <a:lnTo>
                  <a:pt x="14354175" y="19542123"/>
                </a:lnTo>
                <a:lnTo>
                  <a:pt x="14366875" y="19526249"/>
                </a:lnTo>
                <a:lnTo>
                  <a:pt x="14379575" y="19513549"/>
                </a:lnTo>
                <a:lnTo>
                  <a:pt x="14395450" y="19507199"/>
                </a:lnTo>
                <a:lnTo>
                  <a:pt x="14408150" y="19500849"/>
                </a:lnTo>
                <a:lnTo>
                  <a:pt x="14424025" y="19497675"/>
                </a:lnTo>
                <a:close/>
                <a:moveTo>
                  <a:pt x="9658353" y="19497675"/>
                </a:moveTo>
                <a:lnTo>
                  <a:pt x="9667878" y="19500849"/>
                </a:lnTo>
                <a:lnTo>
                  <a:pt x="9674228" y="19504023"/>
                </a:lnTo>
                <a:lnTo>
                  <a:pt x="9680578" y="19507199"/>
                </a:lnTo>
                <a:lnTo>
                  <a:pt x="9686928" y="19516723"/>
                </a:lnTo>
                <a:lnTo>
                  <a:pt x="9693278" y="19535775"/>
                </a:lnTo>
                <a:lnTo>
                  <a:pt x="9693278" y="19561175"/>
                </a:lnTo>
                <a:lnTo>
                  <a:pt x="9693278" y="19583399"/>
                </a:lnTo>
                <a:lnTo>
                  <a:pt x="9690103" y="19605623"/>
                </a:lnTo>
                <a:lnTo>
                  <a:pt x="9683753" y="19627849"/>
                </a:lnTo>
                <a:lnTo>
                  <a:pt x="9677403" y="19650075"/>
                </a:lnTo>
                <a:lnTo>
                  <a:pt x="9667878" y="19669123"/>
                </a:lnTo>
                <a:lnTo>
                  <a:pt x="9658353" y="19691349"/>
                </a:lnTo>
                <a:lnTo>
                  <a:pt x="9645653" y="19710399"/>
                </a:lnTo>
                <a:lnTo>
                  <a:pt x="9629778" y="19726275"/>
                </a:lnTo>
                <a:lnTo>
                  <a:pt x="9613903" y="19742149"/>
                </a:lnTo>
                <a:lnTo>
                  <a:pt x="9598028" y="19758023"/>
                </a:lnTo>
                <a:lnTo>
                  <a:pt x="9578978" y="19770723"/>
                </a:lnTo>
                <a:lnTo>
                  <a:pt x="9559928" y="19783423"/>
                </a:lnTo>
                <a:lnTo>
                  <a:pt x="9540878" y="19789775"/>
                </a:lnTo>
                <a:lnTo>
                  <a:pt x="9521828" y="19799299"/>
                </a:lnTo>
                <a:lnTo>
                  <a:pt x="9499603" y="19802475"/>
                </a:lnTo>
                <a:lnTo>
                  <a:pt x="9477378" y="19805649"/>
                </a:lnTo>
                <a:lnTo>
                  <a:pt x="9493253" y="19751675"/>
                </a:lnTo>
                <a:lnTo>
                  <a:pt x="9509128" y="19694523"/>
                </a:lnTo>
                <a:lnTo>
                  <a:pt x="9528178" y="19643723"/>
                </a:lnTo>
                <a:lnTo>
                  <a:pt x="9550403" y="19596099"/>
                </a:lnTo>
                <a:lnTo>
                  <a:pt x="9575803" y="19557999"/>
                </a:lnTo>
                <a:lnTo>
                  <a:pt x="9588503" y="19542123"/>
                </a:lnTo>
                <a:lnTo>
                  <a:pt x="9601203" y="19526249"/>
                </a:lnTo>
                <a:lnTo>
                  <a:pt x="9613903" y="19513549"/>
                </a:lnTo>
                <a:lnTo>
                  <a:pt x="9629778" y="19507199"/>
                </a:lnTo>
                <a:lnTo>
                  <a:pt x="9642478" y="19500849"/>
                </a:lnTo>
                <a:lnTo>
                  <a:pt x="9658353" y="19497675"/>
                </a:lnTo>
                <a:close/>
                <a:moveTo>
                  <a:pt x="9617079" y="19421475"/>
                </a:moveTo>
                <a:lnTo>
                  <a:pt x="9591679" y="19424649"/>
                </a:lnTo>
                <a:lnTo>
                  <a:pt x="9566279" y="19427823"/>
                </a:lnTo>
                <a:lnTo>
                  <a:pt x="9540879" y="19437349"/>
                </a:lnTo>
                <a:lnTo>
                  <a:pt x="9518654" y="19443699"/>
                </a:lnTo>
                <a:lnTo>
                  <a:pt x="9496429" y="19453223"/>
                </a:lnTo>
                <a:lnTo>
                  <a:pt x="9455154" y="19478623"/>
                </a:lnTo>
                <a:lnTo>
                  <a:pt x="9417054" y="19507199"/>
                </a:lnTo>
                <a:lnTo>
                  <a:pt x="9385304" y="19542123"/>
                </a:lnTo>
                <a:lnTo>
                  <a:pt x="9356729" y="19580223"/>
                </a:lnTo>
                <a:lnTo>
                  <a:pt x="9331329" y="19621499"/>
                </a:lnTo>
                <a:lnTo>
                  <a:pt x="9309104" y="19662775"/>
                </a:lnTo>
                <a:lnTo>
                  <a:pt x="9290054" y="19707223"/>
                </a:lnTo>
                <a:lnTo>
                  <a:pt x="9274179" y="19751675"/>
                </a:lnTo>
                <a:lnTo>
                  <a:pt x="9264654" y="19796123"/>
                </a:lnTo>
                <a:lnTo>
                  <a:pt x="9255129" y="19837399"/>
                </a:lnTo>
                <a:lnTo>
                  <a:pt x="9248779" y="19878675"/>
                </a:lnTo>
                <a:lnTo>
                  <a:pt x="9245604" y="19916775"/>
                </a:lnTo>
                <a:lnTo>
                  <a:pt x="9242429" y="19951699"/>
                </a:lnTo>
                <a:lnTo>
                  <a:pt x="9245604" y="19980275"/>
                </a:lnTo>
                <a:lnTo>
                  <a:pt x="9248779" y="20008849"/>
                </a:lnTo>
                <a:lnTo>
                  <a:pt x="9251954" y="20034249"/>
                </a:lnTo>
                <a:lnTo>
                  <a:pt x="9261479" y="20059649"/>
                </a:lnTo>
                <a:lnTo>
                  <a:pt x="9267829" y="20078699"/>
                </a:lnTo>
                <a:lnTo>
                  <a:pt x="9280529" y="20100923"/>
                </a:lnTo>
                <a:lnTo>
                  <a:pt x="9293229" y="20116799"/>
                </a:lnTo>
                <a:lnTo>
                  <a:pt x="9305929" y="20132675"/>
                </a:lnTo>
                <a:lnTo>
                  <a:pt x="9321804" y="20145375"/>
                </a:lnTo>
                <a:lnTo>
                  <a:pt x="9340854" y="20158075"/>
                </a:lnTo>
                <a:lnTo>
                  <a:pt x="9359904" y="20167599"/>
                </a:lnTo>
                <a:lnTo>
                  <a:pt x="9378954" y="20173949"/>
                </a:lnTo>
                <a:lnTo>
                  <a:pt x="9401179" y="20180299"/>
                </a:lnTo>
                <a:lnTo>
                  <a:pt x="9426579" y="20183475"/>
                </a:lnTo>
                <a:lnTo>
                  <a:pt x="9477379" y="20186649"/>
                </a:lnTo>
                <a:lnTo>
                  <a:pt x="9502779" y="20186649"/>
                </a:lnTo>
                <a:lnTo>
                  <a:pt x="9531354" y="20183475"/>
                </a:lnTo>
                <a:lnTo>
                  <a:pt x="9582154" y="20173949"/>
                </a:lnTo>
                <a:lnTo>
                  <a:pt x="9629779" y="20154899"/>
                </a:lnTo>
                <a:lnTo>
                  <a:pt x="9674229" y="20132675"/>
                </a:lnTo>
                <a:lnTo>
                  <a:pt x="9715504" y="20107275"/>
                </a:lnTo>
                <a:lnTo>
                  <a:pt x="9753604" y="20075523"/>
                </a:lnTo>
                <a:lnTo>
                  <a:pt x="9788529" y="20040599"/>
                </a:lnTo>
                <a:lnTo>
                  <a:pt x="9820279" y="20005675"/>
                </a:lnTo>
                <a:lnTo>
                  <a:pt x="9829804" y="20050123"/>
                </a:lnTo>
                <a:lnTo>
                  <a:pt x="9836154" y="20072349"/>
                </a:lnTo>
                <a:lnTo>
                  <a:pt x="9845679" y="20091399"/>
                </a:lnTo>
                <a:lnTo>
                  <a:pt x="9864729" y="20123149"/>
                </a:lnTo>
                <a:lnTo>
                  <a:pt x="9890129" y="20145375"/>
                </a:lnTo>
                <a:lnTo>
                  <a:pt x="9918704" y="20164423"/>
                </a:lnTo>
                <a:lnTo>
                  <a:pt x="9947279" y="20177123"/>
                </a:lnTo>
                <a:lnTo>
                  <a:pt x="9979029" y="20186649"/>
                </a:lnTo>
                <a:lnTo>
                  <a:pt x="10013954" y="20186649"/>
                </a:lnTo>
                <a:lnTo>
                  <a:pt x="10052054" y="20183475"/>
                </a:lnTo>
                <a:lnTo>
                  <a:pt x="10086979" y="20177123"/>
                </a:lnTo>
                <a:lnTo>
                  <a:pt x="10118729" y="20161249"/>
                </a:lnTo>
                <a:lnTo>
                  <a:pt x="10147304" y="20145375"/>
                </a:lnTo>
                <a:lnTo>
                  <a:pt x="10172704" y="20123149"/>
                </a:lnTo>
                <a:lnTo>
                  <a:pt x="10194929" y="20100923"/>
                </a:lnTo>
                <a:lnTo>
                  <a:pt x="10217154" y="20075523"/>
                </a:lnTo>
                <a:lnTo>
                  <a:pt x="10236204" y="20050123"/>
                </a:lnTo>
                <a:lnTo>
                  <a:pt x="10242554" y="20081875"/>
                </a:lnTo>
                <a:lnTo>
                  <a:pt x="10252079" y="20110449"/>
                </a:lnTo>
                <a:lnTo>
                  <a:pt x="10264779" y="20132675"/>
                </a:lnTo>
                <a:lnTo>
                  <a:pt x="10280654" y="20151723"/>
                </a:lnTo>
                <a:lnTo>
                  <a:pt x="10302879" y="20167599"/>
                </a:lnTo>
                <a:lnTo>
                  <a:pt x="10325104" y="20180299"/>
                </a:lnTo>
                <a:lnTo>
                  <a:pt x="10353679" y="20186649"/>
                </a:lnTo>
                <a:lnTo>
                  <a:pt x="10382254" y="20186649"/>
                </a:lnTo>
                <a:lnTo>
                  <a:pt x="10401304" y="20186649"/>
                </a:lnTo>
                <a:lnTo>
                  <a:pt x="10426704" y="20183475"/>
                </a:lnTo>
                <a:lnTo>
                  <a:pt x="10448929" y="20180299"/>
                </a:lnTo>
                <a:lnTo>
                  <a:pt x="10474329" y="20170775"/>
                </a:lnTo>
                <a:lnTo>
                  <a:pt x="10499729" y="20158075"/>
                </a:lnTo>
                <a:lnTo>
                  <a:pt x="10528304" y="20142199"/>
                </a:lnTo>
                <a:lnTo>
                  <a:pt x="10553704" y="20123149"/>
                </a:lnTo>
                <a:lnTo>
                  <a:pt x="10579104" y="20094575"/>
                </a:lnTo>
                <a:lnTo>
                  <a:pt x="10563229" y="20180299"/>
                </a:lnTo>
                <a:lnTo>
                  <a:pt x="10775954" y="20180299"/>
                </a:lnTo>
                <a:lnTo>
                  <a:pt x="10896604" y="19611975"/>
                </a:lnTo>
                <a:lnTo>
                  <a:pt x="10922004" y="19589749"/>
                </a:lnTo>
                <a:lnTo>
                  <a:pt x="10947404" y="19570699"/>
                </a:lnTo>
                <a:lnTo>
                  <a:pt x="10960104" y="19564349"/>
                </a:lnTo>
                <a:lnTo>
                  <a:pt x="10972804" y="19561175"/>
                </a:lnTo>
                <a:lnTo>
                  <a:pt x="10988679" y="19557999"/>
                </a:lnTo>
                <a:lnTo>
                  <a:pt x="11004554" y="19554823"/>
                </a:lnTo>
                <a:lnTo>
                  <a:pt x="11010904" y="19557999"/>
                </a:lnTo>
                <a:lnTo>
                  <a:pt x="11017254" y="19561175"/>
                </a:lnTo>
                <a:lnTo>
                  <a:pt x="11026779" y="19570699"/>
                </a:lnTo>
                <a:lnTo>
                  <a:pt x="11029954" y="19586575"/>
                </a:lnTo>
                <a:lnTo>
                  <a:pt x="11033129" y="19605623"/>
                </a:lnTo>
                <a:lnTo>
                  <a:pt x="11039479" y="19621499"/>
                </a:lnTo>
                <a:lnTo>
                  <a:pt x="11049004" y="19637375"/>
                </a:lnTo>
                <a:lnTo>
                  <a:pt x="11055354" y="19643723"/>
                </a:lnTo>
                <a:lnTo>
                  <a:pt x="11064879" y="19650075"/>
                </a:lnTo>
                <a:lnTo>
                  <a:pt x="11077579" y="19653249"/>
                </a:lnTo>
                <a:lnTo>
                  <a:pt x="11090279" y="19653249"/>
                </a:lnTo>
                <a:lnTo>
                  <a:pt x="11115679" y="19653249"/>
                </a:lnTo>
                <a:lnTo>
                  <a:pt x="11137904" y="19643723"/>
                </a:lnTo>
                <a:lnTo>
                  <a:pt x="11156954" y="19634199"/>
                </a:lnTo>
                <a:lnTo>
                  <a:pt x="11172829" y="19618323"/>
                </a:lnTo>
                <a:lnTo>
                  <a:pt x="11182354" y="19602449"/>
                </a:lnTo>
                <a:lnTo>
                  <a:pt x="11191879" y="19583399"/>
                </a:lnTo>
                <a:lnTo>
                  <a:pt x="11198229" y="19564349"/>
                </a:lnTo>
                <a:lnTo>
                  <a:pt x="11198229" y="19545299"/>
                </a:lnTo>
                <a:lnTo>
                  <a:pt x="11198229" y="19523075"/>
                </a:lnTo>
                <a:lnTo>
                  <a:pt x="11191879" y="19504023"/>
                </a:lnTo>
                <a:lnTo>
                  <a:pt x="11182354" y="19484975"/>
                </a:lnTo>
                <a:lnTo>
                  <a:pt x="11172829" y="19469099"/>
                </a:lnTo>
                <a:lnTo>
                  <a:pt x="11156954" y="19453223"/>
                </a:lnTo>
                <a:lnTo>
                  <a:pt x="11141079" y="19443699"/>
                </a:lnTo>
                <a:lnTo>
                  <a:pt x="11118854" y="19437349"/>
                </a:lnTo>
                <a:lnTo>
                  <a:pt x="11096629" y="19434175"/>
                </a:lnTo>
                <a:lnTo>
                  <a:pt x="11068054" y="19434175"/>
                </a:lnTo>
                <a:lnTo>
                  <a:pt x="11045829" y="19440523"/>
                </a:lnTo>
                <a:lnTo>
                  <a:pt x="11020429" y="19450049"/>
                </a:lnTo>
                <a:lnTo>
                  <a:pt x="10998204" y="19462749"/>
                </a:lnTo>
                <a:lnTo>
                  <a:pt x="10956929" y="19491323"/>
                </a:lnTo>
                <a:lnTo>
                  <a:pt x="10915654" y="19526249"/>
                </a:lnTo>
                <a:lnTo>
                  <a:pt x="10934704" y="19434175"/>
                </a:lnTo>
                <a:lnTo>
                  <a:pt x="10718804" y="19434175"/>
                </a:lnTo>
                <a:lnTo>
                  <a:pt x="10617204" y="19913599"/>
                </a:lnTo>
                <a:lnTo>
                  <a:pt x="10607679" y="19942175"/>
                </a:lnTo>
                <a:lnTo>
                  <a:pt x="10598154" y="19967575"/>
                </a:lnTo>
                <a:lnTo>
                  <a:pt x="10585454" y="19989799"/>
                </a:lnTo>
                <a:lnTo>
                  <a:pt x="10572754" y="20012023"/>
                </a:lnTo>
                <a:lnTo>
                  <a:pt x="10556879" y="20027899"/>
                </a:lnTo>
                <a:lnTo>
                  <a:pt x="10537829" y="20040599"/>
                </a:lnTo>
                <a:lnTo>
                  <a:pt x="10518779" y="20050123"/>
                </a:lnTo>
                <a:lnTo>
                  <a:pt x="10496554" y="20053299"/>
                </a:lnTo>
                <a:lnTo>
                  <a:pt x="10483854" y="20050123"/>
                </a:lnTo>
                <a:lnTo>
                  <a:pt x="10471154" y="20046949"/>
                </a:lnTo>
                <a:lnTo>
                  <a:pt x="10461629" y="20043775"/>
                </a:lnTo>
                <a:lnTo>
                  <a:pt x="10452104" y="20034249"/>
                </a:lnTo>
                <a:lnTo>
                  <a:pt x="10445754" y="20027899"/>
                </a:lnTo>
                <a:lnTo>
                  <a:pt x="10439404" y="20015199"/>
                </a:lnTo>
                <a:lnTo>
                  <a:pt x="10439404" y="20002499"/>
                </a:lnTo>
                <a:lnTo>
                  <a:pt x="10436229" y="19986623"/>
                </a:lnTo>
                <a:lnTo>
                  <a:pt x="10439404" y="19967575"/>
                </a:lnTo>
                <a:lnTo>
                  <a:pt x="10442579" y="19938999"/>
                </a:lnTo>
                <a:lnTo>
                  <a:pt x="10550529" y="19434175"/>
                </a:lnTo>
                <a:lnTo>
                  <a:pt x="10334629" y="19434175"/>
                </a:lnTo>
                <a:lnTo>
                  <a:pt x="10318754" y="19513549"/>
                </a:lnTo>
                <a:lnTo>
                  <a:pt x="10318754" y="19500849"/>
                </a:lnTo>
                <a:lnTo>
                  <a:pt x="10318754" y="19484975"/>
                </a:lnTo>
                <a:lnTo>
                  <a:pt x="10312404" y="19472275"/>
                </a:lnTo>
                <a:lnTo>
                  <a:pt x="10302879" y="19459575"/>
                </a:lnTo>
                <a:lnTo>
                  <a:pt x="10290179" y="19446875"/>
                </a:lnTo>
                <a:lnTo>
                  <a:pt x="10274304" y="19437349"/>
                </a:lnTo>
                <a:lnTo>
                  <a:pt x="10252079" y="19430999"/>
                </a:lnTo>
                <a:lnTo>
                  <a:pt x="10226679" y="19427823"/>
                </a:lnTo>
                <a:lnTo>
                  <a:pt x="10198104" y="19424649"/>
                </a:lnTo>
                <a:lnTo>
                  <a:pt x="10153654" y="19427823"/>
                </a:lnTo>
                <a:lnTo>
                  <a:pt x="10109204" y="19440523"/>
                </a:lnTo>
                <a:lnTo>
                  <a:pt x="10071104" y="19456399"/>
                </a:lnTo>
                <a:lnTo>
                  <a:pt x="10033004" y="19475449"/>
                </a:lnTo>
                <a:lnTo>
                  <a:pt x="9998079" y="19504023"/>
                </a:lnTo>
                <a:lnTo>
                  <a:pt x="9966329" y="19532599"/>
                </a:lnTo>
                <a:lnTo>
                  <a:pt x="9940929" y="19567523"/>
                </a:lnTo>
                <a:lnTo>
                  <a:pt x="9915529" y="19602449"/>
                </a:lnTo>
                <a:lnTo>
                  <a:pt x="9893304" y="19643723"/>
                </a:lnTo>
                <a:lnTo>
                  <a:pt x="9874254" y="19684999"/>
                </a:lnTo>
                <a:lnTo>
                  <a:pt x="9855204" y="19726275"/>
                </a:lnTo>
                <a:lnTo>
                  <a:pt x="9842504" y="19767549"/>
                </a:lnTo>
                <a:lnTo>
                  <a:pt x="9832979" y="19811999"/>
                </a:lnTo>
                <a:lnTo>
                  <a:pt x="9823454" y="19853275"/>
                </a:lnTo>
                <a:lnTo>
                  <a:pt x="9817104" y="19894549"/>
                </a:lnTo>
                <a:lnTo>
                  <a:pt x="9817104" y="19932649"/>
                </a:lnTo>
                <a:lnTo>
                  <a:pt x="9791704" y="19961223"/>
                </a:lnTo>
                <a:lnTo>
                  <a:pt x="9763129" y="19983449"/>
                </a:lnTo>
                <a:lnTo>
                  <a:pt x="9737729" y="20005675"/>
                </a:lnTo>
                <a:lnTo>
                  <a:pt x="9709154" y="20024723"/>
                </a:lnTo>
                <a:lnTo>
                  <a:pt x="9677404" y="20040599"/>
                </a:lnTo>
                <a:lnTo>
                  <a:pt x="9645654" y="20053299"/>
                </a:lnTo>
                <a:lnTo>
                  <a:pt x="9610729" y="20059649"/>
                </a:lnTo>
                <a:lnTo>
                  <a:pt x="9572629" y="20062823"/>
                </a:lnTo>
                <a:lnTo>
                  <a:pt x="9547229" y="20059649"/>
                </a:lnTo>
                <a:lnTo>
                  <a:pt x="9525004" y="20056475"/>
                </a:lnTo>
                <a:lnTo>
                  <a:pt x="9505954" y="20050123"/>
                </a:lnTo>
                <a:lnTo>
                  <a:pt x="9490079" y="20037423"/>
                </a:lnTo>
                <a:lnTo>
                  <a:pt x="9480554" y="20021549"/>
                </a:lnTo>
                <a:lnTo>
                  <a:pt x="9471029" y="19999323"/>
                </a:lnTo>
                <a:lnTo>
                  <a:pt x="9464679" y="19970749"/>
                </a:lnTo>
                <a:lnTo>
                  <a:pt x="9464679" y="19938999"/>
                </a:lnTo>
                <a:lnTo>
                  <a:pt x="9467854" y="19878675"/>
                </a:lnTo>
                <a:lnTo>
                  <a:pt x="9499604" y="19875499"/>
                </a:lnTo>
                <a:lnTo>
                  <a:pt x="9531354" y="19869149"/>
                </a:lnTo>
                <a:lnTo>
                  <a:pt x="9566279" y="19859623"/>
                </a:lnTo>
                <a:lnTo>
                  <a:pt x="9594854" y="19846923"/>
                </a:lnTo>
                <a:lnTo>
                  <a:pt x="9626604" y="19834223"/>
                </a:lnTo>
                <a:lnTo>
                  <a:pt x="9655179" y="19818349"/>
                </a:lnTo>
                <a:lnTo>
                  <a:pt x="9680579" y="19802475"/>
                </a:lnTo>
                <a:lnTo>
                  <a:pt x="9705979" y="19780249"/>
                </a:lnTo>
                <a:lnTo>
                  <a:pt x="9728204" y="19758023"/>
                </a:lnTo>
                <a:lnTo>
                  <a:pt x="9747254" y="19735799"/>
                </a:lnTo>
                <a:lnTo>
                  <a:pt x="9766304" y="19710399"/>
                </a:lnTo>
                <a:lnTo>
                  <a:pt x="9782179" y="19681823"/>
                </a:lnTo>
                <a:lnTo>
                  <a:pt x="9794879" y="19656423"/>
                </a:lnTo>
                <a:lnTo>
                  <a:pt x="9801229" y="19624675"/>
                </a:lnTo>
                <a:lnTo>
                  <a:pt x="9807579" y="19596099"/>
                </a:lnTo>
                <a:lnTo>
                  <a:pt x="9810754" y="19564349"/>
                </a:lnTo>
                <a:lnTo>
                  <a:pt x="9807579" y="19535775"/>
                </a:lnTo>
                <a:lnTo>
                  <a:pt x="9801229" y="19510375"/>
                </a:lnTo>
                <a:lnTo>
                  <a:pt x="9791704" y="19484975"/>
                </a:lnTo>
                <a:lnTo>
                  <a:pt x="9775829" y="19462749"/>
                </a:lnTo>
                <a:lnTo>
                  <a:pt x="9756779" y="19446875"/>
                </a:lnTo>
                <a:lnTo>
                  <a:pt x="9728204" y="19430999"/>
                </a:lnTo>
                <a:lnTo>
                  <a:pt x="9690104" y="19424649"/>
                </a:lnTo>
                <a:lnTo>
                  <a:pt x="9645654" y="19421475"/>
                </a:lnTo>
                <a:lnTo>
                  <a:pt x="9617079" y="19421475"/>
                </a:lnTo>
                <a:close/>
                <a:moveTo>
                  <a:pt x="17484724" y="19199223"/>
                </a:moveTo>
                <a:lnTo>
                  <a:pt x="17262476" y="19227799"/>
                </a:lnTo>
                <a:lnTo>
                  <a:pt x="17218024" y="19434175"/>
                </a:lnTo>
                <a:lnTo>
                  <a:pt x="17170400" y="19434175"/>
                </a:lnTo>
                <a:lnTo>
                  <a:pt x="17157700" y="19494499"/>
                </a:lnTo>
                <a:lnTo>
                  <a:pt x="17205324" y="19494499"/>
                </a:lnTo>
                <a:lnTo>
                  <a:pt x="17116424" y="19910423"/>
                </a:lnTo>
                <a:lnTo>
                  <a:pt x="17116424" y="19913599"/>
                </a:lnTo>
                <a:lnTo>
                  <a:pt x="17106900" y="19938999"/>
                </a:lnTo>
                <a:lnTo>
                  <a:pt x="17097376" y="19964399"/>
                </a:lnTo>
                <a:lnTo>
                  <a:pt x="17084676" y="19989799"/>
                </a:lnTo>
                <a:lnTo>
                  <a:pt x="17071976" y="20008849"/>
                </a:lnTo>
                <a:lnTo>
                  <a:pt x="17052924" y="20027899"/>
                </a:lnTo>
                <a:lnTo>
                  <a:pt x="17037050" y="20040599"/>
                </a:lnTo>
                <a:lnTo>
                  <a:pt x="17018000" y="20050123"/>
                </a:lnTo>
                <a:lnTo>
                  <a:pt x="16995776" y="20053299"/>
                </a:lnTo>
                <a:lnTo>
                  <a:pt x="16983076" y="20050123"/>
                </a:lnTo>
                <a:lnTo>
                  <a:pt x="16970376" y="20046949"/>
                </a:lnTo>
                <a:lnTo>
                  <a:pt x="16957676" y="20043775"/>
                </a:lnTo>
                <a:lnTo>
                  <a:pt x="16951324" y="20034249"/>
                </a:lnTo>
                <a:lnTo>
                  <a:pt x="16944976" y="20027899"/>
                </a:lnTo>
                <a:lnTo>
                  <a:pt x="16938624" y="20015199"/>
                </a:lnTo>
                <a:lnTo>
                  <a:pt x="16935450" y="20002499"/>
                </a:lnTo>
                <a:lnTo>
                  <a:pt x="16935450" y="19986623"/>
                </a:lnTo>
                <a:lnTo>
                  <a:pt x="16935450" y="19967575"/>
                </a:lnTo>
                <a:lnTo>
                  <a:pt x="16941800" y="19938999"/>
                </a:lnTo>
                <a:lnTo>
                  <a:pt x="17049750" y="19434175"/>
                </a:lnTo>
                <a:lnTo>
                  <a:pt x="16833850" y="19434175"/>
                </a:lnTo>
                <a:lnTo>
                  <a:pt x="16817976" y="19513549"/>
                </a:lnTo>
                <a:lnTo>
                  <a:pt x="16817976" y="19500849"/>
                </a:lnTo>
                <a:lnTo>
                  <a:pt x="16814800" y="19484975"/>
                </a:lnTo>
                <a:lnTo>
                  <a:pt x="16811624" y="19472275"/>
                </a:lnTo>
                <a:lnTo>
                  <a:pt x="16802100" y="19459575"/>
                </a:lnTo>
                <a:lnTo>
                  <a:pt x="16789400" y="19446875"/>
                </a:lnTo>
                <a:lnTo>
                  <a:pt x="16773525" y="19437349"/>
                </a:lnTo>
                <a:lnTo>
                  <a:pt x="16751300" y="19430999"/>
                </a:lnTo>
                <a:lnTo>
                  <a:pt x="16725900" y="19427823"/>
                </a:lnTo>
                <a:lnTo>
                  <a:pt x="16697325" y="19424649"/>
                </a:lnTo>
                <a:lnTo>
                  <a:pt x="16671925" y="19427823"/>
                </a:lnTo>
                <a:lnTo>
                  <a:pt x="16646525" y="19430999"/>
                </a:lnTo>
                <a:lnTo>
                  <a:pt x="16624300" y="19434175"/>
                </a:lnTo>
                <a:lnTo>
                  <a:pt x="16602075" y="19440523"/>
                </a:lnTo>
                <a:lnTo>
                  <a:pt x="16557625" y="19459575"/>
                </a:lnTo>
                <a:lnTo>
                  <a:pt x="16519525" y="19484975"/>
                </a:lnTo>
                <a:lnTo>
                  <a:pt x="16484600" y="19516723"/>
                </a:lnTo>
                <a:lnTo>
                  <a:pt x="16452850" y="19548475"/>
                </a:lnTo>
                <a:lnTo>
                  <a:pt x="16424275" y="19589749"/>
                </a:lnTo>
                <a:lnTo>
                  <a:pt x="16398875" y="19631023"/>
                </a:lnTo>
                <a:lnTo>
                  <a:pt x="16363950" y="19643723"/>
                </a:lnTo>
                <a:lnTo>
                  <a:pt x="16332200" y="19653249"/>
                </a:lnTo>
                <a:lnTo>
                  <a:pt x="16303625" y="19659599"/>
                </a:lnTo>
                <a:lnTo>
                  <a:pt x="16275050" y="19662775"/>
                </a:lnTo>
                <a:lnTo>
                  <a:pt x="16265525" y="19662775"/>
                </a:lnTo>
                <a:lnTo>
                  <a:pt x="16256000" y="19659599"/>
                </a:lnTo>
                <a:lnTo>
                  <a:pt x="16256000" y="19602449"/>
                </a:lnTo>
                <a:lnTo>
                  <a:pt x="16246475" y="19554823"/>
                </a:lnTo>
                <a:lnTo>
                  <a:pt x="16240125" y="19532599"/>
                </a:lnTo>
                <a:lnTo>
                  <a:pt x="16230600" y="19513549"/>
                </a:lnTo>
                <a:lnTo>
                  <a:pt x="16221075" y="19497675"/>
                </a:lnTo>
                <a:lnTo>
                  <a:pt x="16211550" y="19481799"/>
                </a:lnTo>
                <a:lnTo>
                  <a:pt x="16198850" y="19465923"/>
                </a:lnTo>
                <a:lnTo>
                  <a:pt x="16182975" y="19453223"/>
                </a:lnTo>
                <a:lnTo>
                  <a:pt x="16167100" y="19443699"/>
                </a:lnTo>
                <a:lnTo>
                  <a:pt x="16151225" y="19434175"/>
                </a:lnTo>
                <a:lnTo>
                  <a:pt x="16132175" y="19427823"/>
                </a:lnTo>
                <a:lnTo>
                  <a:pt x="16113125" y="19424649"/>
                </a:lnTo>
                <a:lnTo>
                  <a:pt x="16090900" y="19421475"/>
                </a:lnTo>
                <a:lnTo>
                  <a:pt x="16065500" y="19421475"/>
                </a:lnTo>
                <a:lnTo>
                  <a:pt x="16040100" y="19421475"/>
                </a:lnTo>
                <a:lnTo>
                  <a:pt x="16011525" y="19424649"/>
                </a:lnTo>
                <a:lnTo>
                  <a:pt x="15986125" y="19427823"/>
                </a:lnTo>
                <a:lnTo>
                  <a:pt x="15960725" y="19437349"/>
                </a:lnTo>
                <a:lnTo>
                  <a:pt x="15938500" y="19443699"/>
                </a:lnTo>
                <a:lnTo>
                  <a:pt x="15916275" y="19453223"/>
                </a:lnTo>
                <a:lnTo>
                  <a:pt x="15875000" y="19478623"/>
                </a:lnTo>
                <a:lnTo>
                  <a:pt x="15836900" y="19507199"/>
                </a:lnTo>
                <a:lnTo>
                  <a:pt x="15801975" y="19542123"/>
                </a:lnTo>
                <a:lnTo>
                  <a:pt x="15773400" y="19580223"/>
                </a:lnTo>
                <a:lnTo>
                  <a:pt x="15748000" y="19621499"/>
                </a:lnTo>
                <a:lnTo>
                  <a:pt x="15725775" y="19662775"/>
                </a:lnTo>
                <a:lnTo>
                  <a:pt x="15706725" y="19707223"/>
                </a:lnTo>
                <a:lnTo>
                  <a:pt x="15690850" y="19751675"/>
                </a:lnTo>
                <a:lnTo>
                  <a:pt x="15678150" y="19792949"/>
                </a:lnTo>
                <a:lnTo>
                  <a:pt x="15668625" y="19837399"/>
                </a:lnTo>
                <a:lnTo>
                  <a:pt x="15662275" y="19878675"/>
                </a:lnTo>
                <a:lnTo>
                  <a:pt x="15659100" y="19913599"/>
                </a:lnTo>
                <a:lnTo>
                  <a:pt x="15659100" y="19948523"/>
                </a:lnTo>
                <a:lnTo>
                  <a:pt x="15659100" y="19967575"/>
                </a:lnTo>
                <a:lnTo>
                  <a:pt x="15643225" y="19999323"/>
                </a:lnTo>
                <a:lnTo>
                  <a:pt x="15627350" y="20024723"/>
                </a:lnTo>
                <a:lnTo>
                  <a:pt x="15608300" y="20050123"/>
                </a:lnTo>
                <a:lnTo>
                  <a:pt x="15589250" y="20069175"/>
                </a:lnTo>
                <a:lnTo>
                  <a:pt x="15567025" y="20085049"/>
                </a:lnTo>
                <a:lnTo>
                  <a:pt x="15544800" y="20100923"/>
                </a:lnTo>
                <a:lnTo>
                  <a:pt x="15519400" y="20113623"/>
                </a:lnTo>
                <a:lnTo>
                  <a:pt x="15490825" y="20126323"/>
                </a:lnTo>
                <a:lnTo>
                  <a:pt x="15640050" y="19434175"/>
                </a:lnTo>
                <a:lnTo>
                  <a:pt x="15424150" y="19434175"/>
                </a:lnTo>
                <a:lnTo>
                  <a:pt x="15408275" y="19510375"/>
                </a:lnTo>
                <a:lnTo>
                  <a:pt x="15408275" y="19500849"/>
                </a:lnTo>
                <a:lnTo>
                  <a:pt x="15405100" y="19484975"/>
                </a:lnTo>
                <a:lnTo>
                  <a:pt x="15401925" y="19472275"/>
                </a:lnTo>
                <a:lnTo>
                  <a:pt x="15392400" y="19459575"/>
                </a:lnTo>
                <a:lnTo>
                  <a:pt x="15379700" y="19446875"/>
                </a:lnTo>
                <a:lnTo>
                  <a:pt x="15363825" y="19437349"/>
                </a:lnTo>
                <a:lnTo>
                  <a:pt x="15341600" y="19430999"/>
                </a:lnTo>
                <a:lnTo>
                  <a:pt x="15316200" y="19427823"/>
                </a:lnTo>
                <a:lnTo>
                  <a:pt x="15287625" y="19424649"/>
                </a:lnTo>
                <a:lnTo>
                  <a:pt x="15240000" y="19430999"/>
                </a:lnTo>
                <a:lnTo>
                  <a:pt x="15195550" y="19440523"/>
                </a:lnTo>
                <a:lnTo>
                  <a:pt x="15154275" y="19456399"/>
                </a:lnTo>
                <a:lnTo>
                  <a:pt x="15119350" y="19478623"/>
                </a:lnTo>
                <a:lnTo>
                  <a:pt x="15084425" y="19507199"/>
                </a:lnTo>
                <a:lnTo>
                  <a:pt x="15052675" y="19538949"/>
                </a:lnTo>
                <a:lnTo>
                  <a:pt x="15024100" y="19573875"/>
                </a:lnTo>
                <a:lnTo>
                  <a:pt x="14998700" y="19611975"/>
                </a:lnTo>
                <a:lnTo>
                  <a:pt x="14976475" y="19653249"/>
                </a:lnTo>
                <a:lnTo>
                  <a:pt x="14957425" y="19694523"/>
                </a:lnTo>
                <a:lnTo>
                  <a:pt x="14941550" y="19738975"/>
                </a:lnTo>
                <a:lnTo>
                  <a:pt x="14928850" y="19780249"/>
                </a:lnTo>
                <a:lnTo>
                  <a:pt x="14916150" y="19824699"/>
                </a:lnTo>
                <a:lnTo>
                  <a:pt x="14909800" y="19869149"/>
                </a:lnTo>
                <a:lnTo>
                  <a:pt x="14906625" y="19907249"/>
                </a:lnTo>
                <a:lnTo>
                  <a:pt x="14903450" y="19948523"/>
                </a:lnTo>
                <a:lnTo>
                  <a:pt x="14906625" y="19980275"/>
                </a:lnTo>
                <a:lnTo>
                  <a:pt x="14909800" y="20008849"/>
                </a:lnTo>
                <a:lnTo>
                  <a:pt x="14912975" y="20034249"/>
                </a:lnTo>
                <a:lnTo>
                  <a:pt x="14922500" y="20059649"/>
                </a:lnTo>
                <a:lnTo>
                  <a:pt x="14928850" y="20081875"/>
                </a:lnTo>
                <a:lnTo>
                  <a:pt x="14941550" y="20100923"/>
                </a:lnTo>
                <a:lnTo>
                  <a:pt x="14951075" y="20119975"/>
                </a:lnTo>
                <a:lnTo>
                  <a:pt x="14966950" y="20132675"/>
                </a:lnTo>
                <a:lnTo>
                  <a:pt x="14979650" y="20148549"/>
                </a:lnTo>
                <a:lnTo>
                  <a:pt x="14995525" y="20158075"/>
                </a:lnTo>
                <a:lnTo>
                  <a:pt x="15011400" y="20167599"/>
                </a:lnTo>
                <a:lnTo>
                  <a:pt x="15027275" y="20173949"/>
                </a:lnTo>
                <a:lnTo>
                  <a:pt x="15065375" y="20183475"/>
                </a:lnTo>
                <a:lnTo>
                  <a:pt x="15103475" y="20186649"/>
                </a:lnTo>
                <a:lnTo>
                  <a:pt x="15132050" y="20186649"/>
                </a:lnTo>
                <a:lnTo>
                  <a:pt x="15157450" y="20180299"/>
                </a:lnTo>
                <a:lnTo>
                  <a:pt x="15182850" y="20173949"/>
                </a:lnTo>
                <a:lnTo>
                  <a:pt x="15205075" y="20164423"/>
                </a:lnTo>
                <a:lnTo>
                  <a:pt x="15227300" y="20151723"/>
                </a:lnTo>
                <a:lnTo>
                  <a:pt x="15246350" y="20139023"/>
                </a:lnTo>
                <a:lnTo>
                  <a:pt x="15265400" y="20123149"/>
                </a:lnTo>
                <a:lnTo>
                  <a:pt x="15281275" y="20104099"/>
                </a:lnTo>
                <a:lnTo>
                  <a:pt x="15265400" y="20183475"/>
                </a:lnTo>
                <a:lnTo>
                  <a:pt x="15220950" y="20199349"/>
                </a:lnTo>
                <a:lnTo>
                  <a:pt x="15179675" y="20215223"/>
                </a:lnTo>
                <a:lnTo>
                  <a:pt x="15138400" y="20237449"/>
                </a:lnTo>
                <a:lnTo>
                  <a:pt x="15100300" y="20262849"/>
                </a:lnTo>
                <a:lnTo>
                  <a:pt x="15084425" y="20275549"/>
                </a:lnTo>
                <a:lnTo>
                  <a:pt x="15068550" y="20291423"/>
                </a:lnTo>
                <a:lnTo>
                  <a:pt x="15055850" y="20307299"/>
                </a:lnTo>
                <a:lnTo>
                  <a:pt x="15043150" y="20323175"/>
                </a:lnTo>
                <a:lnTo>
                  <a:pt x="15033625" y="20342223"/>
                </a:lnTo>
                <a:lnTo>
                  <a:pt x="15027275" y="20361275"/>
                </a:lnTo>
                <a:lnTo>
                  <a:pt x="15020925" y="20383499"/>
                </a:lnTo>
                <a:lnTo>
                  <a:pt x="15020925" y="20405723"/>
                </a:lnTo>
                <a:lnTo>
                  <a:pt x="15024100" y="20440649"/>
                </a:lnTo>
                <a:lnTo>
                  <a:pt x="15033625" y="20469223"/>
                </a:lnTo>
                <a:lnTo>
                  <a:pt x="15049500" y="20494623"/>
                </a:lnTo>
                <a:lnTo>
                  <a:pt x="15071725" y="20516849"/>
                </a:lnTo>
                <a:lnTo>
                  <a:pt x="15093950" y="20529549"/>
                </a:lnTo>
                <a:lnTo>
                  <a:pt x="15122525" y="20542249"/>
                </a:lnTo>
                <a:lnTo>
                  <a:pt x="15154275" y="20548599"/>
                </a:lnTo>
                <a:lnTo>
                  <a:pt x="15186025" y="20551775"/>
                </a:lnTo>
                <a:lnTo>
                  <a:pt x="15224125" y="20548599"/>
                </a:lnTo>
                <a:lnTo>
                  <a:pt x="15265400" y="20542249"/>
                </a:lnTo>
                <a:lnTo>
                  <a:pt x="15284450" y="20535899"/>
                </a:lnTo>
                <a:lnTo>
                  <a:pt x="15303500" y="20526375"/>
                </a:lnTo>
                <a:lnTo>
                  <a:pt x="15322550" y="20516849"/>
                </a:lnTo>
                <a:lnTo>
                  <a:pt x="15341600" y="20504149"/>
                </a:lnTo>
                <a:lnTo>
                  <a:pt x="15360650" y="20488275"/>
                </a:lnTo>
                <a:lnTo>
                  <a:pt x="15376525" y="20472399"/>
                </a:lnTo>
                <a:lnTo>
                  <a:pt x="15392400" y="20450175"/>
                </a:lnTo>
                <a:lnTo>
                  <a:pt x="15408275" y="20427949"/>
                </a:lnTo>
                <a:lnTo>
                  <a:pt x="15424150" y="20399375"/>
                </a:lnTo>
                <a:lnTo>
                  <a:pt x="15436850" y="20370799"/>
                </a:lnTo>
                <a:lnTo>
                  <a:pt x="15446375" y="20335875"/>
                </a:lnTo>
                <a:lnTo>
                  <a:pt x="15455900" y="20297775"/>
                </a:lnTo>
                <a:lnTo>
                  <a:pt x="15478125" y="20189823"/>
                </a:lnTo>
                <a:lnTo>
                  <a:pt x="15528925" y="20173949"/>
                </a:lnTo>
                <a:lnTo>
                  <a:pt x="15554325" y="20161249"/>
                </a:lnTo>
                <a:lnTo>
                  <a:pt x="15579725" y="20148549"/>
                </a:lnTo>
                <a:lnTo>
                  <a:pt x="15605125" y="20129499"/>
                </a:lnTo>
                <a:lnTo>
                  <a:pt x="15630525" y="20110449"/>
                </a:lnTo>
                <a:lnTo>
                  <a:pt x="15652750" y="20085049"/>
                </a:lnTo>
                <a:lnTo>
                  <a:pt x="15674975" y="20056475"/>
                </a:lnTo>
                <a:lnTo>
                  <a:pt x="15690850" y="20088223"/>
                </a:lnTo>
                <a:lnTo>
                  <a:pt x="15709900" y="20113623"/>
                </a:lnTo>
                <a:lnTo>
                  <a:pt x="15732125" y="20135849"/>
                </a:lnTo>
                <a:lnTo>
                  <a:pt x="15760700" y="20154899"/>
                </a:lnTo>
                <a:lnTo>
                  <a:pt x="15789275" y="20167599"/>
                </a:lnTo>
                <a:lnTo>
                  <a:pt x="15824200" y="20177123"/>
                </a:lnTo>
                <a:lnTo>
                  <a:pt x="15859125" y="20183475"/>
                </a:lnTo>
                <a:lnTo>
                  <a:pt x="15897225" y="20183475"/>
                </a:lnTo>
                <a:lnTo>
                  <a:pt x="15932150" y="20183475"/>
                </a:lnTo>
                <a:lnTo>
                  <a:pt x="15963900" y="20177123"/>
                </a:lnTo>
                <a:lnTo>
                  <a:pt x="15995650" y="20167599"/>
                </a:lnTo>
                <a:lnTo>
                  <a:pt x="16027400" y="20151723"/>
                </a:lnTo>
                <a:lnTo>
                  <a:pt x="16055975" y="20135849"/>
                </a:lnTo>
                <a:lnTo>
                  <a:pt x="16084550" y="20116799"/>
                </a:lnTo>
                <a:lnTo>
                  <a:pt x="16109950" y="20091399"/>
                </a:lnTo>
                <a:lnTo>
                  <a:pt x="16135350" y="20062823"/>
                </a:lnTo>
                <a:lnTo>
                  <a:pt x="16157575" y="20034249"/>
                </a:lnTo>
                <a:lnTo>
                  <a:pt x="16179800" y="19999323"/>
                </a:lnTo>
                <a:lnTo>
                  <a:pt x="16195675" y="19961223"/>
                </a:lnTo>
                <a:lnTo>
                  <a:pt x="16214725" y="19923123"/>
                </a:lnTo>
                <a:lnTo>
                  <a:pt x="16227425" y="19878675"/>
                </a:lnTo>
                <a:lnTo>
                  <a:pt x="16240125" y="19834223"/>
                </a:lnTo>
                <a:lnTo>
                  <a:pt x="16246475" y="19786599"/>
                </a:lnTo>
                <a:lnTo>
                  <a:pt x="16252825" y="19735799"/>
                </a:lnTo>
                <a:lnTo>
                  <a:pt x="16309975" y="19723099"/>
                </a:lnTo>
                <a:lnTo>
                  <a:pt x="16360775" y="19707223"/>
                </a:lnTo>
                <a:lnTo>
                  <a:pt x="16341725" y="19770723"/>
                </a:lnTo>
                <a:lnTo>
                  <a:pt x="16325850" y="19831049"/>
                </a:lnTo>
                <a:lnTo>
                  <a:pt x="16316325" y="19891375"/>
                </a:lnTo>
                <a:lnTo>
                  <a:pt x="16313150" y="19948523"/>
                </a:lnTo>
                <a:lnTo>
                  <a:pt x="16316325" y="19980275"/>
                </a:lnTo>
                <a:lnTo>
                  <a:pt x="16319500" y="20008849"/>
                </a:lnTo>
                <a:lnTo>
                  <a:pt x="16322675" y="20034249"/>
                </a:lnTo>
                <a:lnTo>
                  <a:pt x="16332200" y="20059649"/>
                </a:lnTo>
                <a:lnTo>
                  <a:pt x="16338550" y="20081875"/>
                </a:lnTo>
                <a:lnTo>
                  <a:pt x="16351250" y="20100923"/>
                </a:lnTo>
                <a:lnTo>
                  <a:pt x="16360775" y="20119975"/>
                </a:lnTo>
                <a:lnTo>
                  <a:pt x="16376650" y="20132675"/>
                </a:lnTo>
                <a:lnTo>
                  <a:pt x="16389350" y="20148549"/>
                </a:lnTo>
                <a:lnTo>
                  <a:pt x="16405225" y="20158075"/>
                </a:lnTo>
                <a:lnTo>
                  <a:pt x="16421100" y="20167599"/>
                </a:lnTo>
                <a:lnTo>
                  <a:pt x="16440150" y="20173949"/>
                </a:lnTo>
                <a:lnTo>
                  <a:pt x="16475075" y="20183475"/>
                </a:lnTo>
                <a:lnTo>
                  <a:pt x="16513175" y="20186649"/>
                </a:lnTo>
                <a:lnTo>
                  <a:pt x="16551275" y="20183475"/>
                </a:lnTo>
                <a:lnTo>
                  <a:pt x="16586200" y="20177123"/>
                </a:lnTo>
                <a:lnTo>
                  <a:pt x="16617950" y="20161249"/>
                </a:lnTo>
                <a:lnTo>
                  <a:pt x="16646525" y="20145375"/>
                </a:lnTo>
                <a:lnTo>
                  <a:pt x="16671925" y="20123149"/>
                </a:lnTo>
                <a:lnTo>
                  <a:pt x="16694150" y="20100923"/>
                </a:lnTo>
                <a:lnTo>
                  <a:pt x="16716375" y="20075523"/>
                </a:lnTo>
                <a:lnTo>
                  <a:pt x="16735425" y="20050123"/>
                </a:lnTo>
                <a:lnTo>
                  <a:pt x="16738600" y="20081875"/>
                </a:lnTo>
                <a:lnTo>
                  <a:pt x="16748125" y="20110449"/>
                </a:lnTo>
                <a:lnTo>
                  <a:pt x="16764000" y="20132675"/>
                </a:lnTo>
                <a:lnTo>
                  <a:pt x="16779876" y="20151723"/>
                </a:lnTo>
                <a:lnTo>
                  <a:pt x="16798924" y="20167599"/>
                </a:lnTo>
                <a:lnTo>
                  <a:pt x="16824324" y="20180299"/>
                </a:lnTo>
                <a:lnTo>
                  <a:pt x="16849724" y="20186649"/>
                </a:lnTo>
                <a:lnTo>
                  <a:pt x="16881476" y="20186649"/>
                </a:lnTo>
                <a:lnTo>
                  <a:pt x="16903700" y="20186649"/>
                </a:lnTo>
                <a:lnTo>
                  <a:pt x="16932276" y="20183475"/>
                </a:lnTo>
                <a:lnTo>
                  <a:pt x="16957676" y="20177123"/>
                </a:lnTo>
                <a:lnTo>
                  <a:pt x="16989424" y="20164423"/>
                </a:lnTo>
                <a:lnTo>
                  <a:pt x="17018000" y="20148549"/>
                </a:lnTo>
                <a:lnTo>
                  <a:pt x="17049750" y="20123149"/>
                </a:lnTo>
                <a:lnTo>
                  <a:pt x="17081500" y="20094575"/>
                </a:lnTo>
                <a:lnTo>
                  <a:pt x="17110076" y="20056475"/>
                </a:lnTo>
                <a:lnTo>
                  <a:pt x="17116424" y="20088223"/>
                </a:lnTo>
                <a:lnTo>
                  <a:pt x="17129124" y="20116799"/>
                </a:lnTo>
                <a:lnTo>
                  <a:pt x="17145000" y="20139023"/>
                </a:lnTo>
                <a:lnTo>
                  <a:pt x="17164050" y="20154899"/>
                </a:lnTo>
                <a:lnTo>
                  <a:pt x="17186276" y="20170775"/>
                </a:lnTo>
                <a:lnTo>
                  <a:pt x="17211676" y="20180299"/>
                </a:lnTo>
                <a:lnTo>
                  <a:pt x="17237076" y="20186649"/>
                </a:lnTo>
                <a:lnTo>
                  <a:pt x="17265650" y="20186649"/>
                </a:lnTo>
                <a:lnTo>
                  <a:pt x="17297400" y="20186649"/>
                </a:lnTo>
                <a:lnTo>
                  <a:pt x="17335500" y="20177123"/>
                </a:lnTo>
                <a:lnTo>
                  <a:pt x="17376776" y="20164423"/>
                </a:lnTo>
                <a:lnTo>
                  <a:pt x="17399000" y="20154899"/>
                </a:lnTo>
                <a:lnTo>
                  <a:pt x="17421224" y="20142199"/>
                </a:lnTo>
                <a:lnTo>
                  <a:pt x="17440276" y="20126323"/>
                </a:lnTo>
                <a:lnTo>
                  <a:pt x="17462500" y="20107275"/>
                </a:lnTo>
                <a:lnTo>
                  <a:pt x="17484724" y="20081875"/>
                </a:lnTo>
                <a:lnTo>
                  <a:pt x="17503776" y="20056475"/>
                </a:lnTo>
                <a:lnTo>
                  <a:pt x="17522824" y="20027899"/>
                </a:lnTo>
                <a:lnTo>
                  <a:pt x="17541876" y="19992975"/>
                </a:lnTo>
                <a:lnTo>
                  <a:pt x="17560924" y="19954875"/>
                </a:lnTo>
                <a:lnTo>
                  <a:pt x="17576800" y="19910423"/>
                </a:lnTo>
                <a:lnTo>
                  <a:pt x="17516476" y="19910423"/>
                </a:lnTo>
                <a:lnTo>
                  <a:pt x="17506950" y="19938999"/>
                </a:lnTo>
                <a:lnTo>
                  <a:pt x="17494250" y="19964399"/>
                </a:lnTo>
                <a:lnTo>
                  <a:pt x="17478376" y="19986623"/>
                </a:lnTo>
                <a:lnTo>
                  <a:pt x="17462500" y="20005675"/>
                </a:lnTo>
                <a:lnTo>
                  <a:pt x="17443450" y="20021549"/>
                </a:lnTo>
                <a:lnTo>
                  <a:pt x="17424400" y="20034249"/>
                </a:lnTo>
                <a:lnTo>
                  <a:pt x="17402176" y="20040599"/>
                </a:lnTo>
                <a:lnTo>
                  <a:pt x="17379950" y="20043775"/>
                </a:lnTo>
                <a:lnTo>
                  <a:pt x="17354550" y="20040599"/>
                </a:lnTo>
                <a:lnTo>
                  <a:pt x="17341850" y="20037423"/>
                </a:lnTo>
                <a:lnTo>
                  <a:pt x="17335500" y="20031075"/>
                </a:lnTo>
                <a:lnTo>
                  <a:pt x="17329150" y="20024723"/>
                </a:lnTo>
                <a:lnTo>
                  <a:pt x="17322800" y="20015199"/>
                </a:lnTo>
                <a:lnTo>
                  <a:pt x="17319624" y="20002499"/>
                </a:lnTo>
                <a:lnTo>
                  <a:pt x="17319624" y="19986623"/>
                </a:lnTo>
                <a:lnTo>
                  <a:pt x="17322800" y="19967575"/>
                </a:lnTo>
                <a:lnTo>
                  <a:pt x="17325976" y="19938999"/>
                </a:lnTo>
                <a:lnTo>
                  <a:pt x="17421224" y="19494499"/>
                </a:lnTo>
                <a:lnTo>
                  <a:pt x="17510124" y="19494499"/>
                </a:lnTo>
                <a:lnTo>
                  <a:pt x="17522824" y="19434175"/>
                </a:lnTo>
                <a:lnTo>
                  <a:pt x="17433924" y="19434175"/>
                </a:lnTo>
                <a:lnTo>
                  <a:pt x="17484724" y="19199223"/>
                </a:lnTo>
                <a:close/>
                <a:moveTo>
                  <a:pt x="13655675" y="19135723"/>
                </a:moveTo>
                <a:lnTo>
                  <a:pt x="13436600" y="19164299"/>
                </a:lnTo>
                <a:lnTo>
                  <a:pt x="13274675" y="19910423"/>
                </a:lnTo>
                <a:lnTo>
                  <a:pt x="13265150" y="19938999"/>
                </a:lnTo>
                <a:lnTo>
                  <a:pt x="13252450" y="19964399"/>
                </a:lnTo>
                <a:lnTo>
                  <a:pt x="13239750" y="19986623"/>
                </a:lnTo>
                <a:lnTo>
                  <a:pt x="13220700" y="20005675"/>
                </a:lnTo>
                <a:lnTo>
                  <a:pt x="13204825" y="20021549"/>
                </a:lnTo>
                <a:lnTo>
                  <a:pt x="13182600" y="20034249"/>
                </a:lnTo>
                <a:lnTo>
                  <a:pt x="13163550" y="20040599"/>
                </a:lnTo>
                <a:lnTo>
                  <a:pt x="13141325" y="20043775"/>
                </a:lnTo>
                <a:lnTo>
                  <a:pt x="13115925" y="20040599"/>
                </a:lnTo>
                <a:lnTo>
                  <a:pt x="13103225" y="20037423"/>
                </a:lnTo>
                <a:lnTo>
                  <a:pt x="13096875" y="20031075"/>
                </a:lnTo>
                <a:lnTo>
                  <a:pt x="13087350" y="20024723"/>
                </a:lnTo>
                <a:lnTo>
                  <a:pt x="13084175" y="20015199"/>
                </a:lnTo>
                <a:lnTo>
                  <a:pt x="13081000" y="20002499"/>
                </a:lnTo>
                <a:lnTo>
                  <a:pt x="13081000" y="19986623"/>
                </a:lnTo>
                <a:lnTo>
                  <a:pt x="13081000" y="19967575"/>
                </a:lnTo>
                <a:lnTo>
                  <a:pt x="13087350" y="19938999"/>
                </a:lnTo>
                <a:lnTo>
                  <a:pt x="13182600" y="19494499"/>
                </a:lnTo>
                <a:lnTo>
                  <a:pt x="13271500" y="19494499"/>
                </a:lnTo>
                <a:lnTo>
                  <a:pt x="13284200" y="19434175"/>
                </a:lnTo>
                <a:lnTo>
                  <a:pt x="13195300" y="19434175"/>
                </a:lnTo>
                <a:lnTo>
                  <a:pt x="13242925" y="19199223"/>
                </a:lnTo>
                <a:lnTo>
                  <a:pt x="13023850" y="19227799"/>
                </a:lnTo>
                <a:lnTo>
                  <a:pt x="12979400" y="19434175"/>
                </a:lnTo>
                <a:lnTo>
                  <a:pt x="12928604" y="19434175"/>
                </a:lnTo>
                <a:lnTo>
                  <a:pt x="12919079" y="19494499"/>
                </a:lnTo>
                <a:lnTo>
                  <a:pt x="12966700" y="19494499"/>
                </a:lnTo>
                <a:lnTo>
                  <a:pt x="12877804" y="19910423"/>
                </a:lnTo>
                <a:lnTo>
                  <a:pt x="12868279" y="19964399"/>
                </a:lnTo>
                <a:lnTo>
                  <a:pt x="12865104" y="20008849"/>
                </a:lnTo>
                <a:lnTo>
                  <a:pt x="12868279" y="20053299"/>
                </a:lnTo>
                <a:lnTo>
                  <a:pt x="12877804" y="20088223"/>
                </a:lnTo>
                <a:lnTo>
                  <a:pt x="12893679" y="20119975"/>
                </a:lnTo>
                <a:lnTo>
                  <a:pt x="12912729" y="20145375"/>
                </a:lnTo>
                <a:lnTo>
                  <a:pt x="12934954" y="20164423"/>
                </a:lnTo>
                <a:lnTo>
                  <a:pt x="12963525" y="20177123"/>
                </a:lnTo>
                <a:lnTo>
                  <a:pt x="12992100" y="20186649"/>
                </a:lnTo>
                <a:lnTo>
                  <a:pt x="13023850" y="20186649"/>
                </a:lnTo>
                <a:lnTo>
                  <a:pt x="13046075" y="20186649"/>
                </a:lnTo>
                <a:lnTo>
                  <a:pt x="13071475" y="20183475"/>
                </a:lnTo>
                <a:lnTo>
                  <a:pt x="13096875" y="20177123"/>
                </a:lnTo>
                <a:lnTo>
                  <a:pt x="13122275" y="20170775"/>
                </a:lnTo>
                <a:lnTo>
                  <a:pt x="13150850" y="20158075"/>
                </a:lnTo>
                <a:lnTo>
                  <a:pt x="13179425" y="20139023"/>
                </a:lnTo>
                <a:lnTo>
                  <a:pt x="13208000" y="20116799"/>
                </a:lnTo>
                <a:lnTo>
                  <a:pt x="13236575" y="20091399"/>
                </a:lnTo>
                <a:lnTo>
                  <a:pt x="13220700" y="20180299"/>
                </a:lnTo>
                <a:lnTo>
                  <a:pt x="13433425" y="20180299"/>
                </a:lnTo>
                <a:lnTo>
                  <a:pt x="13535025" y="19694523"/>
                </a:lnTo>
                <a:lnTo>
                  <a:pt x="13541375" y="19678649"/>
                </a:lnTo>
                <a:lnTo>
                  <a:pt x="13550900" y="19656423"/>
                </a:lnTo>
                <a:lnTo>
                  <a:pt x="13560425" y="19634199"/>
                </a:lnTo>
                <a:lnTo>
                  <a:pt x="13576300" y="19615149"/>
                </a:lnTo>
                <a:lnTo>
                  <a:pt x="13592175" y="19592923"/>
                </a:lnTo>
                <a:lnTo>
                  <a:pt x="13608050" y="19577049"/>
                </a:lnTo>
                <a:lnTo>
                  <a:pt x="13627100" y="19567523"/>
                </a:lnTo>
                <a:lnTo>
                  <a:pt x="13639800" y="19564349"/>
                </a:lnTo>
                <a:lnTo>
                  <a:pt x="13649325" y="19564349"/>
                </a:lnTo>
                <a:lnTo>
                  <a:pt x="13662025" y="19564349"/>
                </a:lnTo>
                <a:lnTo>
                  <a:pt x="13674725" y="19567523"/>
                </a:lnTo>
                <a:lnTo>
                  <a:pt x="13684250" y="19573875"/>
                </a:lnTo>
                <a:lnTo>
                  <a:pt x="13690600" y="19583399"/>
                </a:lnTo>
                <a:lnTo>
                  <a:pt x="13696950" y="19592923"/>
                </a:lnTo>
                <a:lnTo>
                  <a:pt x="13700125" y="19605623"/>
                </a:lnTo>
                <a:lnTo>
                  <a:pt x="13703300" y="19621499"/>
                </a:lnTo>
                <a:lnTo>
                  <a:pt x="13706475" y="19640549"/>
                </a:lnTo>
                <a:lnTo>
                  <a:pt x="13703300" y="19678649"/>
                </a:lnTo>
                <a:lnTo>
                  <a:pt x="13693775" y="19723099"/>
                </a:lnTo>
                <a:lnTo>
                  <a:pt x="13671550" y="19827875"/>
                </a:lnTo>
                <a:lnTo>
                  <a:pt x="13649325" y="19929475"/>
                </a:lnTo>
                <a:lnTo>
                  <a:pt x="13639800" y="19977099"/>
                </a:lnTo>
                <a:lnTo>
                  <a:pt x="13636625" y="20018375"/>
                </a:lnTo>
                <a:lnTo>
                  <a:pt x="13639800" y="20050123"/>
                </a:lnTo>
                <a:lnTo>
                  <a:pt x="13646150" y="20081875"/>
                </a:lnTo>
                <a:lnTo>
                  <a:pt x="13658850" y="20110449"/>
                </a:lnTo>
                <a:lnTo>
                  <a:pt x="13677900" y="20135849"/>
                </a:lnTo>
                <a:lnTo>
                  <a:pt x="13687425" y="20145375"/>
                </a:lnTo>
                <a:lnTo>
                  <a:pt x="13700125" y="20158075"/>
                </a:lnTo>
                <a:lnTo>
                  <a:pt x="13716000" y="20164423"/>
                </a:lnTo>
                <a:lnTo>
                  <a:pt x="13731875" y="20173949"/>
                </a:lnTo>
                <a:lnTo>
                  <a:pt x="13750925" y="20180299"/>
                </a:lnTo>
                <a:lnTo>
                  <a:pt x="13769975" y="20183475"/>
                </a:lnTo>
                <a:lnTo>
                  <a:pt x="13789025" y="20186649"/>
                </a:lnTo>
                <a:lnTo>
                  <a:pt x="13814425" y="20186649"/>
                </a:lnTo>
                <a:lnTo>
                  <a:pt x="13836650" y="20186649"/>
                </a:lnTo>
                <a:lnTo>
                  <a:pt x="13862050" y="20183475"/>
                </a:lnTo>
                <a:lnTo>
                  <a:pt x="13887450" y="20177123"/>
                </a:lnTo>
                <a:lnTo>
                  <a:pt x="13916025" y="20164423"/>
                </a:lnTo>
                <a:lnTo>
                  <a:pt x="13941425" y="20148549"/>
                </a:lnTo>
                <a:lnTo>
                  <a:pt x="13970000" y="20123149"/>
                </a:lnTo>
                <a:lnTo>
                  <a:pt x="13998575" y="20094575"/>
                </a:lnTo>
                <a:lnTo>
                  <a:pt x="14023975" y="20056475"/>
                </a:lnTo>
                <a:lnTo>
                  <a:pt x="14039850" y="20088223"/>
                </a:lnTo>
                <a:lnTo>
                  <a:pt x="14058900" y="20116799"/>
                </a:lnTo>
                <a:lnTo>
                  <a:pt x="14077950" y="20139023"/>
                </a:lnTo>
                <a:lnTo>
                  <a:pt x="14106525" y="20158075"/>
                </a:lnTo>
                <a:lnTo>
                  <a:pt x="14135100" y="20170775"/>
                </a:lnTo>
                <a:lnTo>
                  <a:pt x="14166850" y="20180299"/>
                </a:lnTo>
                <a:lnTo>
                  <a:pt x="14201775" y="20186649"/>
                </a:lnTo>
                <a:lnTo>
                  <a:pt x="14239875" y="20186649"/>
                </a:lnTo>
                <a:lnTo>
                  <a:pt x="14277975" y="20186649"/>
                </a:lnTo>
                <a:lnTo>
                  <a:pt x="14312900" y="20180299"/>
                </a:lnTo>
                <a:lnTo>
                  <a:pt x="14344650" y="20173949"/>
                </a:lnTo>
                <a:lnTo>
                  <a:pt x="14376400" y="20164423"/>
                </a:lnTo>
                <a:lnTo>
                  <a:pt x="14408150" y="20151723"/>
                </a:lnTo>
                <a:lnTo>
                  <a:pt x="14436725" y="20135849"/>
                </a:lnTo>
                <a:lnTo>
                  <a:pt x="14462125" y="20119975"/>
                </a:lnTo>
                <a:lnTo>
                  <a:pt x="14487525" y="20100923"/>
                </a:lnTo>
                <a:lnTo>
                  <a:pt x="14512925" y="20081875"/>
                </a:lnTo>
                <a:lnTo>
                  <a:pt x="14535150" y="20059649"/>
                </a:lnTo>
                <a:lnTo>
                  <a:pt x="14579600" y="20012023"/>
                </a:lnTo>
                <a:lnTo>
                  <a:pt x="14617700" y="19964399"/>
                </a:lnTo>
                <a:lnTo>
                  <a:pt x="14652625" y="19910423"/>
                </a:lnTo>
                <a:lnTo>
                  <a:pt x="14601825" y="19910423"/>
                </a:lnTo>
                <a:lnTo>
                  <a:pt x="14573250" y="19942175"/>
                </a:lnTo>
                <a:lnTo>
                  <a:pt x="14544675" y="19970749"/>
                </a:lnTo>
                <a:lnTo>
                  <a:pt x="14516100" y="19996149"/>
                </a:lnTo>
                <a:lnTo>
                  <a:pt x="14484350" y="20018375"/>
                </a:lnTo>
                <a:lnTo>
                  <a:pt x="14452600" y="20037423"/>
                </a:lnTo>
                <a:lnTo>
                  <a:pt x="14417675" y="20050123"/>
                </a:lnTo>
                <a:lnTo>
                  <a:pt x="14379575" y="20059649"/>
                </a:lnTo>
                <a:lnTo>
                  <a:pt x="14338300" y="20062823"/>
                </a:lnTo>
                <a:lnTo>
                  <a:pt x="14312900" y="20059649"/>
                </a:lnTo>
                <a:lnTo>
                  <a:pt x="14290675" y="20056475"/>
                </a:lnTo>
                <a:lnTo>
                  <a:pt x="14271625" y="20050123"/>
                </a:lnTo>
                <a:lnTo>
                  <a:pt x="14255750" y="20037423"/>
                </a:lnTo>
                <a:lnTo>
                  <a:pt x="14243050" y="20021549"/>
                </a:lnTo>
                <a:lnTo>
                  <a:pt x="14236700" y="19999323"/>
                </a:lnTo>
                <a:lnTo>
                  <a:pt x="14230350" y="19970749"/>
                </a:lnTo>
                <a:lnTo>
                  <a:pt x="14230350" y="19938999"/>
                </a:lnTo>
                <a:lnTo>
                  <a:pt x="14233525" y="19878675"/>
                </a:lnTo>
                <a:lnTo>
                  <a:pt x="14265275" y="19875499"/>
                </a:lnTo>
                <a:lnTo>
                  <a:pt x="14297025" y="19869149"/>
                </a:lnTo>
                <a:lnTo>
                  <a:pt x="14331950" y="19859623"/>
                </a:lnTo>
                <a:lnTo>
                  <a:pt x="14360525" y="19846923"/>
                </a:lnTo>
                <a:lnTo>
                  <a:pt x="14392275" y="19834223"/>
                </a:lnTo>
                <a:lnTo>
                  <a:pt x="14420850" y="19818349"/>
                </a:lnTo>
                <a:lnTo>
                  <a:pt x="14446250" y="19802475"/>
                </a:lnTo>
                <a:lnTo>
                  <a:pt x="14471650" y="19780249"/>
                </a:lnTo>
                <a:lnTo>
                  <a:pt x="14493875" y="19758023"/>
                </a:lnTo>
                <a:lnTo>
                  <a:pt x="14512925" y="19735799"/>
                </a:lnTo>
                <a:lnTo>
                  <a:pt x="14531975" y="19710399"/>
                </a:lnTo>
                <a:lnTo>
                  <a:pt x="14547850" y="19681823"/>
                </a:lnTo>
                <a:lnTo>
                  <a:pt x="14560550" y="19656423"/>
                </a:lnTo>
                <a:lnTo>
                  <a:pt x="14566900" y="19624675"/>
                </a:lnTo>
                <a:lnTo>
                  <a:pt x="14573250" y="19596099"/>
                </a:lnTo>
                <a:lnTo>
                  <a:pt x="14576425" y="19564349"/>
                </a:lnTo>
                <a:lnTo>
                  <a:pt x="14573250" y="19535775"/>
                </a:lnTo>
                <a:lnTo>
                  <a:pt x="14566900" y="19510375"/>
                </a:lnTo>
                <a:lnTo>
                  <a:pt x="14557375" y="19484975"/>
                </a:lnTo>
                <a:lnTo>
                  <a:pt x="14541500" y="19462749"/>
                </a:lnTo>
                <a:lnTo>
                  <a:pt x="14522450" y="19446875"/>
                </a:lnTo>
                <a:lnTo>
                  <a:pt x="14493875" y="19430999"/>
                </a:lnTo>
                <a:lnTo>
                  <a:pt x="14455775" y="19424649"/>
                </a:lnTo>
                <a:lnTo>
                  <a:pt x="14411325" y="19421475"/>
                </a:lnTo>
                <a:lnTo>
                  <a:pt x="14382750" y="19421475"/>
                </a:lnTo>
                <a:lnTo>
                  <a:pt x="14357350" y="19424649"/>
                </a:lnTo>
                <a:lnTo>
                  <a:pt x="14331950" y="19427823"/>
                </a:lnTo>
                <a:lnTo>
                  <a:pt x="14306550" y="19437349"/>
                </a:lnTo>
                <a:lnTo>
                  <a:pt x="14284325" y="19443699"/>
                </a:lnTo>
                <a:lnTo>
                  <a:pt x="14262100" y="19453223"/>
                </a:lnTo>
                <a:lnTo>
                  <a:pt x="14220825" y="19478623"/>
                </a:lnTo>
                <a:lnTo>
                  <a:pt x="14182725" y="19507199"/>
                </a:lnTo>
                <a:lnTo>
                  <a:pt x="14150975" y="19542123"/>
                </a:lnTo>
                <a:lnTo>
                  <a:pt x="14119225" y="19580223"/>
                </a:lnTo>
                <a:lnTo>
                  <a:pt x="14097000" y="19621499"/>
                </a:lnTo>
                <a:lnTo>
                  <a:pt x="14074775" y="19662775"/>
                </a:lnTo>
                <a:lnTo>
                  <a:pt x="14055725" y="19707223"/>
                </a:lnTo>
                <a:lnTo>
                  <a:pt x="14039850" y="19751675"/>
                </a:lnTo>
                <a:lnTo>
                  <a:pt x="14030325" y="19796123"/>
                </a:lnTo>
                <a:lnTo>
                  <a:pt x="14020800" y="19837399"/>
                </a:lnTo>
                <a:lnTo>
                  <a:pt x="14014450" y="19878675"/>
                </a:lnTo>
                <a:lnTo>
                  <a:pt x="14011275" y="19916775"/>
                </a:lnTo>
                <a:lnTo>
                  <a:pt x="14008100" y="19951699"/>
                </a:lnTo>
                <a:lnTo>
                  <a:pt x="14008100" y="19954875"/>
                </a:lnTo>
                <a:lnTo>
                  <a:pt x="13989050" y="19989799"/>
                </a:lnTo>
                <a:lnTo>
                  <a:pt x="13979525" y="20005675"/>
                </a:lnTo>
                <a:lnTo>
                  <a:pt x="13966825" y="20018375"/>
                </a:lnTo>
                <a:lnTo>
                  <a:pt x="13954125" y="20031075"/>
                </a:lnTo>
                <a:lnTo>
                  <a:pt x="13938250" y="20037423"/>
                </a:lnTo>
                <a:lnTo>
                  <a:pt x="13922375" y="20040599"/>
                </a:lnTo>
                <a:lnTo>
                  <a:pt x="13903325" y="20043775"/>
                </a:lnTo>
                <a:lnTo>
                  <a:pt x="13887450" y="20040599"/>
                </a:lnTo>
                <a:lnTo>
                  <a:pt x="13874750" y="20037423"/>
                </a:lnTo>
                <a:lnTo>
                  <a:pt x="13865225" y="20034249"/>
                </a:lnTo>
                <a:lnTo>
                  <a:pt x="13855700" y="20024723"/>
                </a:lnTo>
                <a:lnTo>
                  <a:pt x="13849350" y="20015199"/>
                </a:lnTo>
                <a:lnTo>
                  <a:pt x="13846175" y="20005675"/>
                </a:lnTo>
                <a:lnTo>
                  <a:pt x="13843000" y="19980275"/>
                </a:lnTo>
                <a:lnTo>
                  <a:pt x="13846175" y="19945349"/>
                </a:lnTo>
                <a:lnTo>
                  <a:pt x="13855700" y="19900899"/>
                </a:lnTo>
                <a:lnTo>
                  <a:pt x="13877925" y="19802475"/>
                </a:lnTo>
                <a:lnTo>
                  <a:pt x="13893800" y="19748499"/>
                </a:lnTo>
                <a:lnTo>
                  <a:pt x="13903325" y="19694523"/>
                </a:lnTo>
                <a:lnTo>
                  <a:pt x="13912850" y="19643723"/>
                </a:lnTo>
                <a:lnTo>
                  <a:pt x="13916025" y="19596099"/>
                </a:lnTo>
                <a:lnTo>
                  <a:pt x="13912850" y="19554823"/>
                </a:lnTo>
                <a:lnTo>
                  <a:pt x="13903325" y="19519899"/>
                </a:lnTo>
                <a:lnTo>
                  <a:pt x="13887450" y="19491323"/>
                </a:lnTo>
                <a:lnTo>
                  <a:pt x="13868400" y="19465923"/>
                </a:lnTo>
                <a:lnTo>
                  <a:pt x="13843000" y="19450049"/>
                </a:lnTo>
                <a:lnTo>
                  <a:pt x="13814425" y="19437349"/>
                </a:lnTo>
                <a:lnTo>
                  <a:pt x="13782675" y="19430999"/>
                </a:lnTo>
                <a:lnTo>
                  <a:pt x="13750925" y="19427823"/>
                </a:lnTo>
                <a:lnTo>
                  <a:pt x="13712825" y="19430999"/>
                </a:lnTo>
                <a:lnTo>
                  <a:pt x="13690600" y="19434175"/>
                </a:lnTo>
                <a:lnTo>
                  <a:pt x="13668375" y="19443699"/>
                </a:lnTo>
                <a:lnTo>
                  <a:pt x="13646150" y="19453223"/>
                </a:lnTo>
                <a:lnTo>
                  <a:pt x="13623925" y="19469099"/>
                </a:lnTo>
                <a:lnTo>
                  <a:pt x="13598525" y="19488149"/>
                </a:lnTo>
                <a:lnTo>
                  <a:pt x="13576300" y="19510375"/>
                </a:lnTo>
                <a:lnTo>
                  <a:pt x="13655675" y="19135723"/>
                </a:lnTo>
                <a:close/>
                <a:moveTo>
                  <a:pt x="8823329" y="19062699"/>
                </a:moveTo>
                <a:lnTo>
                  <a:pt x="8775704" y="19069049"/>
                </a:lnTo>
                <a:lnTo>
                  <a:pt x="8731254" y="19078575"/>
                </a:lnTo>
                <a:lnTo>
                  <a:pt x="8683629" y="19094449"/>
                </a:lnTo>
                <a:lnTo>
                  <a:pt x="8639179" y="19110323"/>
                </a:lnTo>
                <a:lnTo>
                  <a:pt x="8594729" y="19132549"/>
                </a:lnTo>
                <a:lnTo>
                  <a:pt x="8553451" y="19154775"/>
                </a:lnTo>
                <a:lnTo>
                  <a:pt x="8515350" y="19180175"/>
                </a:lnTo>
                <a:lnTo>
                  <a:pt x="8480428" y="19208749"/>
                </a:lnTo>
                <a:lnTo>
                  <a:pt x="8448675" y="19240499"/>
                </a:lnTo>
                <a:lnTo>
                  <a:pt x="8420100" y="19272249"/>
                </a:lnTo>
                <a:lnTo>
                  <a:pt x="8394700" y="19303999"/>
                </a:lnTo>
                <a:lnTo>
                  <a:pt x="8375652" y="19338923"/>
                </a:lnTo>
                <a:lnTo>
                  <a:pt x="8359778" y="19373849"/>
                </a:lnTo>
                <a:lnTo>
                  <a:pt x="8350252" y="19411949"/>
                </a:lnTo>
                <a:lnTo>
                  <a:pt x="8347076" y="19450049"/>
                </a:lnTo>
                <a:lnTo>
                  <a:pt x="8350252" y="19484975"/>
                </a:lnTo>
                <a:lnTo>
                  <a:pt x="8359778" y="19516723"/>
                </a:lnTo>
                <a:lnTo>
                  <a:pt x="8372476" y="19542123"/>
                </a:lnTo>
                <a:lnTo>
                  <a:pt x="8388351" y="19561175"/>
                </a:lnTo>
                <a:lnTo>
                  <a:pt x="8410576" y="19573875"/>
                </a:lnTo>
                <a:lnTo>
                  <a:pt x="8439152" y="19586575"/>
                </a:lnTo>
                <a:lnTo>
                  <a:pt x="8470902" y="19589749"/>
                </a:lnTo>
                <a:lnTo>
                  <a:pt x="8505826" y="19592923"/>
                </a:lnTo>
                <a:lnTo>
                  <a:pt x="8502653" y="19583399"/>
                </a:lnTo>
                <a:lnTo>
                  <a:pt x="8496300" y="19564349"/>
                </a:lnTo>
                <a:lnTo>
                  <a:pt x="8489950" y="19538949"/>
                </a:lnTo>
                <a:lnTo>
                  <a:pt x="8486778" y="19491323"/>
                </a:lnTo>
                <a:lnTo>
                  <a:pt x="8486778" y="19462749"/>
                </a:lnTo>
                <a:lnTo>
                  <a:pt x="8489950" y="19430999"/>
                </a:lnTo>
                <a:lnTo>
                  <a:pt x="8496300" y="19405599"/>
                </a:lnTo>
                <a:lnTo>
                  <a:pt x="8502653" y="19377023"/>
                </a:lnTo>
                <a:lnTo>
                  <a:pt x="8509002" y="19351623"/>
                </a:lnTo>
                <a:lnTo>
                  <a:pt x="8518528" y="19329399"/>
                </a:lnTo>
                <a:lnTo>
                  <a:pt x="8531226" y="19303999"/>
                </a:lnTo>
                <a:lnTo>
                  <a:pt x="8543925" y="19284949"/>
                </a:lnTo>
                <a:lnTo>
                  <a:pt x="8559800" y="19262723"/>
                </a:lnTo>
                <a:lnTo>
                  <a:pt x="8578851" y="19243675"/>
                </a:lnTo>
                <a:lnTo>
                  <a:pt x="8594729" y="19227799"/>
                </a:lnTo>
                <a:lnTo>
                  <a:pt x="8613779" y="19211923"/>
                </a:lnTo>
                <a:lnTo>
                  <a:pt x="8636004" y="19196049"/>
                </a:lnTo>
                <a:lnTo>
                  <a:pt x="8658229" y="19183349"/>
                </a:lnTo>
                <a:lnTo>
                  <a:pt x="8683629" y="19170649"/>
                </a:lnTo>
                <a:lnTo>
                  <a:pt x="8709029" y="19161123"/>
                </a:lnTo>
                <a:lnTo>
                  <a:pt x="8851904" y="19719923"/>
                </a:lnTo>
                <a:lnTo>
                  <a:pt x="8753479" y="20180299"/>
                </a:lnTo>
                <a:lnTo>
                  <a:pt x="8991604" y="20180299"/>
                </a:lnTo>
                <a:lnTo>
                  <a:pt x="9090029" y="19719923"/>
                </a:lnTo>
                <a:lnTo>
                  <a:pt x="9378954" y="19069049"/>
                </a:lnTo>
                <a:lnTo>
                  <a:pt x="9280529" y="19069049"/>
                </a:lnTo>
                <a:lnTo>
                  <a:pt x="9061454" y="19596099"/>
                </a:lnTo>
                <a:lnTo>
                  <a:pt x="8931279" y="19062699"/>
                </a:lnTo>
                <a:lnTo>
                  <a:pt x="8870954" y="19062699"/>
                </a:lnTo>
                <a:lnTo>
                  <a:pt x="8823329" y="19062699"/>
                </a:lnTo>
                <a:close/>
                <a:moveTo>
                  <a:pt x="11534779" y="14658975"/>
                </a:moveTo>
                <a:lnTo>
                  <a:pt x="11528429" y="14814549"/>
                </a:lnTo>
                <a:lnTo>
                  <a:pt x="11525254" y="14963775"/>
                </a:lnTo>
                <a:lnTo>
                  <a:pt x="11525254" y="15106649"/>
                </a:lnTo>
                <a:lnTo>
                  <a:pt x="11525254" y="15246349"/>
                </a:lnTo>
                <a:lnTo>
                  <a:pt x="11528429" y="15382875"/>
                </a:lnTo>
                <a:lnTo>
                  <a:pt x="11534779" y="15513049"/>
                </a:lnTo>
                <a:lnTo>
                  <a:pt x="11550654" y="15760699"/>
                </a:lnTo>
                <a:lnTo>
                  <a:pt x="11572879" y="15989299"/>
                </a:lnTo>
                <a:lnTo>
                  <a:pt x="11591929" y="16198849"/>
                </a:lnTo>
                <a:lnTo>
                  <a:pt x="11633204" y="16567149"/>
                </a:lnTo>
                <a:lnTo>
                  <a:pt x="11649079" y="16725899"/>
                </a:lnTo>
                <a:lnTo>
                  <a:pt x="11655429" y="16865599"/>
                </a:lnTo>
                <a:lnTo>
                  <a:pt x="11658604" y="16929099"/>
                </a:lnTo>
                <a:lnTo>
                  <a:pt x="11655429" y="16989423"/>
                </a:lnTo>
                <a:lnTo>
                  <a:pt x="11649079" y="17043399"/>
                </a:lnTo>
                <a:lnTo>
                  <a:pt x="11642729" y="17094199"/>
                </a:lnTo>
                <a:lnTo>
                  <a:pt x="11630029" y="17141823"/>
                </a:lnTo>
                <a:lnTo>
                  <a:pt x="11617329" y="17183099"/>
                </a:lnTo>
                <a:lnTo>
                  <a:pt x="11598279" y="17221199"/>
                </a:lnTo>
                <a:lnTo>
                  <a:pt x="11576054" y="17256123"/>
                </a:lnTo>
                <a:lnTo>
                  <a:pt x="11547479" y="17287875"/>
                </a:lnTo>
                <a:lnTo>
                  <a:pt x="11515729" y="17313275"/>
                </a:lnTo>
                <a:lnTo>
                  <a:pt x="11477629" y="17335499"/>
                </a:lnTo>
                <a:lnTo>
                  <a:pt x="11436354" y="17354549"/>
                </a:lnTo>
                <a:lnTo>
                  <a:pt x="11369679" y="17383123"/>
                </a:lnTo>
                <a:lnTo>
                  <a:pt x="11309354" y="17418049"/>
                </a:lnTo>
                <a:lnTo>
                  <a:pt x="11255379" y="17452975"/>
                </a:lnTo>
                <a:lnTo>
                  <a:pt x="11204579" y="17491075"/>
                </a:lnTo>
                <a:lnTo>
                  <a:pt x="11163304" y="17535523"/>
                </a:lnTo>
                <a:lnTo>
                  <a:pt x="11128379" y="17576799"/>
                </a:lnTo>
                <a:lnTo>
                  <a:pt x="11096629" y="17621249"/>
                </a:lnTo>
                <a:lnTo>
                  <a:pt x="11068054" y="17668875"/>
                </a:lnTo>
                <a:lnTo>
                  <a:pt x="11296654" y="17640299"/>
                </a:lnTo>
                <a:lnTo>
                  <a:pt x="11331579" y="17605375"/>
                </a:lnTo>
                <a:lnTo>
                  <a:pt x="11369679" y="17570449"/>
                </a:lnTo>
                <a:lnTo>
                  <a:pt x="11410954" y="17535523"/>
                </a:lnTo>
                <a:lnTo>
                  <a:pt x="11458579" y="17500599"/>
                </a:lnTo>
                <a:lnTo>
                  <a:pt x="11509379" y="17468849"/>
                </a:lnTo>
                <a:lnTo>
                  <a:pt x="11566529" y="17437099"/>
                </a:lnTo>
                <a:lnTo>
                  <a:pt x="11626854" y="17408523"/>
                </a:lnTo>
                <a:lnTo>
                  <a:pt x="11690354" y="17379949"/>
                </a:lnTo>
                <a:lnTo>
                  <a:pt x="11718929" y="17367249"/>
                </a:lnTo>
                <a:lnTo>
                  <a:pt x="11744329" y="17348199"/>
                </a:lnTo>
                <a:lnTo>
                  <a:pt x="11769729" y="17322799"/>
                </a:lnTo>
                <a:lnTo>
                  <a:pt x="11788779" y="17294223"/>
                </a:lnTo>
                <a:lnTo>
                  <a:pt x="11807829" y="17262475"/>
                </a:lnTo>
                <a:lnTo>
                  <a:pt x="11823704" y="17224375"/>
                </a:lnTo>
                <a:lnTo>
                  <a:pt x="11839579" y="17179923"/>
                </a:lnTo>
                <a:lnTo>
                  <a:pt x="11849104" y="17135475"/>
                </a:lnTo>
                <a:lnTo>
                  <a:pt x="11858629" y="17081499"/>
                </a:lnTo>
                <a:lnTo>
                  <a:pt x="11864979" y="17024349"/>
                </a:lnTo>
                <a:lnTo>
                  <a:pt x="11871329" y="16964023"/>
                </a:lnTo>
                <a:lnTo>
                  <a:pt x="11874504" y="16897349"/>
                </a:lnTo>
                <a:lnTo>
                  <a:pt x="11874504" y="16827499"/>
                </a:lnTo>
                <a:lnTo>
                  <a:pt x="11871329" y="16751299"/>
                </a:lnTo>
                <a:lnTo>
                  <a:pt x="11861804" y="16589375"/>
                </a:lnTo>
                <a:lnTo>
                  <a:pt x="11845929" y="16405223"/>
                </a:lnTo>
                <a:lnTo>
                  <a:pt x="11820529" y="16208375"/>
                </a:lnTo>
                <a:lnTo>
                  <a:pt x="11788779" y="15992475"/>
                </a:lnTo>
                <a:lnTo>
                  <a:pt x="11750679" y="15757523"/>
                </a:lnTo>
                <a:lnTo>
                  <a:pt x="11706229" y="15506699"/>
                </a:lnTo>
                <a:lnTo>
                  <a:pt x="11655429" y="15239999"/>
                </a:lnTo>
                <a:lnTo>
                  <a:pt x="11598279" y="14957423"/>
                </a:lnTo>
                <a:lnTo>
                  <a:pt x="11534779" y="14658975"/>
                </a:lnTo>
                <a:close/>
                <a:moveTo>
                  <a:pt x="15554325" y="12563475"/>
                </a:moveTo>
                <a:lnTo>
                  <a:pt x="15589250" y="12712699"/>
                </a:lnTo>
                <a:lnTo>
                  <a:pt x="15627350" y="12855575"/>
                </a:lnTo>
                <a:lnTo>
                  <a:pt x="15703550" y="13125449"/>
                </a:lnTo>
                <a:lnTo>
                  <a:pt x="15738475" y="13252449"/>
                </a:lnTo>
                <a:lnTo>
                  <a:pt x="15770225" y="13369923"/>
                </a:lnTo>
                <a:lnTo>
                  <a:pt x="15795625" y="13484223"/>
                </a:lnTo>
                <a:lnTo>
                  <a:pt x="15817850" y="13585823"/>
                </a:lnTo>
                <a:lnTo>
                  <a:pt x="15821025" y="13630275"/>
                </a:lnTo>
                <a:lnTo>
                  <a:pt x="15817850" y="13677899"/>
                </a:lnTo>
                <a:lnTo>
                  <a:pt x="15808325" y="13725523"/>
                </a:lnTo>
                <a:lnTo>
                  <a:pt x="15795625" y="13776323"/>
                </a:lnTo>
                <a:lnTo>
                  <a:pt x="15776575" y="13830299"/>
                </a:lnTo>
                <a:lnTo>
                  <a:pt x="15751175" y="13887449"/>
                </a:lnTo>
                <a:lnTo>
                  <a:pt x="15725775" y="13944599"/>
                </a:lnTo>
                <a:lnTo>
                  <a:pt x="15694025" y="14008099"/>
                </a:lnTo>
                <a:lnTo>
                  <a:pt x="15617825" y="14131923"/>
                </a:lnTo>
                <a:lnTo>
                  <a:pt x="15535275" y="14268449"/>
                </a:lnTo>
                <a:lnTo>
                  <a:pt x="15440025" y="14408149"/>
                </a:lnTo>
                <a:lnTo>
                  <a:pt x="15341600" y="14551023"/>
                </a:lnTo>
                <a:lnTo>
                  <a:pt x="15243175" y="14703423"/>
                </a:lnTo>
                <a:lnTo>
                  <a:pt x="15141575" y="14855823"/>
                </a:lnTo>
                <a:lnTo>
                  <a:pt x="15043150" y="15011399"/>
                </a:lnTo>
                <a:lnTo>
                  <a:pt x="14995525" y="15090775"/>
                </a:lnTo>
                <a:lnTo>
                  <a:pt x="14951075" y="15170149"/>
                </a:lnTo>
                <a:lnTo>
                  <a:pt x="14909800" y="15249523"/>
                </a:lnTo>
                <a:lnTo>
                  <a:pt x="14868525" y="15328899"/>
                </a:lnTo>
                <a:lnTo>
                  <a:pt x="14833600" y="15411449"/>
                </a:lnTo>
                <a:lnTo>
                  <a:pt x="14798675" y="15490823"/>
                </a:lnTo>
                <a:lnTo>
                  <a:pt x="14770100" y="15570199"/>
                </a:lnTo>
                <a:lnTo>
                  <a:pt x="14744700" y="15649575"/>
                </a:lnTo>
                <a:lnTo>
                  <a:pt x="14722475" y="15728949"/>
                </a:lnTo>
                <a:lnTo>
                  <a:pt x="14706600" y="15808323"/>
                </a:lnTo>
                <a:lnTo>
                  <a:pt x="14671675" y="15986123"/>
                </a:lnTo>
                <a:lnTo>
                  <a:pt x="14636750" y="16151223"/>
                </a:lnTo>
                <a:lnTo>
                  <a:pt x="14598650" y="16300449"/>
                </a:lnTo>
                <a:lnTo>
                  <a:pt x="14563725" y="16436975"/>
                </a:lnTo>
                <a:lnTo>
                  <a:pt x="14522450" y="16560799"/>
                </a:lnTo>
                <a:lnTo>
                  <a:pt x="14484350" y="16675099"/>
                </a:lnTo>
                <a:lnTo>
                  <a:pt x="14446250" y="16773523"/>
                </a:lnTo>
                <a:lnTo>
                  <a:pt x="14404975" y="16865599"/>
                </a:lnTo>
                <a:lnTo>
                  <a:pt x="14363700" y="16944975"/>
                </a:lnTo>
                <a:lnTo>
                  <a:pt x="14325600" y="17014823"/>
                </a:lnTo>
                <a:lnTo>
                  <a:pt x="14284325" y="17078323"/>
                </a:lnTo>
                <a:lnTo>
                  <a:pt x="14243050" y="17132299"/>
                </a:lnTo>
                <a:lnTo>
                  <a:pt x="14204950" y="17176749"/>
                </a:lnTo>
                <a:lnTo>
                  <a:pt x="14163675" y="17218023"/>
                </a:lnTo>
                <a:lnTo>
                  <a:pt x="14125575" y="17249775"/>
                </a:lnTo>
                <a:lnTo>
                  <a:pt x="14087475" y="17278349"/>
                </a:lnTo>
                <a:lnTo>
                  <a:pt x="14049375" y="17300575"/>
                </a:lnTo>
                <a:lnTo>
                  <a:pt x="14011275" y="17319623"/>
                </a:lnTo>
                <a:lnTo>
                  <a:pt x="13976350" y="17335499"/>
                </a:lnTo>
                <a:lnTo>
                  <a:pt x="13941425" y="17348199"/>
                </a:lnTo>
                <a:lnTo>
                  <a:pt x="13877925" y="17370423"/>
                </a:lnTo>
                <a:lnTo>
                  <a:pt x="13820775" y="17386299"/>
                </a:lnTo>
                <a:lnTo>
                  <a:pt x="13795375" y="17392649"/>
                </a:lnTo>
                <a:lnTo>
                  <a:pt x="13769975" y="17402175"/>
                </a:lnTo>
                <a:lnTo>
                  <a:pt x="13750925" y="17414875"/>
                </a:lnTo>
                <a:lnTo>
                  <a:pt x="13731875" y="17427575"/>
                </a:lnTo>
                <a:lnTo>
                  <a:pt x="13716000" y="17443449"/>
                </a:lnTo>
                <a:lnTo>
                  <a:pt x="13700125" y="17465675"/>
                </a:lnTo>
                <a:lnTo>
                  <a:pt x="13690600" y="17491075"/>
                </a:lnTo>
                <a:lnTo>
                  <a:pt x="13681075" y="17519649"/>
                </a:lnTo>
                <a:lnTo>
                  <a:pt x="13671550" y="17570449"/>
                </a:lnTo>
                <a:lnTo>
                  <a:pt x="13884275" y="17583149"/>
                </a:lnTo>
                <a:lnTo>
                  <a:pt x="14093825" y="17595849"/>
                </a:lnTo>
                <a:lnTo>
                  <a:pt x="14303375" y="17611723"/>
                </a:lnTo>
                <a:lnTo>
                  <a:pt x="14512925" y="17633949"/>
                </a:lnTo>
                <a:lnTo>
                  <a:pt x="14722475" y="17652999"/>
                </a:lnTo>
                <a:lnTo>
                  <a:pt x="14928850" y="17678399"/>
                </a:lnTo>
                <a:lnTo>
                  <a:pt x="15135225" y="17706975"/>
                </a:lnTo>
                <a:lnTo>
                  <a:pt x="15341600" y="17735549"/>
                </a:lnTo>
                <a:lnTo>
                  <a:pt x="15395575" y="17681575"/>
                </a:lnTo>
                <a:lnTo>
                  <a:pt x="15424150" y="17652999"/>
                </a:lnTo>
                <a:lnTo>
                  <a:pt x="15455900" y="17627599"/>
                </a:lnTo>
                <a:lnTo>
                  <a:pt x="15490825" y="17605375"/>
                </a:lnTo>
                <a:lnTo>
                  <a:pt x="15525750" y="17583149"/>
                </a:lnTo>
                <a:lnTo>
                  <a:pt x="15563850" y="17560923"/>
                </a:lnTo>
                <a:lnTo>
                  <a:pt x="15601950" y="17541875"/>
                </a:lnTo>
                <a:lnTo>
                  <a:pt x="15636875" y="17522823"/>
                </a:lnTo>
                <a:lnTo>
                  <a:pt x="15678150" y="17500599"/>
                </a:lnTo>
                <a:lnTo>
                  <a:pt x="15719425" y="17468849"/>
                </a:lnTo>
                <a:lnTo>
                  <a:pt x="15763875" y="17430749"/>
                </a:lnTo>
                <a:lnTo>
                  <a:pt x="15808325" y="17389475"/>
                </a:lnTo>
                <a:lnTo>
                  <a:pt x="15859125" y="17341849"/>
                </a:lnTo>
                <a:lnTo>
                  <a:pt x="15906750" y="17287875"/>
                </a:lnTo>
                <a:lnTo>
                  <a:pt x="15960725" y="17230723"/>
                </a:lnTo>
                <a:lnTo>
                  <a:pt x="16065500" y="17103723"/>
                </a:lnTo>
                <a:lnTo>
                  <a:pt x="16173450" y="16964023"/>
                </a:lnTo>
                <a:lnTo>
                  <a:pt x="16281400" y="16808449"/>
                </a:lnTo>
                <a:lnTo>
                  <a:pt x="16389350" y="16643349"/>
                </a:lnTo>
                <a:lnTo>
                  <a:pt x="16494125" y="16471899"/>
                </a:lnTo>
                <a:lnTo>
                  <a:pt x="16544925" y="16382999"/>
                </a:lnTo>
                <a:lnTo>
                  <a:pt x="16592550" y="16294099"/>
                </a:lnTo>
                <a:lnTo>
                  <a:pt x="16637000" y="16202023"/>
                </a:lnTo>
                <a:lnTo>
                  <a:pt x="16681450" y="16113123"/>
                </a:lnTo>
                <a:lnTo>
                  <a:pt x="16722725" y="16021049"/>
                </a:lnTo>
                <a:lnTo>
                  <a:pt x="16764000" y="15932149"/>
                </a:lnTo>
                <a:lnTo>
                  <a:pt x="16798924" y="15843249"/>
                </a:lnTo>
                <a:lnTo>
                  <a:pt x="16830676" y="15751175"/>
                </a:lnTo>
                <a:lnTo>
                  <a:pt x="16862424" y="15665449"/>
                </a:lnTo>
                <a:lnTo>
                  <a:pt x="16887824" y="15576549"/>
                </a:lnTo>
                <a:lnTo>
                  <a:pt x="16910050" y="15490823"/>
                </a:lnTo>
                <a:lnTo>
                  <a:pt x="16925924" y="15408275"/>
                </a:lnTo>
                <a:lnTo>
                  <a:pt x="16938624" y="15328899"/>
                </a:lnTo>
                <a:lnTo>
                  <a:pt x="16948150" y="15249523"/>
                </a:lnTo>
                <a:lnTo>
                  <a:pt x="16957676" y="15109823"/>
                </a:lnTo>
                <a:lnTo>
                  <a:pt x="16957676" y="14976475"/>
                </a:lnTo>
                <a:lnTo>
                  <a:pt x="16954500" y="14846299"/>
                </a:lnTo>
                <a:lnTo>
                  <a:pt x="16944976" y="14722475"/>
                </a:lnTo>
                <a:lnTo>
                  <a:pt x="16929100" y="14601823"/>
                </a:lnTo>
                <a:lnTo>
                  <a:pt x="16910050" y="14487523"/>
                </a:lnTo>
                <a:lnTo>
                  <a:pt x="16884650" y="14379575"/>
                </a:lnTo>
                <a:lnTo>
                  <a:pt x="16856076" y="14274799"/>
                </a:lnTo>
                <a:lnTo>
                  <a:pt x="16824324" y="14173199"/>
                </a:lnTo>
                <a:lnTo>
                  <a:pt x="16786224" y="14077949"/>
                </a:lnTo>
                <a:lnTo>
                  <a:pt x="16744950" y="13982699"/>
                </a:lnTo>
                <a:lnTo>
                  <a:pt x="16700500" y="13893799"/>
                </a:lnTo>
                <a:lnTo>
                  <a:pt x="16652875" y="13808075"/>
                </a:lnTo>
                <a:lnTo>
                  <a:pt x="16602075" y="13725523"/>
                </a:lnTo>
                <a:lnTo>
                  <a:pt x="16551275" y="13646149"/>
                </a:lnTo>
                <a:lnTo>
                  <a:pt x="16497300" y="13566775"/>
                </a:lnTo>
                <a:lnTo>
                  <a:pt x="16440150" y="13493749"/>
                </a:lnTo>
                <a:lnTo>
                  <a:pt x="16383000" y="13420723"/>
                </a:lnTo>
                <a:lnTo>
                  <a:pt x="16322675" y="13350875"/>
                </a:lnTo>
                <a:lnTo>
                  <a:pt x="16262350" y="13284199"/>
                </a:lnTo>
                <a:lnTo>
                  <a:pt x="16138525" y="13154023"/>
                </a:lnTo>
                <a:lnTo>
                  <a:pt x="16014700" y="13030199"/>
                </a:lnTo>
                <a:lnTo>
                  <a:pt x="15773400" y="12795249"/>
                </a:lnTo>
                <a:lnTo>
                  <a:pt x="15659100" y="12677775"/>
                </a:lnTo>
                <a:lnTo>
                  <a:pt x="15605125" y="12620623"/>
                </a:lnTo>
                <a:lnTo>
                  <a:pt x="15554325" y="12563475"/>
                </a:lnTo>
                <a:close/>
                <a:moveTo>
                  <a:pt x="11728454" y="11757023"/>
                </a:moveTo>
                <a:lnTo>
                  <a:pt x="11722104" y="11817349"/>
                </a:lnTo>
                <a:lnTo>
                  <a:pt x="11718929" y="11874499"/>
                </a:lnTo>
                <a:lnTo>
                  <a:pt x="11722104" y="11934823"/>
                </a:lnTo>
                <a:lnTo>
                  <a:pt x="11728454" y="11988799"/>
                </a:lnTo>
                <a:lnTo>
                  <a:pt x="11741154" y="12045949"/>
                </a:lnTo>
                <a:lnTo>
                  <a:pt x="11757029" y="12103099"/>
                </a:lnTo>
                <a:lnTo>
                  <a:pt x="11776079" y="12157075"/>
                </a:lnTo>
                <a:lnTo>
                  <a:pt x="11798304" y="12214223"/>
                </a:lnTo>
                <a:lnTo>
                  <a:pt x="11823704" y="12271375"/>
                </a:lnTo>
                <a:lnTo>
                  <a:pt x="11852279" y="12328523"/>
                </a:lnTo>
                <a:lnTo>
                  <a:pt x="11915779" y="12445999"/>
                </a:lnTo>
                <a:lnTo>
                  <a:pt x="12055479" y="12703175"/>
                </a:lnTo>
                <a:lnTo>
                  <a:pt x="12128504" y="12842875"/>
                </a:lnTo>
                <a:lnTo>
                  <a:pt x="12166604" y="12919075"/>
                </a:lnTo>
                <a:lnTo>
                  <a:pt x="12201529" y="12998449"/>
                </a:lnTo>
                <a:lnTo>
                  <a:pt x="12236454" y="13080999"/>
                </a:lnTo>
                <a:lnTo>
                  <a:pt x="12268204" y="13166723"/>
                </a:lnTo>
                <a:lnTo>
                  <a:pt x="12299954" y="13258799"/>
                </a:lnTo>
                <a:lnTo>
                  <a:pt x="12331704" y="13350875"/>
                </a:lnTo>
                <a:lnTo>
                  <a:pt x="12357104" y="13452475"/>
                </a:lnTo>
                <a:lnTo>
                  <a:pt x="12382504" y="13557249"/>
                </a:lnTo>
                <a:lnTo>
                  <a:pt x="12404729" y="13665199"/>
                </a:lnTo>
                <a:lnTo>
                  <a:pt x="12420604" y="13779499"/>
                </a:lnTo>
                <a:lnTo>
                  <a:pt x="12436479" y="13900149"/>
                </a:lnTo>
                <a:lnTo>
                  <a:pt x="12446004" y="14027149"/>
                </a:lnTo>
                <a:lnTo>
                  <a:pt x="12452354" y="14160499"/>
                </a:lnTo>
                <a:lnTo>
                  <a:pt x="12452354" y="14300199"/>
                </a:lnTo>
                <a:lnTo>
                  <a:pt x="12452354" y="14481175"/>
                </a:lnTo>
                <a:lnTo>
                  <a:pt x="12455529" y="14658975"/>
                </a:lnTo>
                <a:lnTo>
                  <a:pt x="12465054" y="14830423"/>
                </a:lnTo>
                <a:lnTo>
                  <a:pt x="12474579" y="14995523"/>
                </a:lnTo>
                <a:lnTo>
                  <a:pt x="12487279" y="15154275"/>
                </a:lnTo>
                <a:lnTo>
                  <a:pt x="12503154" y="15306675"/>
                </a:lnTo>
                <a:lnTo>
                  <a:pt x="12519029" y="15452723"/>
                </a:lnTo>
                <a:lnTo>
                  <a:pt x="12538079" y="15595599"/>
                </a:lnTo>
                <a:lnTo>
                  <a:pt x="12557129" y="15728949"/>
                </a:lnTo>
                <a:lnTo>
                  <a:pt x="12579354" y="15859123"/>
                </a:lnTo>
                <a:lnTo>
                  <a:pt x="12623804" y="16103599"/>
                </a:lnTo>
                <a:lnTo>
                  <a:pt x="12665079" y="16325849"/>
                </a:lnTo>
                <a:lnTo>
                  <a:pt x="12706354" y="16525875"/>
                </a:lnTo>
                <a:lnTo>
                  <a:pt x="12741279" y="16706849"/>
                </a:lnTo>
                <a:lnTo>
                  <a:pt x="12769854" y="16868775"/>
                </a:lnTo>
                <a:lnTo>
                  <a:pt x="12779379" y="16941799"/>
                </a:lnTo>
                <a:lnTo>
                  <a:pt x="12785729" y="17011649"/>
                </a:lnTo>
                <a:lnTo>
                  <a:pt x="12788904" y="17075149"/>
                </a:lnTo>
                <a:lnTo>
                  <a:pt x="12785729" y="17135475"/>
                </a:lnTo>
                <a:lnTo>
                  <a:pt x="12782554" y="17189449"/>
                </a:lnTo>
                <a:lnTo>
                  <a:pt x="12773029" y="17240249"/>
                </a:lnTo>
                <a:lnTo>
                  <a:pt x="12757154" y="17284699"/>
                </a:lnTo>
                <a:lnTo>
                  <a:pt x="12738104" y="17325975"/>
                </a:lnTo>
                <a:lnTo>
                  <a:pt x="12712704" y="17364075"/>
                </a:lnTo>
                <a:lnTo>
                  <a:pt x="12680954" y="17395823"/>
                </a:lnTo>
                <a:lnTo>
                  <a:pt x="12642854" y="17424399"/>
                </a:lnTo>
                <a:lnTo>
                  <a:pt x="12601579" y="17449799"/>
                </a:lnTo>
                <a:lnTo>
                  <a:pt x="12550779" y="17475199"/>
                </a:lnTo>
                <a:lnTo>
                  <a:pt x="12506329" y="17503775"/>
                </a:lnTo>
                <a:lnTo>
                  <a:pt x="12465054" y="17532349"/>
                </a:lnTo>
                <a:lnTo>
                  <a:pt x="12430129" y="17564099"/>
                </a:lnTo>
                <a:lnTo>
                  <a:pt x="12658729" y="17557749"/>
                </a:lnTo>
                <a:lnTo>
                  <a:pt x="12687304" y="17525999"/>
                </a:lnTo>
                <a:lnTo>
                  <a:pt x="12715879" y="17497423"/>
                </a:lnTo>
                <a:lnTo>
                  <a:pt x="12747629" y="17468849"/>
                </a:lnTo>
                <a:lnTo>
                  <a:pt x="12782554" y="17440275"/>
                </a:lnTo>
                <a:lnTo>
                  <a:pt x="12817479" y="17414875"/>
                </a:lnTo>
                <a:lnTo>
                  <a:pt x="12855579" y="17389475"/>
                </a:lnTo>
                <a:lnTo>
                  <a:pt x="12893679" y="17367249"/>
                </a:lnTo>
                <a:lnTo>
                  <a:pt x="12934954" y="17345023"/>
                </a:lnTo>
                <a:lnTo>
                  <a:pt x="12973050" y="17325975"/>
                </a:lnTo>
                <a:lnTo>
                  <a:pt x="13011150" y="17300575"/>
                </a:lnTo>
                <a:lnTo>
                  <a:pt x="13052425" y="17265649"/>
                </a:lnTo>
                <a:lnTo>
                  <a:pt x="13096875" y="17224375"/>
                </a:lnTo>
                <a:lnTo>
                  <a:pt x="13144500" y="17179923"/>
                </a:lnTo>
                <a:lnTo>
                  <a:pt x="13192125" y="17125949"/>
                </a:lnTo>
                <a:lnTo>
                  <a:pt x="13242925" y="17065623"/>
                </a:lnTo>
                <a:lnTo>
                  <a:pt x="13293725" y="17002123"/>
                </a:lnTo>
                <a:lnTo>
                  <a:pt x="13344525" y="16932275"/>
                </a:lnTo>
                <a:lnTo>
                  <a:pt x="13398500" y="16859249"/>
                </a:lnTo>
                <a:lnTo>
                  <a:pt x="13506450" y="16700499"/>
                </a:lnTo>
                <a:lnTo>
                  <a:pt x="13617575" y="16525875"/>
                </a:lnTo>
                <a:lnTo>
                  <a:pt x="13722350" y="16341723"/>
                </a:lnTo>
                <a:lnTo>
                  <a:pt x="13827125" y="16151223"/>
                </a:lnTo>
                <a:lnTo>
                  <a:pt x="13925550" y="15954375"/>
                </a:lnTo>
                <a:lnTo>
                  <a:pt x="13973175" y="15855949"/>
                </a:lnTo>
                <a:lnTo>
                  <a:pt x="14014450" y="15757523"/>
                </a:lnTo>
                <a:lnTo>
                  <a:pt x="14058900" y="15655923"/>
                </a:lnTo>
                <a:lnTo>
                  <a:pt x="14097000" y="15560675"/>
                </a:lnTo>
                <a:lnTo>
                  <a:pt x="14131925" y="15462249"/>
                </a:lnTo>
                <a:lnTo>
                  <a:pt x="14166850" y="15366999"/>
                </a:lnTo>
                <a:lnTo>
                  <a:pt x="14195425" y="15271749"/>
                </a:lnTo>
                <a:lnTo>
                  <a:pt x="14220825" y="15179675"/>
                </a:lnTo>
                <a:lnTo>
                  <a:pt x="14243050" y="15090775"/>
                </a:lnTo>
                <a:lnTo>
                  <a:pt x="14262100" y="15005049"/>
                </a:lnTo>
                <a:lnTo>
                  <a:pt x="14274800" y="14922499"/>
                </a:lnTo>
                <a:lnTo>
                  <a:pt x="14281150" y="14843123"/>
                </a:lnTo>
                <a:lnTo>
                  <a:pt x="14290675" y="14709775"/>
                </a:lnTo>
                <a:lnTo>
                  <a:pt x="14290675" y="14579599"/>
                </a:lnTo>
                <a:lnTo>
                  <a:pt x="14287500" y="14452599"/>
                </a:lnTo>
                <a:lnTo>
                  <a:pt x="14281150" y="14331949"/>
                </a:lnTo>
                <a:lnTo>
                  <a:pt x="14265275" y="14217649"/>
                </a:lnTo>
                <a:lnTo>
                  <a:pt x="14246225" y="14106523"/>
                </a:lnTo>
                <a:lnTo>
                  <a:pt x="14224000" y="13998575"/>
                </a:lnTo>
                <a:lnTo>
                  <a:pt x="14198600" y="13896975"/>
                </a:lnTo>
                <a:lnTo>
                  <a:pt x="14166850" y="13795375"/>
                </a:lnTo>
                <a:lnTo>
                  <a:pt x="14131925" y="13700123"/>
                </a:lnTo>
                <a:lnTo>
                  <a:pt x="14093825" y="13611223"/>
                </a:lnTo>
                <a:lnTo>
                  <a:pt x="14052550" y="13522323"/>
                </a:lnTo>
                <a:lnTo>
                  <a:pt x="14008100" y="13436599"/>
                </a:lnTo>
                <a:lnTo>
                  <a:pt x="13960475" y="13357223"/>
                </a:lnTo>
                <a:lnTo>
                  <a:pt x="13909675" y="13277849"/>
                </a:lnTo>
                <a:lnTo>
                  <a:pt x="13858875" y="13201649"/>
                </a:lnTo>
                <a:lnTo>
                  <a:pt x="13804900" y="13128623"/>
                </a:lnTo>
                <a:lnTo>
                  <a:pt x="13747750" y="13055599"/>
                </a:lnTo>
                <a:lnTo>
                  <a:pt x="13690600" y="12988923"/>
                </a:lnTo>
                <a:lnTo>
                  <a:pt x="13633450" y="12922249"/>
                </a:lnTo>
                <a:lnTo>
                  <a:pt x="13515975" y="12792075"/>
                </a:lnTo>
                <a:lnTo>
                  <a:pt x="13395325" y="12671423"/>
                </a:lnTo>
                <a:lnTo>
                  <a:pt x="13157200" y="12439649"/>
                </a:lnTo>
                <a:lnTo>
                  <a:pt x="13046075" y="12328523"/>
                </a:lnTo>
                <a:lnTo>
                  <a:pt x="12938129" y="12217399"/>
                </a:lnTo>
                <a:lnTo>
                  <a:pt x="12792079" y="12182475"/>
                </a:lnTo>
                <a:lnTo>
                  <a:pt x="12642854" y="12141199"/>
                </a:lnTo>
                <a:lnTo>
                  <a:pt x="12493629" y="12093575"/>
                </a:lnTo>
                <a:lnTo>
                  <a:pt x="12341229" y="12039599"/>
                </a:lnTo>
                <a:lnTo>
                  <a:pt x="12188829" y="11979275"/>
                </a:lnTo>
                <a:lnTo>
                  <a:pt x="12036429" y="11912599"/>
                </a:lnTo>
                <a:lnTo>
                  <a:pt x="11884029" y="11836399"/>
                </a:lnTo>
                <a:lnTo>
                  <a:pt x="11728454" y="11757023"/>
                </a:lnTo>
                <a:close/>
                <a:moveTo>
                  <a:pt x="11652254" y="0"/>
                </a:moveTo>
                <a:lnTo>
                  <a:pt x="11699879" y="0"/>
                </a:lnTo>
                <a:lnTo>
                  <a:pt x="11744329" y="0"/>
                </a:lnTo>
                <a:lnTo>
                  <a:pt x="11791954" y="6350"/>
                </a:lnTo>
                <a:lnTo>
                  <a:pt x="11833229" y="12700"/>
                </a:lnTo>
                <a:lnTo>
                  <a:pt x="11918954" y="31750"/>
                </a:lnTo>
                <a:lnTo>
                  <a:pt x="12084054" y="76204"/>
                </a:lnTo>
                <a:lnTo>
                  <a:pt x="12169779" y="95251"/>
                </a:lnTo>
                <a:lnTo>
                  <a:pt x="12214229" y="104776"/>
                </a:lnTo>
                <a:lnTo>
                  <a:pt x="12258679" y="111126"/>
                </a:lnTo>
                <a:lnTo>
                  <a:pt x="12306304" y="114301"/>
                </a:lnTo>
                <a:lnTo>
                  <a:pt x="12350754" y="114301"/>
                </a:lnTo>
                <a:lnTo>
                  <a:pt x="12395204" y="111126"/>
                </a:lnTo>
                <a:lnTo>
                  <a:pt x="12436479" y="107951"/>
                </a:lnTo>
                <a:lnTo>
                  <a:pt x="12519029" y="92076"/>
                </a:lnTo>
                <a:lnTo>
                  <a:pt x="12598404" y="69854"/>
                </a:lnTo>
                <a:lnTo>
                  <a:pt x="12677779" y="50803"/>
                </a:lnTo>
                <a:lnTo>
                  <a:pt x="12757154" y="34925"/>
                </a:lnTo>
                <a:lnTo>
                  <a:pt x="12798429" y="31750"/>
                </a:lnTo>
                <a:lnTo>
                  <a:pt x="12839704" y="28575"/>
                </a:lnTo>
                <a:lnTo>
                  <a:pt x="12884154" y="28575"/>
                </a:lnTo>
                <a:lnTo>
                  <a:pt x="12928604" y="34925"/>
                </a:lnTo>
                <a:lnTo>
                  <a:pt x="12966700" y="41277"/>
                </a:lnTo>
                <a:lnTo>
                  <a:pt x="13001625" y="47628"/>
                </a:lnTo>
                <a:lnTo>
                  <a:pt x="13033375" y="57153"/>
                </a:lnTo>
                <a:lnTo>
                  <a:pt x="13065125" y="69854"/>
                </a:lnTo>
                <a:lnTo>
                  <a:pt x="13115925" y="95251"/>
                </a:lnTo>
                <a:lnTo>
                  <a:pt x="13163550" y="123826"/>
                </a:lnTo>
                <a:lnTo>
                  <a:pt x="13211175" y="152404"/>
                </a:lnTo>
                <a:lnTo>
                  <a:pt x="13258800" y="180979"/>
                </a:lnTo>
                <a:lnTo>
                  <a:pt x="13309600" y="206376"/>
                </a:lnTo>
                <a:lnTo>
                  <a:pt x="13338175" y="215901"/>
                </a:lnTo>
                <a:lnTo>
                  <a:pt x="13369925" y="225426"/>
                </a:lnTo>
                <a:lnTo>
                  <a:pt x="13401675" y="234951"/>
                </a:lnTo>
                <a:lnTo>
                  <a:pt x="13433425" y="238128"/>
                </a:lnTo>
                <a:lnTo>
                  <a:pt x="13493750" y="241303"/>
                </a:lnTo>
                <a:lnTo>
                  <a:pt x="13550900" y="241303"/>
                </a:lnTo>
                <a:lnTo>
                  <a:pt x="13611225" y="238128"/>
                </a:lnTo>
                <a:lnTo>
                  <a:pt x="13671550" y="234951"/>
                </a:lnTo>
                <a:lnTo>
                  <a:pt x="13735050" y="234951"/>
                </a:lnTo>
                <a:lnTo>
                  <a:pt x="13769975" y="238128"/>
                </a:lnTo>
                <a:lnTo>
                  <a:pt x="13804900" y="244478"/>
                </a:lnTo>
                <a:lnTo>
                  <a:pt x="13839825" y="250829"/>
                </a:lnTo>
                <a:lnTo>
                  <a:pt x="13877925" y="260354"/>
                </a:lnTo>
                <a:lnTo>
                  <a:pt x="13909675" y="273054"/>
                </a:lnTo>
                <a:lnTo>
                  <a:pt x="13938250" y="285750"/>
                </a:lnTo>
                <a:lnTo>
                  <a:pt x="13963650" y="301625"/>
                </a:lnTo>
                <a:lnTo>
                  <a:pt x="13989050" y="317500"/>
                </a:lnTo>
                <a:lnTo>
                  <a:pt x="14033500" y="352429"/>
                </a:lnTo>
                <a:lnTo>
                  <a:pt x="14071600" y="393701"/>
                </a:lnTo>
                <a:lnTo>
                  <a:pt x="14112875" y="431802"/>
                </a:lnTo>
                <a:lnTo>
                  <a:pt x="14154150" y="473079"/>
                </a:lnTo>
                <a:lnTo>
                  <a:pt x="14176375" y="488951"/>
                </a:lnTo>
                <a:lnTo>
                  <a:pt x="14201775" y="508001"/>
                </a:lnTo>
                <a:lnTo>
                  <a:pt x="14230350" y="523876"/>
                </a:lnTo>
                <a:lnTo>
                  <a:pt x="14258925" y="539754"/>
                </a:lnTo>
                <a:lnTo>
                  <a:pt x="14303375" y="555629"/>
                </a:lnTo>
                <a:lnTo>
                  <a:pt x="14351000" y="571500"/>
                </a:lnTo>
                <a:lnTo>
                  <a:pt x="14462125" y="603250"/>
                </a:lnTo>
                <a:lnTo>
                  <a:pt x="14589125" y="644529"/>
                </a:lnTo>
                <a:lnTo>
                  <a:pt x="14662150" y="666751"/>
                </a:lnTo>
                <a:lnTo>
                  <a:pt x="14738350" y="695326"/>
                </a:lnTo>
                <a:lnTo>
                  <a:pt x="14824075" y="730254"/>
                </a:lnTo>
                <a:lnTo>
                  <a:pt x="14909800" y="768351"/>
                </a:lnTo>
                <a:lnTo>
                  <a:pt x="15005050" y="815978"/>
                </a:lnTo>
                <a:lnTo>
                  <a:pt x="15103475" y="873125"/>
                </a:lnTo>
                <a:lnTo>
                  <a:pt x="15211425" y="936629"/>
                </a:lnTo>
                <a:lnTo>
                  <a:pt x="15322550" y="1009652"/>
                </a:lnTo>
                <a:lnTo>
                  <a:pt x="15443200" y="1095375"/>
                </a:lnTo>
                <a:lnTo>
                  <a:pt x="15567025" y="1193800"/>
                </a:lnTo>
                <a:lnTo>
                  <a:pt x="15652750" y="1266824"/>
                </a:lnTo>
                <a:lnTo>
                  <a:pt x="15738475" y="1343025"/>
                </a:lnTo>
                <a:lnTo>
                  <a:pt x="15821025" y="1428749"/>
                </a:lnTo>
                <a:lnTo>
                  <a:pt x="15903575" y="1514475"/>
                </a:lnTo>
                <a:lnTo>
                  <a:pt x="15982950" y="1606549"/>
                </a:lnTo>
                <a:lnTo>
                  <a:pt x="16062325" y="1701799"/>
                </a:lnTo>
                <a:lnTo>
                  <a:pt x="16138525" y="1797050"/>
                </a:lnTo>
                <a:lnTo>
                  <a:pt x="16211550" y="1898649"/>
                </a:lnTo>
                <a:lnTo>
                  <a:pt x="16284575" y="2000249"/>
                </a:lnTo>
                <a:lnTo>
                  <a:pt x="16354425" y="2101850"/>
                </a:lnTo>
                <a:lnTo>
                  <a:pt x="16421100" y="2206625"/>
                </a:lnTo>
                <a:lnTo>
                  <a:pt x="16484600" y="2311399"/>
                </a:lnTo>
                <a:lnTo>
                  <a:pt x="16548100" y="2416174"/>
                </a:lnTo>
                <a:lnTo>
                  <a:pt x="16608425" y="2517775"/>
                </a:lnTo>
                <a:lnTo>
                  <a:pt x="16665575" y="2622550"/>
                </a:lnTo>
                <a:lnTo>
                  <a:pt x="16719550" y="2724149"/>
                </a:lnTo>
                <a:lnTo>
                  <a:pt x="16814800" y="2917825"/>
                </a:lnTo>
                <a:lnTo>
                  <a:pt x="16900524" y="3101974"/>
                </a:lnTo>
                <a:lnTo>
                  <a:pt x="16970376" y="3267074"/>
                </a:lnTo>
                <a:lnTo>
                  <a:pt x="17024350" y="3416299"/>
                </a:lnTo>
                <a:lnTo>
                  <a:pt x="17046576" y="3479800"/>
                </a:lnTo>
                <a:lnTo>
                  <a:pt x="17062450" y="3536950"/>
                </a:lnTo>
                <a:lnTo>
                  <a:pt x="17075150" y="3587749"/>
                </a:lnTo>
                <a:lnTo>
                  <a:pt x="17084676" y="3632200"/>
                </a:lnTo>
                <a:lnTo>
                  <a:pt x="17087850" y="3667125"/>
                </a:lnTo>
                <a:lnTo>
                  <a:pt x="17087850" y="3692524"/>
                </a:lnTo>
                <a:lnTo>
                  <a:pt x="17081500" y="3711574"/>
                </a:lnTo>
                <a:lnTo>
                  <a:pt x="17078324" y="3717924"/>
                </a:lnTo>
                <a:lnTo>
                  <a:pt x="17071976" y="3721099"/>
                </a:lnTo>
                <a:lnTo>
                  <a:pt x="17056100" y="3717924"/>
                </a:lnTo>
                <a:lnTo>
                  <a:pt x="17043400" y="3711574"/>
                </a:lnTo>
                <a:lnTo>
                  <a:pt x="17024350" y="3695699"/>
                </a:lnTo>
                <a:lnTo>
                  <a:pt x="17005300" y="3673474"/>
                </a:lnTo>
                <a:lnTo>
                  <a:pt x="16986250" y="3648075"/>
                </a:lnTo>
                <a:lnTo>
                  <a:pt x="16964024" y="3613149"/>
                </a:lnTo>
                <a:lnTo>
                  <a:pt x="16916400" y="3527425"/>
                </a:lnTo>
                <a:lnTo>
                  <a:pt x="16792576" y="3301999"/>
                </a:lnTo>
                <a:lnTo>
                  <a:pt x="16719550" y="3165474"/>
                </a:lnTo>
                <a:lnTo>
                  <a:pt x="16633825" y="3016249"/>
                </a:lnTo>
                <a:lnTo>
                  <a:pt x="16541750" y="2857499"/>
                </a:lnTo>
                <a:lnTo>
                  <a:pt x="16436975" y="2692399"/>
                </a:lnTo>
                <a:lnTo>
                  <a:pt x="16379825" y="2609849"/>
                </a:lnTo>
                <a:lnTo>
                  <a:pt x="16319500" y="2524125"/>
                </a:lnTo>
                <a:lnTo>
                  <a:pt x="16259175" y="2441574"/>
                </a:lnTo>
                <a:lnTo>
                  <a:pt x="16192500" y="2355850"/>
                </a:lnTo>
                <a:lnTo>
                  <a:pt x="16125825" y="2270124"/>
                </a:lnTo>
                <a:lnTo>
                  <a:pt x="16052800" y="2187574"/>
                </a:lnTo>
                <a:lnTo>
                  <a:pt x="15979775" y="2105024"/>
                </a:lnTo>
                <a:lnTo>
                  <a:pt x="15900400" y="2022474"/>
                </a:lnTo>
                <a:lnTo>
                  <a:pt x="15821025" y="1943100"/>
                </a:lnTo>
                <a:lnTo>
                  <a:pt x="15735300" y="1866899"/>
                </a:lnTo>
                <a:lnTo>
                  <a:pt x="15646400" y="1790700"/>
                </a:lnTo>
                <a:lnTo>
                  <a:pt x="15554325" y="1717674"/>
                </a:lnTo>
                <a:lnTo>
                  <a:pt x="15481300" y="1663700"/>
                </a:lnTo>
                <a:lnTo>
                  <a:pt x="15398750" y="1606549"/>
                </a:lnTo>
                <a:lnTo>
                  <a:pt x="15316200" y="1552574"/>
                </a:lnTo>
                <a:lnTo>
                  <a:pt x="15227300" y="1498600"/>
                </a:lnTo>
                <a:lnTo>
                  <a:pt x="15135225" y="1444624"/>
                </a:lnTo>
                <a:lnTo>
                  <a:pt x="15039975" y="1390649"/>
                </a:lnTo>
                <a:lnTo>
                  <a:pt x="14938375" y="1339849"/>
                </a:lnTo>
                <a:lnTo>
                  <a:pt x="14836775" y="1289049"/>
                </a:lnTo>
                <a:lnTo>
                  <a:pt x="14732000" y="1241425"/>
                </a:lnTo>
                <a:lnTo>
                  <a:pt x="14620875" y="1193800"/>
                </a:lnTo>
                <a:lnTo>
                  <a:pt x="14509750" y="1146174"/>
                </a:lnTo>
                <a:lnTo>
                  <a:pt x="14395450" y="1104899"/>
                </a:lnTo>
                <a:lnTo>
                  <a:pt x="14277975" y="1060451"/>
                </a:lnTo>
                <a:lnTo>
                  <a:pt x="14157325" y="1022354"/>
                </a:lnTo>
                <a:lnTo>
                  <a:pt x="14036675" y="984251"/>
                </a:lnTo>
                <a:lnTo>
                  <a:pt x="13912850" y="949329"/>
                </a:lnTo>
                <a:lnTo>
                  <a:pt x="13785850" y="917578"/>
                </a:lnTo>
                <a:lnTo>
                  <a:pt x="13658850" y="889000"/>
                </a:lnTo>
                <a:lnTo>
                  <a:pt x="13528675" y="863600"/>
                </a:lnTo>
                <a:lnTo>
                  <a:pt x="13398500" y="841379"/>
                </a:lnTo>
                <a:lnTo>
                  <a:pt x="13268325" y="822328"/>
                </a:lnTo>
                <a:lnTo>
                  <a:pt x="13134975" y="806451"/>
                </a:lnTo>
                <a:lnTo>
                  <a:pt x="13004800" y="793751"/>
                </a:lnTo>
                <a:lnTo>
                  <a:pt x="12868279" y="787401"/>
                </a:lnTo>
                <a:lnTo>
                  <a:pt x="12734929" y="781051"/>
                </a:lnTo>
                <a:lnTo>
                  <a:pt x="12601579" y="781051"/>
                </a:lnTo>
                <a:lnTo>
                  <a:pt x="12468229" y="787401"/>
                </a:lnTo>
                <a:lnTo>
                  <a:pt x="12331704" y="793751"/>
                </a:lnTo>
                <a:lnTo>
                  <a:pt x="12198354" y="809626"/>
                </a:lnTo>
                <a:lnTo>
                  <a:pt x="12065004" y="828679"/>
                </a:lnTo>
                <a:lnTo>
                  <a:pt x="11931654" y="850904"/>
                </a:lnTo>
                <a:lnTo>
                  <a:pt x="11798304" y="879475"/>
                </a:lnTo>
                <a:lnTo>
                  <a:pt x="11849104" y="898525"/>
                </a:lnTo>
                <a:lnTo>
                  <a:pt x="11896729" y="923928"/>
                </a:lnTo>
                <a:lnTo>
                  <a:pt x="11988804" y="974726"/>
                </a:lnTo>
                <a:lnTo>
                  <a:pt x="12080879" y="1025529"/>
                </a:lnTo>
                <a:lnTo>
                  <a:pt x="12128504" y="1050929"/>
                </a:lnTo>
                <a:lnTo>
                  <a:pt x="12179304" y="1069976"/>
                </a:lnTo>
                <a:lnTo>
                  <a:pt x="12220579" y="1082675"/>
                </a:lnTo>
                <a:lnTo>
                  <a:pt x="12258679" y="1092200"/>
                </a:lnTo>
                <a:lnTo>
                  <a:pt x="12296779" y="1098550"/>
                </a:lnTo>
                <a:lnTo>
                  <a:pt x="12331704" y="1101724"/>
                </a:lnTo>
                <a:lnTo>
                  <a:pt x="12404729" y="1101724"/>
                </a:lnTo>
                <a:lnTo>
                  <a:pt x="12477754" y="1095375"/>
                </a:lnTo>
                <a:lnTo>
                  <a:pt x="12547604" y="1092200"/>
                </a:lnTo>
                <a:lnTo>
                  <a:pt x="12620629" y="1092200"/>
                </a:lnTo>
                <a:lnTo>
                  <a:pt x="12655554" y="1095375"/>
                </a:lnTo>
                <a:lnTo>
                  <a:pt x="12693654" y="1098550"/>
                </a:lnTo>
                <a:lnTo>
                  <a:pt x="12731754" y="1108074"/>
                </a:lnTo>
                <a:lnTo>
                  <a:pt x="12769854" y="1120774"/>
                </a:lnTo>
                <a:lnTo>
                  <a:pt x="12798429" y="1133474"/>
                </a:lnTo>
                <a:lnTo>
                  <a:pt x="12827004" y="1149349"/>
                </a:lnTo>
                <a:lnTo>
                  <a:pt x="12852404" y="1165224"/>
                </a:lnTo>
                <a:lnTo>
                  <a:pt x="12874629" y="1181099"/>
                </a:lnTo>
                <a:lnTo>
                  <a:pt x="12912729" y="1216025"/>
                </a:lnTo>
                <a:lnTo>
                  <a:pt x="12947654" y="1254125"/>
                </a:lnTo>
                <a:lnTo>
                  <a:pt x="12982575" y="1292224"/>
                </a:lnTo>
                <a:lnTo>
                  <a:pt x="13014325" y="1327149"/>
                </a:lnTo>
                <a:lnTo>
                  <a:pt x="13055600" y="1362075"/>
                </a:lnTo>
                <a:lnTo>
                  <a:pt x="13077825" y="1377950"/>
                </a:lnTo>
                <a:lnTo>
                  <a:pt x="13100050" y="1393824"/>
                </a:lnTo>
                <a:lnTo>
                  <a:pt x="13125450" y="1406524"/>
                </a:lnTo>
                <a:lnTo>
                  <a:pt x="13150850" y="1416049"/>
                </a:lnTo>
                <a:lnTo>
                  <a:pt x="13201650" y="1431924"/>
                </a:lnTo>
                <a:lnTo>
                  <a:pt x="13252450" y="1441449"/>
                </a:lnTo>
                <a:lnTo>
                  <a:pt x="13303250" y="1447799"/>
                </a:lnTo>
                <a:lnTo>
                  <a:pt x="13357225" y="1457324"/>
                </a:lnTo>
                <a:lnTo>
                  <a:pt x="13411200" y="1470024"/>
                </a:lnTo>
                <a:lnTo>
                  <a:pt x="13439775" y="1479550"/>
                </a:lnTo>
                <a:lnTo>
                  <a:pt x="13468350" y="1492250"/>
                </a:lnTo>
                <a:lnTo>
                  <a:pt x="13496925" y="1504950"/>
                </a:lnTo>
                <a:lnTo>
                  <a:pt x="13525500" y="1524000"/>
                </a:lnTo>
                <a:lnTo>
                  <a:pt x="13550900" y="1539874"/>
                </a:lnTo>
                <a:lnTo>
                  <a:pt x="13573125" y="1558924"/>
                </a:lnTo>
                <a:lnTo>
                  <a:pt x="13592175" y="1577974"/>
                </a:lnTo>
                <a:lnTo>
                  <a:pt x="13608050" y="1600199"/>
                </a:lnTo>
                <a:lnTo>
                  <a:pt x="13639800" y="1644650"/>
                </a:lnTo>
                <a:lnTo>
                  <a:pt x="13665200" y="1689099"/>
                </a:lnTo>
                <a:lnTo>
                  <a:pt x="13690600" y="1736724"/>
                </a:lnTo>
                <a:lnTo>
                  <a:pt x="13716000" y="1784350"/>
                </a:lnTo>
                <a:lnTo>
                  <a:pt x="13731875" y="1806575"/>
                </a:lnTo>
                <a:lnTo>
                  <a:pt x="13750925" y="1828799"/>
                </a:lnTo>
                <a:lnTo>
                  <a:pt x="13769975" y="1847849"/>
                </a:lnTo>
                <a:lnTo>
                  <a:pt x="13792200" y="1866899"/>
                </a:lnTo>
                <a:lnTo>
                  <a:pt x="13823950" y="1892299"/>
                </a:lnTo>
                <a:lnTo>
                  <a:pt x="13862050" y="1917700"/>
                </a:lnTo>
                <a:lnTo>
                  <a:pt x="13950950" y="1971674"/>
                </a:lnTo>
                <a:lnTo>
                  <a:pt x="14049375" y="2031999"/>
                </a:lnTo>
                <a:lnTo>
                  <a:pt x="14106525" y="2070100"/>
                </a:lnTo>
                <a:lnTo>
                  <a:pt x="14166850" y="2111374"/>
                </a:lnTo>
                <a:lnTo>
                  <a:pt x="14230350" y="2162174"/>
                </a:lnTo>
                <a:lnTo>
                  <a:pt x="14297025" y="2219325"/>
                </a:lnTo>
                <a:lnTo>
                  <a:pt x="14366875" y="2282824"/>
                </a:lnTo>
                <a:lnTo>
                  <a:pt x="14439900" y="2355850"/>
                </a:lnTo>
                <a:lnTo>
                  <a:pt x="14516100" y="2438399"/>
                </a:lnTo>
                <a:lnTo>
                  <a:pt x="14595475" y="2533649"/>
                </a:lnTo>
                <a:lnTo>
                  <a:pt x="14678025" y="2638425"/>
                </a:lnTo>
                <a:lnTo>
                  <a:pt x="14763750" y="2759074"/>
                </a:lnTo>
                <a:lnTo>
                  <a:pt x="14820900" y="2847974"/>
                </a:lnTo>
                <a:lnTo>
                  <a:pt x="14874875" y="2940050"/>
                </a:lnTo>
                <a:lnTo>
                  <a:pt x="14928850" y="3038474"/>
                </a:lnTo>
                <a:lnTo>
                  <a:pt x="14979650" y="3140074"/>
                </a:lnTo>
                <a:lnTo>
                  <a:pt x="15027275" y="3244850"/>
                </a:lnTo>
                <a:lnTo>
                  <a:pt x="15074900" y="3352800"/>
                </a:lnTo>
                <a:lnTo>
                  <a:pt x="15119350" y="3460751"/>
                </a:lnTo>
                <a:lnTo>
                  <a:pt x="15160625" y="3575049"/>
                </a:lnTo>
                <a:lnTo>
                  <a:pt x="15198725" y="3689349"/>
                </a:lnTo>
                <a:lnTo>
                  <a:pt x="15236825" y="3803650"/>
                </a:lnTo>
                <a:lnTo>
                  <a:pt x="15271750" y="3917950"/>
                </a:lnTo>
                <a:lnTo>
                  <a:pt x="15303500" y="4032251"/>
                </a:lnTo>
                <a:lnTo>
                  <a:pt x="15335250" y="4149724"/>
                </a:lnTo>
                <a:lnTo>
                  <a:pt x="15360650" y="4260849"/>
                </a:lnTo>
                <a:lnTo>
                  <a:pt x="15411450" y="4483100"/>
                </a:lnTo>
                <a:lnTo>
                  <a:pt x="15452725" y="4695825"/>
                </a:lnTo>
                <a:lnTo>
                  <a:pt x="15484475" y="4892676"/>
                </a:lnTo>
                <a:lnTo>
                  <a:pt x="15506700" y="5070475"/>
                </a:lnTo>
                <a:lnTo>
                  <a:pt x="15522575" y="5222874"/>
                </a:lnTo>
                <a:lnTo>
                  <a:pt x="15528925" y="5353050"/>
                </a:lnTo>
                <a:lnTo>
                  <a:pt x="15528925" y="5403849"/>
                </a:lnTo>
                <a:lnTo>
                  <a:pt x="15525750" y="5448301"/>
                </a:lnTo>
                <a:lnTo>
                  <a:pt x="15522575" y="5483224"/>
                </a:lnTo>
                <a:lnTo>
                  <a:pt x="15516225" y="5511799"/>
                </a:lnTo>
                <a:lnTo>
                  <a:pt x="15506700" y="5527674"/>
                </a:lnTo>
                <a:lnTo>
                  <a:pt x="15503525" y="5530849"/>
                </a:lnTo>
                <a:lnTo>
                  <a:pt x="15497175" y="5534024"/>
                </a:lnTo>
                <a:lnTo>
                  <a:pt x="15484475" y="5530849"/>
                </a:lnTo>
                <a:lnTo>
                  <a:pt x="15474950" y="5521324"/>
                </a:lnTo>
                <a:lnTo>
                  <a:pt x="15462250" y="5502274"/>
                </a:lnTo>
                <a:lnTo>
                  <a:pt x="15452725" y="5476874"/>
                </a:lnTo>
                <a:lnTo>
                  <a:pt x="15430500" y="5407024"/>
                </a:lnTo>
                <a:lnTo>
                  <a:pt x="15405100" y="5314949"/>
                </a:lnTo>
                <a:lnTo>
                  <a:pt x="15351125" y="5067300"/>
                </a:lnTo>
                <a:lnTo>
                  <a:pt x="15316200" y="4921249"/>
                </a:lnTo>
                <a:lnTo>
                  <a:pt x="15278100" y="4756149"/>
                </a:lnTo>
                <a:lnTo>
                  <a:pt x="15230475" y="4584701"/>
                </a:lnTo>
                <a:lnTo>
                  <a:pt x="15176500" y="4400550"/>
                </a:lnTo>
                <a:lnTo>
                  <a:pt x="15116175" y="4213225"/>
                </a:lnTo>
                <a:lnTo>
                  <a:pt x="15081250" y="4117975"/>
                </a:lnTo>
                <a:lnTo>
                  <a:pt x="15043150" y="4022726"/>
                </a:lnTo>
                <a:lnTo>
                  <a:pt x="15005050" y="3927475"/>
                </a:lnTo>
                <a:lnTo>
                  <a:pt x="14960600" y="3832225"/>
                </a:lnTo>
                <a:lnTo>
                  <a:pt x="14916150" y="3733799"/>
                </a:lnTo>
                <a:lnTo>
                  <a:pt x="14868525" y="3641725"/>
                </a:lnTo>
                <a:lnTo>
                  <a:pt x="14814550" y="3546475"/>
                </a:lnTo>
                <a:lnTo>
                  <a:pt x="14760575" y="3454399"/>
                </a:lnTo>
                <a:lnTo>
                  <a:pt x="14700250" y="3362325"/>
                </a:lnTo>
                <a:lnTo>
                  <a:pt x="14639925" y="3276599"/>
                </a:lnTo>
                <a:lnTo>
                  <a:pt x="14576425" y="3190875"/>
                </a:lnTo>
                <a:lnTo>
                  <a:pt x="14506575" y="3108324"/>
                </a:lnTo>
                <a:lnTo>
                  <a:pt x="14433550" y="3025774"/>
                </a:lnTo>
                <a:lnTo>
                  <a:pt x="14354175" y="2940050"/>
                </a:lnTo>
                <a:lnTo>
                  <a:pt x="14271625" y="2857499"/>
                </a:lnTo>
                <a:lnTo>
                  <a:pt x="14182725" y="2774950"/>
                </a:lnTo>
                <a:lnTo>
                  <a:pt x="14090650" y="2692399"/>
                </a:lnTo>
                <a:lnTo>
                  <a:pt x="13995400" y="2609849"/>
                </a:lnTo>
                <a:lnTo>
                  <a:pt x="13893800" y="2530474"/>
                </a:lnTo>
                <a:lnTo>
                  <a:pt x="13789025" y="2454274"/>
                </a:lnTo>
                <a:lnTo>
                  <a:pt x="13677900" y="2378075"/>
                </a:lnTo>
                <a:lnTo>
                  <a:pt x="13566775" y="2305049"/>
                </a:lnTo>
                <a:lnTo>
                  <a:pt x="13449300" y="2235200"/>
                </a:lnTo>
                <a:lnTo>
                  <a:pt x="13331825" y="2168524"/>
                </a:lnTo>
                <a:lnTo>
                  <a:pt x="13211175" y="2105024"/>
                </a:lnTo>
                <a:lnTo>
                  <a:pt x="13084175" y="2044699"/>
                </a:lnTo>
                <a:lnTo>
                  <a:pt x="12957175" y="1990724"/>
                </a:lnTo>
                <a:lnTo>
                  <a:pt x="12827004" y="1939925"/>
                </a:lnTo>
                <a:lnTo>
                  <a:pt x="12696829" y="1895474"/>
                </a:lnTo>
                <a:lnTo>
                  <a:pt x="12563479" y="1854199"/>
                </a:lnTo>
                <a:lnTo>
                  <a:pt x="12426954" y="1819274"/>
                </a:lnTo>
                <a:lnTo>
                  <a:pt x="12290429" y="1790700"/>
                </a:lnTo>
                <a:lnTo>
                  <a:pt x="12150729" y="1768475"/>
                </a:lnTo>
                <a:lnTo>
                  <a:pt x="12011029" y="1752599"/>
                </a:lnTo>
                <a:lnTo>
                  <a:pt x="11871329" y="1743074"/>
                </a:lnTo>
                <a:lnTo>
                  <a:pt x="11728454" y="1739899"/>
                </a:lnTo>
                <a:lnTo>
                  <a:pt x="11658604" y="1743074"/>
                </a:lnTo>
                <a:lnTo>
                  <a:pt x="11588754" y="1746249"/>
                </a:lnTo>
                <a:lnTo>
                  <a:pt x="11515729" y="1749424"/>
                </a:lnTo>
                <a:lnTo>
                  <a:pt x="11445879" y="1758949"/>
                </a:lnTo>
                <a:lnTo>
                  <a:pt x="11372854" y="1768475"/>
                </a:lnTo>
                <a:lnTo>
                  <a:pt x="11303004" y="1781175"/>
                </a:lnTo>
                <a:lnTo>
                  <a:pt x="11229979" y="1793875"/>
                </a:lnTo>
                <a:lnTo>
                  <a:pt x="11160129" y="1809750"/>
                </a:lnTo>
                <a:lnTo>
                  <a:pt x="11087104" y="1828799"/>
                </a:lnTo>
                <a:lnTo>
                  <a:pt x="11017254" y="1847849"/>
                </a:lnTo>
                <a:lnTo>
                  <a:pt x="10944229" y="1873249"/>
                </a:lnTo>
                <a:lnTo>
                  <a:pt x="10874379" y="1898649"/>
                </a:lnTo>
                <a:lnTo>
                  <a:pt x="10750554" y="1946275"/>
                </a:lnTo>
                <a:lnTo>
                  <a:pt x="10633079" y="1997074"/>
                </a:lnTo>
                <a:lnTo>
                  <a:pt x="10521954" y="2047874"/>
                </a:lnTo>
                <a:lnTo>
                  <a:pt x="10414004" y="2101850"/>
                </a:lnTo>
                <a:lnTo>
                  <a:pt x="10312404" y="2158999"/>
                </a:lnTo>
                <a:lnTo>
                  <a:pt x="10217154" y="2216150"/>
                </a:lnTo>
                <a:lnTo>
                  <a:pt x="10128254" y="2273299"/>
                </a:lnTo>
                <a:lnTo>
                  <a:pt x="10039354" y="2330449"/>
                </a:lnTo>
                <a:lnTo>
                  <a:pt x="9959979" y="2390775"/>
                </a:lnTo>
                <a:lnTo>
                  <a:pt x="9883779" y="2451099"/>
                </a:lnTo>
                <a:lnTo>
                  <a:pt x="9810754" y="2511425"/>
                </a:lnTo>
                <a:lnTo>
                  <a:pt x="9744079" y="2571749"/>
                </a:lnTo>
                <a:lnTo>
                  <a:pt x="9680579" y="2628900"/>
                </a:lnTo>
                <a:lnTo>
                  <a:pt x="9623429" y="2689224"/>
                </a:lnTo>
                <a:lnTo>
                  <a:pt x="9566279" y="2746374"/>
                </a:lnTo>
                <a:lnTo>
                  <a:pt x="9515479" y="2803525"/>
                </a:lnTo>
                <a:lnTo>
                  <a:pt x="9664704" y="2816224"/>
                </a:lnTo>
                <a:lnTo>
                  <a:pt x="9817104" y="2825749"/>
                </a:lnTo>
                <a:lnTo>
                  <a:pt x="9928229" y="2835274"/>
                </a:lnTo>
                <a:lnTo>
                  <a:pt x="10036179" y="2838449"/>
                </a:lnTo>
                <a:lnTo>
                  <a:pt x="10236204" y="2847974"/>
                </a:lnTo>
                <a:lnTo>
                  <a:pt x="10321929" y="2854324"/>
                </a:lnTo>
                <a:lnTo>
                  <a:pt x="10356854" y="2857499"/>
                </a:lnTo>
                <a:lnTo>
                  <a:pt x="10388604" y="2863849"/>
                </a:lnTo>
                <a:lnTo>
                  <a:pt x="10417179" y="2873374"/>
                </a:lnTo>
                <a:lnTo>
                  <a:pt x="10436229" y="2882899"/>
                </a:lnTo>
                <a:lnTo>
                  <a:pt x="10455279" y="2892424"/>
                </a:lnTo>
                <a:lnTo>
                  <a:pt x="10464804" y="2908300"/>
                </a:lnTo>
                <a:lnTo>
                  <a:pt x="10467979" y="2914650"/>
                </a:lnTo>
                <a:lnTo>
                  <a:pt x="10467979" y="2921000"/>
                </a:lnTo>
                <a:lnTo>
                  <a:pt x="10464804" y="2936875"/>
                </a:lnTo>
                <a:lnTo>
                  <a:pt x="10458454" y="2959100"/>
                </a:lnTo>
                <a:lnTo>
                  <a:pt x="10442579" y="2987674"/>
                </a:lnTo>
                <a:lnTo>
                  <a:pt x="10420354" y="3016249"/>
                </a:lnTo>
                <a:lnTo>
                  <a:pt x="10391779" y="3047999"/>
                </a:lnTo>
                <a:lnTo>
                  <a:pt x="10356854" y="3082925"/>
                </a:lnTo>
                <a:lnTo>
                  <a:pt x="10318754" y="3114674"/>
                </a:lnTo>
                <a:lnTo>
                  <a:pt x="10271129" y="3149599"/>
                </a:lnTo>
                <a:lnTo>
                  <a:pt x="10220329" y="3181350"/>
                </a:lnTo>
                <a:lnTo>
                  <a:pt x="10163179" y="3213100"/>
                </a:lnTo>
                <a:lnTo>
                  <a:pt x="10099679" y="3241675"/>
                </a:lnTo>
                <a:lnTo>
                  <a:pt x="10033004" y="3267074"/>
                </a:lnTo>
                <a:lnTo>
                  <a:pt x="9959979" y="3286124"/>
                </a:lnTo>
                <a:lnTo>
                  <a:pt x="9880604" y="3301999"/>
                </a:lnTo>
                <a:lnTo>
                  <a:pt x="9798054" y="3311524"/>
                </a:lnTo>
                <a:lnTo>
                  <a:pt x="9820279" y="3381375"/>
                </a:lnTo>
                <a:lnTo>
                  <a:pt x="9836154" y="3454399"/>
                </a:lnTo>
                <a:lnTo>
                  <a:pt x="9848854" y="3533775"/>
                </a:lnTo>
                <a:lnTo>
                  <a:pt x="9855204" y="3616324"/>
                </a:lnTo>
                <a:lnTo>
                  <a:pt x="9858379" y="3705224"/>
                </a:lnTo>
                <a:lnTo>
                  <a:pt x="9855204" y="3797300"/>
                </a:lnTo>
                <a:lnTo>
                  <a:pt x="9845679" y="3895724"/>
                </a:lnTo>
                <a:lnTo>
                  <a:pt x="9829804" y="3997324"/>
                </a:lnTo>
                <a:lnTo>
                  <a:pt x="9817104" y="4057650"/>
                </a:lnTo>
                <a:lnTo>
                  <a:pt x="9804404" y="4117975"/>
                </a:lnTo>
                <a:lnTo>
                  <a:pt x="9769479" y="4235450"/>
                </a:lnTo>
                <a:lnTo>
                  <a:pt x="9731379" y="4352924"/>
                </a:lnTo>
                <a:lnTo>
                  <a:pt x="9693279" y="4467224"/>
                </a:lnTo>
                <a:lnTo>
                  <a:pt x="9655179" y="4575174"/>
                </a:lnTo>
                <a:lnTo>
                  <a:pt x="9620254" y="4683125"/>
                </a:lnTo>
                <a:lnTo>
                  <a:pt x="9588504" y="4787900"/>
                </a:lnTo>
                <a:lnTo>
                  <a:pt x="9575804" y="4838699"/>
                </a:lnTo>
                <a:lnTo>
                  <a:pt x="9566279" y="4889501"/>
                </a:lnTo>
                <a:lnTo>
                  <a:pt x="9559929" y="4937124"/>
                </a:lnTo>
                <a:lnTo>
                  <a:pt x="9553579" y="4984750"/>
                </a:lnTo>
                <a:lnTo>
                  <a:pt x="9550404" y="5032374"/>
                </a:lnTo>
                <a:lnTo>
                  <a:pt x="9550404" y="5076825"/>
                </a:lnTo>
                <a:lnTo>
                  <a:pt x="9553579" y="5121274"/>
                </a:lnTo>
                <a:lnTo>
                  <a:pt x="9563104" y="5165726"/>
                </a:lnTo>
                <a:lnTo>
                  <a:pt x="9575804" y="5206999"/>
                </a:lnTo>
                <a:lnTo>
                  <a:pt x="9591679" y="5248275"/>
                </a:lnTo>
                <a:lnTo>
                  <a:pt x="9610729" y="5286375"/>
                </a:lnTo>
                <a:lnTo>
                  <a:pt x="9636129" y="5324474"/>
                </a:lnTo>
                <a:lnTo>
                  <a:pt x="9667879" y="5362575"/>
                </a:lnTo>
                <a:lnTo>
                  <a:pt x="9705979" y="5397499"/>
                </a:lnTo>
                <a:lnTo>
                  <a:pt x="9747254" y="5432425"/>
                </a:lnTo>
                <a:lnTo>
                  <a:pt x="9794879" y="5464176"/>
                </a:lnTo>
                <a:lnTo>
                  <a:pt x="9848854" y="5495924"/>
                </a:lnTo>
                <a:lnTo>
                  <a:pt x="9909179" y="5524499"/>
                </a:lnTo>
                <a:lnTo>
                  <a:pt x="9985379" y="5537200"/>
                </a:lnTo>
                <a:lnTo>
                  <a:pt x="10194929" y="5572125"/>
                </a:lnTo>
                <a:lnTo>
                  <a:pt x="10344154" y="5603874"/>
                </a:lnTo>
                <a:lnTo>
                  <a:pt x="10515604" y="5638800"/>
                </a:lnTo>
                <a:lnTo>
                  <a:pt x="10709279" y="5683249"/>
                </a:lnTo>
                <a:lnTo>
                  <a:pt x="10922004" y="5737226"/>
                </a:lnTo>
                <a:lnTo>
                  <a:pt x="11147429" y="5797549"/>
                </a:lnTo>
                <a:lnTo>
                  <a:pt x="11385554" y="5867400"/>
                </a:lnTo>
                <a:lnTo>
                  <a:pt x="11633204" y="5946775"/>
                </a:lnTo>
                <a:lnTo>
                  <a:pt x="11760204" y="5991225"/>
                </a:lnTo>
                <a:lnTo>
                  <a:pt x="11887204" y="6035674"/>
                </a:lnTo>
                <a:lnTo>
                  <a:pt x="12014204" y="6083299"/>
                </a:lnTo>
                <a:lnTo>
                  <a:pt x="12144379" y="6134100"/>
                </a:lnTo>
                <a:lnTo>
                  <a:pt x="12271379" y="6188074"/>
                </a:lnTo>
                <a:lnTo>
                  <a:pt x="12398379" y="6245224"/>
                </a:lnTo>
                <a:lnTo>
                  <a:pt x="12525379" y="6302375"/>
                </a:lnTo>
                <a:lnTo>
                  <a:pt x="12649204" y="6365874"/>
                </a:lnTo>
                <a:lnTo>
                  <a:pt x="12773029" y="6429375"/>
                </a:lnTo>
                <a:lnTo>
                  <a:pt x="12893679" y="6496050"/>
                </a:lnTo>
                <a:lnTo>
                  <a:pt x="12954000" y="6527799"/>
                </a:lnTo>
                <a:lnTo>
                  <a:pt x="13011150" y="6553200"/>
                </a:lnTo>
                <a:lnTo>
                  <a:pt x="13074650" y="6578600"/>
                </a:lnTo>
                <a:lnTo>
                  <a:pt x="13138150" y="6603999"/>
                </a:lnTo>
                <a:lnTo>
                  <a:pt x="13204825" y="6623049"/>
                </a:lnTo>
                <a:lnTo>
                  <a:pt x="13271500" y="6642099"/>
                </a:lnTo>
                <a:lnTo>
                  <a:pt x="13341350" y="6657974"/>
                </a:lnTo>
                <a:lnTo>
                  <a:pt x="13411200" y="6670674"/>
                </a:lnTo>
                <a:lnTo>
                  <a:pt x="13484225" y="6683374"/>
                </a:lnTo>
                <a:lnTo>
                  <a:pt x="13560425" y="6692899"/>
                </a:lnTo>
                <a:lnTo>
                  <a:pt x="13712825" y="6705600"/>
                </a:lnTo>
                <a:lnTo>
                  <a:pt x="13874750" y="6715125"/>
                </a:lnTo>
                <a:lnTo>
                  <a:pt x="14039850" y="6718300"/>
                </a:lnTo>
                <a:lnTo>
                  <a:pt x="14211300" y="6715125"/>
                </a:lnTo>
                <a:lnTo>
                  <a:pt x="14385925" y="6708775"/>
                </a:lnTo>
                <a:lnTo>
                  <a:pt x="14563725" y="6699250"/>
                </a:lnTo>
                <a:lnTo>
                  <a:pt x="14744700" y="6686549"/>
                </a:lnTo>
                <a:lnTo>
                  <a:pt x="15119350" y="6661149"/>
                </a:lnTo>
                <a:lnTo>
                  <a:pt x="15497175" y="6632574"/>
                </a:lnTo>
                <a:lnTo>
                  <a:pt x="15690850" y="6623049"/>
                </a:lnTo>
                <a:lnTo>
                  <a:pt x="15881350" y="6613524"/>
                </a:lnTo>
                <a:lnTo>
                  <a:pt x="16071850" y="6607174"/>
                </a:lnTo>
                <a:lnTo>
                  <a:pt x="16265525" y="6607174"/>
                </a:lnTo>
                <a:lnTo>
                  <a:pt x="16456025" y="6610349"/>
                </a:lnTo>
                <a:lnTo>
                  <a:pt x="16643350" y="6619874"/>
                </a:lnTo>
                <a:lnTo>
                  <a:pt x="16830676" y="6635749"/>
                </a:lnTo>
                <a:lnTo>
                  <a:pt x="16922750" y="6648449"/>
                </a:lnTo>
                <a:lnTo>
                  <a:pt x="17014824" y="6661149"/>
                </a:lnTo>
                <a:lnTo>
                  <a:pt x="17103724" y="6673849"/>
                </a:lnTo>
                <a:lnTo>
                  <a:pt x="17195800" y="6689724"/>
                </a:lnTo>
                <a:lnTo>
                  <a:pt x="17284700" y="6708775"/>
                </a:lnTo>
                <a:lnTo>
                  <a:pt x="17370424" y="6731000"/>
                </a:lnTo>
                <a:lnTo>
                  <a:pt x="17459324" y="6756399"/>
                </a:lnTo>
                <a:lnTo>
                  <a:pt x="17545050" y="6781800"/>
                </a:lnTo>
                <a:lnTo>
                  <a:pt x="17630776" y="6810374"/>
                </a:lnTo>
                <a:lnTo>
                  <a:pt x="17713324" y="6842125"/>
                </a:lnTo>
                <a:lnTo>
                  <a:pt x="17795876" y="6877049"/>
                </a:lnTo>
                <a:lnTo>
                  <a:pt x="17878424" y="6915149"/>
                </a:lnTo>
                <a:lnTo>
                  <a:pt x="17957800" y="6956424"/>
                </a:lnTo>
                <a:lnTo>
                  <a:pt x="18034000" y="7000875"/>
                </a:lnTo>
                <a:lnTo>
                  <a:pt x="18110200" y="7048499"/>
                </a:lnTo>
                <a:lnTo>
                  <a:pt x="18186400" y="7096124"/>
                </a:lnTo>
                <a:lnTo>
                  <a:pt x="18259424" y="7150100"/>
                </a:lnTo>
                <a:lnTo>
                  <a:pt x="18332450" y="7210424"/>
                </a:lnTo>
                <a:lnTo>
                  <a:pt x="18373724" y="7178674"/>
                </a:lnTo>
                <a:lnTo>
                  <a:pt x="18418176" y="7143750"/>
                </a:lnTo>
                <a:lnTo>
                  <a:pt x="18462624" y="7105649"/>
                </a:lnTo>
                <a:lnTo>
                  <a:pt x="18510250" y="7061200"/>
                </a:lnTo>
                <a:lnTo>
                  <a:pt x="18557876" y="7010400"/>
                </a:lnTo>
                <a:lnTo>
                  <a:pt x="18605500" y="6956424"/>
                </a:lnTo>
                <a:lnTo>
                  <a:pt x="18653124" y="6892924"/>
                </a:lnTo>
                <a:lnTo>
                  <a:pt x="18700750" y="6826249"/>
                </a:lnTo>
                <a:lnTo>
                  <a:pt x="18729324" y="6784975"/>
                </a:lnTo>
                <a:lnTo>
                  <a:pt x="18751550" y="6743699"/>
                </a:lnTo>
                <a:lnTo>
                  <a:pt x="18770600" y="6699250"/>
                </a:lnTo>
                <a:lnTo>
                  <a:pt x="18789650" y="6657974"/>
                </a:lnTo>
                <a:lnTo>
                  <a:pt x="18805524" y="6616699"/>
                </a:lnTo>
                <a:lnTo>
                  <a:pt x="18818224" y="6575425"/>
                </a:lnTo>
                <a:lnTo>
                  <a:pt x="18840450" y="6492875"/>
                </a:lnTo>
                <a:lnTo>
                  <a:pt x="18856324" y="6410325"/>
                </a:lnTo>
                <a:lnTo>
                  <a:pt x="18865850" y="6334124"/>
                </a:lnTo>
                <a:lnTo>
                  <a:pt x="18872200" y="6257924"/>
                </a:lnTo>
                <a:lnTo>
                  <a:pt x="18872200" y="6184899"/>
                </a:lnTo>
                <a:lnTo>
                  <a:pt x="18875376" y="6057899"/>
                </a:lnTo>
                <a:lnTo>
                  <a:pt x="18875376" y="6000750"/>
                </a:lnTo>
                <a:lnTo>
                  <a:pt x="18875376" y="5953124"/>
                </a:lnTo>
                <a:lnTo>
                  <a:pt x="18881724" y="5911850"/>
                </a:lnTo>
                <a:lnTo>
                  <a:pt x="18891250" y="5880099"/>
                </a:lnTo>
                <a:lnTo>
                  <a:pt x="18897600" y="5867400"/>
                </a:lnTo>
                <a:lnTo>
                  <a:pt x="18903950" y="5857875"/>
                </a:lnTo>
                <a:lnTo>
                  <a:pt x="18913476" y="5851525"/>
                </a:lnTo>
                <a:lnTo>
                  <a:pt x="18926176" y="5845175"/>
                </a:lnTo>
                <a:lnTo>
                  <a:pt x="18951576" y="5842000"/>
                </a:lnTo>
                <a:lnTo>
                  <a:pt x="18980150" y="5845175"/>
                </a:lnTo>
                <a:lnTo>
                  <a:pt x="19018250" y="5854700"/>
                </a:lnTo>
                <a:lnTo>
                  <a:pt x="19056350" y="5870574"/>
                </a:lnTo>
                <a:lnTo>
                  <a:pt x="19097624" y="5895974"/>
                </a:lnTo>
                <a:lnTo>
                  <a:pt x="19142076" y="5927725"/>
                </a:lnTo>
                <a:lnTo>
                  <a:pt x="19186524" y="5972174"/>
                </a:lnTo>
                <a:lnTo>
                  <a:pt x="19230976" y="6026151"/>
                </a:lnTo>
                <a:lnTo>
                  <a:pt x="19253200" y="6054724"/>
                </a:lnTo>
                <a:lnTo>
                  <a:pt x="19272250" y="6089649"/>
                </a:lnTo>
                <a:lnTo>
                  <a:pt x="19294476" y="6124575"/>
                </a:lnTo>
                <a:lnTo>
                  <a:pt x="19313524" y="6162674"/>
                </a:lnTo>
                <a:lnTo>
                  <a:pt x="19332576" y="6203950"/>
                </a:lnTo>
                <a:lnTo>
                  <a:pt x="19351624" y="6248399"/>
                </a:lnTo>
                <a:lnTo>
                  <a:pt x="19367500" y="6296025"/>
                </a:lnTo>
                <a:lnTo>
                  <a:pt x="19383376" y="6346824"/>
                </a:lnTo>
                <a:lnTo>
                  <a:pt x="19396076" y="6400799"/>
                </a:lnTo>
                <a:lnTo>
                  <a:pt x="19408776" y="6457949"/>
                </a:lnTo>
                <a:lnTo>
                  <a:pt x="19421476" y="6518275"/>
                </a:lnTo>
                <a:lnTo>
                  <a:pt x="19431000" y="6581775"/>
                </a:lnTo>
                <a:lnTo>
                  <a:pt x="19437350" y="6648449"/>
                </a:lnTo>
                <a:lnTo>
                  <a:pt x="19443700" y="6718300"/>
                </a:lnTo>
                <a:lnTo>
                  <a:pt x="19446876" y="6791325"/>
                </a:lnTo>
                <a:lnTo>
                  <a:pt x="19446876" y="6870700"/>
                </a:lnTo>
                <a:lnTo>
                  <a:pt x="19443700" y="6988175"/>
                </a:lnTo>
                <a:lnTo>
                  <a:pt x="19437350" y="7099299"/>
                </a:lnTo>
                <a:lnTo>
                  <a:pt x="19424650" y="7207249"/>
                </a:lnTo>
                <a:lnTo>
                  <a:pt x="19405600" y="7308850"/>
                </a:lnTo>
                <a:lnTo>
                  <a:pt x="19383376" y="7404100"/>
                </a:lnTo>
                <a:lnTo>
                  <a:pt x="19357976" y="7496174"/>
                </a:lnTo>
                <a:lnTo>
                  <a:pt x="19329400" y="7581900"/>
                </a:lnTo>
                <a:lnTo>
                  <a:pt x="19297650" y="7661275"/>
                </a:lnTo>
                <a:lnTo>
                  <a:pt x="19265900" y="7737474"/>
                </a:lnTo>
                <a:lnTo>
                  <a:pt x="19230976" y="7807324"/>
                </a:lnTo>
                <a:lnTo>
                  <a:pt x="19192876" y="7874000"/>
                </a:lnTo>
                <a:lnTo>
                  <a:pt x="19154776" y="7934325"/>
                </a:lnTo>
                <a:lnTo>
                  <a:pt x="19116676" y="7991475"/>
                </a:lnTo>
                <a:lnTo>
                  <a:pt x="19075400" y="8045449"/>
                </a:lnTo>
                <a:lnTo>
                  <a:pt x="19037300" y="8089899"/>
                </a:lnTo>
                <a:lnTo>
                  <a:pt x="18999200" y="8134349"/>
                </a:lnTo>
                <a:lnTo>
                  <a:pt x="19027776" y="8207375"/>
                </a:lnTo>
                <a:lnTo>
                  <a:pt x="19053176" y="8283574"/>
                </a:lnTo>
                <a:lnTo>
                  <a:pt x="19075400" y="8356599"/>
                </a:lnTo>
                <a:lnTo>
                  <a:pt x="19094450" y="8432799"/>
                </a:lnTo>
                <a:lnTo>
                  <a:pt x="19110324" y="8505825"/>
                </a:lnTo>
                <a:lnTo>
                  <a:pt x="19126200" y="8582024"/>
                </a:lnTo>
                <a:lnTo>
                  <a:pt x="19138900" y="8655049"/>
                </a:lnTo>
                <a:lnTo>
                  <a:pt x="19148424" y="8728075"/>
                </a:lnTo>
                <a:lnTo>
                  <a:pt x="19154776" y="8804275"/>
                </a:lnTo>
                <a:lnTo>
                  <a:pt x="19157950" y="8877299"/>
                </a:lnTo>
                <a:lnTo>
                  <a:pt x="19161124" y="8953499"/>
                </a:lnTo>
                <a:lnTo>
                  <a:pt x="19161124" y="9026525"/>
                </a:lnTo>
                <a:lnTo>
                  <a:pt x="19157950" y="9099550"/>
                </a:lnTo>
                <a:lnTo>
                  <a:pt x="19154776" y="9172574"/>
                </a:lnTo>
                <a:lnTo>
                  <a:pt x="19142076" y="9321800"/>
                </a:lnTo>
                <a:lnTo>
                  <a:pt x="19123024" y="9467849"/>
                </a:lnTo>
                <a:lnTo>
                  <a:pt x="19094450" y="9610723"/>
                </a:lnTo>
                <a:lnTo>
                  <a:pt x="19062700" y="9753599"/>
                </a:lnTo>
                <a:lnTo>
                  <a:pt x="19024600" y="9896475"/>
                </a:lnTo>
                <a:lnTo>
                  <a:pt x="18983324" y="10036175"/>
                </a:lnTo>
                <a:lnTo>
                  <a:pt x="18935700" y="10172699"/>
                </a:lnTo>
                <a:lnTo>
                  <a:pt x="18884900" y="10309223"/>
                </a:lnTo>
                <a:lnTo>
                  <a:pt x="18834100" y="10442575"/>
                </a:lnTo>
                <a:lnTo>
                  <a:pt x="18780124" y="10572749"/>
                </a:lnTo>
                <a:lnTo>
                  <a:pt x="18722976" y="10699749"/>
                </a:lnTo>
                <a:lnTo>
                  <a:pt x="18611850" y="10947399"/>
                </a:lnTo>
                <a:lnTo>
                  <a:pt x="18395950" y="11395075"/>
                </a:lnTo>
                <a:lnTo>
                  <a:pt x="18303876" y="11595099"/>
                </a:lnTo>
                <a:lnTo>
                  <a:pt x="18262600" y="11687175"/>
                </a:lnTo>
                <a:lnTo>
                  <a:pt x="18227676" y="11772899"/>
                </a:lnTo>
                <a:lnTo>
                  <a:pt x="18199100" y="11855449"/>
                </a:lnTo>
                <a:lnTo>
                  <a:pt x="18173700" y="11934823"/>
                </a:lnTo>
                <a:lnTo>
                  <a:pt x="18157824" y="12004675"/>
                </a:lnTo>
                <a:lnTo>
                  <a:pt x="18148300" y="12071349"/>
                </a:lnTo>
                <a:lnTo>
                  <a:pt x="18141950" y="12144375"/>
                </a:lnTo>
                <a:lnTo>
                  <a:pt x="18138776" y="12214223"/>
                </a:lnTo>
                <a:lnTo>
                  <a:pt x="18138776" y="12284075"/>
                </a:lnTo>
                <a:lnTo>
                  <a:pt x="18138776" y="12353923"/>
                </a:lnTo>
                <a:lnTo>
                  <a:pt x="18148300" y="12493623"/>
                </a:lnTo>
                <a:lnTo>
                  <a:pt x="18161000" y="12630149"/>
                </a:lnTo>
                <a:lnTo>
                  <a:pt x="18180050" y="12763499"/>
                </a:lnTo>
                <a:lnTo>
                  <a:pt x="18205450" y="12896849"/>
                </a:lnTo>
                <a:lnTo>
                  <a:pt x="18234024" y="13023849"/>
                </a:lnTo>
                <a:lnTo>
                  <a:pt x="18262600" y="13147675"/>
                </a:lnTo>
                <a:lnTo>
                  <a:pt x="18294350" y="13271499"/>
                </a:lnTo>
                <a:lnTo>
                  <a:pt x="18326100" y="13385799"/>
                </a:lnTo>
                <a:lnTo>
                  <a:pt x="18389600" y="13608049"/>
                </a:lnTo>
                <a:lnTo>
                  <a:pt x="18418176" y="13712823"/>
                </a:lnTo>
                <a:lnTo>
                  <a:pt x="18443576" y="13811249"/>
                </a:lnTo>
                <a:lnTo>
                  <a:pt x="18465800" y="13903323"/>
                </a:lnTo>
                <a:lnTo>
                  <a:pt x="18481676" y="13992223"/>
                </a:lnTo>
                <a:lnTo>
                  <a:pt x="18484850" y="14036675"/>
                </a:lnTo>
                <a:lnTo>
                  <a:pt x="18481676" y="14081123"/>
                </a:lnTo>
                <a:lnTo>
                  <a:pt x="18475324" y="14131923"/>
                </a:lnTo>
                <a:lnTo>
                  <a:pt x="18459450" y="14182723"/>
                </a:lnTo>
                <a:lnTo>
                  <a:pt x="18440400" y="14236699"/>
                </a:lnTo>
                <a:lnTo>
                  <a:pt x="18418176" y="14293849"/>
                </a:lnTo>
                <a:lnTo>
                  <a:pt x="18389600" y="14350999"/>
                </a:lnTo>
                <a:lnTo>
                  <a:pt x="18357850" y="14411323"/>
                </a:lnTo>
                <a:lnTo>
                  <a:pt x="18284824" y="14538323"/>
                </a:lnTo>
                <a:lnTo>
                  <a:pt x="18202276" y="14671675"/>
                </a:lnTo>
                <a:lnTo>
                  <a:pt x="18107024" y="14811375"/>
                </a:lnTo>
                <a:lnTo>
                  <a:pt x="18008600" y="14957423"/>
                </a:lnTo>
                <a:lnTo>
                  <a:pt x="17907000" y="15106649"/>
                </a:lnTo>
                <a:lnTo>
                  <a:pt x="17808576" y="15262223"/>
                </a:lnTo>
                <a:lnTo>
                  <a:pt x="17710150" y="15417799"/>
                </a:lnTo>
                <a:lnTo>
                  <a:pt x="17662524" y="15497175"/>
                </a:lnTo>
                <a:lnTo>
                  <a:pt x="17618076" y="15576549"/>
                </a:lnTo>
                <a:lnTo>
                  <a:pt x="17576800" y="15655923"/>
                </a:lnTo>
                <a:lnTo>
                  <a:pt x="17535524" y="15735299"/>
                </a:lnTo>
                <a:lnTo>
                  <a:pt x="17497424" y="15814675"/>
                </a:lnTo>
                <a:lnTo>
                  <a:pt x="17465676" y="15894049"/>
                </a:lnTo>
                <a:lnTo>
                  <a:pt x="17433924" y="15976599"/>
                </a:lnTo>
                <a:lnTo>
                  <a:pt x="17408524" y="16055975"/>
                </a:lnTo>
                <a:lnTo>
                  <a:pt x="17389476" y="16135349"/>
                </a:lnTo>
                <a:lnTo>
                  <a:pt x="17370424" y="16211549"/>
                </a:lnTo>
                <a:lnTo>
                  <a:pt x="17338676" y="16389349"/>
                </a:lnTo>
                <a:lnTo>
                  <a:pt x="17300576" y="16551275"/>
                </a:lnTo>
                <a:lnTo>
                  <a:pt x="17265650" y="16700499"/>
                </a:lnTo>
                <a:lnTo>
                  <a:pt x="17227550" y="16830675"/>
                </a:lnTo>
                <a:lnTo>
                  <a:pt x="17186276" y="16948149"/>
                </a:lnTo>
                <a:lnTo>
                  <a:pt x="17148176" y="17052923"/>
                </a:lnTo>
                <a:lnTo>
                  <a:pt x="17106900" y="17148175"/>
                </a:lnTo>
                <a:lnTo>
                  <a:pt x="17065624" y="17227549"/>
                </a:lnTo>
                <a:lnTo>
                  <a:pt x="17024350" y="17297399"/>
                </a:lnTo>
                <a:lnTo>
                  <a:pt x="16983076" y="17357723"/>
                </a:lnTo>
                <a:lnTo>
                  <a:pt x="16941800" y="17408523"/>
                </a:lnTo>
                <a:lnTo>
                  <a:pt x="16897350" y="17449799"/>
                </a:lnTo>
                <a:lnTo>
                  <a:pt x="16856076" y="17484723"/>
                </a:lnTo>
                <a:lnTo>
                  <a:pt x="16814800" y="17513299"/>
                </a:lnTo>
                <a:lnTo>
                  <a:pt x="16776700" y="17532349"/>
                </a:lnTo>
                <a:lnTo>
                  <a:pt x="16735425" y="17548223"/>
                </a:lnTo>
                <a:lnTo>
                  <a:pt x="16697325" y="17560923"/>
                </a:lnTo>
                <a:lnTo>
                  <a:pt x="16659225" y="17567275"/>
                </a:lnTo>
                <a:lnTo>
                  <a:pt x="16621125" y="17570449"/>
                </a:lnTo>
                <a:lnTo>
                  <a:pt x="16586200" y="17570449"/>
                </a:lnTo>
                <a:lnTo>
                  <a:pt x="16519525" y="17567275"/>
                </a:lnTo>
                <a:lnTo>
                  <a:pt x="16459200" y="17564099"/>
                </a:lnTo>
                <a:lnTo>
                  <a:pt x="16430625" y="17564099"/>
                </a:lnTo>
                <a:lnTo>
                  <a:pt x="16405225" y="17564099"/>
                </a:lnTo>
                <a:lnTo>
                  <a:pt x="16383000" y="17567275"/>
                </a:lnTo>
                <a:lnTo>
                  <a:pt x="16363950" y="17576799"/>
                </a:lnTo>
                <a:lnTo>
                  <a:pt x="16348075" y="17586323"/>
                </a:lnTo>
                <a:lnTo>
                  <a:pt x="16332200" y="17605375"/>
                </a:lnTo>
                <a:lnTo>
                  <a:pt x="16322675" y="17627599"/>
                </a:lnTo>
                <a:lnTo>
                  <a:pt x="16313150" y="17656175"/>
                </a:lnTo>
                <a:lnTo>
                  <a:pt x="16300450" y="17726023"/>
                </a:lnTo>
                <a:lnTo>
                  <a:pt x="16294100" y="17792699"/>
                </a:lnTo>
                <a:lnTo>
                  <a:pt x="16287750" y="17853023"/>
                </a:lnTo>
                <a:lnTo>
                  <a:pt x="16287750" y="17913349"/>
                </a:lnTo>
                <a:lnTo>
                  <a:pt x="16500475" y="17960975"/>
                </a:lnTo>
                <a:lnTo>
                  <a:pt x="16713200" y="18011775"/>
                </a:lnTo>
                <a:lnTo>
                  <a:pt x="16925924" y="18068923"/>
                </a:lnTo>
                <a:lnTo>
                  <a:pt x="17135476" y="18126075"/>
                </a:lnTo>
                <a:lnTo>
                  <a:pt x="17345024" y="18183223"/>
                </a:lnTo>
                <a:lnTo>
                  <a:pt x="17551400" y="18246723"/>
                </a:lnTo>
                <a:lnTo>
                  <a:pt x="17757776" y="18313399"/>
                </a:lnTo>
                <a:lnTo>
                  <a:pt x="17964150" y="18383249"/>
                </a:lnTo>
                <a:lnTo>
                  <a:pt x="17967324" y="18268949"/>
                </a:lnTo>
                <a:lnTo>
                  <a:pt x="17967324" y="18157823"/>
                </a:lnTo>
                <a:lnTo>
                  <a:pt x="17964150" y="18049875"/>
                </a:lnTo>
                <a:lnTo>
                  <a:pt x="17960976" y="17948275"/>
                </a:lnTo>
                <a:lnTo>
                  <a:pt x="17945100" y="17757775"/>
                </a:lnTo>
                <a:lnTo>
                  <a:pt x="17929224" y="17595849"/>
                </a:lnTo>
                <a:lnTo>
                  <a:pt x="17910176" y="17459323"/>
                </a:lnTo>
                <a:lnTo>
                  <a:pt x="17894300" y="17357723"/>
                </a:lnTo>
                <a:lnTo>
                  <a:pt x="17875250" y="17271999"/>
                </a:lnTo>
                <a:lnTo>
                  <a:pt x="17894300" y="17287875"/>
                </a:lnTo>
                <a:lnTo>
                  <a:pt x="17948276" y="17335499"/>
                </a:lnTo>
                <a:lnTo>
                  <a:pt x="17986376" y="17373599"/>
                </a:lnTo>
                <a:lnTo>
                  <a:pt x="18030824" y="17421223"/>
                </a:lnTo>
                <a:lnTo>
                  <a:pt x="18078450" y="17475199"/>
                </a:lnTo>
                <a:lnTo>
                  <a:pt x="18132424" y="17538699"/>
                </a:lnTo>
                <a:lnTo>
                  <a:pt x="18189576" y="17611723"/>
                </a:lnTo>
                <a:lnTo>
                  <a:pt x="18246724" y="17694275"/>
                </a:lnTo>
                <a:lnTo>
                  <a:pt x="18307050" y="17786349"/>
                </a:lnTo>
                <a:lnTo>
                  <a:pt x="18367376" y="17884775"/>
                </a:lnTo>
                <a:lnTo>
                  <a:pt x="18427700" y="17995899"/>
                </a:lnTo>
                <a:lnTo>
                  <a:pt x="18488024" y="18113375"/>
                </a:lnTo>
                <a:lnTo>
                  <a:pt x="18545176" y="18243549"/>
                </a:lnTo>
                <a:lnTo>
                  <a:pt x="18599150" y="18383249"/>
                </a:lnTo>
                <a:lnTo>
                  <a:pt x="18678524" y="18256249"/>
                </a:lnTo>
                <a:lnTo>
                  <a:pt x="18745200" y="18154649"/>
                </a:lnTo>
                <a:lnTo>
                  <a:pt x="18815050" y="18059399"/>
                </a:lnTo>
                <a:lnTo>
                  <a:pt x="18881724" y="17964149"/>
                </a:lnTo>
                <a:lnTo>
                  <a:pt x="18951576" y="17875249"/>
                </a:lnTo>
                <a:lnTo>
                  <a:pt x="19024600" y="17789523"/>
                </a:lnTo>
                <a:lnTo>
                  <a:pt x="19094450" y="17706975"/>
                </a:lnTo>
                <a:lnTo>
                  <a:pt x="19167476" y="17627599"/>
                </a:lnTo>
                <a:lnTo>
                  <a:pt x="19237324" y="17554575"/>
                </a:lnTo>
                <a:lnTo>
                  <a:pt x="19310350" y="17481549"/>
                </a:lnTo>
                <a:lnTo>
                  <a:pt x="19380200" y="17414875"/>
                </a:lnTo>
                <a:lnTo>
                  <a:pt x="19450050" y="17351375"/>
                </a:lnTo>
                <a:lnTo>
                  <a:pt x="19519900" y="17291049"/>
                </a:lnTo>
                <a:lnTo>
                  <a:pt x="19653250" y="17179923"/>
                </a:lnTo>
                <a:lnTo>
                  <a:pt x="19780250" y="17081499"/>
                </a:lnTo>
                <a:lnTo>
                  <a:pt x="19900900" y="16995775"/>
                </a:lnTo>
                <a:lnTo>
                  <a:pt x="20012024" y="16922749"/>
                </a:lnTo>
                <a:lnTo>
                  <a:pt x="20107276" y="16865599"/>
                </a:lnTo>
                <a:lnTo>
                  <a:pt x="20193000" y="16814799"/>
                </a:lnTo>
                <a:lnTo>
                  <a:pt x="20259676" y="16779875"/>
                </a:lnTo>
                <a:lnTo>
                  <a:pt x="20310476" y="16754475"/>
                </a:lnTo>
                <a:lnTo>
                  <a:pt x="20354924" y="16732249"/>
                </a:lnTo>
                <a:lnTo>
                  <a:pt x="20320000" y="16763999"/>
                </a:lnTo>
                <a:lnTo>
                  <a:pt x="20278724" y="16802099"/>
                </a:lnTo>
                <a:lnTo>
                  <a:pt x="20224750" y="16852899"/>
                </a:lnTo>
                <a:lnTo>
                  <a:pt x="20158076" y="16922749"/>
                </a:lnTo>
                <a:lnTo>
                  <a:pt x="20081876" y="17005299"/>
                </a:lnTo>
                <a:lnTo>
                  <a:pt x="19999324" y="17100549"/>
                </a:lnTo>
                <a:lnTo>
                  <a:pt x="19910424" y="17211675"/>
                </a:lnTo>
                <a:lnTo>
                  <a:pt x="19818350" y="17338675"/>
                </a:lnTo>
                <a:lnTo>
                  <a:pt x="19723100" y="17478375"/>
                </a:lnTo>
                <a:lnTo>
                  <a:pt x="19675476" y="17554575"/>
                </a:lnTo>
                <a:lnTo>
                  <a:pt x="19627850" y="17630775"/>
                </a:lnTo>
                <a:lnTo>
                  <a:pt x="19580224" y="17713323"/>
                </a:lnTo>
                <a:lnTo>
                  <a:pt x="19532600" y="17799049"/>
                </a:lnTo>
                <a:lnTo>
                  <a:pt x="19488150" y="17887949"/>
                </a:lnTo>
                <a:lnTo>
                  <a:pt x="19443700" y="17980023"/>
                </a:lnTo>
                <a:lnTo>
                  <a:pt x="19399250" y="18078449"/>
                </a:lnTo>
                <a:lnTo>
                  <a:pt x="19357976" y="18176875"/>
                </a:lnTo>
                <a:lnTo>
                  <a:pt x="19316700" y="18278475"/>
                </a:lnTo>
                <a:lnTo>
                  <a:pt x="19278600" y="18386423"/>
                </a:lnTo>
                <a:lnTo>
                  <a:pt x="19243676" y="18494375"/>
                </a:lnTo>
                <a:lnTo>
                  <a:pt x="19208750" y="18608675"/>
                </a:lnTo>
                <a:lnTo>
                  <a:pt x="19313524" y="18491199"/>
                </a:lnTo>
                <a:lnTo>
                  <a:pt x="19427824" y="18370549"/>
                </a:lnTo>
                <a:lnTo>
                  <a:pt x="19551650" y="18243549"/>
                </a:lnTo>
                <a:lnTo>
                  <a:pt x="19685000" y="18113375"/>
                </a:lnTo>
                <a:lnTo>
                  <a:pt x="19824700" y="17983199"/>
                </a:lnTo>
                <a:lnTo>
                  <a:pt x="19973924" y="17849849"/>
                </a:lnTo>
                <a:lnTo>
                  <a:pt x="20132676" y="17713323"/>
                </a:lnTo>
                <a:lnTo>
                  <a:pt x="20300950" y="17579975"/>
                </a:lnTo>
                <a:lnTo>
                  <a:pt x="20399376" y="17503775"/>
                </a:lnTo>
                <a:lnTo>
                  <a:pt x="20497800" y="17433923"/>
                </a:lnTo>
                <a:lnTo>
                  <a:pt x="20596224" y="17367249"/>
                </a:lnTo>
                <a:lnTo>
                  <a:pt x="20691476" y="17306923"/>
                </a:lnTo>
                <a:lnTo>
                  <a:pt x="20789900" y="17246599"/>
                </a:lnTo>
                <a:lnTo>
                  <a:pt x="20881976" y="17192623"/>
                </a:lnTo>
                <a:lnTo>
                  <a:pt x="20977224" y="17144999"/>
                </a:lnTo>
                <a:lnTo>
                  <a:pt x="21069300" y="17097375"/>
                </a:lnTo>
                <a:lnTo>
                  <a:pt x="21158200" y="17056099"/>
                </a:lnTo>
                <a:lnTo>
                  <a:pt x="21243924" y="17017999"/>
                </a:lnTo>
                <a:lnTo>
                  <a:pt x="21329650" y="16983075"/>
                </a:lnTo>
                <a:lnTo>
                  <a:pt x="21415376" y="16951323"/>
                </a:lnTo>
                <a:lnTo>
                  <a:pt x="21494750" y="16919575"/>
                </a:lnTo>
                <a:lnTo>
                  <a:pt x="21574124" y="16894175"/>
                </a:lnTo>
                <a:lnTo>
                  <a:pt x="21720176" y="16849723"/>
                </a:lnTo>
                <a:lnTo>
                  <a:pt x="21856700" y="16814799"/>
                </a:lnTo>
                <a:lnTo>
                  <a:pt x="21977350" y="16789399"/>
                </a:lnTo>
                <a:lnTo>
                  <a:pt x="22085300" y="16770349"/>
                </a:lnTo>
                <a:lnTo>
                  <a:pt x="22174200" y="16757649"/>
                </a:lnTo>
                <a:lnTo>
                  <a:pt x="22247224" y="16748123"/>
                </a:lnTo>
                <a:lnTo>
                  <a:pt x="22301200" y="16744949"/>
                </a:lnTo>
                <a:lnTo>
                  <a:pt x="22345650" y="16741775"/>
                </a:lnTo>
                <a:lnTo>
                  <a:pt x="22294850" y="16767175"/>
                </a:lnTo>
                <a:lnTo>
                  <a:pt x="22155150" y="16833849"/>
                </a:lnTo>
                <a:lnTo>
                  <a:pt x="22056724" y="16887823"/>
                </a:lnTo>
                <a:lnTo>
                  <a:pt x="21942424" y="16951323"/>
                </a:lnTo>
                <a:lnTo>
                  <a:pt x="21815424" y="17027523"/>
                </a:lnTo>
                <a:lnTo>
                  <a:pt x="21675724" y="17113249"/>
                </a:lnTo>
                <a:lnTo>
                  <a:pt x="21526500" y="17211675"/>
                </a:lnTo>
                <a:lnTo>
                  <a:pt x="21370924" y="17322799"/>
                </a:lnTo>
                <a:lnTo>
                  <a:pt x="21209000" y="17446623"/>
                </a:lnTo>
                <a:lnTo>
                  <a:pt x="21126450" y="17510123"/>
                </a:lnTo>
                <a:lnTo>
                  <a:pt x="21043900" y="17579975"/>
                </a:lnTo>
                <a:lnTo>
                  <a:pt x="20958176" y="17652999"/>
                </a:lnTo>
                <a:lnTo>
                  <a:pt x="20875624" y="17726023"/>
                </a:lnTo>
                <a:lnTo>
                  <a:pt x="20793076" y="17802223"/>
                </a:lnTo>
                <a:lnTo>
                  <a:pt x="20710524" y="17884775"/>
                </a:lnTo>
                <a:lnTo>
                  <a:pt x="20627976" y="17967323"/>
                </a:lnTo>
                <a:lnTo>
                  <a:pt x="20548600" y="18053049"/>
                </a:lnTo>
                <a:lnTo>
                  <a:pt x="20469224" y="18141949"/>
                </a:lnTo>
                <a:lnTo>
                  <a:pt x="20389850" y="18237199"/>
                </a:lnTo>
                <a:lnTo>
                  <a:pt x="20281900" y="18370549"/>
                </a:lnTo>
                <a:lnTo>
                  <a:pt x="20180300" y="18503899"/>
                </a:lnTo>
                <a:lnTo>
                  <a:pt x="20081876" y="18637249"/>
                </a:lnTo>
                <a:lnTo>
                  <a:pt x="19989800" y="18767423"/>
                </a:lnTo>
                <a:lnTo>
                  <a:pt x="20116800" y="18703923"/>
                </a:lnTo>
                <a:lnTo>
                  <a:pt x="20243800" y="18643599"/>
                </a:lnTo>
                <a:lnTo>
                  <a:pt x="20351750" y="18599149"/>
                </a:lnTo>
                <a:lnTo>
                  <a:pt x="20456524" y="18557875"/>
                </a:lnTo>
                <a:lnTo>
                  <a:pt x="20561300" y="18522949"/>
                </a:lnTo>
                <a:lnTo>
                  <a:pt x="20662900" y="18491199"/>
                </a:lnTo>
                <a:lnTo>
                  <a:pt x="20761324" y="18462623"/>
                </a:lnTo>
                <a:lnTo>
                  <a:pt x="20859750" y="18437223"/>
                </a:lnTo>
                <a:lnTo>
                  <a:pt x="20955000" y="18418175"/>
                </a:lnTo>
                <a:lnTo>
                  <a:pt x="21047076" y="18399123"/>
                </a:lnTo>
                <a:lnTo>
                  <a:pt x="21135976" y="18383249"/>
                </a:lnTo>
                <a:lnTo>
                  <a:pt x="21221700" y="18373723"/>
                </a:lnTo>
                <a:lnTo>
                  <a:pt x="21304250" y="18364199"/>
                </a:lnTo>
                <a:lnTo>
                  <a:pt x="21386800" y="18357849"/>
                </a:lnTo>
                <a:lnTo>
                  <a:pt x="21463000" y="18351499"/>
                </a:lnTo>
                <a:lnTo>
                  <a:pt x="21539200" y="18351499"/>
                </a:lnTo>
                <a:lnTo>
                  <a:pt x="21678900" y="18351499"/>
                </a:lnTo>
                <a:lnTo>
                  <a:pt x="21802724" y="18357849"/>
                </a:lnTo>
                <a:lnTo>
                  <a:pt x="21917024" y="18367375"/>
                </a:lnTo>
                <a:lnTo>
                  <a:pt x="22012276" y="18383249"/>
                </a:lnTo>
                <a:lnTo>
                  <a:pt x="22094824" y="18395949"/>
                </a:lnTo>
                <a:lnTo>
                  <a:pt x="22158324" y="18411823"/>
                </a:lnTo>
                <a:lnTo>
                  <a:pt x="22205950" y="18421349"/>
                </a:lnTo>
                <a:lnTo>
                  <a:pt x="22244050" y="18434049"/>
                </a:lnTo>
                <a:lnTo>
                  <a:pt x="22205950" y="18449923"/>
                </a:lnTo>
                <a:lnTo>
                  <a:pt x="22104350" y="18491199"/>
                </a:lnTo>
                <a:lnTo>
                  <a:pt x="21945600" y="18564223"/>
                </a:lnTo>
                <a:lnTo>
                  <a:pt x="21850350" y="18611849"/>
                </a:lnTo>
                <a:lnTo>
                  <a:pt x="21745576" y="18665823"/>
                </a:lnTo>
                <a:lnTo>
                  <a:pt x="21634450" y="18726149"/>
                </a:lnTo>
                <a:lnTo>
                  <a:pt x="21516976" y="18795999"/>
                </a:lnTo>
                <a:lnTo>
                  <a:pt x="21396324" y="18872199"/>
                </a:lnTo>
                <a:lnTo>
                  <a:pt x="21272500" y="18954749"/>
                </a:lnTo>
                <a:lnTo>
                  <a:pt x="21145500" y="19043649"/>
                </a:lnTo>
                <a:lnTo>
                  <a:pt x="21018500" y="19142075"/>
                </a:lnTo>
                <a:lnTo>
                  <a:pt x="20894676" y="19250023"/>
                </a:lnTo>
                <a:lnTo>
                  <a:pt x="20831176" y="19303999"/>
                </a:lnTo>
                <a:lnTo>
                  <a:pt x="20770850" y="19361149"/>
                </a:lnTo>
                <a:lnTo>
                  <a:pt x="20672424" y="19462749"/>
                </a:lnTo>
                <a:lnTo>
                  <a:pt x="20577176" y="19567523"/>
                </a:lnTo>
                <a:lnTo>
                  <a:pt x="20786724" y="19688175"/>
                </a:lnTo>
                <a:lnTo>
                  <a:pt x="20996276" y="19815175"/>
                </a:lnTo>
                <a:lnTo>
                  <a:pt x="21199476" y="19945349"/>
                </a:lnTo>
                <a:lnTo>
                  <a:pt x="21402676" y="20078699"/>
                </a:lnTo>
                <a:lnTo>
                  <a:pt x="21602700" y="20215223"/>
                </a:lnTo>
                <a:lnTo>
                  <a:pt x="21799550" y="20351749"/>
                </a:lnTo>
                <a:lnTo>
                  <a:pt x="21996400" y="20494623"/>
                </a:lnTo>
                <a:lnTo>
                  <a:pt x="22186900" y="20640675"/>
                </a:lnTo>
                <a:lnTo>
                  <a:pt x="22377400" y="20786723"/>
                </a:lnTo>
                <a:lnTo>
                  <a:pt x="22564724" y="20939123"/>
                </a:lnTo>
                <a:lnTo>
                  <a:pt x="22748876" y="21091523"/>
                </a:lnTo>
                <a:lnTo>
                  <a:pt x="22929850" y="21247099"/>
                </a:lnTo>
                <a:lnTo>
                  <a:pt x="23107650" y="21409023"/>
                </a:lnTo>
                <a:lnTo>
                  <a:pt x="23282276" y="21570949"/>
                </a:lnTo>
                <a:lnTo>
                  <a:pt x="23456900" y="21736049"/>
                </a:lnTo>
                <a:lnTo>
                  <a:pt x="23625176" y="21901149"/>
                </a:lnTo>
                <a:lnTo>
                  <a:pt x="23793450" y="22072599"/>
                </a:lnTo>
                <a:lnTo>
                  <a:pt x="23955376" y="22244049"/>
                </a:lnTo>
                <a:lnTo>
                  <a:pt x="24117300" y="22421849"/>
                </a:lnTo>
                <a:lnTo>
                  <a:pt x="24272876" y="22599649"/>
                </a:lnTo>
                <a:lnTo>
                  <a:pt x="24428450" y="22777449"/>
                </a:lnTo>
                <a:lnTo>
                  <a:pt x="24580850" y="22961599"/>
                </a:lnTo>
                <a:lnTo>
                  <a:pt x="24726900" y="23145749"/>
                </a:lnTo>
                <a:lnTo>
                  <a:pt x="24872950" y="23336249"/>
                </a:lnTo>
                <a:lnTo>
                  <a:pt x="25012650" y="23526749"/>
                </a:lnTo>
                <a:lnTo>
                  <a:pt x="25149176" y="23717249"/>
                </a:lnTo>
                <a:lnTo>
                  <a:pt x="25285700" y="23910923"/>
                </a:lnTo>
                <a:lnTo>
                  <a:pt x="25415876" y="24110949"/>
                </a:lnTo>
                <a:lnTo>
                  <a:pt x="25542876" y="24307799"/>
                </a:lnTo>
                <a:lnTo>
                  <a:pt x="25666700" y="24510999"/>
                </a:lnTo>
                <a:lnTo>
                  <a:pt x="25787350" y="24714199"/>
                </a:lnTo>
                <a:lnTo>
                  <a:pt x="25904824" y="24920575"/>
                </a:lnTo>
                <a:lnTo>
                  <a:pt x="17018000" y="24920575"/>
                </a:lnTo>
                <a:lnTo>
                  <a:pt x="17059276" y="24901523"/>
                </a:lnTo>
                <a:lnTo>
                  <a:pt x="17100550" y="24879299"/>
                </a:lnTo>
                <a:lnTo>
                  <a:pt x="17141824" y="24857075"/>
                </a:lnTo>
                <a:lnTo>
                  <a:pt x="17176750" y="24834849"/>
                </a:lnTo>
                <a:lnTo>
                  <a:pt x="17214850" y="24806275"/>
                </a:lnTo>
                <a:lnTo>
                  <a:pt x="17249776" y="24780875"/>
                </a:lnTo>
                <a:lnTo>
                  <a:pt x="17281524" y="24749123"/>
                </a:lnTo>
                <a:lnTo>
                  <a:pt x="17313276" y="24717375"/>
                </a:lnTo>
                <a:lnTo>
                  <a:pt x="17341850" y="24682449"/>
                </a:lnTo>
                <a:lnTo>
                  <a:pt x="17373600" y="24641175"/>
                </a:lnTo>
                <a:lnTo>
                  <a:pt x="17399000" y="24603075"/>
                </a:lnTo>
                <a:lnTo>
                  <a:pt x="17424400" y="24558623"/>
                </a:lnTo>
                <a:lnTo>
                  <a:pt x="17446624" y="24517349"/>
                </a:lnTo>
                <a:lnTo>
                  <a:pt x="17468850" y="24469723"/>
                </a:lnTo>
                <a:lnTo>
                  <a:pt x="17487900" y="24422099"/>
                </a:lnTo>
                <a:lnTo>
                  <a:pt x="17506950" y="24371299"/>
                </a:lnTo>
                <a:lnTo>
                  <a:pt x="17519650" y="24320499"/>
                </a:lnTo>
                <a:lnTo>
                  <a:pt x="17532350" y="24266523"/>
                </a:lnTo>
                <a:lnTo>
                  <a:pt x="17545050" y="24212549"/>
                </a:lnTo>
                <a:lnTo>
                  <a:pt x="17554576" y="24155399"/>
                </a:lnTo>
                <a:lnTo>
                  <a:pt x="17560924" y="24095075"/>
                </a:lnTo>
                <a:lnTo>
                  <a:pt x="17567276" y="24034749"/>
                </a:lnTo>
                <a:lnTo>
                  <a:pt x="17570450" y="23971249"/>
                </a:lnTo>
                <a:lnTo>
                  <a:pt x="17570450" y="23904575"/>
                </a:lnTo>
                <a:lnTo>
                  <a:pt x="17570450" y="22933023"/>
                </a:lnTo>
                <a:lnTo>
                  <a:pt x="17567276" y="22815549"/>
                </a:lnTo>
                <a:lnTo>
                  <a:pt x="17557750" y="22704423"/>
                </a:lnTo>
                <a:lnTo>
                  <a:pt x="17541876" y="22602823"/>
                </a:lnTo>
                <a:lnTo>
                  <a:pt x="17522824" y="22507575"/>
                </a:lnTo>
                <a:lnTo>
                  <a:pt x="17510124" y="22459949"/>
                </a:lnTo>
                <a:lnTo>
                  <a:pt x="17497424" y="22418675"/>
                </a:lnTo>
                <a:lnTo>
                  <a:pt x="17481550" y="22374223"/>
                </a:lnTo>
                <a:lnTo>
                  <a:pt x="17462500" y="22336123"/>
                </a:lnTo>
                <a:lnTo>
                  <a:pt x="17443450" y="22298023"/>
                </a:lnTo>
                <a:lnTo>
                  <a:pt x="17424400" y="22259923"/>
                </a:lnTo>
                <a:lnTo>
                  <a:pt x="17402176" y="22224999"/>
                </a:lnTo>
                <a:lnTo>
                  <a:pt x="17379950" y="22193249"/>
                </a:lnTo>
                <a:lnTo>
                  <a:pt x="17354550" y="22161499"/>
                </a:lnTo>
                <a:lnTo>
                  <a:pt x="17329150" y="22132923"/>
                </a:lnTo>
                <a:lnTo>
                  <a:pt x="17303750" y="22107523"/>
                </a:lnTo>
                <a:lnTo>
                  <a:pt x="17272000" y="22082123"/>
                </a:lnTo>
                <a:lnTo>
                  <a:pt x="17243424" y="22059899"/>
                </a:lnTo>
                <a:lnTo>
                  <a:pt x="17211676" y="22037675"/>
                </a:lnTo>
                <a:lnTo>
                  <a:pt x="17176750" y="22018623"/>
                </a:lnTo>
                <a:lnTo>
                  <a:pt x="17141824" y="22002749"/>
                </a:lnTo>
                <a:lnTo>
                  <a:pt x="17106900" y="21986875"/>
                </a:lnTo>
                <a:lnTo>
                  <a:pt x="17068800" y="21974175"/>
                </a:lnTo>
                <a:lnTo>
                  <a:pt x="17030700" y="21964649"/>
                </a:lnTo>
                <a:lnTo>
                  <a:pt x="16989424" y="21955123"/>
                </a:lnTo>
                <a:lnTo>
                  <a:pt x="16944976" y="21948775"/>
                </a:lnTo>
                <a:lnTo>
                  <a:pt x="16903700" y="21942423"/>
                </a:lnTo>
                <a:lnTo>
                  <a:pt x="16856076" y="21939249"/>
                </a:lnTo>
                <a:lnTo>
                  <a:pt x="16811624" y="21939249"/>
                </a:lnTo>
                <a:lnTo>
                  <a:pt x="16760825" y="21939249"/>
                </a:lnTo>
                <a:lnTo>
                  <a:pt x="16713200" y="21942423"/>
                </a:lnTo>
                <a:lnTo>
                  <a:pt x="16665575" y="21948775"/>
                </a:lnTo>
                <a:lnTo>
                  <a:pt x="16621125" y="21958299"/>
                </a:lnTo>
                <a:lnTo>
                  <a:pt x="16579850" y="21967823"/>
                </a:lnTo>
                <a:lnTo>
                  <a:pt x="16538575" y="21983699"/>
                </a:lnTo>
                <a:lnTo>
                  <a:pt x="16497300" y="21999575"/>
                </a:lnTo>
                <a:lnTo>
                  <a:pt x="16459200" y="22018623"/>
                </a:lnTo>
                <a:lnTo>
                  <a:pt x="16421100" y="22037675"/>
                </a:lnTo>
                <a:lnTo>
                  <a:pt x="16386175" y="22063075"/>
                </a:lnTo>
                <a:lnTo>
                  <a:pt x="16354425" y="22088475"/>
                </a:lnTo>
                <a:lnTo>
                  <a:pt x="16322675" y="22117049"/>
                </a:lnTo>
                <a:lnTo>
                  <a:pt x="16294100" y="22148799"/>
                </a:lnTo>
                <a:lnTo>
                  <a:pt x="16265525" y="22180549"/>
                </a:lnTo>
                <a:lnTo>
                  <a:pt x="16236950" y="22215475"/>
                </a:lnTo>
                <a:lnTo>
                  <a:pt x="16214725" y="22256749"/>
                </a:lnTo>
                <a:lnTo>
                  <a:pt x="16268700" y="21215349"/>
                </a:lnTo>
                <a:lnTo>
                  <a:pt x="17459324" y="21215349"/>
                </a:lnTo>
                <a:lnTo>
                  <a:pt x="17459324" y="20593049"/>
                </a:lnTo>
                <a:lnTo>
                  <a:pt x="15652750" y="20593049"/>
                </a:lnTo>
                <a:lnTo>
                  <a:pt x="15528925" y="23120349"/>
                </a:lnTo>
                <a:lnTo>
                  <a:pt x="16176625" y="23120349"/>
                </a:lnTo>
                <a:lnTo>
                  <a:pt x="16176625" y="22990175"/>
                </a:lnTo>
                <a:lnTo>
                  <a:pt x="16176625" y="22933023"/>
                </a:lnTo>
                <a:lnTo>
                  <a:pt x="16182975" y="22879049"/>
                </a:lnTo>
                <a:lnTo>
                  <a:pt x="16189325" y="22831423"/>
                </a:lnTo>
                <a:lnTo>
                  <a:pt x="16198850" y="22790149"/>
                </a:lnTo>
                <a:lnTo>
                  <a:pt x="16214725" y="22748875"/>
                </a:lnTo>
                <a:lnTo>
                  <a:pt x="16230600" y="22713949"/>
                </a:lnTo>
                <a:lnTo>
                  <a:pt x="16249650" y="22682199"/>
                </a:lnTo>
                <a:lnTo>
                  <a:pt x="16271875" y="22656799"/>
                </a:lnTo>
                <a:lnTo>
                  <a:pt x="16297275" y="22634575"/>
                </a:lnTo>
                <a:lnTo>
                  <a:pt x="16325850" y="22615523"/>
                </a:lnTo>
                <a:lnTo>
                  <a:pt x="16354425" y="22599649"/>
                </a:lnTo>
                <a:lnTo>
                  <a:pt x="16386175" y="22583775"/>
                </a:lnTo>
                <a:lnTo>
                  <a:pt x="16417925" y="22574249"/>
                </a:lnTo>
                <a:lnTo>
                  <a:pt x="16452850" y="22567899"/>
                </a:lnTo>
                <a:lnTo>
                  <a:pt x="16490950" y="22561549"/>
                </a:lnTo>
                <a:lnTo>
                  <a:pt x="16529050" y="22561549"/>
                </a:lnTo>
                <a:lnTo>
                  <a:pt x="16570325" y="22561549"/>
                </a:lnTo>
                <a:lnTo>
                  <a:pt x="16608425" y="22567899"/>
                </a:lnTo>
                <a:lnTo>
                  <a:pt x="16643350" y="22574249"/>
                </a:lnTo>
                <a:lnTo>
                  <a:pt x="16675100" y="22583775"/>
                </a:lnTo>
                <a:lnTo>
                  <a:pt x="16706850" y="22599649"/>
                </a:lnTo>
                <a:lnTo>
                  <a:pt x="16735425" y="22615523"/>
                </a:lnTo>
                <a:lnTo>
                  <a:pt x="16764000" y="22634575"/>
                </a:lnTo>
                <a:lnTo>
                  <a:pt x="16789400" y="22656799"/>
                </a:lnTo>
                <a:lnTo>
                  <a:pt x="16811624" y="22682199"/>
                </a:lnTo>
                <a:lnTo>
                  <a:pt x="16830676" y="22713949"/>
                </a:lnTo>
                <a:lnTo>
                  <a:pt x="16846550" y="22748875"/>
                </a:lnTo>
                <a:lnTo>
                  <a:pt x="16862424" y="22790149"/>
                </a:lnTo>
                <a:lnTo>
                  <a:pt x="16871950" y="22831423"/>
                </a:lnTo>
                <a:lnTo>
                  <a:pt x="16878300" y="22879049"/>
                </a:lnTo>
                <a:lnTo>
                  <a:pt x="16884650" y="22933023"/>
                </a:lnTo>
                <a:lnTo>
                  <a:pt x="16884650" y="22990175"/>
                </a:lnTo>
                <a:lnTo>
                  <a:pt x="16884650" y="23949023"/>
                </a:lnTo>
                <a:lnTo>
                  <a:pt x="16884650" y="24006175"/>
                </a:lnTo>
                <a:lnTo>
                  <a:pt x="16878300" y="24056975"/>
                </a:lnTo>
                <a:lnTo>
                  <a:pt x="16871950" y="24104599"/>
                </a:lnTo>
                <a:lnTo>
                  <a:pt x="16862424" y="24149049"/>
                </a:lnTo>
                <a:lnTo>
                  <a:pt x="16846550" y="24187149"/>
                </a:lnTo>
                <a:lnTo>
                  <a:pt x="16830676" y="24222075"/>
                </a:lnTo>
                <a:lnTo>
                  <a:pt x="16811624" y="24253823"/>
                </a:lnTo>
                <a:lnTo>
                  <a:pt x="16789400" y="24279223"/>
                </a:lnTo>
                <a:lnTo>
                  <a:pt x="16764000" y="24301449"/>
                </a:lnTo>
                <a:lnTo>
                  <a:pt x="16735425" y="24320499"/>
                </a:lnTo>
                <a:lnTo>
                  <a:pt x="16706850" y="24336375"/>
                </a:lnTo>
                <a:lnTo>
                  <a:pt x="16675100" y="24349075"/>
                </a:lnTo>
                <a:lnTo>
                  <a:pt x="16643350" y="24358599"/>
                </a:lnTo>
                <a:lnTo>
                  <a:pt x="16608425" y="24364949"/>
                </a:lnTo>
                <a:lnTo>
                  <a:pt x="16570325" y="24371299"/>
                </a:lnTo>
                <a:lnTo>
                  <a:pt x="16529050" y="24371299"/>
                </a:lnTo>
                <a:lnTo>
                  <a:pt x="16490950" y="24371299"/>
                </a:lnTo>
                <a:lnTo>
                  <a:pt x="16452850" y="24364949"/>
                </a:lnTo>
                <a:lnTo>
                  <a:pt x="16417925" y="24358599"/>
                </a:lnTo>
                <a:lnTo>
                  <a:pt x="16386175" y="24349075"/>
                </a:lnTo>
                <a:lnTo>
                  <a:pt x="16354425" y="24336375"/>
                </a:lnTo>
                <a:lnTo>
                  <a:pt x="16325850" y="24320499"/>
                </a:lnTo>
                <a:lnTo>
                  <a:pt x="16297275" y="24301449"/>
                </a:lnTo>
                <a:lnTo>
                  <a:pt x="16271875" y="24279223"/>
                </a:lnTo>
                <a:lnTo>
                  <a:pt x="16249650" y="24253823"/>
                </a:lnTo>
                <a:lnTo>
                  <a:pt x="16230600" y="24222075"/>
                </a:lnTo>
                <a:lnTo>
                  <a:pt x="16214725" y="24187149"/>
                </a:lnTo>
                <a:lnTo>
                  <a:pt x="16198850" y="24149049"/>
                </a:lnTo>
                <a:lnTo>
                  <a:pt x="16189325" y="24104599"/>
                </a:lnTo>
                <a:lnTo>
                  <a:pt x="16182975" y="24056975"/>
                </a:lnTo>
                <a:lnTo>
                  <a:pt x="16176625" y="24006175"/>
                </a:lnTo>
                <a:lnTo>
                  <a:pt x="16176625" y="23949023"/>
                </a:lnTo>
                <a:lnTo>
                  <a:pt x="16176625" y="23542623"/>
                </a:lnTo>
                <a:lnTo>
                  <a:pt x="15528925" y="23542623"/>
                </a:lnTo>
                <a:lnTo>
                  <a:pt x="15528925" y="23904575"/>
                </a:lnTo>
                <a:lnTo>
                  <a:pt x="15528925" y="23971249"/>
                </a:lnTo>
                <a:lnTo>
                  <a:pt x="15532100" y="24034749"/>
                </a:lnTo>
                <a:lnTo>
                  <a:pt x="15538450" y="24095075"/>
                </a:lnTo>
                <a:lnTo>
                  <a:pt x="15544800" y="24155399"/>
                </a:lnTo>
                <a:lnTo>
                  <a:pt x="15554325" y="24212549"/>
                </a:lnTo>
                <a:lnTo>
                  <a:pt x="15563850" y="24266523"/>
                </a:lnTo>
                <a:lnTo>
                  <a:pt x="15579725" y="24320499"/>
                </a:lnTo>
                <a:lnTo>
                  <a:pt x="15592425" y="24371299"/>
                </a:lnTo>
                <a:lnTo>
                  <a:pt x="15611475" y="24422099"/>
                </a:lnTo>
                <a:lnTo>
                  <a:pt x="15630525" y="24469723"/>
                </a:lnTo>
                <a:lnTo>
                  <a:pt x="15649575" y="24517349"/>
                </a:lnTo>
                <a:lnTo>
                  <a:pt x="15674975" y="24558623"/>
                </a:lnTo>
                <a:lnTo>
                  <a:pt x="15700375" y="24603075"/>
                </a:lnTo>
                <a:lnTo>
                  <a:pt x="15725775" y="24641175"/>
                </a:lnTo>
                <a:lnTo>
                  <a:pt x="15754350" y="24682449"/>
                </a:lnTo>
                <a:lnTo>
                  <a:pt x="15786100" y="24717375"/>
                </a:lnTo>
                <a:lnTo>
                  <a:pt x="15817850" y="24749123"/>
                </a:lnTo>
                <a:lnTo>
                  <a:pt x="15849600" y="24780875"/>
                </a:lnTo>
                <a:lnTo>
                  <a:pt x="15884525" y="24806275"/>
                </a:lnTo>
                <a:lnTo>
                  <a:pt x="15919450" y="24834849"/>
                </a:lnTo>
                <a:lnTo>
                  <a:pt x="15957550" y="24857075"/>
                </a:lnTo>
                <a:lnTo>
                  <a:pt x="15998825" y="24879299"/>
                </a:lnTo>
                <a:lnTo>
                  <a:pt x="16040100" y="24901523"/>
                </a:lnTo>
                <a:lnTo>
                  <a:pt x="16081375" y="24920575"/>
                </a:lnTo>
                <a:lnTo>
                  <a:pt x="14678025" y="24920575"/>
                </a:lnTo>
                <a:lnTo>
                  <a:pt x="14678025" y="20593049"/>
                </a:lnTo>
                <a:lnTo>
                  <a:pt x="14214475" y="20593049"/>
                </a:lnTo>
                <a:lnTo>
                  <a:pt x="14195425" y="20650199"/>
                </a:lnTo>
                <a:lnTo>
                  <a:pt x="14176375" y="20704175"/>
                </a:lnTo>
                <a:lnTo>
                  <a:pt x="14154150" y="20754975"/>
                </a:lnTo>
                <a:lnTo>
                  <a:pt x="14128750" y="20805775"/>
                </a:lnTo>
                <a:lnTo>
                  <a:pt x="14103350" y="20853399"/>
                </a:lnTo>
                <a:lnTo>
                  <a:pt x="14071600" y="20897849"/>
                </a:lnTo>
                <a:lnTo>
                  <a:pt x="14036675" y="20942299"/>
                </a:lnTo>
                <a:lnTo>
                  <a:pt x="13998575" y="20980399"/>
                </a:lnTo>
                <a:lnTo>
                  <a:pt x="13954125" y="21015323"/>
                </a:lnTo>
                <a:lnTo>
                  <a:pt x="13906500" y="21047075"/>
                </a:lnTo>
                <a:lnTo>
                  <a:pt x="13849350" y="21075649"/>
                </a:lnTo>
                <a:lnTo>
                  <a:pt x="13789025" y="21097875"/>
                </a:lnTo>
                <a:lnTo>
                  <a:pt x="13722350" y="21116923"/>
                </a:lnTo>
                <a:lnTo>
                  <a:pt x="13642975" y="21129623"/>
                </a:lnTo>
                <a:lnTo>
                  <a:pt x="13557250" y="21139149"/>
                </a:lnTo>
                <a:lnTo>
                  <a:pt x="13462000" y="21142323"/>
                </a:lnTo>
                <a:lnTo>
                  <a:pt x="13462000" y="21628099"/>
                </a:lnTo>
                <a:lnTo>
                  <a:pt x="13992225" y="21628099"/>
                </a:lnTo>
                <a:lnTo>
                  <a:pt x="13992225" y="24920575"/>
                </a:lnTo>
                <a:lnTo>
                  <a:pt x="12417429" y="24920575"/>
                </a:lnTo>
                <a:lnTo>
                  <a:pt x="12461879" y="24901523"/>
                </a:lnTo>
                <a:lnTo>
                  <a:pt x="12503154" y="24879299"/>
                </a:lnTo>
                <a:lnTo>
                  <a:pt x="12544429" y="24857075"/>
                </a:lnTo>
                <a:lnTo>
                  <a:pt x="12582529" y="24834849"/>
                </a:lnTo>
                <a:lnTo>
                  <a:pt x="12617454" y="24806275"/>
                </a:lnTo>
                <a:lnTo>
                  <a:pt x="12652379" y="24780875"/>
                </a:lnTo>
                <a:lnTo>
                  <a:pt x="12687304" y="24749123"/>
                </a:lnTo>
                <a:lnTo>
                  <a:pt x="12719054" y="24717375"/>
                </a:lnTo>
                <a:lnTo>
                  <a:pt x="12750804" y="24682449"/>
                </a:lnTo>
                <a:lnTo>
                  <a:pt x="12782554" y="24641175"/>
                </a:lnTo>
                <a:lnTo>
                  <a:pt x="12811129" y="24603075"/>
                </a:lnTo>
                <a:lnTo>
                  <a:pt x="12836529" y="24558623"/>
                </a:lnTo>
                <a:lnTo>
                  <a:pt x="12861929" y="24517349"/>
                </a:lnTo>
                <a:lnTo>
                  <a:pt x="12880979" y="24469723"/>
                </a:lnTo>
                <a:lnTo>
                  <a:pt x="12903204" y="24422099"/>
                </a:lnTo>
                <a:lnTo>
                  <a:pt x="12919079" y="24371299"/>
                </a:lnTo>
                <a:lnTo>
                  <a:pt x="12934954" y="24320499"/>
                </a:lnTo>
                <a:lnTo>
                  <a:pt x="12950829" y="24266523"/>
                </a:lnTo>
                <a:lnTo>
                  <a:pt x="12960350" y="24212549"/>
                </a:lnTo>
                <a:lnTo>
                  <a:pt x="12969875" y="24155399"/>
                </a:lnTo>
                <a:lnTo>
                  <a:pt x="12976225" y="24095075"/>
                </a:lnTo>
                <a:lnTo>
                  <a:pt x="12982575" y="24034749"/>
                </a:lnTo>
                <a:lnTo>
                  <a:pt x="12985750" y="23971249"/>
                </a:lnTo>
                <a:lnTo>
                  <a:pt x="12985750" y="23904575"/>
                </a:lnTo>
                <a:lnTo>
                  <a:pt x="12985750" y="21640799"/>
                </a:lnTo>
                <a:lnTo>
                  <a:pt x="12985750" y="21574123"/>
                </a:lnTo>
                <a:lnTo>
                  <a:pt x="12982575" y="21510623"/>
                </a:lnTo>
                <a:lnTo>
                  <a:pt x="12976225" y="21450299"/>
                </a:lnTo>
                <a:lnTo>
                  <a:pt x="12969875" y="21389975"/>
                </a:lnTo>
                <a:lnTo>
                  <a:pt x="12960350" y="21332823"/>
                </a:lnTo>
                <a:lnTo>
                  <a:pt x="12950829" y="21275675"/>
                </a:lnTo>
                <a:lnTo>
                  <a:pt x="12934954" y="21224875"/>
                </a:lnTo>
                <a:lnTo>
                  <a:pt x="12919079" y="21170899"/>
                </a:lnTo>
                <a:lnTo>
                  <a:pt x="12903204" y="21123275"/>
                </a:lnTo>
                <a:lnTo>
                  <a:pt x="12880979" y="21075649"/>
                </a:lnTo>
                <a:lnTo>
                  <a:pt x="12861929" y="21028023"/>
                </a:lnTo>
                <a:lnTo>
                  <a:pt x="12836529" y="20983575"/>
                </a:lnTo>
                <a:lnTo>
                  <a:pt x="12811129" y="20942299"/>
                </a:lnTo>
                <a:lnTo>
                  <a:pt x="12782554" y="20901023"/>
                </a:lnTo>
                <a:lnTo>
                  <a:pt x="12750804" y="20862923"/>
                </a:lnTo>
                <a:lnTo>
                  <a:pt x="12719054" y="20827999"/>
                </a:lnTo>
                <a:lnTo>
                  <a:pt x="12690479" y="20796249"/>
                </a:lnTo>
                <a:lnTo>
                  <a:pt x="12658729" y="20767675"/>
                </a:lnTo>
                <a:lnTo>
                  <a:pt x="12623804" y="20742275"/>
                </a:lnTo>
                <a:lnTo>
                  <a:pt x="12588879" y="20716875"/>
                </a:lnTo>
                <a:lnTo>
                  <a:pt x="12553954" y="20694649"/>
                </a:lnTo>
                <a:lnTo>
                  <a:pt x="12515854" y="20672423"/>
                </a:lnTo>
                <a:lnTo>
                  <a:pt x="12477754" y="20650199"/>
                </a:lnTo>
                <a:lnTo>
                  <a:pt x="12439654" y="20634323"/>
                </a:lnTo>
                <a:lnTo>
                  <a:pt x="12395204" y="20615275"/>
                </a:lnTo>
                <a:lnTo>
                  <a:pt x="12353929" y="20602575"/>
                </a:lnTo>
                <a:lnTo>
                  <a:pt x="12309479" y="20589875"/>
                </a:lnTo>
                <a:lnTo>
                  <a:pt x="12261854" y="20577175"/>
                </a:lnTo>
                <a:lnTo>
                  <a:pt x="12217404" y="20567649"/>
                </a:lnTo>
                <a:lnTo>
                  <a:pt x="12166604" y="20558123"/>
                </a:lnTo>
                <a:lnTo>
                  <a:pt x="12065004" y="20548599"/>
                </a:lnTo>
                <a:lnTo>
                  <a:pt x="12099929" y="20542249"/>
                </a:lnTo>
                <a:lnTo>
                  <a:pt x="12131679" y="20529549"/>
                </a:lnTo>
                <a:lnTo>
                  <a:pt x="12166604" y="20510499"/>
                </a:lnTo>
                <a:lnTo>
                  <a:pt x="12195179" y="20488275"/>
                </a:lnTo>
                <a:lnTo>
                  <a:pt x="12211054" y="20472399"/>
                </a:lnTo>
                <a:lnTo>
                  <a:pt x="12223754" y="20453349"/>
                </a:lnTo>
                <a:lnTo>
                  <a:pt x="12239629" y="20434299"/>
                </a:lnTo>
                <a:lnTo>
                  <a:pt x="12249154" y="20412075"/>
                </a:lnTo>
                <a:lnTo>
                  <a:pt x="12261854" y="20386675"/>
                </a:lnTo>
                <a:lnTo>
                  <a:pt x="12271379" y="20361275"/>
                </a:lnTo>
                <a:lnTo>
                  <a:pt x="12280904" y="20329523"/>
                </a:lnTo>
                <a:lnTo>
                  <a:pt x="12290429" y="20297775"/>
                </a:lnTo>
                <a:lnTo>
                  <a:pt x="12461879" y="19494499"/>
                </a:lnTo>
                <a:lnTo>
                  <a:pt x="12569829" y="19494499"/>
                </a:lnTo>
                <a:lnTo>
                  <a:pt x="12582529" y="19434175"/>
                </a:lnTo>
                <a:lnTo>
                  <a:pt x="12471404" y="19434175"/>
                </a:lnTo>
                <a:lnTo>
                  <a:pt x="12496804" y="19316699"/>
                </a:lnTo>
                <a:lnTo>
                  <a:pt x="12506329" y="19281775"/>
                </a:lnTo>
                <a:lnTo>
                  <a:pt x="12519029" y="19253199"/>
                </a:lnTo>
                <a:lnTo>
                  <a:pt x="12531729" y="19234149"/>
                </a:lnTo>
                <a:lnTo>
                  <a:pt x="12544429" y="19218275"/>
                </a:lnTo>
                <a:lnTo>
                  <a:pt x="12560304" y="19205575"/>
                </a:lnTo>
                <a:lnTo>
                  <a:pt x="12576179" y="19199223"/>
                </a:lnTo>
                <a:lnTo>
                  <a:pt x="12588879" y="19196049"/>
                </a:lnTo>
                <a:lnTo>
                  <a:pt x="12601579" y="19192875"/>
                </a:lnTo>
                <a:lnTo>
                  <a:pt x="12623804" y="19196049"/>
                </a:lnTo>
                <a:lnTo>
                  <a:pt x="12633329" y="19199223"/>
                </a:lnTo>
                <a:lnTo>
                  <a:pt x="12642854" y="19205575"/>
                </a:lnTo>
                <a:lnTo>
                  <a:pt x="12649204" y="19211923"/>
                </a:lnTo>
                <a:lnTo>
                  <a:pt x="12655554" y="19221449"/>
                </a:lnTo>
                <a:lnTo>
                  <a:pt x="12658729" y="19230975"/>
                </a:lnTo>
                <a:lnTo>
                  <a:pt x="12658729" y="19243675"/>
                </a:lnTo>
                <a:lnTo>
                  <a:pt x="12655554" y="19284949"/>
                </a:lnTo>
                <a:lnTo>
                  <a:pt x="12725404" y="19284949"/>
                </a:lnTo>
                <a:lnTo>
                  <a:pt x="12728579" y="19256375"/>
                </a:lnTo>
                <a:lnTo>
                  <a:pt x="12731754" y="19224623"/>
                </a:lnTo>
                <a:lnTo>
                  <a:pt x="12728579" y="19205575"/>
                </a:lnTo>
                <a:lnTo>
                  <a:pt x="12725404" y="19189699"/>
                </a:lnTo>
                <a:lnTo>
                  <a:pt x="12715879" y="19157949"/>
                </a:lnTo>
                <a:lnTo>
                  <a:pt x="12700004" y="19129375"/>
                </a:lnTo>
                <a:lnTo>
                  <a:pt x="12677779" y="19107149"/>
                </a:lnTo>
                <a:lnTo>
                  <a:pt x="12649204" y="19088099"/>
                </a:lnTo>
                <a:lnTo>
                  <a:pt x="12620629" y="19075399"/>
                </a:lnTo>
                <a:lnTo>
                  <a:pt x="12588879" y="19065875"/>
                </a:lnTo>
                <a:lnTo>
                  <a:pt x="12553954" y="19062699"/>
                </a:lnTo>
                <a:lnTo>
                  <a:pt x="12515854" y="19065875"/>
                </a:lnTo>
                <a:lnTo>
                  <a:pt x="12477754" y="19072223"/>
                </a:lnTo>
                <a:lnTo>
                  <a:pt x="12458704" y="19078575"/>
                </a:lnTo>
                <a:lnTo>
                  <a:pt x="12436479" y="19084923"/>
                </a:lnTo>
                <a:lnTo>
                  <a:pt x="12417429" y="19097623"/>
                </a:lnTo>
                <a:lnTo>
                  <a:pt x="12398379" y="19110323"/>
                </a:lnTo>
                <a:lnTo>
                  <a:pt x="12379329" y="19123023"/>
                </a:lnTo>
                <a:lnTo>
                  <a:pt x="12363454" y="19142075"/>
                </a:lnTo>
                <a:lnTo>
                  <a:pt x="12347579" y="19161123"/>
                </a:lnTo>
                <a:lnTo>
                  <a:pt x="12331704" y="19186523"/>
                </a:lnTo>
                <a:lnTo>
                  <a:pt x="12315829" y="19211923"/>
                </a:lnTo>
                <a:lnTo>
                  <a:pt x="12303129" y="19243675"/>
                </a:lnTo>
                <a:lnTo>
                  <a:pt x="12293604" y="19278599"/>
                </a:lnTo>
                <a:lnTo>
                  <a:pt x="12284079" y="19316699"/>
                </a:lnTo>
                <a:lnTo>
                  <a:pt x="12217404" y="19634199"/>
                </a:lnTo>
                <a:lnTo>
                  <a:pt x="12185654" y="19643723"/>
                </a:lnTo>
                <a:lnTo>
                  <a:pt x="12153904" y="19653249"/>
                </a:lnTo>
                <a:lnTo>
                  <a:pt x="12125329" y="19659599"/>
                </a:lnTo>
                <a:lnTo>
                  <a:pt x="12096754" y="19662775"/>
                </a:lnTo>
                <a:lnTo>
                  <a:pt x="12090404" y="19662775"/>
                </a:lnTo>
                <a:lnTo>
                  <a:pt x="12080879" y="19659599"/>
                </a:lnTo>
                <a:lnTo>
                  <a:pt x="12077704" y="19602449"/>
                </a:lnTo>
                <a:lnTo>
                  <a:pt x="12068179" y="19554823"/>
                </a:lnTo>
                <a:lnTo>
                  <a:pt x="12061829" y="19532599"/>
                </a:lnTo>
                <a:lnTo>
                  <a:pt x="12055479" y="19513549"/>
                </a:lnTo>
                <a:lnTo>
                  <a:pt x="12045954" y="19497675"/>
                </a:lnTo>
                <a:lnTo>
                  <a:pt x="12033254" y="19481799"/>
                </a:lnTo>
                <a:lnTo>
                  <a:pt x="12020554" y="19465923"/>
                </a:lnTo>
                <a:lnTo>
                  <a:pt x="12007854" y="19453223"/>
                </a:lnTo>
                <a:lnTo>
                  <a:pt x="11991979" y="19443699"/>
                </a:lnTo>
                <a:lnTo>
                  <a:pt x="11972929" y="19434175"/>
                </a:lnTo>
                <a:lnTo>
                  <a:pt x="11953879" y="19427823"/>
                </a:lnTo>
                <a:lnTo>
                  <a:pt x="11934829" y="19424649"/>
                </a:lnTo>
                <a:lnTo>
                  <a:pt x="11912604" y="19421475"/>
                </a:lnTo>
                <a:lnTo>
                  <a:pt x="11890379" y="19421475"/>
                </a:lnTo>
                <a:lnTo>
                  <a:pt x="11861804" y="19421475"/>
                </a:lnTo>
                <a:lnTo>
                  <a:pt x="11833229" y="19424649"/>
                </a:lnTo>
                <a:lnTo>
                  <a:pt x="11807829" y="19427823"/>
                </a:lnTo>
                <a:lnTo>
                  <a:pt x="11785604" y="19437349"/>
                </a:lnTo>
                <a:lnTo>
                  <a:pt x="11760204" y="19443699"/>
                </a:lnTo>
                <a:lnTo>
                  <a:pt x="11737979" y="19453223"/>
                </a:lnTo>
                <a:lnTo>
                  <a:pt x="11696704" y="19478623"/>
                </a:lnTo>
                <a:lnTo>
                  <a:pt x="11658604" y="19507199"/>
                </a:lnTo>
                <a:lnTo>
                  <a:pt x="11626854" y="19542123"/>
                </a:lnTo>
                <a:lnTo>
                  <a:pt x="11595104" y="19580223"/>
                </a:lnTo>
                <a:lnTo>
                  <a:pt x="11569704" y="19621499"/>
                </a:lnTo>
                <a:lnTo>
                  <a:pt x="11547479" y="19662775"/>
                </a:lnTo>
                <a:lnTo>
                  <a:pt x="11528429" y="19707223"/>
                </a:lnTo>
                <a:lnTo>
                  <a:pt x="11515729" y="19751675"/>
                </a:lnTo>
                <a:lnTo>
                  <a:pt x="11503029" y="19792949"/>
                </a:lnTo>
                <a:lnTo>
                  <a:pt x="11493504" y="19837399"/>
                </a:lnTo>
                <a:lnTo>
                  <a:pt x="11487154" y="19878675"/>
                </a:lnTo>
                <a:lnTo>
                  <a:pt x="11483979" y="19913599"/>
                </a:lnTo>
                <a:lnTo>
                  <a:pt x="11480804" y="19948523"/>
                </a:lnTo>
                <a:lnTo>
                  <a:pt x="11483979" y="19980275"/>
                </a:lnTo>
                <a:lnTo>
                  <a:pt x="11487154" y="20008849"/>
                </a:lnTo>
                <a:lnTo>
                  <a:pt x="11490329" y="20034249"/>
                </a:lnTo>
                <a:lnTo>
                  <a:pt x="11499854" y="20056475"/>
                </a:lnTo>
                <a:lnTo>
                  <a:pt x="11509379" y="20078699"/>
                </a:lnTo>
                <a:lnTo>
                  <a:pt x="11522079" y="20097749"/>
                </a:lnTo>
                <a:lnTo>
                  <a:pt x="11534779" y="20116799"/>
                </a:lnTo>
                <a:lnTo>
                  <a:pt x="11547479" y="20129499"/>
                </a:lnTo>
                <a:lnTo>
                  <a:pt x="11566529" y="20142199"/>
                </a:lnTo>
                <a:lnTo>
                  <a:pt x="11582404" y="20154899"/>
                </a:lnTo>
                <a:lnTo>
                  <a:pt x="11604629" y="20164423"/>
                </a:lnTo>
                <a:lnTo>
                  <a:pt x="11623679" y="20170775"/>
                </a:lnTo>
                <a:lnTo>
                  <a:pt x="11645904" y="20177123"/>
                </a:lnTo>
                <a:lnTo>
                  <a:pt x="11671304" y="20180299"/>
                </a:lnTo>
                <a:lnTo>
                  <a:pt x="11718929" y="20183475"/>
                </a:lnTo>
                <a:lnTo>
                  <a:pt x="11753854" y="20183475"/>
                </a:lnTo>
                <a:lnTo>
                  <a:pt x="11785604" y="20177123"/>
                </a:lnTo>
                <a:lnTo>
                  <a:pt x="11817354" y="20167599"/>
                </a:lnTo>
                <a:lnTo>
                  <a:pt x="11849104" y="20151723"/>
                </a:lnTo>
                <a:lnTo>
                  <a:pt x="11877679" y="20135849"/>
                </a:lnTo>
                <a:lnTo>
                  <a:pt x="11906254" y="20116799"/>
                </a:lnTo>
                <a:lnTo>
                  <a:pt x="11931654" y="20091399"/>
                </a:lnTo>
                <a:lnTo>
                  <a:pt x="11957054" y="20062823"/>
                </a:lnTo>
                <a:lnTo>
                  <a:pt x="11979279" y="20034249"/>
                </a:lnTo>
                <a:lnTo>
                  <a:pt x="12001504" y="19999323"/>
                </a:lnTo>
                <a:lnTo>
                  <a:pt x="12020554" y="19961223"/>
                </a:lnTo>
                <a:lnTo>
                  <a:pt x="12036429" y="19923123"/>
                </a:lnTo>
                <a:lnTo>
                  <a:pt x="12049129" y="19878675"/>
                </a:lnTo>
                <a:lnTo>
                  <a:pt x="12061829" y="19834223"/>
                </a:lnTo>
                <a:lnTo>
                  <a:pt x="12071354" y="19786599"/>
                </a:lnTo>
                <a:lnTo>
                  <a:pt x="12077704" y="19735799"/>
                </a:lnTo>
                <a:lnTo>
                  <a:pt x="12141204" y="19723099"/>
                </a:lnTo>
                <a:lnTo>
                  <a:pt x="12201529" y="19700875"/>
                </a:lnTo>
                <a:lnTo>
                  <a:pt x="12103104" y="20167599"/>
                </a:lnTo>
                <a:lnTo>
                  <a:pt x="12052304" y="20183475"/>
                </a:lnTo>
                <a:lnTo>
                  <a:pt x="12004679" y="20199349"/>
                </a:lnTo>
                <a:lnTo>
                  <a:pt x="11960229" y="20221575"/>
                </a:lnTo>
                <a:lnTo>
                  <a:pt x="11922129" y="20243799"/>
                </a:lnTo>
                <a:lnTo>
                  <a:pt x="11906254" y="20256499"/>
                </a:lnTo>
                <a:lnTo>
                  <a:pt x="11890379" y="20272375"/>
                </a:lnTo>
                <a:lnTo>
                  <a:pt x="11877679" y="20285075"/>
                </a:lnTo>
                <a:lnTo>
                  <a:pt x="11868154" y="20304123"/>
                </a:lnTo>
                <a:lnTo>
                  <a:pt x="11858629" y="20323175"/>
                </a:lnTo>
                <a:lnTo>
                  <a:pt x="11852279" y="20342223"/>
                </a:lnTo>
                <a:lnTo>
                  <a:pt x="11849104" y="20364449"/>
                </a:lnTo>
                <a:lnTo>
                  <a:pt x="11845929" y="20389849"/>
                </a:lnTo>
                <a:lnTo>
                  <a:pt x="11849104" y="20418423"/>
                </a:lnTo>
                <a:lnTo>
                  <a:pt x="11855454" y="20443823"/>
                </a:lnTo>
                <a:lnTo>
                  <a:pt x="11868154" y="20469223"/>
                </a:lnTo>
                <a:lnTo>
                  <a:pt x="11884029" y="20488275"/>
                </a:lnTo>
                <a:lnTo>
                  <a:pt x="11903079" y="20507323"/>
                </a:lnTo>
                <a:lnTo>
                  <a:pt x="11922129" y="20523199"/>
                </a:lnTo>
                <a:lnTo>
                  <a:pt x="11947529" y="20535899"/>
                </a:lnTo>
                <a:lnTo>
                  <a:pt x="11972929" y="20545423"/>
                </a:lnTo>
                <a:lnTo>
                  <a:pt x="11947529" y="20545423"/>
                </a:lnTo>
                <a:lnTo>
                  <a:pt x="11884029" y="20545423"/>
                </a:lnTo>
                <a:lnTo>
                  <a:pt x="11823704" y="20548599"/>
                </a:lnTo>
                <a:lnTo>
                  <a:pt x="11766554" y="20554949"/>
                </a:lnTo>
                <a:lnTo>
                  <a:pt x="11709404" y="20561299"/>
                </a:lnTo>
                <a:lnTo>
                  <a:pt x="11655429" y="20570823"/>
                </a:lnTo>
                <a:lnTo>
                  <a:pt x="11601454" y="20583523"/>
                </a:lnTo>
                <a:lnTo>
                  <a:pt x="11550654" y="20599399"/>
                </a:lnTo>
                <a:lnTo>
                  <a:pt x="11503029" y="20615275"/>
                </a:lnTo>
                <a:lnTo>
                  <a:pt x="11455404" y="20634323"/>
                </a:lnTo>
                <a:lnTo>
                  <a:pt x="11410954" y="20653375"/>
                </a:lnTo>
                <a:lnTo>
                  <a:pt x="11366504" y="20678775"/>
                </a:lnTo>
                <a:lnTo>
                  <a:pt x="11325229" y="20704175"/>
                </a:lnTo>
                <a:lnTo>
                  <a:pt x="11283954" y="20732749"/>
                </a:lnTo>
                <a:lnTo>
                  <a:pt x="11245854" y="20761323"/>
                </a:lnTo>
                <a:lnTo>
                  <a:pt x="11210929" y="20793075"/>
                </a:lnTo>
                <a:lnTo>
                  <a:pt x="11176004" y="20827999"/>
                </a:lnTo>
                <a:lnTo>
                  <a:pt x="11144254" y="20862923"/>
                </a:lnTo>
                <a:lnTo>
                  <a:pt x="11112504" y="20901023"/>
                </a:lnTo>
                <a:lnTo>
                  <a:pt x="11083929" y="20942299"/>
                </a:lnTo>
                <a:lnTo>
                  <a:pt x="11058529" y="20983575"/>
                </a:lnTo>
                <a:lnTo>
                  <a:pt x="11033129" y="21028023"/>
                </a:lnTo>
                <a:lnTo>
                  <a:pt x="11014079" y="21075649"/>
                </a:lnTo>
                <a:lnTo>
                  <a:pt x="10991854" y="21123275"/>
                </a:lnTo>
                <a:lnTo>
                  <a:pt x="10975979" y="21170899"/>
                </a:lnTo>
                <a:lnTo>
                  <a:pt x="10960104" y="21224875"/>
                </a:lnTo>
                <a:lnTo>
                  <a:pt x="10944229" y="21275675"/>
                </a:lnTo>
                <a:lnTo>
                  <a:pt x="10934704" y="21332823"/>
                </a:lnTo>
                <a:lnTo>
                  <a:pt x="10925179" y="21389975"/>
                </a:lnTo>
                <a:lnTo>
                  <a:pt x="10918829" y="21450299"/>
                </a:lnTo>
                <a:lnTo>
                  <a:pt x="10912479" y="21510623"/>
                </a:lnTo>
                <a:lnTo>
                  <a:pt x="10909304" y="21574123"/>
                </a:lnTo>
                <a:lnTo>
                  <a:pt x="10909304" y="21640799"/>
                </a:lnTo>
                <a:lnTo>
                  <a:pt x="10909304" y="23904575"/>
                </a:lnTo>
                <a:lnTo>
                  <a:pt x="10909304" y="23971249"/>
                </a:lnTo>
                <a:lnTo>
                  <a:pt x="10912479" y="24034749"/>
                </a:lnTo>
                <a:lnTo>
                  <a:pt x="10918829" y="24095075"/>
                </a:lnTo>
                <a:lnTo>
                  <a:pt x="10925179" y="24155399"/>
                </a:lnTo>
                <a:lnTo>
                  <a:pt x="10934704" y="24212549"/>
                </a:lnTo>
                <a:lnTo>
                  <a:pt x="10944229" y="24266523"/>
                </a:lnTo>
                <a:lnTo>
                  <a:pt x="10960104" y="24320499"/>
                </a:lnTo>
                <a:lnTo>
                  <a:pt x="10975979" y="24371299"/>
                </a:lnTo>
                <a:lnTo>
                  <a:pt x="10991854" y="24422099"/>
                </a:lnTo>
                <a:lnTo>
                  <a:pt x="11014079" y="24469723"/>
                </a:lnTo>
                <a:lnTo>
                  <a:pt x="11033129" y="24517349"/>
                </a:lnTo>
                <a:lnTo>
                  <a:pt x="11058529" y="24558623"/>
                </a:lnTo>
                <a:lnTo>
                  <a:pt x="11083929" y="24603075"/>
                </a:lnTo>
                <a:lnTo>
                  <a:pt x="11112504" y="24641175"/>
                </a:lnTo>
                <a:lnTo>
                  <a:pt x="11144254" y="24682449"/>
                </a:lnTo>
                <a:lnTo>
                  <a:pt x="11176004" y="24717375"/>
                </a:lnTo>
                <a:lnTo>
                  <a:pt x="11207754" y="24749123"/>
                </a:lnTo>
                <a:lnTo>
                  <a:pt x="11242679" y="24780875"/>
                </a:lnTo>
                <a:lnTo>
                  <a:pt x="11277604" y="24806275"/>
                </a:lnTo>
                <a:lnTo>
                  <a:pt x="11312529" y="24834849"/>
                </a:lnTo>
                <a:lnTo>
                  <a:pt x="11350629" y="24857075"/>
                </a:lnTo>
                <a:lnTo>
                  <a:pt x="11391904" y="24879299"/>
                </a:lnTo>
                <a:lnTo>
                  <a:pt x="11433179" y="24901523"/>
                </a:lnTo>
                <a:lnTo>
                  <a:pt x="11477629" y="24920575"/>
                </a:lnTo>
                <a:lnTo>
                  <a:pt x="10312404" y="24920575"/>
                </a:lnTo>
                <a:lnTo>
                  <a:pt x="10312404" y="24326849"/>
                </a:lnTo>
                <a:lnTo>
                  <a:pt x="9017004" y="24326849"/>
                </a:lnTo>
                <a:lnTo>
                  <a:pt x="9010654" y="24279223"/>
                </a:lnTo>
                <a:lnTo>
                  <a:pt x="9010654" y="24231599"/>
                </a:lnTo>
                <a:lnTo>
                  <a:pt x="9010654" y="24187149"/>
                </a:lnTo>
                <a:lnTo>
                  <a:pt x="9017004" y="24139523"/>
                </a:lnTo>
                <a:lnTo>
                  <a:pt x="9023354" y="24095075"/>
                </a:lnTo>
                <a:lnTo>
                  <a:pt x="9036054" y="24050623"/>
                </a:lnTo>
                <a:lnTo>
                  <a:pt x="9055104" y="24006175"/>
                </a:lnTo>
                <a:lnTo>
                  <a:pt x="9074154" y="23961723"/>
                </a:lnTo>
                <a:lnTo>
                  <a:pt x="9121779" y="23872823"/>
                </a:lnTo>
                <a:lnTo>
                  <a:pt x="9175754" y="23787099"/>
                </a:lnTo>
                <a:lnTo>
                  <a:pt x="9239254" y="23698199"/>
                </a:lnTo>
                <a:lnTo>
                  <a:pt x="9309104" y="23609299"/>
                </a:lnTo>
                <a:lnTo>
                  <a:pt x="9388479" y="23520399"/>
                </a:lnTo>
                <a:lnTo>
                  <a:pt x="9467854" y="23428323"/>
                </a:lnTo>
                <a:lnTo>
                  <a:pt x="9645654" y="23234649"/>
                </a:lnTo>
                <a:lnTo>
                  <a:pt x="9737729" y="23136223"/>
                </a:lnTo>
                <a:lnTo>
                  <a:pt x="9826629" y="23028275"/>
                </a:lnTo>
                <a:lnTo>
                  <a:pt x="9912354" y="22920323"/>
                </a:lnTo>
                <a:lnTo>
                  <a:pt x="9994904" y="22802849"/>
                </a:lnTo>
                <a:lnTo>
                  <a:pt x="10033004" y="22742523"/>
                </a:lnTo>
                <a:lnTo>
                  <a:pt x="10071104" y="22682199"/>
                </a:lnTo>
                <a:lnTo>
                  <a:pt x="10109204" y="22618699"/>
                </a:lnTo>
                <a:lnTo>
                  <a:pt x="10144129" y="22555199"/>
                </a:lnTo>
                <a:lnTo>
                  <a:pt x="10175879" y="22488523"/>
                </a:lnTo>
                <a:lnTo>
                  <a:pt x="10207629" y="22421849"/>
                </a:lnTo>
                <a:lnTo>
                  <a:pt x="10236204" y="22351999"/>
                </a:lnTo>
                <a:lnTo>
                  <a:pt x="10264779" y="22282149"/>
                </a:lnTo>
                <a:lnTo>
                  <a:pt x="10290179" y="22209123"/>
                </a:lnTo>
                <a:lnTo>
                  <a:pt x="10312404" y="22132923"/>
                </a:lnTo>
                <a:lnTo>
                  <a:pt x="10331454" y="22056723"/>
                </a:lnTo>
                <a:lnTo>
                  <a:pt x="10347329" y="21977349"/>
                </a:lnTo>
                <a:lnTo>
                  <a:pt x="10360029" y="21894799"/>
                </a:lnTo>
                <a:lnTo>
                  <a:pt x="10366379" y="21812249"/>
                </a:lnTo>
                <a:lnTo>
                  <a:pt x="10372729" y="21726523"/>
                </a:lnTo>
                <a:lnTo>
                  <a:pt x="10372729" y="21640799"/>
                </a:lnTo>
                <a:lnTo>
                  <a:pt x="10372729" y="21574123"/>
                </a:lnTo>
                <a:lnTo>
                  <a:pt x="10369554" y="21510623"/>
                </a:lnTo>
                <a:lnTo>
                  <a:pt x="10366379" y="21450299"/>
                </a:lnTo>
                <a:lnTo>
                  <a:pt x="10356854" y="21389975"/>
                </a:lnTo>
                <a:lnTo>
                  <a:pt x="10350504" y="21332823"/>
                </a:lnTo>
                <a:lnTo>
                  <a:pt x="10337804" y="21275675"/>
                </a:lnTo>
                <a:lnTo>
                  <a:pt x="10325104" y="21224875"/>
                </a:lnTo>
                <a:lnTo>
                  <a:pt x="10309229" y="21170899"/>
                </a:lnTo>
                <a:lnTo>
                  <a:pt x="10293354" y="21123275"/>
                </a:lnTo>
                <a:lnTo>
                  <a:pt x="10274304" y="21075649"/>
                </a:lnTo>
                <a:lnTo>
                  <a:pt x="10252079" y="21028023"/>
                </a:lnTo>
                <a:lnTo>
                  <a:pt x="10229854" y="20983575"/>
                </a:lnTo>
                <a:lnTo>
                  <a:pt x="10204454" y="20942299"/>
                </a:lnTo>
                <a:lnTo>
                  <a:pt x="10175879" y="20901023"/>
                </a:lnTo>
                <a:lnTo>
                  <a:pt x="10147304" y="20862923"/>
                </a:lnTo>
                <a:lnTo>
                  <a:pt x="10115554" y="20827999"/>
                </a:lnTo>
                <a:lnTo>
                  <a:pt x="10083804" y="20793075"/>
                </a:lnTo>
                <a:lnTo>
                  <a:pt x="10048879" y="20761323"/>
                </a:lnTo>
                <a:lnTo>
                  <a:pt x="10010779" y="20732749"/>
                </a:lnTo>
                <a:lnTo>
                  <a:pt x="9972679" y="20704175"/>
                </a:lnTo>
                <a:lnTo>
                  <a:pt x="9931404" y="20678775"/>
                </a:lnTo>
                <a:lnTo>
                  <a:pt x="9886954" y="20653375"/>
                </a:lnTo>
                <a:lnTo>
                  <a:pt x="9842504" y="20634323"/>
                </a:lnTo>
                <a:lnTo>
                  <a:pt x="9794879" y="20615275"/>
                </a:lnTo>
                <a:lnTo>
                  <a:pt x="9747254" y="20599399"/>
                </a:lnTo>
                <a:lnTo>
                  <a:pt x="9696454" y="20583523"/>
                </a:lnTo>
                <a:lnTo>
                  <a:pt x="9645654" y="20570823"/>
                </a:lnTo>
                <a:lnTo>
                  <a:pt x="9591679" y="20561299"/>
                </a:lnTo>
                <a:lnTo>
                  <a:pt x="9534529" y="20554949"/>
                </a:lnTo>
                <a:lnTo>
                  <a:pt x="9474204" y="20548599"/>
                </a:lnTo>
                <a:lnTo>
                  <a:pt x="9417054" y="20545423"/>
                </a:lnTo>
                <a:lnTo>
                  <a:pt x="9353554" y="20545423"/>
                </a:lnTo>
                <a:lnTo>
                  <a:pt x="9290054" y="20545423"/>
                </a:lnTo>
                <a:lnTo>
                  <a:pt x="9232904" y="20548599"/>
                </a:lnTo>
                <a:lnTo>
                  <a:pt x="9172579" y="20554949"/>
                </a:lnTo>
                <a:lnTo>
                  <a:pt x="9115429" y="20561299"/>
                </a:lnTo>
                <a:lnTo>
                  <a:pt x="9061454" y="20570823"/>
                </a:lnTo>
                <a:lnTo>
                  <a:pt x="9010654" y="20583523"/>
                </a:lnTo>
                <a:lnTo>
                  <a:pt x="8959854" y="20599399"/>
                </a:lnTo>
                <a:lnTo>
                  <a:pt x="8912229" y="20615275"/>
                </a:lnTo>
                <a:lnTo>
                  <a:pt x="8864604" y="20634323"/>
                </a:lnTo>
                <a:lnTo>
                  <a:pt x="8820154" y="20653375"/>
                </a:lnTo>
                <a:lnTo>
                  <a:pt x="8775704" y="20678775"/>
                </a:lnTo>
                <a:lnTo>
                  <a:pt x="8734429" y="20704175"/>
                </a:lnTo>
                <a:lnTo>
                  <a:pt x="8696329" y="20732749"/>
                </a:lnTo>
                <a:lnTo>
                  <a:pt x="8658229" y="20761323"/>
                </a:lnTo>
                <a:lnTo>
                  <a:pt x="8623304" y="20793075"/>
                </a:lnTo>
                <a:lnTo>
                  <a:pt x="8591554" y="20827999"/>
                </a:lnTo>
                <a:lnTo>
                  <a:pt x="8559800" y="20862923"/>
                </a:lnTo>
                <a:lnTo>
                  <a:pt x="8531226" y="20901023"/>
                </a:lnTo>
                <a:lnTo>
                  <a:pt x="8502653" y="20942299"/>
                </a:lnTo>
                <a:lnTo>
                  <a:pt x="8477252" y="20983575"/>
                </a:lnTo>
                <a:lnTo>
                  <a:pt x="8455028" y="21028023"/>
                </a:lnTo>
                <a:lnTo>
                  <a:pt x="8432803" y="21075649"/>
                </a:lnTo>
                <a:lnTo>
                  <a:pt x="8413751" y="21123275"/>
                </a:lnTo>
                <a:lnTo>
                  <a:pt x="8397877" y="21170899"/>
                </a:lnTo>
                <a:lnTo>
                  <a:pt x="8382002" y="21224875"/>
                </a:lnTo>
                <a:lnTo>
                  <a:pt x="8369304" y="21275675"/>
                </a:lnTo>
                <a:lnTo>
                  <a:pt x="8356600" y="21332823"/>
                </a:lnTo>
                <a:lnTo>
                  <a:pt x="8350252" y="21389975"/>
                </a:lnTo>
                <a:lnTo>
                  <a:pt x="8340726" y="21450299"/>
                </a:lnTo>
                <a:lnTo>
                  <a:pt x="8337553" y="21510623"/>
                </a:lnTo>
                <a:lnTo>
                  <a:pt x="8334377" y="21574123"/>
                </a:lnTo>
                <a:lnTo>
                  <a:pt x="8334377" y="21640799"/>
                </a:lnTo>
                <a:lnTo>
                  <a:pt x="8334377" y="22063075"/>
                </a:lnTo>
                <a:lnTo>
                  <a:pt x="8978904" y="22063075"/>
                </a:lnTo>
                <a:lnTo>
                  <a:pt x="8978904" y="21596349"/>
                </a:lnTo>
                <a:lnTo>
                  <a:pt x="8982079" y="21539199"/>
                </a:lnTo>
                <a:lnTo>
                  <a:pt x="8985254" y="21485223"/>
                </a:lnTo>
                <a:lnTo>
                  <a:pt x="8994779" y="21437599"/>
                </a:lnTo>
                <a:lnTo>
                  <a:pt x="9004304" y="21393149"/>
                </a:lnTo>
                <a:lnTo>
                  <a:pt x="9017004" y="21355049"/>
                </a:lnTo>
                <a:lnTo>
                  <a:pt x="9032879" y="21320123"/>
                </a:lnTo>
                <a:lnTo>
                  <a:pt x="9055104" y="21288375"/>
                </a:lnTo>
                <a:lnTo>
                  <a:pt x="9077329" y="21262975"/>
                </a:lnTo>
                <a:lnTo>
                  <a:pt x="9102729" y="21240749"/>
                </a:lnTo>
                <a:lnTo>
                  <a:pt x="9128129" y="21221699"/>
                </a:lnTo>
                <a:lnTo>
                  <a:pt x="9156704" y="21205823"/>
                </a:lnTo>
                <a:lnTo>
                  <a:pt x="9188454" y="21189949"/>
                </a:lnTo>
                <a:lnTo>
                  <a:pt x="9223379" y="21180423"/>
                </a:lnTo>
                <a:lnTo>
                  <a:pt x="9258304" y="21174075"/>
                </a:lnTo>
                <a:lnTo>
                  <a:pt x="9296404" y="21167723"/>
                </a:lnTo>
                <a:lnTo>
                  <a:pt x="9334504" y="21167723"/>
                </a:lnTo>
                <a:lnTo>
                  <a:pt x="9375779" y="21167723"/>
                </a:lnTo>
                <a:lnTo>
                  <a:pt x="9410704" y="21174075"/>
                </a:lnTo>
                <a:lnTo>
                  <a:pt x="9445629" y="21180423"/>
                </a:lnTo>
                <a:lnTo>
                  <a:pt x="9480554" y="21193123"/>
                </a:lnTo>
                <a:lnTo>
                  <a:pt x="9512304" y="21205823"/>
                </a:lnTo>
                <a:lnTo>
                  <a:pt x="9540879" y="21224875"/>
                </a:lnTo>
                <a:lnTo>
                  <a:pt x="9569454" y="21243923"/>
                </a:lnTo>
                <a:lnTo>
                  <a:pt x="9594854" y="21269323"/>
                </a:lnTo>
                <a:lnTo>
                  <a:pt x="9617079" y="21297899"/>
                </a:lnTo>
                <a:lnTo>
                  <a:pt x="9636129" y="21332823"/>
                </a:lnTo>
                <a:lnTo>
                  <a:pt x="9652004" y="21374099"/>
                </a:lnTo>
                <a:lnTo>
                  <a:pt x="9664704" y="21418549"/>
                </a:lnTo>
                <a:lnTo>
                  <a:pt x="9677404" y="21472523"/>
                </a:lnTo>
                <a:lnTo>
                  <a:pt x="9683754" y="21529675"/>
                </a:lnTo>
                <a:lnTo>
                  <a:pt x="9686929" y="21593175"/>
                </a:lnTo>
                <a:lnTo>
                  <a:pt x="9690104" y="21663023"/>
                </a:lnTo>
                <a:lnTo>
                  <a:pt x="9686929" y="21742399"/>
                </a:lnTo>
                <a:lnTo>
                  <a:pt x="9683754" y="21818599"/>
                </a:lnTo>
                <a:lnTo>
                  <a:pt x="9674229" y="21891623"/>
                </a:lnTo>
                <a:lnTo>
                  <a:pt x="9664704" y="21961475"/>
                </a:lnTo>
                <a:lnTo>
                  <a:pt x="9652004" y="22028149"/>
                </a:lnTo>
                <a:lnTo>
                  <a:pt x="9632954" y="22094823"/>
                </a:lnTo>
                <a:lnTo>
                  <a:pt x="9613904" y="22158323"/>
                </a:lnTo>
                <a:lnTo>
                  <a:pt x="9591679" y="22218649"/>
                </a:lnTo>
                <a:lnTo>
                  <a:pt x="9563104" y="22275799"/>
                </a:lnTo>
                <a:lnTo>
                  <a:pt x="9537704" y="22332949"/>
                </a:lnTo>
                <a:lnTo>
                  <a:pt x="9509129" y="22390099"/>
                </a:lnTo>
                <a:lnTo>
                  <a:pt x="9477379" y="22444075"/>
                </a:lnTo>
                <a:lnTo>
                  <a:pt x="9445629" y="22498049"/>
                </a:lnTo>
                <a:lnTo>
                  <a:pt x="9410704" y="22552023"/>
                </a:lnTo>
                <a:lnTo>
                  <a:pt x="9375779" y="22602823"/>
                </a:lnTo>
                <a:lnTo>
                  <a:pt x="9337679" y="22653623"/>
                </a:lnTo>
                <a:lnTo>
                  <a:pt x="9261479" y="22752049"/>
                </a:lnTo>
                <a:lnTo>
                  <a:pt x="9178929" y="22847299"/>
                </a:lnTo>
                <a:lnTo>
                  <a:pt x="9096379" y="22939375"/>
                </a:lnTo>
                <a:lnTo>
                  <a:pt x="9010654" y="23031449"/>
                </a:lnTo>
                <a:lnTo>
                  <a:pt x="8924929" y="23120349"/>
                </a:lnTo>
                <a:lnTo>
                  <a:pt x="8842379" y="23215599"/>
                </a:lnTo>
                <a:lnTo>
                  <a:pt x="8763004" y="23310849"/>
                </a:lnTo>
                <a:lnTo>
                  <a:pt x="8683629" y="23409275"/>
                </a:lnTo>
                <a:lnTo>
                  <a:pt x="8648704" y="23460075"/>
                </a:lnTo>
                <a:lnTo>
                  <a:pt x="8610604" y="23514049"/>
                </a:lnTo>
                <a:lnTo>
                  <a:pt x="8578851" y="23568023"/>
                </a:lnTo>
                <a:lnTo>
                  <a:pt x="8543925" y="23621999"/>
                </a:lnTo>
                <a:lnTo>
                  <a:pt x="8515350" y="23679149"/>
                </a:lnTo>
                <a:lnTo>
                  <a:pt x="8486778" y="23736299"/>
                </a:lnTo>
                <a:lnTo>
                  <a:pt x="8458201" y="23793449"/>
                </a:lnTo>
                <a:lnTo>
                  <a:pt x="8432803" y="23853775"/>
                </a:lnTo>
                <a:lnTo>
                  <a:pt x="8410576" y="23917275"/>
                </a:lnTo>
                <a:lnTo>
                  <a:pt x="8388351" y="23980775"/>
                </a:lnTo>
                <a:lnTo>
                  <a:pt x="8372476" y="24047449"/>
                </a:lnTo>
                <a:lnTo>
                  <a:pt x="8356600" y="24117299"/>
                </a:lnTo>
                <a:lnTo>
                  <a:pt x="8347076" y="24187149"/>
                </a:lnTo>
                <a:lnTo>
                  <a:pt x="8340726" y="24260175"/>
                </a:lnTo>
                <a:lnTo>
                  <a:pt x="8334377" y="24336375"/>
                </a:lnTo>
                <a:lnTo>
                  <a:pt x="8334377" y="24415749"/>
                </a:lnTo>
                <a:lnTo>
                  <a:pt x="8334377" y="24920575"/>
                </a:lnTo>
                <a:lnTo>
                  <a:pt x="0" y="24920575"/>
                </a:lnTo>
                <a:lnTo>
                  <a:pt x="107950" y="24723723"/>
                </a:lnTo>
                <a:lnTo>
                  <a:pt x="222250" y="24533223"/>
                </a:lnTo>
                <a:lnTo>
                  <a:pt x="339726" y="24342723"/>
                </a:lnTo>
                <a:lnTo>
                  <a:pt x="457201" y="24152223"/>
                </a:lnTo>
                <a:lnTo>
                  <a:pt x="581025" y="23968075"/>
                </a:lnTo>
                <a:lnTo>
                  <a:pt x="708025" y="23780749"/>
                </a:lnTo>
                <a:lnTo>
                  <a:pt x="835026" y="23599775"/>
                </a:lnTo>
                <a:lnTo>
                  <a:pt x="968375" y="23418799"/>
                </a:lnTo>
                <a:lnTo>
                  <a:pt x="1101725" y="23240999"/>
                </a:lnTo>
                <a:lnTo>
                  <a:pt x="1241426" y="23063199"/>
                </a:lnTo>
                <a:lnTo>
                  <a:pt x="1381126" y="22888575"/>
                </a:lnTo>
                <a:lnTo>
                  <a:pt x="1527175" y="22717123"/>
                </a:lnTo>
                <a:lnTo>
                  <a:pt x="1673225" y="22548849"/>
                </a:lnTo>
                <a:lnTo>
                  <a:pt x="1822450" y="22380575"/>
                </a:lnTo>
                <a:lnTo>
                  <a:pt x="1974851" y="22215475"/>
                </a:lnTo>
                <a:lnTo>
                  <a:pt x="2130425" y="22053549"/>
                </a:lnTo>
                <a:lnTo>
                  <a:pt x="2286001" y="21891623"/>
                </a:lnTo>
                <a:lnTo>
                  <a:pt x="2447926" y="21732875"/>
                </a:lnTo>
                <a:lnTo>
                  <a:pt x="2609850" y="21577299"/>
                </a:lnTo>
                <a:lnTo>
                  <a:pt x="2774950" y="21424899"/>
                </a:lnTo>
                <a:lnTo>
                  <a:pt x="2943225" y="21272499"/>
                </a:lnTo>
                <a:lnTo>
                  <a:pt x="3114676" y="21126449"/>
                </a:lnTo>
                <a:lnTo>
                  <a:pt x="3289300" y="20980399"/>
                </a:lnTo>
                <a:lnTo>
                  <a:pt x="3463925" y="20837523"/>
                </a:lnTo>
                <a:lnTo>
                  <a:pt x="3641725" y="20694649"/>
                </a:lnTo>
                <a:lnTo>
                  <a:pt x="3822700" y="20558123"/>
                </a:lnTo>
                <a:lnTo>
                  <a:pt x="4006850" y="20421599"/>
                </a:lnTo>
                <a:lnTo>
                  <a:pt x="4191000" y="20288249"/>
                </a:lnTo>
                <a:lnTo>
                  <a:pt x="4378325" y="20158075"/>
                </a:lnTo>
                <a:lnTo>
                  <a:pt x="4568826" y="20031075"/>
                </a:lnTo>
                <a:lnTo>
                  <a:pt x="4762504" y="19907249"/>
                </a:lnTo>
                <a:lnTo>
                  <a:pt x="4956177" y="19786599"/>
                </a:lnTo>
                <a:lnTo>
                  <a:pt x="4806953" y="19723099"/>
                </a:lnTo>
                <a:lnTo>
                  <a:pt x="4660901" y="19665949"/>
                </a:lnTo>
                <a:lnTo>
                  <a:pt x="4518030" y="19611975"/>
                </a:lnTo>
                <a:lnTo>
                  <a:pt x="4381500" y="19564349"/>
                </a:lnTo>
                <a:lnTo>
                  <a:pt x="4248150" y="19523075"/>
                </a:lnTo>
                <a:lnTo>
                  <a:pt x="4124325" y="19488149"/>
                </a:lnTo>
                <a:lnTo>
                  <a:pt x="4006850" y="19456399"/>
                </a:lnTo>
                <a:lnTo>
                  <a:pt x="3898901" y="19430999"/>
                </a:lnTo>
                <a:lnTo>
                  <a:pt x="3711575" y="19386549"/>
                </a:lnTo>
                <a:lnTo>
                  <a:pt x="3568700" y="19361149"/>
                </a:lnTo>
                <a:lnTo>
                  <a:pt x="3479800" y="19345275"/>
                </a:lnTo>
                <a:lnTo>
                  <a:pt x="3448051" y="19342099"/>
                </a:lnTo>
                <a:lnTo>
                  <a:pt x="3486150" y="19332575"/>
                </a:lnTo>
                <a:lnTo>
                  <a:pt x="3533775" y="19323049"/>
                </a:lnTo>
                <a:lnTo>
                  <a:pt x="3597275" y="19310349"/>
                </a:lnTo>
                <a:lnTo>
                  <a:pt x="3679825" y="19297649"/>
                </a:lnTo>
                <a:lnTo>
                  <a:pt x="3775075" y="19284949"/>
                </a:lnTo>
                <a:lnTo>
                  <a:pt x="3889375" y="19275423"/>
                </a:lnTo>
                <a:lnTo>
                  <a:pt x="4016376" y="19269075"/>
                </a:lnTo>
                <a:lnTo>
                  <a:pt x="4156075" y="19269075"/>
                </a:lnTo>
                <a:lnTo>
                  <a:pt x="4308475" y="19272249"/>
                </a:lnTo>
                <a:lnTo>
                  <a:pt x="4473576" y="19284949"/>
                </a:lnTo>
                <a:lnTo>
                  <a:pt x="4562478" y="19291299"/>
                </a:lnTo>
                <a:lnTo>
                  <a:pt x="4651375" y="19303999"/>
                </a:lnTo>
                <a:lnTo>
                  <a:pt x="4743452" y="19316699"/>
                </a:lnTo>
                <a:lnTo>
                  <a:pt x="4835526" y="19332575"/>
                </a:lnTo>
                <a:lnTo>
                  <a:pt x="4933952" y="19351623"/>
                </a:lnTo>
                <a:lnTo>
                  <a:pt x="5032375" y="19373849"/>
                </a:lnTo>
                <a:lnTo>
                  <a:pt x="5133978" y="19399249"/>
                </a:lnTo>
                <a:lnTo>
                  <a:pt x="5238751" y="19427823"/>
                </a:lnTo>
                <a:lnTo>
                  <a:pt x="5343527" y="19459575"/>
                </a:lnTo>
                <a:lnTo>
                  <a:pt x="5451476" y="19494499"/>
                </a:lnTo>
                <a:lnTo>
                  <a:pt x="5524501" y="19456399"/>
                </a:lnTo>
                <a:lnTo>
                  <a:pt x="5419730" y="19332575"/>
                </a:lnTo>
                <a:lnTo>
                  <a:pt x="5314954" y="19218275"/>
                </a:lnTo>
                <a:lnTo>
                  <a:pt x="5257803" y="19157949"/>
                </a:lnTo>
                <a:lnTo>
                  <a:pt x="5197475" y="19100799"/>
                </a:lnTo>
                <a:lnTo>
                  <a:pt x="5076827" y="18989675"/>
                </a:lnTo>
                <a:lnTo>
                  <a:pt x="4953001" y="18884899"/>
                </a:lnTo>
                <a:lnTo>
                  <a:pt x="4832353" y="18789649"/>
                </a:lnTo>
                <a:lnTo>
                  <a:pt x="4708526" y="18700749"/>
                </a:lnTo>
                <a:lnTo>
                  <a:pt x="4591051" y="18621375"/>
                </a:lnTo>
                <a:lnTo>
                  <a:pt x="4476753" y="18548349"/>
                </a:lnTo>
                <a:lnTo>
                  <a:pt x="4365625" y="18481675"/>
                </a:lnTo>
                <a:lnTo>
                  <a:pt x="4264025" y="18424523"/>
                </a:lnTo>
                <a:lnTo>
                  <a:pt x="4171950" y="18373723"/>
                </a:lnTo>
                <a:lnTo>
                  <a:pt x="4016376" y="18297523"/>
                </a:lnTo>
                <a:lnTo>
                  <a:pt x="3917950" y="18249899"/>
                </a:lnTo>
                <a:lnTo>
                  <a:pt x="3879850" y="18234023"/>
                </a:lnTo>
                <a:lnTo>
                  <a:pt x="3917950" y="18224499"/>
                </a:lnTo>
                <a:lnTo>
                  <a:pt x="3965575" y="18214975"/>
                </a:lnTo>
                <a:lnTo>
                  <a:pt x="4032250" y="18202275"/>
                </a:lnTo>
                <a:lnTo>
                  <a:pt x="4111626" y="18189575"/>
                </a:lnTo>
                <a:lnTo>
                  <a:pt x="4210050" y="18180049"/>
                </a:lnTo>
                <a:lnTo>
                  <a:pt x="4321175" y="18173699"/>
                </a:lnTo>
                <a:lnTo>
                  <a:pt x="4448176" y="18173699"/>
                </a:lnTo>
                <a:lnTo>
                  <a:pt x="4587878" y="18176875"/>
                </a:lnTo>
                <a:lnTo>
                  <a:pt x="4660901" y="18183223"/>
                </a:lnTo>
                <a:lnTo>
                  <a:pt x="4740276" y="18189575"/>
                </a:lnTo>
                <a:lnTo>
                  <a:pt x="4819650" y="18199099"/>
                </a:lnTo>
                <a:lnTo>
                  <a:pt x="4902203" y="18211799"/>
                </a:lnTo>
                <a:lnTo>
                  <a:pt x="4987927" y="18227675"/>
                </a:lnTo>
                <a:lnTo>
                  <a:pt x="5076827" y="18243549"/>
                </a:lnTo>
                <a:lnTo>
                  <a:pt x="5168901" y="18265775"/>
                </a:lnTo>
                <a:lnTo>
                  <a:pt x="5260979" y="18291175"/>
                </a:lnTo>
                <a:lnTo>
                  <a:pt x="5359401" y="18319749"/>
                </a:lnTo>
                <a:lnTo>
                  <a:pt x="5457829" y="18351499"/>
                </a:lnTo>
                <a:lnTo>
                  <a:pt x="5556250" y="18386423"/>
                </a:lnTo>
                <a:lnTo>
                  <a:pt x="5657851" y="18427699"/>
                </a:lnTo>
                <a:lnTo>
                  <a:pt x="5762626" y="18472149"/>
                </a:lnTo>
                <a:lnTo>
                  <a:pt x="5867402" y="18519775"/>
                </a:lnTo>
                <a:lnTo>
                  <a:pt x="5994403" y="18583275"/>
                </a:lnTo>
                <a:lnTo>
                  <a:pt x="6118226" y="18653123"/>
                </a:lnTo>
                <a:lnTo>
                  <a:pt x="6029325" y="18516599"/>
                </a:lnTo>
                <a:lnTo>
                  <a:pt x="5937252" y="18380075"/>
                </a:lnTo>
                <a:lnTo>
                  <a:pt x="5842002" y="18243549"/>
                </a:lnTo>
                <a:lnTo>
                  <a:pt x="5737226" y="18103849"/>
                </a:lnTo>
                <a:lnTo>
                  <a:pt x="5664204" y="18008599"/>
                </a:lnTo>
                <a:lnTo>
                  <a:pt x="5588001" y="17916523"/>
                </a:lnTo>
                <a:lnTo>
                  <a:pt x="5511803" y="17827623"/>
                </a:lnTo>
                <a:lnTo>
                  <a:pt x="5432427" y="17741899"/>
                </a:lnTo>
                <a:lnTo>
                  <a:pt x="5353053" y="17659349"/>
                </a:lnTo>
                <a:lnTo>
                  <a:pt x="5273677" y="17576799"/>
                </a:lnTo>
                <a:lnTo>
                  <a:pt x="5191126" y="17500599"/>
                </a:lnTo>
                <a:lnTo>
                  <a:pt x="5111751" y="17424399"/>
                </a:lnTo>
                <a:lnTo>
                  <a:pt x="5032375" y="17354549"/>
                </a:lnTo>
                <a:lnTo>
                  <a:pt x="4949828" y="17284699"/>
                </a:lnTo>
                <a:lnTo>
                  <a:pt x="4794250" y="17157699"/>
                </a:lnTo>
                <a:lnTo>
                  <a:pt x="4641853" y="17040223"/>
                </a:lnTo>
                <a:lnTo>
                  <a:pt x="4495801" y="16935449"/>
                </a:lnTo>
                <a:lnTo>
                  <a:pt x="4359275" y="16843375"/>
                </a:lnTo>
                <a:lnTo>
                  <a:pt x="4235450" y="16763999"/>
                </a:lnTo>
                <a:lnTo>
                  <a:pt x="4124325" y="16694149"/>
                </a:lnTo>
                <a:lnTo>
                  <a:pt x="4029075" y="16640175"/>
                </a:lnTo>
                <a:lnTo>
                  <a:pt x="3889375" y="16563975"/>
                </a:lnTo>
                <a:lnTo>
                  <a:pt x="3841750" y="16541749"/>
                </a:lnTo>
                <a:lnTo>
                  <a:pt x="3886200" y="16544923"/>
                </a:lnTo>
                <a:lnTo>
                  <a:pt x="3940175" y="16551275"/>
                </a:lnTo>
                <a:lnTo>
                  <a:pt x="4010025" y="16560799"/>
                </a:lnTo>
                <a:lnTo>
                  <a:pt x="4102100" y="16576675"/>
                </a:lnTo>
                <a:lnTo>
                  <a:pt x="4206876" y="16598899"/>
                </a:lnTo>
                <a:lnTo>
                  <a:pt x="4327525" y="16630649"/>
                </a:lnTo>
                <a:lnTo>
                  <a:pt x="4460879" y="16671923"/>
                </a:lnTo>
                <a:lnTo>
                  <a:pt x="4606925" y="16719549"/>
                </a:lnTo>
                <a:lnTo>
                  <a:pt x="4683128" y="16751299"/>
                </a:lnTo>
                <a:lnTo>
                  <a:pt x="4765676" y="16783049"/>
                </a:lnTo>
                <a:lnTo>
                  <a:pt x="4845052" y="16817975"/>
                </a:lnTo>
                <a:lnTo>
                  <a:pt x="4930776" y="16856075"/>
                </a:lnTo>
                <a:lnTo>
                  <a:pt x="5016505" y="16897349"/>
                </a:lnTo>
                <a:lnTo>
                  <a:pt x="5105400" y="16944975"/>
                </a:lnTo>
                <a:lnTo>
                  <a:pt x="5194302" y="16992599"/>
                </a:lnTo>
                <a:lnTo>
                  <a:pt x="5286376" y="17046575"/>
                </a:lnTo>
                <a:lnTo>
                  <a:pt x="5378453" y="17103723"/>
                </a:lnTo>
                <a:lnTo>
                  <a:pt x="5470526" y="17164049"/>
                </a:lnTo>
                <a:lnTo>
                  <a:pt x="5565776" y="17230723"/>
                </a:lnTo>
                <a:lnTo>
                  <a:pt x="5661028" y="17300575"/>
                </a:lnTo>
                <a:lnTo>
                  <a:pt x="5756278" y="17373599"/>
                </a:lnTo>
                <a:lnTo>
                  <a:pt x="5854701" y="17452975"/>
                </a:lnTo>
                <a:lnTo>
                  <a:pt x="5988053" y="17570449"/>
                </a:lnTo>
                <a:lnTo>
                  <a:pt x="6115054" y="17684749"/>
                </a:lnTo>
                <a:lnTo>
                  <a:pt x="6235701" y="17799049"/>
                </a:lnTo>
                <a:lnTo>
                  <a:pt x="6350003" y="17913349"/>
                </a:lnTo>
                <a:lnTo>
                  <a:pt x="6461128" y="18024475"/>
                </a:lnTo>
                <a:lnTo>
                  <a:pt x="6565904" y="18135599"/>
                </a:lnTo>
                <a:lnTo>
                  <a:pt x="6664326" y="18243549"/>
                </a:lnTo>
                <a:lnTo>
                  <a:pt x="6756401" y="18348323"/>
                </a:lnTo>
                <a:lnTo>
                  <a:pt x="6715129" y="18240375"/>
                </a:lnTo>
                <a:lnTo>
                  <a:pt x="6670675" y="18138775"/>
                </a:lnTo>
                <a:lnTo>
                  <a:pt x="6626227" y="18037175"/>
                </a:lnTo>
                <a:lnTo>
                  <a:pt x="6578602" y="17938749"/>
                </a:lnTo>
                <a:lnTo>
                  <a:pt x="6527800" y="17840323"/>
                </a:lnTo>
                <a:lnTo>
                  <a:pt x="6480175" y="17745075"/>
                </a:lnTo>
                <a:lnTo>
                  <a:pt x="6429377" y="17656175"/>
                </a:lnTo>
                <a:lnTo>
                  <a:pt x="6378576" y="17567275"/>
                </a:lnTo>
                <a:lnTo>
                  <a:pt x="6273805" y="17395823"/>
                </a:lnTo>
                <a:lnTo>
                  <a:pt x="6169027" y="17237075"/>
                </a:lnTo>
                <a:lnTo>
                  <a:pt x="6067429" y="17091023"/>
                </a:lnTo>
                <a:lnTo>
                  <a:pt x="5969001" y="16957675"/>
                </a:lnTo>
                <a:lnTo>
                  <a:pt x="5876928" y="16837023"/>
                </a:lnTo>
                <a:lnTo>
                  <a:pt x="5788027" y="16732249"/>
                </a:lnTo>
                <a:lnTo>
                  <a:pt x="5711829" y="16640175"/>
                </a:lnTo>
                <a:lnTo>
                  <a:pt x="5645152" y="16563975"/>
                </a:lnTo>
                <a:lnTo>
                  <a:pt x="5546726" y="16459199"/>
                </a:lnTo>
                <a:lnTo>
                  <a:pt x="5511803" y="16424275"/>
                </a:lnTo>
                <a:lnTo>
                  <a:pt x="5549902" y="16440149"/>
                </a:lnTo>
                <a:lnTo>
                  <a:pt x="5600700" y="16462375"/>
                </a:lnTo>
                <a:lnTo>
                  <a:pt x="5664204" y="16497299"/>
                </a:lnTo>
                <a:lnTo>
                  <a:pt x="5743575" y="16538575"/>
                </a:lnTo>
                <a:lnTo>
                  <a:pt x="5838825" y="16595723"/>
                </a:lnTo>
                <a:lnTo>
                  <a:pt x="5943601" y="16662399"/>
                </a:lnTo>
                <a:lnTo>
                  <a:pt x="6057903" y="16741775"/>
                </a:lnTo>
                <a:lnTo>
                  <a:pt x="6178553" y="16837023"/>
                </a:lnTo>
                <a:lnTo>
                  <a:pt x="6242050" y="16887823"/>
                </a:lnTo>
                <a:lnTo>
                  <a:pt x="6308726" y="16944975"/>
                </a:lnTo>
                <a:lnTo>
                  <a:pt x="6375403" y="17005299"/>
                </a:lnTo>
                <a:lnTo>
                  <a:pt x="6442076" y="17068799"/>
                </a:lnTo>
                <a:lnTo>
                  <a:pt x="6511926" y="17135475"/>
                </a:lnTo>
                <a:lnTo>
                  <a:pt x="6581778" y="17205323"/>
                </a:lnTo>
                <a:lnTo>
                  <a:pt x="6651628" y="17281523"/>
                </a:lnTo>
                <a:lnTo>
                  <a:pt x="6718300" y="17360899"/>
                </a:lnTo>
                <a:lnTo>
                  <a:pt x="6788150" y="17443449"/>
                </a:lnTo>
                <a:lnTo>
                  <a:pt x="6858004" y="17532349"/>
                </a:lnTo>
                <a:lnTo>
                  <a:pt x="6927852" y="17624423"/>
                </a:lnTo>
                <a:lnTo>
                  <a:pt x="6997702" y="17719675"/>
                </a:lnTo>
                <a:lnTo>
                  <a:pt x="7064379" y="17821275"/>
                </a:lnTo>
                <a:lnTo>
                  <a:pt x="7131051" y="17926049"/>
                </a:lnTo>
                <a:lnTo>
                  <a:pt x="7223130" y="18084799"/>
                </a:lnTo>
                <a:lnTo>
                  <a:pt x="7312025" y="18243549"/>
                </a:lnTo>
                <a:lnTo>
                  <a:pt x="7394578" y="18399123"/>
                </a:lnTo>
                <a:lnTo>
                  <a:pt x="7473952" y="18551523"/>
                </a:lnTo>
                <a:lnTo>
                  <a:pt x="7515229" y="18535649"/>
                </a:lnTo>
                <a:lnTo>
                  <a:pt x="7521577" y="18345149"/>
                </a:lnTo>
                <a:lnTo>
                  <a:pt x="7534276" y="18151475"/>
                </a:lnTo>
                <a:lnTo>
                  <a:pt x="7550152" y="17951449"/>
                </a:lnTo>
                <a:lnTo>
                  <a:pt x="7575552" y="17745075"/>
                </a:lnTo>
                <a:lnTo>
                  <a:pt x="7591427" y="17621249"/>
                </a:lnTo>
                <a:lnTo>
                  <a:pt x="7610479" y="17500599"/>
                </a:lnTo>
                <a:lnTo>
                  <a:pt x="7635876" y="17386299"/>
                </a:lnTo>
                <a:lnTo>
                  <a:pt x="7658101" y="17271999"/>
                </a:lnTo>
                <a:lnTo>
                  <a:pt x="7686677" y="17164049"/>
                </a:lnTo>
                <a:lnTo>
                  <a:pt x="7715250" y="17059275"/>
                </a:lnTo>
                <a:lnTo>
                  <a:pt x="7747001" y="16957675"/>
                </a:lnTo>
                <a:lnTo>
                  <a:pt x="7778751" y="16862423"/>
                </a:lnTo>
                <a:lnTo>
                  <a:pt x="7813678" y="16767175"/>
                </a:lnTo>
                <a:lnTo>
                  <a:pt x="7848601" y="16678275"/>
                </a:lnTo>
                <a:lnTo>
                  <a:pt x="7883527" y="16592549"/>
                </a:lnTo>
                <a:lnTo>
                  <a:pt x="7921626" y="16513175"/>
                </a:lnTo>
                <a:lnTo>
                  <a:pt x="7956553" y="16433799"/>
                </a:lnTo>
                <a:lnTo>
                  <a:pt x="7994652" y="16360775"/>
                </a:lnTo>
                <a:lnTo>
                  <a:pt x="8067679" y="16224249"/>
                </a:lnTo>
                <a:lnTo>
                  <a:pt x="8137527" y="16103599"/>
                </a:lnTo>
                <a:lnTo>
                  <a:pt x="8207377" y="15998823"/>
                </a:lnTo>
                <a:lnTo>
                  <a:pt x="8267705" y="15913099"/>
                </a:lnTo>
                <a:lnTo>
                  <a:pt x="8324851" y="15840075"/>
                </a:lnTo>
                <a:lnTo>
                  <a:pt x="8369304" y="15782923"/>
                </a:lnTo>
                <a:lnTo>
                  <a:pt x="8404226" y="15741649"/>
                </a:lnTo>
                <a:lnTo>
                  <a:pt x="8435976" y="15709899"/>
                </a:lnTo>
                <a:lnTo>
                  <a:pt x="8413751" y="15760699"/>
                </a:lnTo>
                <a:lnTo>
                  <a:pt x="8366126" y="15909923"/>
                </a:lnTo>
                <a:lnTo>
                  <a:pt x="8331200" y="16014699"/>
                </a:lnTo>
                <a:lnTo>
                  <a:pt x="8296278" y="16138523"/>
                </a:lnTo>
                <a:lnTo>
                  <a:pt x="8258179" y="16284575"/>
                </a:lnTo>
                <a:lnTo>
                  <a:pt x="8220080" y="16443323"/>
                </a:lnTo>
                <a:lnTo>
                  <a:pt x="8185152" y="16617949"/>
                </a:lnTo>
                <a:lnTo>
                  <a:pt x="8153403" y="16808449"/>
                </a:lnTo>
                <a:lnTo>
                  <a:pt x="8124830" y="17008475"/>
                </a:lnTo>
                <a:lnTo>
                  <a:pt x="8112126" y="17113249"/>
                </a:lnTo>
                <a:lnTo>
                  <a:pt x="8099428" y="17221199"/>
                </a:lnTo>
                <a:lnTo>
                  <a:pt x="8093075" y="17329149"/>
                </a:lnTo>
                <a:lnTo>
                  <a:pt x="8086726" y="17443449"/>
                </a:lnTo>
                <a:lnTo>
                  <a:pt x="8080376" y="17554575"/>
                </a:lnTo>
                <a:lnTo>
                  <a:pt x="8080376" y="17672049"/>
                </a:lnTo>
                <a:lnTo>
                  <a:pt x="8080376" y="17786349"/>
                </a:lnTo>
                <a:lnTo>
                  <a:pt x="8083553" y="17906999"/>
                </a:lnTo>
                <a:lnTo>
                  <a:pt x="8089902" y="18024475"/>
                </a:lnTo>
                <a:lnTo>
                  <a:pt x="8099428" y="18145123"/>
                </a:lnTo>
                <a:lnTo>
                  <a:pt x="8118475" y="18322923"/>
                </a:lnTo>
                <a:lnTo>
                  <a:pt x="8378825" y="18240375"/>
                </a:lnTo>
                <a:lnTo>
                  <a:pt x="8423277" y="18141949"/>
                </a:lnTo>
                <a:lnTo>
                  <a:pt x="8470902" y="18049875"/>
                </a:lnTo>
                <a:lnTo>
                  <a:pt x="8518528" y="17960975"/>
                </a:lnTo>
                <a:lnTo>
                  <a:pt x="8566154" y="17878423"/>
                </a:lnTo>
                <a:lnTo>
                  <a:pt x="8613779" y="17795875"/>
                </a:lnTo>
                <a:lnTo>
                  <a:pt x="8664579" y="17719675"/>
                </a:lnTo>
                <a:lnTo>
                  <a:pt x="8715379" y="17646649"/>
                </a:lnTo>
                <a:lnTo>
                  <a:pt x="8766179" y="17576799"/>
                </a:lnTo>
                <a:lnTo>
                  <a:pt x="8816979" y="17513299"/>
                </a:lnTo>
                <a:lnTo>
                  <a:pt x="8867779" y="17449799"/>
                </a:lnTo>
                <a:lnTo>
                  <a:pt x="8915404" y="17392649"/>
                </a:lnTo>
                <a:lnTo>
                  <a:pt x="8966204" y="17335499"/>
                </a:lnTo>
                <a:lnTo>
                  <a:pt x="9064629" y="17233899"/>
                </a:lnTo>
                <a:lnTo>
                  <a:pt x="9156704" y="17148175"/>
                </a:lnTo>
                <a:lnTo>
                  <a:pt x="9242429" y="17071975"/>
                </a:lnTo>
                <a:lnTo>
                  <a:pt x="9324979" y="17008475"/>
                </a:lnTo>
                <a:lnTo>
                  <a:pt x="9394829" y="16954499"/>
                </a:lnTo>
                <a:lnTo>
                  <a:pt x="9458329" y="16913223"/>
                </a:lnTo>
                <a:lnTo>
                  <a:pt x="9509129" y="16881475"/>
                </a:lnTo>
                <a:lnTo>
                  <a:pt x="9547229" y="16859249"/>
                </a:lnTo>
                <a:lnTo>
                  <a:pt x="9578979" y="16840199"/>
                </a:lnTo>
                <a:lnTo>
                  <a:pt x="9540879" y="16929099"/>
                </a:lnTo>
                <a:lnTo>
                  <a:pt x="9499604" y="17033875"/>
                </a:lnTo>
                <a:lnTo>
                  <a:pt x="9448804" y="17176749"/>
                </a:lnTo>
                <a:lnTo>
                  <a:pt x="9391654" y="17345023"/>
                </a:lnTo>
                <a:lnTo>
                  <a:pt x="9363079" y="17440275"/>
                </a:lnTo>
                <a:lnTo>
                  <a:pt x="9334504" y="17541875"/>
                </a:lnTo>
                <a:lnTo>
                  <a:pt x="9309104" y="17649823"/>
                </a:lnTo>
                <a:lnTo>
                  <a:pt x="9283704" y="17764123"/>
                </a:lnTo>
                <a:lnTo>
                  <a:pt x="9258304" y="17878423"/>
                </a:lnTo>
                <a:lnTo>
                  <a:pt x="9239254" y="18002249"/>
                </a:lnTo>
                <a:lnTo>
                  <a:pt x="9566279" y="17922875"/>
                </a:lnTo>
                <a:lnTo>
                  <a:pt x="9731379" y="17887949"/>
                </a:lnTo>
                <a:lnTo>
                  <a:pt x="9896479" y="17856199"/>
                </a:lnTo>
                <a:lnTo>
                  <a:pt x="9909179" y="17792699"/>
                </a:lnTo>
                <a:lnTo>
                  <a:pt x="9918704" y="17754599"/>
                </a:lnTo>
                <a:lnTo>
                  <a:pt x="9931404" y="17713323"/>
                </a:lnTo>
                <a:lnTo>
                  <a:pt x="9947279" y="17668875"/>
                </a:lnTo>
                <a:lnTo>
                  <a:pt x="9969504" y="17621249"/>
                </a:lnTo>
                <a:lnTo>
                  <a:pt x="9998079" y="17576799"/>
                </a:lnTo>
                <a:lnTo>
                  <a:pt x="10029829" y="17525999"/>
                </a:lnTo>
                <a:lnTo>
                  <a:pt x="10064754" y="17478375"/>
                </a:lnTo>
                <a:lnTo>
                  <a:pt x="10109204" y="17433923"/>
                </a:lnTo>
                <a:lnTo>
                  <a:pt x="10160004" y="17386299"/>
                </a:lnTo>
                <a:lnTo>
                  <a:pt x="10220329" y="17341849"/>
                </a:lnTo>
                <a:lnTo>
                  <a:pt x="10287004" y="17300575"/>
                </a:lnTo>
                <a:lnTo>
                  <a:pt x="10360029" y="17262475"/>
                </a:lnTo>
                <a:lnTo>
                  <a:pt x="10445754" y="17227549"/>
                </a:lnTo>
                <a:lnTo>
                  <a:pt x="10490204" y="17214849"/>
                </a:lnTo>
                <a:lnTo>
                  <a:pt x="10537829" y="17198975"/>
                </a:lnTo>
                <a:lnTo>
                  <a:pt x="10569579" y="17186275"/>
                </a:lnTo>
                <a:lnTo>
                  <a:pt x="10598154" y="17170399"/>
                </a:lnTo>
                <a:lnTo>
                  <a:pt x="10623554" y="17148175"/>
                </a:lnTo>
                <a:lnTo>
                  <a:pt x="10648954" y="17116423"/>
                </a:lnTo>
                <a:lnTo>
                  <a:pt x="10671179" y="17084675"/>
                </a:lnTo>
                <a:lnTo>
                  <a:pt x="10690229" y="17043399"/>
                </a:lnTo>
                <a:lnTo>
                  <a:pt x="10706104" y="16995775"/>
                </a:lnTo>
                <a:lnTo>
                  <a:pt x="10721979" y="16944975"/>
                </a:lnTo>
                <a:lnTo>
                  <a:pt x="10734679" y="16887823"/>
                </a:lnTo>
                <a:lnTo>
                  <a:pt x="10747379" y="16827499"/>
                </a:lnTo>
                <a:lnTo>
                  <a:pt x="10756904" y="16760823"/>
                </a:lnTo>
                <a:lnTo>
                  <a:pt x="10763254" y="16687799"/>
                </a:lnTo>
                <a:lnTo>
                  <a:pt x="10769604" y="16608423"/>
                </a:lnTo>
                <a:lnTo>
                  <a:pt x="10772779" y="16525875"/>
                </a:lnTo>
                <a:lnTo>
                  <a:pt x="10775954" y="16341723"/>
                </a:lnTo>
                <a:lnTo>
                  <a:pt x="10769604" y="16138523"/>
                </a:lnTo>
                <a:lnTo>
                  <a:pt x="10760079" y="15916275"/>
                </a:lnTo>
                <a:lnTo>
                  <a:pt x="10744204" y="15671799"/>
                </a:lnTo>
                <a:lnTo>
                  <a:pt x="10721979" y="15411449"/>
                </a:lnTo>
                <a:lnTo>
                  <a:pt x="10693404" y="15128875"/>
                </a:lnTo>
                <a:lnTo>
                  <a:pt x="10661654" y="14827249"/>
                </a:lnTo>
                <a:lnTo>
                  <a:pt x="10585454" y="14170023"/>
                </a:lnTo>
                <a:lnTo>
                  <a:pt x="10575929" y="14093823"/>
                </a:lnTo>
                <a:lnTo>
                  <a:pt x="10563229" y="14020799"/>
                </a:lnTo>
                <a:lnTo>
                  <a:pt x="10550529" y="13947775"/>
                </a:lnTo>
                <a:lnTo>
                  <a:pt x="10534654" y="13877923"/>
                </a:lnTo>
                <a:lnTo>
                  <a:pt x="10499729" y="13744575"/>
                </a:lnTo>
                <a:lnTo>
                  <a:pt x="10461629" y="13614399"/>
                </a:lnTo>
                <a:lnTo>
                  <a:pt x="10414004" y="13490575"/>
                </a:lnTo>
                <a:lnTo>
                  <a:pt x="10363204" y="13373099"/>
                </a:lnTo>
                <a:lnTo>
                  <a:pt x="10306054" y="13258799"/>
                </a:lnTo>
                <a:lnTo>
                  <a:pt x="10245729" y="13150849"/>
                </a:lnTo>
                <a:lnTo>
                  <a:pt x="10182229" y="13046075"/>
                </a:lnTo>
                <a:lnTo>
                  <a:pt x="10115554" y="12944475"/>
                </a:lnTo>
                <a:lnTo>
                  <a:pt x="10045704" y="12846049"/>
                </a:lnTo>
                <a:lnTo>
                  <a:pt x="9972679" y="12750799"/>
                </a:lnTo>
                <a:lnTo>
                  <a:pt x="9896479" y="12658723"/>
                </a:lnTo>
                <a:lnTo>
                  <a:pt x="9820279" y="12566649"/>
                </a:lnTo>
                <a:lnTo>
                  <a:pt x="9661529" y="12382499"/>
                </a:lnTo>
                <a:lnTo>
                  <a:pt x="9502779" y="12201523"/>
                </a:lnTo>
                <a:lnTo>
                  <a:pt x="9344029" y="12017375"/>
                </a:lnTo>
                <a:lnTo>
                  <a:pt x="9264654" y="11922123"/>
                </a:lnTo>
                <a:lnTo>
                  <a:pt x="9188454" y="11826875"/>
                </a:lnTo>
                <a:lnTo>
                  <a:pt x="9112254" y="11725275"/>
                </a:lnTo>
                <a:lnTo>
                  <a:pt x="9042404" y="11623675"/>
                </a:lnTo>
                <a:lnTo>
                  <a:pt x="8972554" y="11515723"/>
                </a:lnTo>
                <a:lnTo>
                  <a:pt x="8902704" y="11404599"/>
                </a:lnTo>
                <a:lnTo>
                  <a:pt x="8842379" y="11290299"/>
                </a:lnTo>
                <a:lnTo>
                  <a:pt x="8782054" y="11169649"/>
                </a:lnTo>
                <a:lnTo>
                  <a:pt x="8724904" y="11042649"/>
                </a:lnTo>
                <a:lnTo>
                  <a:pt x="8677279" y="10909299"/>
                </a:lnTo>
                <a:lnTo>
                  <a:pt x="8629654" y="10769599"/>
                </a:lnTo>
                <a:lnTo>
                  <a:pt x="8591554" y="10623549"/>
                </a:lnTo>
                <a:lnTo>
                  <a:pt x="8486778" y="10569575"/>
                </a:lnTo>
                <a:lnTo>
                  <a:pt x="8378825" y="10515599"/>
                </a:lnTo>
                <a:lnTo>
                  <a:pt x="8264528" y="10464799"/>
                </a:lnTo>
                <a:lnTo>
                  <a:pt x="8147053" y="10413999"/>
                </a:lnTo>
                <a:lnTo>
                  <a:pt x="8026402" y="10363199"/>
                </a:lnTo>
                <a:lnTo>
                  <a:pt x="7905750" y="10306049"/>
                </a:lnTo>
                <a:lnTo>
                  <a:pt x="7781927" y="10245723"/>
                </a:lnTo>
                <a:lnTo>
                  <a:pt x="7658101" y="10175875"/>
                </a:lnTo>
                <a:lnTo>
                  <a:pt x="7597777" y="10140949"/>
                </a:lnTo>
                <a:lnTo>
                  <a:pt x="7537453" y="10099675"/>
                </a:lnTo>
                <a:lnTo>
                  <a:pt x="7473952" y="10058399"/>
                </a:lnTo>
                <a:lnTo>
                  <a:pt x="7416801" y="10013949"/>
                </a:lnTo>
                <a:lnTo>
                  <a:pt x="7356475" y="9966323"/>
                </a:lnTo>
                <a:lnTo>
                  <a:pt x="7296151" y="9912349"/>
                </a:lnTo>
                <a:lnTo>
                  <a:pt x="7239000" y="9858375"/>
                </a:lnTo>
                <a:lnTo>
                  <a:pt x="7181853" y="9801223"/>
                </a:lnTo>
                <a:lnTo>
                  <a:pt x="7127878" y="9737723"/>
                </a:lnTo>
                <a:lnTo>
                  <a:pt x="7070727" y="9674223"/>
                </a:lnTo>
                <a:lnTo>
                  <a:pt x="7019926" y="9601199"/>
                </a:lnTo>
                <a:lnTo>
                  <a:pt x="6965951" y="9528175"/>
                </a:lnTo>
                <a:lnTo>
                  <a:pt x="6915155" y="9448799"/>
                </a:lnTo>
                <a:lnTo>
                  <a:pt x="6867530" y="9363075"/>
                </a:lnTo>
                <a:lnTo>
                  <a:pt x="6819905" y="9274174"/>
                </a:lnTo>
                <a:lnTo>
                  <a:pt x="6775451" y="9178924"/>
                </a:lnTo>
                <a:lnTo>
                  <a:pt x="6705603" y="9013825"/>
                </a:lnTo>
                <a:lnTo>
                  <a:pt x="6642102" y="8851899"/>
                </a:lnTo>
                <a:lnTo>
                  <a:pt x="6584951" y="8693149"/>
                </a:lnTo>
                <a:lnTo>
                  <a:pt x="6537326" y="8534400"/>
                </a:lnTo>
                <a:lnTo>
                  <a:pt x="6496051" y="8378824"/>
                </a:lnTo>
                <a:lnTo>
                  <a:pt x="6461128" y="8226425"/>
                </a:lnTo>
                <a:lnTo>
                  <a:pt x="6429377" y="8074024"/>
                </a:lnTo>
                <a:lnTo>
                  <a:pt x="6407154" y="7927975"/>
                </a:lnTo>
                <a:lnTo>
                  <a:pt x="6391278" y="7781924"/>
                </a:lnTo>
                <a:lnTo>
                  <a:pt x="6378576" y="7642225"/>
                </a:lnTo>
                <a:lnTo>
                  <a:pt x="6369055" y="7502524"/>
                </a:lnTo>
                <a:lnTo>
                  <a:pt x="6365877" y="7369175"/>
                </a:lnTo>
                <a:lnTo>
                  <a:pt x="6369055" y="7235824"/>
                </a:lnTo>
                <a:lnTo>
                  <a:pt x="6372226" y="7108824"/>
                </a:lnTo>
                <a:lnTo>
                  <a:pt x="6381752" y="6985000"/>
                </a:lnTo>
                <a:lnTo>
                  <a:pt x="6394451" y="6864350"/>
                </a:lnTo>
                <a:lnTo>
                  <a:pt x="6407154" y="6746874"/>
                </a:lnTo>
                <a:lnTo>
                  <a:pt x="6426201" y="6635749"/>
                </a:lnTo>
                <a:lnTo>
                  <a:pt x="6445253" y="6527799"/>
                </a:lnTo>
                <a:lnTo>
                  <a:pt x="6467476" y="6423025"/>
                </a:lnTo>
                <a:lnTo>
                  <a:pt x="6489701" y="6324599"/>
                </a:lnTo>
                <a:lnTo>
                  <a:pt x="6515101" y="6229350"/>
                </a:lnTo>
                <a:lnTo>
                  <a:pt x="6543676" y="6137275"/>
                </a:lnTo>
                <a:lnTo>
                  <a:pt x="6569076" y="6054724"/>
                </a:lnTo>
                <a:lnTo>
                  <a:pt x="6623050" y="5899149"/>
                </a:lnTo>
                <a:lnTo>
                  <a:pt x="6677028" y="5762624"/>
                </a:lnTo>
                <a:lnTo>
                  <a:pt x="6724655" y="5651500"/>
                </a:lnTo>
                <a:lnTo>
                  <a:pt x="6769102" y="5559425"/>
                </a:lnTo>
                <a:lnTo>
                  <a:pt x="6708776" y="5657850"/>
                </a:lnTo>
                <a:lnTo>
                  <a:pt x="6670675" y="5711825"/>
                </a:lnTo>
                <a:lnTo>
                  <a:pt x="6629403" y="5772149"/>
                </a:lnTo>
                <a:lnTo>
                  <a:pt x="6584951" y="5835650"/>
                </a:lnTo>
                <a:lnTo>
                  <a:pt x="6534153" y="5899149"/>
                </a:lnTo>
                <a:lnTo>
                  <a:pt x="6477002" y="5965824"/>
                </a:lnTo>
                <a:lnTo>
                  <a:pt x="6416680" y="6029326"/>
                </a:lnTo>
                <a:lnTo>
                  <a:pt x="6353176" y="6095999"/>
                </a:lnTo>
                <a:lnTo>
                  <a:pt x="6283326" y="6159499"/>
                </a:lnTo>
                <a:lnTo>
                  <a:pt x="6210304" y="6219825"/>
                </a:lnTo>
                <a:lnTo>
                  <a:pt x="6134101" y="6280150"/>
                </a:lnTo>
                <a:lnTo>
                  <a:pt x="6051550" y="6334124"/>
                </a:lnTo>
                <a:lnTo>
                  <a:pt x="5965830" y="6384924"/>
                </a:lnTo>
                <a:lnTo>
                  <a:pt x="5873751" y="6429375"/>
                </a:lnTo>
                <a:lnTo>
                  <a:pt x="5826126" y="6448425"/>
                </a:lnTo>
                <a:lnTo>
                  <a:pt x="5778501" y="6467474"/>
                </a:lnTo>
                <a:lnTo>
                  <a:pt x="5695950" y="6496050"/>
                </a:lnTo>
                <a:lnTo>
                  <a:pt x="5610226" y="6515100"/>
                </a:lnTo>
                <a:lnTo>
                  <a:pt x="5524501" y="6534149"/>
                </a:lnTo>
                <a:lnTo>
                  <a:pt x="5438777" y="6546849"/>
                </a:lnTo>
                <a:lnTo>
                  <a:pt x="5356226" y="6553200"/>
                </a:lnTo>
                <a:lnTo>
                  <a:pt x="5273677" y="6559550"/>
                </a:lnTo>
                <a:lnTo>
                  <a:pt x="5194302" y="6559550"/>
                </a:lnTo>
                <a:lnTo>
                  <a:pt x="5118104" y="6559550"/>
                </a:lnTo>
                <a:lnTo>
                  <a:pt x="4984750" y="6553200"/>
                </a:lnTo>
                <a:lnTo>
                  <a:pt x="4879978" y="6543674"/>
                </a:lnTo>
                <a:lnTo>
                  <a:pt x="4810129" y="6537324"/>
                </a:lnTo>
                <a:lnTo>
                  <a:pt x="4787901" y="6534149"/>
                </a:lnTo>
                <a:lnTo>
                  <a:pt x="4806953" y="6521450"/>
                </a:lnTo>
                <a:lnTo>
                  <a:pt x="4860926" y="6486525"/>
                </a:lnTo>
                <a:lnTo>
                  <a:pt x="4940302" y="6429375"/>
                </a:lnTo>
                <a:lnTo>
                  <a:pt x="5038728" y="6353174"/>
                </a:lnTo>
                <a:lnTo>
                  <a:pt x="5092703" y="6305550"/>
                </a:lnTo>
                <a:lnTo>
                  <a:pt x="5149850" y="6254749"/>
                </a:lnTo>
                <a:lnTo>
                  <a:pt x="5207001" y="6197600"/>
                </a:lnTo>
                <a:lnTo>
                  <a:pt x="5264151" y="6137275"/>
                </a:lnTo>
                <a:lnTo>
                  <a:pt x="5321302" y="6073774"/>
                </a:lnTo>
                <a:lnTo>
                  <a:pt x="5375276" y="6003925"/>
                </a:lnTo>
                <a:lnTo>
                  <a:pt x="5429251" y="5927725"/>
                </a:lnTo>
                <a:lnTo>
                  <a:pt x="5476876" y="5848350"/>
                </a:lnTo>
                <a:lnTo>
                  <a:pt x="5553075" y="5711825"/>
                </a:lnTo>
                <a:lnTo>
                  <a:pt x="5588001" y="5645150"/>
                </a:lnTo>
                <a:lnTo>
                  <a:pt x="5619751" y="5581649"/>
                </a:lnTo>
                <a:lnTo>
                  <a:pt x="5648325" y="5518149"/>
                </a:lnTo>
                <a:lnTo>
                  <a:pt x="5673725" y="5454651"/>
                </a:lnTo>
                <a:lnTo>
                  <a:pt x="5695950" y="5394324"/>
                </a:lnTo>
                <a:lnTo>
                  <a:pt x="5715001" y="5333999"/>
                </a:lnTo>
                <a:lnTo>
                  <a:pt x="5727703" y="5276850"/>
                </a:lnTo>
                <a:lnTo>
                  <a:pt x="5740402" y="5216524"/>
                </a:lnTo>
                <a:lnTo>
                  <a:pt x="5743575" y="5159376"/>
                </a:lnTo>
                <a:lnTo>
                  <a:pt x="5746752" y="5105399"/>
                </a:lnTo>
                <a:lnTo>
                  <a:pt x="5743575" y="5048249"/>
                </a:lnTo>
                <a:lnTo>
                  <a:pt x="5734053" y="4994275"/>
                </a:lnTo>
                <a:lnTo>
                  <a:pt x="5718177" y="4940299"/>
                </a:lnTo>
                <a:lnTo>
                  <a:pt x="5699127" y="4889501"/>
                </a:lnTo>
                <a:lnTo>
                  <a:pt x="5661028" y="4816474"/>
                </a:lnTo>
                <a:lnTo>
                  <a:pt x="5629277" y="4746624"/>
                </a:lnTo>
                <a:lnTo>
                  <a:pt x="5600700" y="4679950"/>
                </a:lnTo>
                <a:lnTo>
                  <a:pt x="5575302" y="4613276"/>
                </a:lnTo>
                <a:lnTo>
                  <a:pt x="5556250" y="4549774"/>
                </a:lnTo>
                <a:lnTo>
                  <a:pt x="5540376" y="4489450"/>
                </a:lnTo>
                <a:lnTo>
                  <a:pt x="5534027" y="4429124"/>
                </a:lnTo>
                <a:lnTo>
                  <a:pt x="5530850" y="4371974"/>
                </a:lnTo>
                <a:lnTo>
                  <a:pt x="5537203" y="4314826"/>
                </a:lnTo>
                <a:lnTo>
                  <a:pt x="5549902" y="4257674"/>
                </a:lnTo>
                <a:lnTo>
                  <a:pt x="5568954" y="4200525"/>
                </a:lnTo>
                <a:lnTo>
                  <a:pt x="5597527" y="4146549"/>
                </a:lnTo>
                <a:lnTo>
                  <a:pt x="5635626" y="4092575"/>
                </a:lnTo>
                <a:lnTo>
                  <a:pt x="5680078" y="4035426"/>
                </a:lnTo>
                <a:lnTo>
                  <a:pt x="5734053" y="3981449"/>
                </a:lnTo>
                <a:lnTo>
                  <a:pt x="5797553" y="3927475"/>
                </a:lnTo>
                <a:lnTo>
                  <a:pt x="5908679" y="3844924"/>
                </a:lnTo>
                <a:lnTo>
                  <a:pt x="6007100" y="3775075"/>
                </a:lnTo>
                <a:lnTo>
                  <a:pt x="6096002" y="3717924"/>
                </a:lnTo>
                <a:lnTo>
                  <a:pt x="6175377" y="3670299"/>
                </a:lnTo>
                <a:lnTo>
                  <a:pt x="6248403" y="3629025"/>
                </a:lnTo>
                <a:lnTo>
                  <a:pt x="6318252" y="3594099"/>
                </a:lnTo>
                <a:lnTo>
                  <a:pt x="6445253" y="3524250"/>
                </a:lnTo>
                <a:lnTo>
                  <a:pt x="6508753" y="3489325"/>
                </a:lnTo>
                <a:lnTo>
                  <a:pt x="6569076" y="3448049"/>
                </a:lnTo>
                <a:lnTo>
                  <a:pt x="6632576" y="3397249"/>
                </a:lnTo>
                <a:lnTo>
                  <a:pt x="6699253" y="3340100"/>
                </a:lnTo>
                <a:lnTo>
                  <a:pt x="6769102" y="3267074"/>
                </a:lnTo>
                <a:lnTo>
                  <a:pt x="6848478" y="3181350"/>
                </a:lnTo>
                <a:lnTo>
                  <a:pt x="6931025" y="3079750"/>
                </a:lnTo>
                <a:lnTo>
                  <a:pt x="7023102" y="2959100"/>
                </a:lnTo>
                <a:lnTo>
                  <a:pt x="7061203" y="2908300"/>
                </a:lnTo>
                <a:lnTo>
                  <a:pt x="7102478" y="2860674"/>
                </a:lnTo>
                <a:lnTo>
                  <a:pt x="7140577" y="2813050"/>
                </a:lnTo>
                <a:lnTo>
                  <a:pt x="7181853" y="2768599"/>
                </a:lnTo>
                <a:lnTo>
                  <a:pt x="7267577" y="2682874"/>
                </a:lnTo>
                <a:lnTo>
                  <a:pt x="7356475" y="2606674"/>
                </a:lnTo>
                <a:lnTo>
                  <a:pt x="7448552" y="2533649"/>
                </a:lnTo>
                <a:lnTo>
                  <a:pt x="7540626" y="2470149"/>
                </a:lnTo>
                <a:lnTo>
                  <a:pt x="7632703" y="2412999"/>
                </a:lnTo>
                <a:lnTo>
                  <a:pt x="7724776" y="2362200"/>
                </a:lnTo>
                <a:lnTo>
                  <a:pt x="7816855" y="2317749"/>
                </a:lnTo>
                <a:lnTo>
                  <a:pt x="7908928" y="2279649"/>
                </a:lnTo>
                <a:lnTo>
                  <a:pt x="7997825" y="2251074"/>
                </a:lnTo>
                <a:lnTo>
                  <a:pt x="8086726" y="2225675"/>
                </a:lnTo>
                <a:lnTo>
                  <a:pt x="8169277" y="2209800"/>
                </a:lnTo>
                <a:lnTo>
                  <a:pt x="8248653" y="2197099"/>
                </a:lnTo>
                <a:lnTo>
                  <a:pt x="8324851" y="2193924"/>
                </a:lnTo>
                <a:lnTo>
                  <a:pt x="8394700" y="2197099"/>
                </a:lnTo>
                <a:lnTo>
                  <a:pt x="8401050" y="2143124"/>
                </a:lnTo>
                <a:lnTo>
                  <a:pt x="8410576" y="2089150"/>
                </a:lnTo>
                <a:lnTo>
                  <a:pt x="8426450" y="2028824"/>
                </a:lnTo>
                <a:lnTo>
                  <a:pt x="8448675" y="1968499"/>
                </a:lnTo>
                <a:lnTo>
                  <a:pt x="8474075" y="1904999"/>
                </a:lnTo>
                <a:lnTo>
                  <a:pt x="8493127" y="1873249"/>
                </a:lnTo>
                <a:lnTo>
                  <a:pt x="8512179" y="1844674"/>
                </a:lnTo>
                <a:lnTo>
                  <a:pt x="8531226" y="1812925"/>
                </a:lnTo>
                <a:lnTo>
                  <a:pt x="8556628" y="1784350"/>
                </a:lnTo>
                <a:lnTo>
                  <a:pt x="8582028" y="1752599"/>
                </a:lnTo>
                <a:lnTo>
                  <a:pt x="8610604" y="1724024"/>
                </a:lnTo>
                <a:lnTo>
                  <a:pt x="8648704" y="1689099"/>
                </a:lnTo>
                <a:lnTo>
                  <a:pt x="8686804" y="1660525"/>
                </a:lnTo>
                <a:lnTo>
                  <a:pt x="8724904" y="1638300"/>
                </a:lnTo>
                <a:lnTo>
                  <a:pt x="8763004" y="1616074"/>
                </a:lnTo>
                <a:lnTo>
                  <a:pt x="8801104" y="1600199"/>
                </a:lnTo>
                <a:lnTo>
                  <a:pt x="8839204" y="1584324"/>
                </a:lnTo>
                <a:lnTo>
                  <a:pt x="8915404" y="1565274"/>
                </a:lnTo>
                <a:lnTo>
                  <a:pt x="9058279" y="1530350"/>
                </a:lnTo>
                <a:lnTo>
                  <a:pt x="9093204" y="1520825"/>
                </a:lnTo>
                <a:lnTo>
                  <a:pt x="9124954" y="1511300"/>
                </a:lnTo>
                <a:lnTo>
                  <a:pt x="9153529" y="1495425"/>
                </a:lnTo>
                <a:lnTo>
                  <a:pt x="9182104" y="1482725"/>
                </a:lnTo>
                <a:lnTo>
                  <a:pt x="9207504" y="1463674"/>
                </a:lnTo>
                <a:lnTo>
                  <a:pt x="9226554" y="1444624"/>
                </a:lnTo>
                <a:lnTo>
                  <a:pt x="9245604" y="1422399"/>
                </a:lnTo>
                <a:lnTo>
                  <a:pt x="9258304" y="1400174"/>
                </a:lnTo>
                <a:lnTo>
                  <a:pt x="9271004" y="1377950"/>
                </a:lnTo>
                <a:lnTo>
                  <a:pt x="9280529" y="1352550"/>
                </a:lnTo>
                <a:lnTo>
                  <a:pt x="9296404" y="1301749"/>
                </a:lnTo>
                <a:lnTo>
                  <a:pt x="9312279" y="1247775"/>
                </a:lnTo>
                <a:lnTo>
                  <a:pt x="9321804" y="1222375"/>
                </a:lnTo>
                <a:lnTo>
                  <a:pt x="9334504" y="1193800"/>
                </a:lnTo>
                <a:lnTo>
                  <a:pt x="9347204" y="1168399"/>
                </a:lnTo>
                <a:lnTo>
                  <a:pt x="9366254" y="1139824"/>
                </a:lnTo>
                <a:lnTo>
                  <a:pt x="9385304" y="1111249"/>
                </a:lnTo>
                <a:lnTo>
                  <a:pt x="9410704" y="1085850"/>
                </a:lnTo>
                <a:lnTo>
                  <a:pt x="9442454" y="1057276"/>
                </a:lnTo>
                <a:lnTo>
                  <a:pt x="9474204" y="1035054"/>
                </a:lnTo>
                <a:lnTo>
                  <a:pt x="9502779" y="1016002"/>
                </a:lnTo>
                <a:lnTo>
                  <a:pt x="9534529" y="1000126"/>
                </a:lnTo>
                <a:lnTo>
                  <a:pt x="9563104" y="987426"/>
                </a:lnTo>
                <a:lnTo>
                  <a:pt x="9591679" y="977901"/>
                </a:lnTo>
                <a:lnTo>
                  <a:pt x="9648829" y="962026"/>
                </a:lnTo>
                <a:lnTo>
                  <a:pt x="9705979" y="949329"/>
                </a:lnTo>
                <a:lnTo>
                  <a:pt x="9759954" y="936629"/>
                </a:lnTo>
                <a:lnTo>
                  <a:pt x="9788529" y="927103"/>
                </a:lnTo>
                <a:lnTo>
                  <a:pt x="9817104" y="914402"/>
                </a:lnTo>
                <a:lnTo>
                  <a:pt x="9842504" y="901700"/>
                </a:lnTo>
                <a:lnTo>
                  <a:pt x="9871079" y="882650"/>
                </a:lnTo>
                <a:lnTo>
                  <a:pt x="9899654" y="860425"/>
                </a:lnTo>
                <a:lnTo>
                  <a:pt x="9925054" y="835029"/>
                </a:lnTo>
                <a:lnTo>
                  <a:pt x="9947279" y="809626"/>
                </a:lnTo>
                <a:lnTo>
                  <a:pt x="9969504" y="777876"/>
                </a:lnTo>
                <a:lnTo>
                  <a:pt x="10013954" y="714376"/>
                </a:lnTo>
                <a:lnTo>
                  <a:pt x="10058404" y="644529"/>
                </a:lnTo>
                <a:lnTo>
                  <a:pt x="10109204" y="574675"/>
                </a:lnTo>
                <a:lnTo>
                  <a:pt x="10137779" y="539754"/>
                </a:lnTo>
                <a:lnTo>
                  <a:pt x="10166354" y="508001"/>
                </a:lnTo>
                <a:lnTo>
                  <a:pt x="10198104" y="476251"/>
                </a:lnTo>
                <a:lnTo>
                  <a:pt x="10233029" y="447679"/>
                </a:lnTo>
                <a:lnTo>
                  <a:pt x="10271129" y="422276"/>
                </a:lnTo>
                <a:lnTo>
                  <a:pt x="10315579" y="400051"/>
                </a:lnTo>
                <a:lnTo>
                  <a:pt x="10356854" y="381001"/>
                </a:lnTo>
                <a:lnTo>
                  <a:pt x="10398129" y="368304"/>
                </a:lnTo>
                <a:lnTo>
                  <a:pt x="10436229" y="358779"/>
                </a:lnTo>
                <a:lnTo>
                  <a:pt x="10474329" y="352429"/>
                </a:lnTo>
                <a:lnTo>
                  <a:pt x="10509254" y="349254"/>
                </a:lnTo>
                <a:lnTo>
                  <a:pt x="10544179" y="349254"/>
                </a:lnTo>
                <a:lnTo>
                  <a:pt x="10614029" y="349254"/>
                </a:lnTo>
                <a:lnTo>
                  <a:pt x="10683879" y="349254"/>
                </a:lnTo>
                <a:lnTo>
                  <a:pt x="10721979" y="349254"/>
                </a:lnTo>
                <a:lnTo>
                  <a:pt x="10763254" y="346078"/>
                </a:lnTo>
                <a:lnTo>
                  <a:pt x="10807704" y="339728"/>
                </a:lnTo>
                <a:lnTo>
                  <a:pt x="10852154" y="330202"/>
                </a:lnTo>
                <a:lnTo>
                  <a:pt x="10902954" y="317500"/>
                </a:lnTo>
                <a:lnTo>
                  <a:pt x="10956929" y="301625"/>
                </a:lnTo>
                <a:lnTo>
                  <a:pt x="11010904" y="282575"/>
                </a:lnTo>
                <a:lnTo>
                  <a:pt x="11058529" y="260354"/>
                </a:lnTo>
                <a:lnTo>
                  <a:pt x="11099804" y="241303"/>
                </a:lnTo>
                <a:lnTo>
                  <a:pt x="11137904" y="219076"/>
                </a:lnTo>
                <a:lnTo>
                  <a:pt x="11207754" y="177800"/>
                </a:lnTo>
                <a:lnTo>
                  <a:pt x="11264904" y="136527"/>
                </a:lnTo>
                <a:lnTo>
                  <a:pt x="11325229" y="98426"/>
                </a:lnTo>
                <a:lnTo>
                  <a:pt x="11353804" y="79379"/>
                </a:lnTo>
                <a:lnTo>
                  <a:pt x="11385554" y="63504"/>
                </a:lnTo>
                <a:lnTo>
                  <a:pt x="11420479" y="47628"/>
                </a:lnTo>
                <a:lnTo>
                  <a:pt x="11458579" y="34925"/>
                </a:lnTo>
                <a:lnTo>
                  <a:pt x="11499854" y="22225"/>
                </a:lnTo>
                <a:lnTo>
                  <a:pt x="11547479" y="12700"/>
                </a:lnTo>
                <a:lnTo>
                  <a:pt x="11601454" y="3175"/>
                </a:lnTo>
                <a:lnTo>
                  <a:pt x="11652254" y="0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幼圆"/>
            </a:endParaRPr>
          </a:p>
        </p:txBody>
      </p:sp>
      <p:sp>
        <p:nvSpPr>
          <p:cNvPr id="259" name="文本框 122"/>
          <p:cNvSpPr/>
          <p:nvPr/>
        </p:nvSpPr>
        <p:spPr>
          <a:xfrm>
            <a:off x="3635280" y="2432160"/>
            <a:ext cx="10234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0000"/>
              </a:lnSpc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第一季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23"/>
          <p:cNvSpPr/>
          <p:nvPr/>
        </p:nvSpPr>
        <p:spPr>
          <a:xfrm>
            <a:off x="3635280" y="3019320"/>
            <a:ext cx="10234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0000"/>
              </a:lnSpc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第二季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24"/>
          <p:cNvSpPr/>
          <p:nvPr/>
        </p:nvSpPr>
        <p:spPr>
          <a:xfrm>
            <a:off x="3635280" y="3605040"/>
            <a:ext cx="1023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0000"/>
              </a:lnSpc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第三季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25"/>
          <p:cNvSpPr/>
          <p:nvPr/>
        </p:nvSpPr>
        <p:spPr>
          <a:xfrm>
            <a:off x="3635280" y="4192560"/>
            <a:ext cx="1023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30000"/>
              </a:lnSpc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第四季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26"/>
          <p:cNvSpPr/>
          <p:nvPr/>
        </p:nvSpPr>
        <p:spPr>
          <a:xfrm>
            <a:off x="1028880" y="5087880"/>
            <a:ext cx="707184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30000"/>
              </a:lnSpc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如果您一直关注林敏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设计工作室，请加林敏本人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QQ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号：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706523326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，验证信息：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设计。我们将不断为您放送最新的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设计信息，包含动态、静态、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3D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效果等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设计，模板免费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1200">
        <p14:prism/>
      </p:transition>
    </mc:Choice>
    <mc:Fallback>
      <p:transition spd="slow" advTm="2000">
        <p:fade/>
      </p:transition>
    </mc:Fallback>
  </mc:AlternateContent>
</p:sld>
</file>

<file path=ppt/theme/theme1.xml><?xml version="1.0" encoding="utf-8"?>
<a:theme xmlns:a="http://schemas.openxmlformats.org/drawingml/2006/main" name="A000120140530A99PPBG">
  <a:themeElements>
    <a:clrScheme name="自定义 440">
      <a:dk1>
        <a:srgbClr val="5f5f5f"/>
      </a:dk1>
      <a:lt1>
        <a:srgbClr val="ffffff"/>
      </a:lt1>
      <a:dk2>
        <a:srgbClr val="5f5f5f"/>
      </a:dk2>
      <a:lt2>
        <a:srgbClr val="ffffff"/>
      </a:lt2>
      <a:accent1>
        <a:srgbClr val="dc5c31"/>
      </a:accent1>
      <a:accent2>
        <a:srgbClr val="ea9b26"/>
      </a:accent2>
      <a:accent3>
        <a:srgbClr val="d36d8d"/>
      </a:accent3>
      <a:accent4>
        <a:srgbClr val="d46e5a"/>
      </a:accent4>
      <a:accent5>
        <a:srgbClr val="92d050"/>
      </a:accent5>
      <a:accent6>
        <a:srgbClr val="aa5ed4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000120140530A99PPBG">
  <a:themeElements>
    <a:clrScheme name="自定义 440">
      <a:dk1>
        <a:srgbClr val="5f5f5f"/>
      </a:dk1>
      <a:lt1>
        <a:srgbClr val="ffffff"/>
      </a:lt1>
      <a:dk2>
        <a:srgbClr val="5f5f5f"/>
      </a:dk2>
      <a:lt2>
        <a:srgbClr val="ffffff"/>
      </a:lt2>
      <a:accent1>
        <a:srgbClr val="dc5c31"/>
      </a:accent1>
      <a:accent2>
        <a:srgbClr val="ea9b26"/>
      </a:accent2>
      <a:accent3>
        <a:srgbClr val="d36d8d"/>
      </a:accent3>
      <a:accent4>
        <a:srgbClr val="d46e5a"/>
      </a:accent4>
      <a:accent5>
        <a:srgbClr val="92d050"/>
      </a:accent5>
      <a:accent6>
        <a:srgbClr val="aa5ed4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000120140530A99PPBG">
  <a:themeElements>
    <a:clrScheme name="自定义 440">
      <a:dk1>
        <a:srgbClr val="5f5f5f"/>
      </a:dk1>
      <a:lt1>
        <a:srgbClr val="ffffff"/>
      </a:lt1>
      <a:dk2>
        <a:srgbClr val="5f5f5f"/>
      </a:dk2>
      <a:lt2>
        <a:srgbClr val="ffffff"/>
      </a:lt2>
      <a:accent1>
        <a:srgbClr val="dc5c31"/>
      </a:accent1>
      <a:accent2>
        <a:srgbClr val="ea9b26"/>
      </a:accent2>
      <a:accent3>
        <a:srgbClr val="d36d8d"/>
      </a:accent3>
      <a:accent4>
        <a:srgbClr val="d46e5a"/>
      </a:accent4>
      <a:accent5>
        <a:srgbClr val="92d050"/>
      </a:accent5>
      <a:accent6>
        <a:srgbClr val="aa5ed4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f5f5f"/>
      </a:dk2>
      <a:lt2>
        <a:srgbClr val="ffffff"/>
      </a:lt2>
      <a:accent1>
        <a:srgbClr val="dc5c31"/>
      </a:accent1>
      <a:accent2>
        <a:srgbClr val="ea9b26"/>
      </a:accent2>
      <a:accent3>
        <a:srgbClr val="d36d8d"/>
      </a:accent3>
      <a:accent4>
        <a:srgbClr val="d46e5a"/>
      </a:accent4>
      <a:accent5>
        <a:srgbClr val="92d050"/>
      </a:accent5>
      <a:accent6>
        <a:srgbClr val="aa5ed4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000120150324A12PPBG</Template>
  <TotalTime>59</TotalTime>
  <Application>LibreOffice/7.4.7.2$Linux_X86_64 LibreOffice_project/40$Build-2</Application>
  <AppVersion>15.0000</AppVersion>
  <Words>1033</Words>
  <Paragraphs>1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08T10:02:46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9</vt:r8>
  </property>
</Properties>
</file>