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437571118237302"/>
          <c:y val="0.0491854150504267"/>
          <c:w val="0.919623461259957"/>
          <c:h val="0.87944142746315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销售额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93d502"/>
              </a:solidFill>
              <a:ln w="0">
                <a:noFill/>
              </a:ln>
            </c:spPr>
          </c:dPt>
          <c:dPt>
            <c:idx val="1"/>
            <c:spPr>
              <a:solidFill>
                <a:srgbClr val="808080"/>
              </a:solidFill>
              <a:ln w="0">
                <a:noFill/>
              </a:ln>
            </c:spPr>
          </c:dPt>
          <c:dPt>
            <c:idx val="2"/>
            <c:spPr>
              <a:solidFill>
                <a:srgbClr val="a6a6a6"/>
              </a:solidFill>
              <a:ln w="0">
                <a:noFill/>
              </a:ln>
            </c:spPr>
          </c:dPt>
          <c:dPt>
            <c:idx val="3"/>
            <c:spPr>
              <a:solidFill>
                <a:srgbClr val="bfbfbf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2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3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Calibri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0"/>
            <c:separator>; </c:separator>
            <c:showLeaderLines val="0"/>
          </c:dLbls>
          <c:cat>
            <c:strRef>
              <c:f>categories</c:f>
              <c:strCache>
                <c:ptCount val="4"/>
                <c:pt idx="0">
                  <c:v>本单位</c:v>
                </c:pt>
                <c:pt idx="1">
                  <c:v>单位一</c:v>
                </c:pt>
                <c:pt idx="2">
                  <c:v>单位二</c:v>
                </c:pt>
                <c:pt idx="3">
                  <c:v>单位三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8.2</c:v>
                </c:pt>
                <c:pt idx="1">
                  <c:v>3.2</c:v>
                </c:pt>
                <c:pt idx="2">
                  <c:v>1.4</c:v>
                </c:pt>
                <c:pt idx="3">
                  <c:v>1.2</c:v>
                </c:pt>
              </c:numCache>
            </c:numRef>
          </c:val>
        </c:ser>
      </c:pie3DChart>
    </c:plotArea>
    <c:plotVisOnly val="1"/>
    <c:dispBlanksAs val="zero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C1C0-701B-41EF-937E-DF7A036F4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909D-437A-497A-8174-65AF0D64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0406-2843-479A-9EDA-EAAED4BE4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CC98-8AE8-44FB-8424-8C7FA5FEF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0292C-EA96-42F9-87F3-03A05D62F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912A-993F-48D8-9983-CB38D412E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7076-D5C3-4FA7-8627-8B7A2CEC0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164A0-50FD-4571-8AC0-B9B4DF4E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E8F9E-C3AF-4112-BC2F-1A634E65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E07C-189E-4F53-87A6-E6D1B502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BA6F-03BF-4312-9FD3-16DBFF13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763B-D9E2-4FD6-844A-06A483543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E8E36-090D-41CB-B420-AFF53A0A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4E98-A232-4FBA-9A90-AB23182FB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0524F-BB63-4F11-8E3B-D085973A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AE64E-E682-4423-B123-B952FA5EB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FC68B-7FFE-472D-97FE-3F415B235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CD5D-6A00-41A7-A748-90656CA5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9FD6-2E42-4F82-AD88-B0CB1741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58F0-298F-4743-8BEC-E0538437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A345-593F-4DAA-AE42-8EAFA9056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7449-A617-4C32-864B-3DA7B6EA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B827-9872-4CA4-873F-70098AB3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A22C-B9DE-4963-A115-FA9117F8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910CC69-9DBA-4CC5-A744-6636CD447F9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2A08279-5E40-47FC-9FF4-926DFFA110A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6"/>
          <p:cNvSpPr/>
          <p:nvPr/>
        </p:nvSpPr>
        <p:spPr>
          <a:xfrm>
            <a:off x="6300360" y="2933280"/>
            <a:ext cx="575640" cy="2114280"/>
          </a:xfrm>
          <a:prstGeom prst="rect">
            <a:avLst/>
          </a:prstGeom>
          <a:solidFill>
            <a:srgbClr val="93d502"/>
          </a:solidFill>
          <a:ln>
            <a:noFill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3" name="矩形 7"/>
          <p:cNvSpPr/>
          <p:nvPr/>
        </p:nvSpPr>
        <p:spPr>
          <a:xfrm>
            <a:off x="1940400" y="4494960"/>
            <a:ext cx="575640" cy="552960"/>
          </a:xfrm>
          <a:prstGeom prst="rect">
            <a:avLst/>
          </a:prstGeom>
          <a:solidFill>
            <a:schemeClr val="bg1">
              <a:lumMod val="75000"/>
            </a:schemeClr>
          </a:solidFill>
          <a:ln>
            <a:noFill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4" name="矩形 8"/>
          <p:cNvSpPr/>
          <p:nvPr/>
        </p:nvSpPr>
        <p:spPr>
          <a:xfrm>
            <a:off x="3030480" y="3941640"/>
            <a:ext cx="575640" cy="1106280"/>
          </a:xfrm>
          <a:prstGeom prst="rect">
            <a:avLst/>
          </a:prstGeom>
          <a:solidFill>
            <a:schemeClr val="bg1">
              <a:lumMod val="75000"/>
            </a:schemeClr>
          </a:solidFill>
          <a:ln>
            <a:noFill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5" name="矩形 9"/>
          <p:cNvSpPr/>
          <p:nvPr/>
        </p:nvSpPr>
        <p:spPr>
          <a:xfrm>
            <a:off x="4120200" y="3653640"/>
            <a:ext cx="575640" cy="1394280"/>
          </a:xfrm>
          <a:prstGeom prst="rect">
            <a:avLst/>
          </a:prstGeom>
          <a:solidFill>
            <a:schemeClr val="bg1">
              <a:lumMod val="75000"/>
            </a:schemeClr>
          </a:solidFill>
          <a:ln>
            <a:noFill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6" name="矩形 10"/>
          <p:cNvSpPr/>
          <p:nvPr/>
        </p:nvSpPr>
        <p:spPr>
          <a:xfrm>
            <a:off x="5210280" y="3437640"/>
            <a:ext cx="575640" cy="1610280"/>
          </a:xfrm>
          <a:prstGeom prst="rect">
            <a:avLst/>
          </a:prstGeom>
          <a:solidFill>
            <a:schemeClr val="bg1">
              <a:lumMod val="75000"/>
            </a:schemeClr>
          </a:solidFill>
          <a:ln>
            <a:noFill/>
          </a:ln>
          <a:effectLst>
            <a:outerShdw algn="bl" blurRad="76320" dir="0" kx="-1200000" rotWithShape="0" sy="23000">
              <a:srgbClr val="000000">
                <a:alpha val="2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87" name="TextBox 11"/>
          <p:cNvSpPr/>
          <p:nvPr/>
        </p:nvSpPr>
        <p:spPr>
          <a:xfrm>
            <a:off x="6265800" y="5124240"/>
            <a:ext cx="644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808080"/>
                </a:solidFill>
                <a:latin typeface="Calibri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5176080" y="5124240"/>
            <a:ext cx="644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808080"/>
                </a:solidFill>
                <a:latin typeface="Calibri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3"/>
          <p:cNvSpPr/>
          <p:nvPr/>
        </p:nvSpPr>
        <p:spPr>
          <a:xfrm>
            <a:off x="4086000" y="5124240"/>
            <a:ext cx="644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808080"/>
                </a:solidFill>
                <a:latin typeface="Calibri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4"/>
          <p:cNvSpPr/>
          <p:nvPr/>
        </p:nvSpPr>
        <p:spPr>
          <a:xfrm>
            <a:off x="2995920" y="5124240"/>
            <a:ext cx="644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808080"/>
                </a:solidFill>
                <a:latin typeface="Calibri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5"/>
          <p:cNvSpPr/>
          <p:nvPr/>
        </p:nvSpPr>
        <p:spPr>
          <a:xfrm>
            <a:off x="1906200" y="5124240"/>
            <a:ext cx="644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808080"/>
                </a:solidFill>
                <a:latin typeface="Calibri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6"/>
          <p:cNvSpPr/>
          <p:nvPr/>
        </p:nvSpPr>
        <p:spPr>
          <a:xfrm>
            <a:off x="3196080" y="1988640"/>
            <a:ext cx="2521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        </a:t>
            </a:r>
            <a:r>
              <a:rPr b="0" lang="zh-CN" sz="18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业务取得长足进步。五年来，一年一个台阶。</a:t>
            </a:r>
            <a:r>
              <a:rPr b="0" lang="en-US" sz="18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2012</a:t>
            </a:r>
            <a:r>
              <a:rPr b="0" lang="zh-CN" sz="18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年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2008</a:t>
            </a:r>
            <a:r>
              <a:rPr b="0" lang="zh-CN" sz="18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年番了二番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7"/>
          <p:cNvSpPr/>
          <p:nvPr/>
        </p:nvSpPr>
        <p:spPr>
          <a:xfrm>
            <a:off x="2646720" y="941760"/>
            <a:ext cx="40989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808080"/>
                </a:solidFill>
                <a:latin typeface="微软雅黑"/>
                <a:ea typeface="微软雅黑"/>
              </a:rPr>
              <a:t>企业用</a:t>
            </a:r>
            <a:r>
              <a:rPr b="1" lang="en-US" sz="4000" spc="-1" strike="noStrike">
                <a:solidFill>
                  <a:srgbClr val="80808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808080"/>
                </a:solidFill>
                <a:latin typeface="微软雅黑"/>
                <a:ea typeface="微软雅黑"/>
              </a:rPr>
              <a:t>图表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6"/>
          <p:cNvSpPr/>
          <p:nvPr/>
        </p:nvSpPr>
        <p:spPr>
          <a:xfrm>
            <a:off x="1312560" y="1988640"/>
            <a:ext cx="678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        </a:t>
            </a:r>
            <a:r>
              <a:rPr b="0" lang="zh-CN" sz="18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同业占比达</a:t>
            </a:r>
            <a:r>
              <a:rPr b="0" lang="en-US" sz="18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60%</a:t>
            </a:r>
            <a:r>
              <a:rPr b="0" lang="zh-CN" sz="18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。通过五年的努力，由五年前的排名倒数第一，到</a:t>
            </a:r>
            <a:r>
              <a:rPr b="0" lang="en-US" sz="18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2012</a:t>
            </a:r>
            <a:r>
              <a:rPr b="0" lang="zh-CN" sz="18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年，同业占比排名第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7"/>
          <p:cNvSpPr/>
          <p:nvPr/>
        </p:nvSpPr>
        <p:spPr>
          <a:xfrm>
            <a:off x="1118160" y="706680"/>
            <a:ext cx="1644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808080"/>
                </a:solidFill>
                <a:latin typeface="微软雅黑"/>
                <a:ea typeface="微软雅黑"/>
              </a:rPr>
              <a:t>业务同业占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椭圆 18"/>
          <p:cNvSpPr/>
          <p:nvPr/>
        </p:nvSpPr>
        <p:spPr>
          <a:xfrm>
            <a:off x="2978640" y="4532760"/>
            <a:ext cx="3456000" cy="1151640"/>
          </a:xfrm>
          <a:prstGeom prst="ellipse">
            <a:avLst/>
          </a:prstGeom>
          <a:solidFill>
            <a:schemeClr val="tx1"/>
          </a:solidFill>
          <a:ln>
            <a:noFill/>
          </a:ln>
          <a:effectLst>
            <a:softEdge rad="317520"/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graphicFrame>
        <p:nvGraphicFramePr>
          <p:cNvPr id="98" name="图表 19"/>
          <p:cNvGraphicFramePr/>
          <p:nvPr/>
        </p:nvGraphicFramePr>
        <p:xfrm>
          <a:off x="2949480" y="3380760"/>
          <a:ext cx="3479760" cy="23198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pSp>
        <p:nvGrpSpPr>
          <p:cNvPr id="99" name="组合 20"/>
          <p:cNvGrpSpPr/>
          <p:nvPr/>
        </p:nvGrpSpPr>
        <p:grpSpPr>
          <a:xfrm>
            <a:off x="3711960" y="3878280"/>
            <a:ext cx="1962720" cy="1007640"/>
            <a:chOff x="3711960" y="3878280"/>
            <a:chExt cx="1962720" cy="1007640"/>
          </a:xfrm>
        </p:grpSpPr>
        <p:sp>
          <p:nvSpPr>
            <p:cNvPr id="100" name="椭圆 21"/>
            <p:cNvSpPr/>
            <p:nvPr/>
          </p:nvSpPr>
          <p:spPr>
            <a:xfrm>
              <a:off x="3711960" y="3878280"/>
              <a:ext cx="1962720" cy="1007640"/>
            </a:xfrm>
            <a:prstGeom prst="ellipse">
              <a:avLst/>
            </a:prstGeom>
            <a:solidFill>
              <a:schemeClr val="bg1">
                <a:lumMod val="85000"/>
                <a:alpha val="36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1" name="椭圆 22"/>
            <p:cNvSpPr/>
            <p:nvPr/>
          </p:nvSpPr>
          <p:spPr>
            <a:xfrm>
              <a:off x="4225680" y="4140720"/>
              <a:ext cx="935640" cy="483120"/>
            </a:xfrm>
            <a:prstGeom prst="ellipse">
              <a:avLst/>
            </a:prstGeom>
            <a:solidFill>
              <a:schemeClr val="bg1">
                <a:lumMod val="50000"/>
                <a:alpha val="33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 rot="21234600">
            <a:off x="3144960" y="4672440"/>
            <a:ext cx="3097800" cy="9136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6"/>
          <p:cNvSpPr/>
          <p:nvPr/>
        </p:nvSpPr>
        <p:spPr>
          <a:xfrm>
            <a:off x="1312560" y="1988640"/>
            <a:ext cx="678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        </a:t>
            </a:r>
            <a:r>
              <a:rPr b="0" lang="zh-CN" sz="18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坏账率仅为</a:t>
            </a:r>
            <a:r>
              <a:rPr b="0" lang="en-US" sz="18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1%</a:t>
            </a:r>
            <a:r>
              <a:rPr b="0" lang="zh-CN" sz="18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。由五年前的</a:t>
            </a:r>
            <a:r>
              <a:rPr b="0" lang="en-US" sz="18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7%</a:t>
            </a:r>
            <a:r>
              <a:rPr b="0" lang="zh-CN" sz="18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，到</a:t>
            </a:r>
            <a:r>
              <a:rPr b="0" lang="en-US" sz="18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2012</a:t>
            </a:r>
            <a:r>
              <a:rPr b="0" lang="zh-CN" sz="18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年，坏账率大为下降，处同业最好水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7"/>
          <p:cNvSpPr/>
          <p:nvPr/>
        </p:nvSpPr>
        <p:spPr>
          <a:xfrm>
            <a:off x="868320" y="706680"/>
            <a:ext cx="912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808080"/>
                </a:solidFill>
                <a:latin typeface="微软雅黑"/>
                <a:ea typeface="微软雅黑"/>
              </a:rPr>
              <a:t>坏账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 rot="19837800">
            <a:off x="2754720" y="3491640"/>
            <a:ext cx="3278520" cy="2013840"/>
          </a:xfrm>
          <a:prstGeom prst="rect">
            <a:avLst/>
          </a:prstGeom>
          <a:ln w="0">
            <a:noFill/>
          </a:ln>
          <a:scene3d>
            <a:camera prst="orthographicFront">
              <a:rot lat="0" lon="0" rev="0"/>
            </a:camera>
            <a:lightRig dir="t" rig="threePt"/>
          </a:scene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6"/>
          <p:cNvSpPr/>
          <p:nvPr/>
        </p:nvSpPr>
        <p:spPr>
          <a:xfrm>
            <a:off x="1312560" y="1988640"/>
            <a:ext cx="678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        </a:t>
            </a:r>
            <a:r>
              <a:rPr b="0" lang="zh-CN" sz="18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员工文化程度大幅提高。由五年前的</a:t>
            </a:r>
            <a:r>
              <a:rPr b="0" lang="en-US" sz="18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30%</a:t>
            </a:r>
            <a:r>
              <a:rPr b="0" lang="zh-CN" sz="18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，到</a:t>
            </a:r>
            <a:r>
              <a:rPr b="0" lang="en-US" sz="18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2012</a:t>
            </a:r>
            <a:r>
              <a:rPr b="0" lang="zh-CN" sz="18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年，员工本科占比为</a:t>
            </a:r>
            <a:r>
              <a:rPr b="0" lang="en-US" sz="18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50%</a:t>
            </a:r>
            <a:r>
              <a:rPr b="0" lang="zh-CN" sz="18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7"/>
          <p:cNvSpPr/>
          <p:nvPr/>
        </p:nvSpPr>
        <p:spPr>
          <a:xfrm>
            <a:off x="1118160" y="706680"/>
            <a:ext cx="1644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808080"/>
                </a:solidFill>
                <a:latin typeface="微软雅黑"/>
                <a:ea typeface="微软雅黑"/>
              </a:rPr>
              <a:t>员工文化程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23"/>
          <p:cNvGrpSpPr/>
          <p:nvPr/>
        </p:nvGrpSpPr>
        <p:grpSpPr>
          <a:xfrm>
            <a:off x="1962360" y="3406680"/>
            <a:ext cx="226440" cy="566640"/>
            <a:chOff x="1962360" y="3406680"/>
            <a:chExt cx="226440" cy="566640"/>
          </a:xfrm>
        </p:grpSpPr>
        <p:sp>
          <p:nvSpPr>
            <p:cNvPr id="109" name="Freeform 24"/>
            <p:cNvSpPr/>
            <p:nvPr/>
          </p:nvSpPr>
          <p:spPr>
            <a:xfrm>
              <a:off x="2017440" y="3406680"/>
              <a:ext cx="105840" cy="11520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93d5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25"/>
            <p:cNvSpPr/>
            <p:nvPr/>
          </p:nvSpPr>
          <p:spPr>
            <a:xfrm>
              <a:off x="1962360" y="3534480"/>
              <a:ext cx="226440" cy="438840"/>
            </a:xfrm>
            <a:custGeom>
              <a:avLst/>
              <a:gdLst>
                <a:gd name="textAreaLeft" fmla="*/ 0 w 226440"/>
                <a:gd name="textAreaRight" fmla="*/ 226800 w 226440"/>
                <a:gd name="textAreaTop" fmla="*/ 0 h 438840"/>
                <a:gd name="textAreaBottom" fmla="*/ 439200 h 43884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93d5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23"/>
          <p:cNvGrpSpPr/>
          <p:nvPr/>
        </p:nvGrpSpPr>
        <p:grpSpPr>
          <a:xfrm>
            <a:off x="2343240" y="4110120"/>
            <a:ext cx="226440" cy="567000"/>
            <a:chOff x="2343240" y="4110120"/>
            <a:chExt cx="226440" cy="567000"/>
          </a:xfrm>
        </p:grpSpPr>
        <p:sp>
          <p:nvSpPr>
            <p:cNvPr id="112" name="Freeform 24"/>
            <p:cNvSpPr/>
            <p:nvPr/>
          </p:nvSpPr>
          <p:spPr>
            <a:xfrm>
              <a:off x="2398320" y="4110120"/>
              <a:ext cx="105840" cy="11520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25"/>
            <p:cNvSpPr/>
            <p:nvPr/>
          </p:nvSpPr>
          <p:spPr>
            <a:xfrm>
              <a:off x="2343240" y="4238280"/>
              <a:ext cx="226440" cy="438840"/>
            </a:xfrm>
            <a:custGeom>
              <a:avLst/>
              <a:gdLst>
                <a:gd name="textAreaLeft" fmla="*/ 0 w 226440"/>
                <a:gd name="textAreaRight" fmla="*/ 226800 w 226440"/>
                <a:gd name="textAreaTop" fmla="*/ 0 h 438840"/>
                <a:gd name="textAreaBottom" fmla="*/ 439200 h 43884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23"/>
          <p:cNvGrpSpPr/>
          <p:nvPr/>
        </p:nvGrpSpPr>
        <p:grpSpPr>
          <a:xfrm>
            <a:off x="2734560" y="4110120"/>
            <a:ext cx="226440" cy="567000"/>
            <a:chOff x="2734560" y="4110120"/>
            <a:chExt cx="226440" cy="567000"/>
          </a:xfrm>
        </p:grpSpPr>
        <p:sp>
          <p:nvSpPr>
            <p:cNvPr id="115" name="Freeform 24"/>
            <p:cNvSpPr/>
            <p:nvPr/>
          </p:nvSpPr>
          <p:spPr>
            <a:xfrm>
              <a:off x="2789640" y="4110120"/>
              <a:ext cx="105840" cy="11520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25"/>
            <p:cNvSpPr/>
            <p:nvPr/>
          </p:nvSpPr>
          <p:spPr>
            <a:xfrm>
              <a:off x="2734560" y="4238280"/>
              <a:ext cx="226440" cy="438840"/>
            </a:xfrm>
            <a:custGeom>
              <a:avLst/>
              <a:gdLst>
                <a:gd name="textAreaLeft" fmla="*/ 0 w 226440"/>
                <a:gd name="textAreaRight" fmla="*/ 226800 w 226440"/>
                <a:gd name="textAreaTop" fmla="*/ 0 h 438840"/>
                <a:gd name="textAreaBottom" fmla="*/ 439200 h 43884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23"/>
          <p:cNvGrpSpPr/>
          <p:nvPr/>
        </p:nvGrpSpPr>
        <p:grpSpPr>
          <a:xfrm>
            <a:off x="3120480" y="3406680"/>
            <a:ext cx="226440" cy="566640"/>
            <a:chOff x="3120480" y="3406680"/>
            <a:chExt cx="226440" cy="566640"/>
          </a:xfrm>
        </p:grpSpPr>
        <p:sp>
          <p:nvSpPr>
            <p:cNvPr id="118" name="Freeform 24"/>
            <p:cNvSpPr/>
            <p:nvPr/>
          </p:nvSpPr>
          <p:spPr>
            <a:xfrm>
              <a:off x="3175560" y="3406680"/>
              <a:ext cx="105840" cy="11520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25"/>
            <p:cNvSpPr/>
            <p:nvPr/>
          </p:nvSpPr>
          <p:spPr>
            <a:xfrm>
              <a:off x="3120480" y="3534480"/>
              <a:ext cx="226440" cy="438840"/>
            </a:xfrm>
            <a:custGeom>
              <a:avLst/>
              <a:gdLst>
                <a:gd name="textAreaLeft" fmla="*/ 0 w 226440"/>
                <a:gd name="textAreaRight" fmla="*/ 226800 w 226440"/>
                <a:gd name="textAreaTop" fmla="*/ 0 h 438840"/>
                <a:gd name="textAreaBottom" fmla="*/ 439200 h 43884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" name="Group 23"/>
          <p:cNvGrpSpPr/>
          <p:nvPr/>
        </p:nvGrpSpPr>
        <p:grpSpPr>
          <a:xfrm>
            <a:off x="2734560" y="3406680"/>
            <a:ext cx="226440" cy="566640"/>
            <a:chOff x="2734560" y="3406680"/>
            <a:chExt cx="226440" cy="566640"/>
          </a:xfrm>
        </p:grpSpPr>
        <p:sp>
          <p:nvSpPr>
            <p:cNvPr id="121" name="Freeform 24"/>
            <p:cNvSpPr/>
            <p:nvPr/>
          </p:nvSpPr>
          <p:spPr>
            <a:xfrm>
              <a:off x="2789640" y="3406680"/>
              <a:ext cx="105840" cy="11520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93d5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25"/>
            <p:cNvSpPr/>
            <p:nvPr/>
          </p:nvSpPr>
          <p:spPr>
            <a:xfrm>
              <a:off x="2734560" y="3534480"/>
              <a:ext cx="226440" cy="438840"/>
            </a:xfrm>
            <a:custGeom>
              <a:avLst/>
              <a:gdLst>
                <a:gd name="textAreaLeft" fmla="*/ 0 w 226440"/>
                <a:gd name="textAreaRight" fmla="*/ 226800 w 226440"/>
                <a:gd name="textAreaTop" fmla="*/ 0 h 438840"/>
                <a:gd name="textAreaBottom" fmla="*/ 439200 h 43884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93d5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3" name="Group 23"/>
          <p:cNvGrpSpPr/>
          <p:nvPr/>
        </p:nvGrpSpPr>
        <p:grpSpPr>
          <a:xfrm>
            <a:off x="2348280" y="3406680"/>
            <a:ext cx="226440" cy="566640"/>
            <a:chOff x="2348280" y="3406680"/>
            <a:chExt cx="226440" cy="566640"/>
          </a:xfrm>
        </p:grpSpPr>
        <p:sp>
          <p:nvSpPr>
            <p:cNvPr id="124" name="Freeform 24"/>
            <p:cNvSpPr/>
            <p:nvPr/>
          </p:nvSpPr>
          <p:spPr>
            <a:xfrm>
              <a:off x="2403360" y="3406680"/>
              <a:ext cx="105840" cy="11520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93d5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25"/>
            <p:cNvSpPr/>
            <p:nvPr/>
          </p:nvSpPr>
          <p:spPr>
            <a:xfrm>
              <a:off x="2348280" y="3534480"/>
              <a:ext cx="226440" cy="438840"/>
            </a:xfrm>
            <a:custGeom>
              <a:avLst/>
              <a:gdLst>
                <a:gd name="textAreaLeft" fmla="*/ 0 w 226440"/>
                <a:gd name="textAreaRight" fmla="*/ 226800 w 226440"/>
                <a:gd name="textAreaTop" fmla="*/ 0 h 438840"/>
                <a:gd name="textAreaBottom" fmla="*/ 439200 h 43884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93d5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6" name="Group 23"/>
          <p:cNvGrpSpPr/>
          <p:nvPr/>
        </p:nvGrpSpPr>
        <p:grpSpPr>
          <a:xfrm>
            <a:off x="3115440" y="4110120"/>
            <a:ext cx="226440" cy="567000"/>
            <a:chOff x="3115440" y="4110120"/>
            <a:chExt cx="226440" cy="567000"/>
          </a:xfrm>
        </p:grpSpPr>
        <p:sp>
          <p:nvSpPr>
            <p:cNvPr id="127" name="Freeform 24"/>
            <p:cNvSpPr/>
            <p:nvPr/>
          </p:nvSpPr>
          <p:spPr>
            <a:xfrm>
              <a:off x="3170520" y="4110120"/>
              <a:ext cx="105840" cy="11520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25"/>
            <p:cNvSpPr/>
            <p:nvPr/>
          </p:nvSpPr>
          <p:spPr>
            <a:xfrm>
              <a:off x="3115440" y="4238280"/>
              <a:ext cx="226440" cy="438840"/>
            </a:xfrm>
            <a:custGeom>
              <a:avLst/>
              <a:gdLst>
                <a:gd name="textAreaLeft" fmla="*/ 0 w 226440"/>
                <a:gd name="textAreaRight" fmla="*/ 226800 w 226440"/>
                <a:gd name="textAreaTop" fmla="*/ 0 h 438840"/>
                <a:gd name="textAreaBottom" fmla="*/ 439200 h 43884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Group 23"/>
          <p:cNvGrpSpPr/>
          <p:nvPr/>
        </p:nvGrpSpPr>
        <p:grpSpPr>
          <a:xfrm>
            <a:off x="1962360" y="4110120"/>
            <a:ext cx="226440" cy="567000"/>
            <a:chOff x="1962360" y="4110120"/>
            <a:chExt cx="226440" cy="567000"/>
          </a:xfrm>
        </p:grpSpPr>
        <p:sp>
          <p:nvSpPr>
            <p:cNvPr id="130" name="Freeform 24"/>
            <p:cNvSpPr/>
            <p:nvPr/>
          </p:nvSpPr>
          <p:spPr>
            <a:xfrm>
              <a:off x="2017440" y="4110120"/>
              <a:ext cx="105840" cy="11520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25"/>
            <p:cNvSpPr/>
            <p:nvPr/>
          </p:nvSpPr>
          <p:spPr>
            <a:xfrm>
              <a:off x="1962360" y="4238280"/>
              <a:ext cx="226440" cy="438840"/>
            </a:xfrm>
            <a:custGeom>
              <a:avLst/>
              <a:gdLst>
                <a:gd name="textAreaLeft" fmla="*/ 0 w 226440"/>
                <a:gd name="textAreaRight" fmla="*/ 226800 w 226440"/>
                <a:gd name="textAreaTop" fmla="*/ 0 h 438840"/>
                <a:gd name="textAreaBottom" fmla="*/ 439200 h 43884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Group 23"/>
          <p:cNvGrpSpPr/>
          <p:nvPr/>
        </p:nvGrpSpPr>
        <p:grpSpPr>
          <a:xfrm>
            <a:off x="3506760" y="3406680"/>
            <a:ext cx="226440" cy="566640"/>
            <a:chOff x="3506760" y="3406680"/>
            <a:chExt cx="226440" cy="566640"/>
          </a:xfrm>
        </p:grpSpPr>
        <p:sp>
          <p:nvSpPr>
            <p:cNvPr id="133" name="Freeform 24"/>
            <p:cNvSpPr/>
            <p:nvPr/>
          </p:nvSpPr>
          <p:spPr>
            <a:xfrm>
              <a:off x="3561840" y="3406680"/>
              <a:ext cx="105840" cy="11520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25"/>
            <p:cNvSpPr/>
            <p:nvPr/>
          </p:nvSpPr>
          <p:spPr>
            <a:xfrm>
              <a:off x="3506760" y="3534480"/>
              <a:ext cx="226440" cy="438840"/>
            </a:xfrm>
            <a:custGeom>
              <a:avLst/>
              <a:gdLst>
                <a:gd name="textAreaLeft" fmla="*/ 0 w 226440"/>
                <a:gd name="textAreaRight" fmla="*/ 226800 w 226440"/>
                <a:gd name="textAreaTop" fmla="*/ 0 h 438840"/>
                <a:gd name="textAreaBottom" fmla="*/ 439200 h 43884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5" name="Group 23"/>
          <p:cNvGrpSpPr/>
          <p:nvPr/>
        </p:nvGrpSpPr>
        <p:grpSpPr>
          <a:xfrm>
            <a:off x="3506760" y="4110120"/>
            <a:ext cx="226440" cy="567000"/>
            <a:chOff x="3506760" y="4110120"/>
            <a:chExt cx="226440" cy="567000"/>
          </a:xfrm>
        </p:grpSpPr>
        <p:sp>
          <p:nvSpPr>
            <p:cNvPr id="136" name="Freeform 24"/>
            <p:cNvSpPr/>
            <p:nvPr/>
          </p:nvSpPr>
          <p:spPr>
            <a:xfrm>
              <a:off x="3561840" y="4110120"/>
              <a:ext cx="105840" cy="11520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25"/>
            <p:cNvSpPr/>
            <p:nvPr/>
          </p:nvSpPr>
          <p:spPr>
            <a:xfrm>
              <a:off x="3506760" y="4238280"/>
              <a:ext cx="226440" cy="438840"/>
            </a:xfrm>
            <a:custGeom>
              <a:avLst/>
              <a:gdLst>
                <a:gd name="textAreaLeft" fmla="*/ 0 w 226440"/>
                <a:gd name="textAreaRight" fmla="*/ 226800 w 226440"/>
                <a:gd name="textAreaTop" fmla="*/ 0 h 438840"/>
                <a:gd name="textAreaBottom" fmla="*/ 439200 h 43884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8" name="Group 23"/>
          <p:cNvGrpSpPr/>
          <p:nvPr/>
        </p:nvGrpSpPr>
        <p:grpSpPr>
          <a:xfrm>
            <a:off x="5228640" y="3406680"/>
            <a:ext cx="226440" cy="566640"/>
            <a:chOff x="5228640" y="3406680"/>
            <a:chExt cx="226440" cy="566640"/>
          </a:xfrm>
        </p:grpSpPr>
        <p:sp>
          <p:nvSpPr>
            <p:cNvPr id="139" name="Freeform 24"/>
            <p:cNvSpPr/>
            <p:nvPr/>
          </p:nvSpPr>
          <p:spPr>
            <a:xfrm>
              <a:off x="5283720" y="3406680"/>
              <a:ext cx="105840" cy="11520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93d5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25"/>
            <p:cNvSpPr/>
            <p:nvPr/>
          </p:nvSpPr>
          <p:spPr>
            <a:xfrm>
              <a:off x="5228640" y="3534480"/>
              <a:ext cx="226440" cy="438840"/>
            </a:xfrm>
            <a:custGeom>
              <a:avLst/>
              <a:gdLst>
                <a:gd name="textAreaLeft" fmla="*/ 0 w 226440"/>
                <a:gd name="textAreaRight" fmla="*/ 226800 w 226440"/>
                <a:gd name="textAreaTop" fmla="*/ 0 h 438840"/>
                <a:gd name="textAreaBottom" fmla="*/ 439200 h 43884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93d5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" name="Group 23"/>
          <p:cNvGrpSpPr/>
          <p:nvPr/>
        </p:nvGrpSpPr>
        <p:grpSpPr>
          <a:xfrm>
            <a:off x="5609160" y="4110120"/>
            <a:ext cx="226440" cy="567000"/>
            <a:chOff x="5609160" y="4110120"/>
            <a:chExt cx="226440" cy="567000"/>
          </a:xfrm>
        </p:grpSpPr>
        <p:sp>
          <p:nvSpPr>
            <p:cNvPr id="142" name="Freeform 24"/>
            <p:cNvSpPr/>
            <p:nvPr/>
          </p:nvSpPr>
          <p:spPr>
            <a:xfrm>
              <a:off x="5664600" y="4110120"/>
              <a:ext cx="105840" cy="11520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25"/>
            <p:cNvSpPr/>
            <p:nvPr/>
          </p:nvSpPr>
          <p:spPr>
            <a:xfrm>
              <a:off x="5609160" y="4238280"/>
              <a:ext cx="226440" cy="438840"/>
            </a:xfrm>
            <a:custGeom>
              <a:avLst/>
              <a:gdLst>
                <a:gd name="textAreaLeft" fmla="*/ 0 w 226440"/>
                <a:gd name="textAreaRight" fmla="*/ 226800 w 226440"/>
                <a:gd name="textAreaTop" fmla="*/ 0 h 438840"/>
                <a:gd name="textAreaBottom" fmla="*/ 439200 h 43884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Group 23"/>
          <p:cNvGrpSpPr/>
          <p:nvPr/>
        </p:nvGrpSpPr>
        <p:grpSpPr>
          <a:xfrm>
            <a:off x="6000480" y="4110120"/>
            <a:ext cx="226440" cy="567000"/>
            <a:chOff x="6000480" y="4110120"/>
            <a:chExt cx="226440" cy="567000"/>
          </a:xfrm>
        </p:grpSpPr>
        <p:sp>
          <p:nvSpPr>
            <p:cNvPr id="145" name="Freeform 24"/>
            <p:cNvSpPr/>
            <p:nvPr/>
          </p:nvSpPr>
          <p:spPr>
            <a:xfrm>
              <a:off x="6055920" y="4110120"/>
              <a:ext cx="105840" cy="11520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25"/>
            <p:cNvSpPr/>
            <p:nvPr/>
          </p:nvSpPr>
          <p:spPr>
            <a:xfrm>
              <a:off x="6000480" y="4238280"/>
              <a:ext cx="226440" cy="438840"/>
            </a:xfrm>
            <a:custGeom>
              <a:avLst/>
              <a:gdLst>
                <a:gd name="textAreaLeft" fmla="*/ 0 w 226440"/>
                <a:gd name="textAreaRight" fmla="*/ 226800 w 226440"/>
                <a:gd name="textAreaTop" fmla="*/ 0 h 438840"/>
                <a:gd name="textAreaBottom" fmla="*/ 439200 h 43884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Group 23"/>
          <p:cNvGrpSpPr/>
          <p:nvPr/>
        </p:nvGrpSpPr>
        <p:grpSpPr>
          <a:xfrm>
            <a:off x="6386760" y="3406680"/>
            <a:ext cx="226440" cy="566640"/>
            <a:chOff x="6386760" y="3406680"/>
            <a:chExt cx="226440" cy="566640"/>
          </a:xfrm>
        </p:grpSpPr>
        <p:sp>
          <p:nvSpPr>
            <p:cNvPr id="148" name="Freeform 24"/>
            <p:cNvSpPr/>
            <p:nvPr/>
          </p:nvSpPr>
          <p:spPr>
            <a:xfrm>
              <a:off x="6441840" y="3406680"/>
              <a:ext cx="105840" cy="11520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93d5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25"/>
            <p:cNvSpPr/>
            <p:nvPr/>
          </p:nvSpPr>
          <p:spPr>
            <a:xfrm>
              <a:off x="6386760" y="3534480"/>
              <a:ext cx="226440" cy="438840"/>
            </a:xfrm>
            <a:custGeom>
              <a:avLst/>
              <a:gdLst>
                <a:gd name="textAreaLeft" fmla="*/ 0 w 226440"/>
                <a:gd name="textAreaRight" fmla="*/ 226800 w 226440"/>
                <a:gd name="textAreaTop" fmla="*/ 0 h 438840"/>
                <a:gd name="textAreaBottom" fmla="*/ 439200 h 43884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93d5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23"/>
          <p:cNvGrpSpPr/>
          <p:nvPr/>
        </p:nvGrpSpPr>
        <p:grpSpPr>
          <a:xfrm>
            <a:off x="6000480" y="3406680"/>
            <a:ext cx="226440" cy="566640"/>
            <a:chOff x="6000480" y="3406680"/>
            <a:chExt cx="226440" cy="566640"/>
          </a:xfrm>
        </p:grpSpPr>
        <p:sp>
          <p:nvSpPr>
            <p:cNvPr id="151" name="Freeform 24"/>
            <p:cNvSpPr/>
            <p:nvPr/>
          </p:nvSpPr>
          <p:spPr>
            <a:xfrm>
              <a:off x="6055920" y="3406680"/>
              <a:ext cx="105840" cy="11520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93d5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25"/>
            <p:cNvSpPr/>
            <p:nvPr/>
          </p:nvSpPr>
          <p:spPr>
            <a:xfrm>
              <a:off x="6000480" y="3534480"/>
              <a:ext cx="226440" cy="438840"/>
            </a:xfrm>
            <a:custGeom>
              <a:avLst/>
              <a:gdLst>
                <a:gd name="textAreaLeft" fmla="*/ 0 w 226440"/>
                <a:gd name="textAreaRight" fmla="*/ 226800 w 226440"/>
                <a:gd name="textAreaTop" fmla="*/ 0 h 438840"/>
                <a:gd name="textAreaBottom" fmla="*/ 439200 h 43884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93d5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Group 23"/>
          <p:cNvGrpSpPr/>
          <p:nvPr/>
        </p:nvGrpSpPr>
        <p:grpSpPr>
          <a:xfrm>
            <a:off x="5614560" y="3406680"/>
            <a:ext cx="226440" cy="566640"/>
            <a:chOff x="5614560" y="3406680"/>
            <a:chExt cx="226440" cy="566640"/>
          </a:xfrm>
        </p:grpSpPr>
        <p:sp>
          <p:nvSpPr>
            <p:cNvPr id="154" name="Freeform 24"/>
            <p:cNvSpPr/>
            <p:nvPr/>
          </p:nvSpPr>
          <p:spPr>
            <a:xfrm>
              <a:off x="5669640" y="3406680"/>
              <a:ext cx="105840" cy="11520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93d5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25"/>
            <p:cNvSpPr/>
            <p:nvPr/>
          </p:nvSpPr>
          <p:spPr>
            <a:xfrm>
              <a:off x="5614560" y="3534480"/>
              <a:ext cx="226440" cy="438840"/>
            </a:xfrm>
            <a:custGeom>
              <a:avLst/>
              <a:gdLst>
                <a:gd name="textAreaLeft" fmla="*/ 0 w 226440"/>
                <a:gd name="textAreaRight" fmla="*/ 226800 w 226440"/>
                <a:gd name="textAreaTop" fmla="*/ 0 h 438840"/>
                <a:gd name="textAreaBottom" fmla="*/ 439200 h 43884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93d5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Group 23"/>
          <p:cNvGrpSpPr/>
          <p:nvPr/>
        </p:nvGrpSpPr>
        <p:grpSpPr>
          <a:xfrm>
            <a:off x="6381360" y="4110120"/>
            <a:ext cx="226440" cy="567000"/>
            <a:chOff x="6381360" y="4110120"/>
            <a:chExt cx="226440" cy="567000"/>
          </a:xfrm>
        </p:grpSpPr>
        <p:sp>
          <p:nvSpPr>
            <p:cNvPr id="157" name="Freeform 24"/>
            <p:cNvSpPr/>
            <p:nvPr/>
          </p:nvSpPr>
          <p:spPr>
            <a:xfrm>
              <a:off x="6436440" y="4110120"/>
              <a:ext cx="105840" cy="11520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25"/>
            <p:cNvSpPr/>
            <p:nvPr/>
          </p:nvSpPr>
          <p:spPr>
            <a:xfrm>
              <a:off x="6381360" y="4238280"/>
              <a:ext cx="226440" cy="438840"/>
            </a:xfrm>
            <a:custGeom>
              <a:avLst/>
              <a:gdLst>
                <a:gd name="textAreaLeft" fmla="*/ 0 w 226440"/>
                <a:gd name="textAreaRight" fmla="*/ 226800 w 226440"/>
                <a:gd name="textAreaTop" fmla="*/ 0 h 438840"/>
                <a:gd name="textAreaBottom" fmla="*/ 439200 h 43884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" name="Group 23"/>
          <p:cNvGrpSpPr/>
          <p:nvPr/>
        </p:nvGrpSpPr>
        <p:grpSpPr>
          <a:xfrm>
            <a:off x="5228640" y="4110120"/>
            <a:ext cx="226440" cy="567000"/>
            <a:chOff x="5228640" y="4110120"/>
            <a:chExt cx="226440" cy="567000"/>
          </a:xfrm>
        </p:grpSpPr>
        <p:sp>
          <p:nvSpPr>
            <p:cNvPr id="160" name="Freeform 24"/>
            <p:cNvSpPr/>
            <p:nvPr/>
          </p:nvSpPr>
          <p:spPr>
            <a:xfrm>
              <a:off x="5283720" y="4110120"/>
              <a:ext cx="105840" cy="11520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25"/>
            <p:cNvSpPr/>
            <p:nvPr/>
          </p:nvSpPr>
          <p:spPr>
            <a:xfrm>
              <a:off x="5228640" y="4238280"/>
              <a:ext cx="226440" cy="438840"/>
            </a:xfrm>
            <a:custGeom>
              <a:avLst/>
              <a:gdLst>
                <a:gd name="textAreaLeft" fmla="*/ 0 w 226440"/>
                <a:gd name="textAreaRight" fmla="*/ 226800 w 226440"/>
                <a:gd name="textAreaTop" fmla="*/ 0 h 438840"/>
                <a:gd name="textAreaBottom" fmla="*/ 439200 h 43884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2" name="Group 23"/>
          <p:cNvGrpSpPr/>
          <p:nvPr/>
        </p:nvGrpSpPr>
        <p:grpSpPr>
          <a:xfrm>
            <a:off x="6772680" y="3406680"/>
            <a:ext cx="226440" cy="566640"/>
            <a:chOff x="6772680" y="3406680"/>
            <a:chExt cx="226440" cy="566640"/>
          </a:xfrm>
        </p:grpSpPr>
        <p:sp>
          <p:nvSpPr>
            <p:cNvPr id="163" name="Freeform 24"/>
            <p:cNvSpPr/>
            <p:nvPr/>
          </p:nvSpPr>
          <p:spPr>
            <a:xfrm>
              <a:off x="6827760" y="3406680"/>
              <a:ext cx="105840" cy="11520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93d5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25"/>
            <p:cNvSpPr/>
            <p:nvPr/>
          </p:nvSpPr>
          <p:spPr>
            <a:xfrm>
              <a:off x="6772680" y="3534480"/>
              <a:ext cx="226440" cy="438840"/>
            </a:xfrm>
            <a:custGeom>
              <a:avLst/>
              <a:gdLst>
                <a:gd name="textAreaLeft" fmla="*/ 0 w 226440"/>
                <a:gd name="textAreaRight" fmla="*/ 226800 w 226440"/>
                <a:gd name="textAreaTop" fmla="*/ 0 h 438840"/>
                <a:gd name="textAreaBottom" fmla="*/ 439200 h 43884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93d5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5" name="Group 23"/>
          <p:cNvGrpSpPr/>
          <p:nvPr/>
        </p:nvGrpSpPr>
        <p:grpSpPr>
          <a:xfrm>
            <a:off x="6772680" y="4110120"/>
            <a:ext cx="226440" cy="567000"/>
            <a:chOff x="6772680" y="4110120"/>
            <a:chExt cx="226440" cy="567000"/>
          </a:xfrm>
        </p:grpSpPr>
        <p:sp>
          <p:nvSpPr>
            <p:cNvPr id="166" name="Freeform 24"/>
            <p:cNvSpPr/>
            <p:nvPr/>
          </p:nvSpPr>
          <p:spPr>
            <a:xfrm>
              <a:off x="6827760" y="4110120"/>
              <a:ext cx="105840" cy="11520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115200"/>
                <a:gd name="textAreaBottom" fmla="*/ 115560 h 115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25"/>
            <p:cNvSpPr/>
            <p:nvPr/>
          </p:nvSpPr>
          <p:spPr>
            <a:xfrm>
              <a:off x="6772680" y="4238280"/>
              <a:ext cx="226440" cy="438840"/>
            </a:xfrm>
            <a:custGeom>
              <a:avLst/>
              <a:gdLst>
                <a:gd name="textAreaLeft" fmla="*/ 0 w 226440"/>
                <a:gd name="textAreaRight" fmla="*/ 226800 w 226440"/>
                <a:gd name="textAreaTop" fmla="*/ 0 h 438840"/>
                <a:gd name="textAreaBottom" fmla="*/ 439200 h 43884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" name="TextBox 67"/>
          <p:cNvSpPr/>
          <p:nvPr/>
        </p:nvSpPr>
        <p:spPr>
          <a:xfrm>
            <a:off x="2471760" y="4755240"/>
            <a:ext cx="644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808080"/>
                </a:solidFill>
                <a:latin typeface="Calibri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68"/>
          <p:cNvSpPr/>
          <p:nvPr/>
        </p:nvSpPr>
        <p:spPr>
          <a:xfrm>
            <a:off x="5858640" y="4755240"/>
            <a:ext cx="644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808080"/>
                </a:solidFill>
                <a:latin typeface="Calibri"/>
              </a:rPr>
              <a:t>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6"/>
          <p:cNvSpPr/>
          <p:nvPr/>
        </p:nvSpPr>
        <p:spPr>
          <a:xfrm>
            <a:off x="1312560" y="1988640"/>
            <a:ext cx="6787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        </a:t>
            </a:r>
            <a:r>
              <a:rPr b="0" lang="zh-CN" sz="18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到</a:t>
            </a:r>
            <a:r>
              <a:rPr b="0" lang="en-US" sz="18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2012</a:t>
            </a:r>
            <a:r>
              <a:rPr b="0" lang="zh-CN" sz="1800" spc="-1" strike="noStrike">
                <a:solidFill>
                  <a:srgbClr val="808080"/>
                </a:solidFill>
                <a:latin typeface="Arial Unicode MS"/>
                <a:ea typeface="Arial Unicode MS"/>
              </a:rPr>
              <a:t>年，产品远销美洲、澳大利亚及中东地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7"/>
          <p:cNvSpPr/>
          <p:nvPr/>
        </p:nvSpPr>
        <p:spPr>
          <a:xfrm>
            <a:off x="1247040" y="764640"/>
            <a:ext cx="1887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808080"/>
                </a:solidFill>
                <a:latin typeface="微软雅黑"/>
                <a:ea typeface="微软雅黑"/>
              </a:rPr>
              <a:t>产品远销海内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58"/>
          <p:cNvGrpSpPr/>
          <p:nvPr/>
        </p:nvGrpSpPr>
        <p:grpSpPr>
          <a:xfrm>
            <a:off x="1351440" y="2831760"/>
            <a:ext cx="6636240" cy="3439800"/>
            <a:chOff x="1351440" y="2831760"/>
            <a:chExt cx="6636240" cy="3439800"/>
          </a:xfrm>
        </p:grpSpPr>
        <p:sp>
          <p:nvSpPr>
            <p:cNvPr id="173" name="Freeform 59"/>
            <p:cNvSpPr/>
            <p:nvPr/>
          </p:nvSpPr>
          <p:spPr>
            <a:xfrm>
              <a:off x="4072680" y="4789440"/>
              <a:ext cx="62640" cy="12204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54" h="103">
                  <a:moveTo>
                    <a:pt x="42" y="16"/>
                  </a:moveTo>
                  <a:cubicBezTo>
                    <a:pt x="31" y="23"/>
                    <a:pt x="25" y="22"/>
                    <a:pt x="21" y="34"/>
                  </a:cubicBezTo>
                  <a:cubicBezTo>
                    <a:pt x="10" y="27"/>
                    <a:pt x="5" y="19"/>
                    <a:pt x="0" y="34"/>
                  </a:cubicBezTo>
                  <a:cubicBezTo>
                    <a:pt x="5" y="50"/>
                    <a:pt x="1" y="40"/>
                    <a:pt x="15" y="61"/>
                  </a:cubicBezTo>
                  <a:cubicBezTo>
                    <a:pt x="17" y="64"/>
                    <a:pt x="21" y="70"/>
                    <a:pt x="21" y="70"/>
                  </a:cubicBezTo>
                  <a:cubicBezTo>
                    <a:pt x="24" y="97"/>
                    <a:pt x="20" y="103"/>
                    <a:pt x="45" y="97"/>
                  </a:cubicBezTo>
                  <a:cubicBezTo>
                    <a:pt x="50" y="81"/>
                    <a:pt x="50" y="65"/>
                    <a:pt x="54" y="49"/>
                  </a:cubicBezTo>
                  <a:cubicBezTo>
                    <a:pt x="53" y="38"/>
                    <a:pt x="54" y="27"/>
                    <a:pt x="51" y="16"/>
                  </a:cubicBezTo>
                  <a:cubicBezTo>
                    <a:pt x="49" y="10"/>
                    <a:pt x="33" y="0"/>
                    <a:pt x="33" y="7"/>
                  </a:cubicBezTo>
                  <a:cubicBezTo>
                    <a:pt x="33" y="11"/>
                    <a:pt x="39" y="13"/>
                    <a:pt x="42" y="16"/>
                  </a:cubicBez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31750" prstMaterial="legacyMatte">
              <a:bevelT prst="angle" w="13500" h="13500"/>
              <a:bevelB prst="angle" w="13500" h="13500"/>
              <a:extrusionClr>
                <a:schemeClr val="bg1">
                  <a:lumMod val="7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808080"/>
                </a:solidFill>
                <a:latin typeface="Calibri"/>
              </a:endParaRPr>
            </a:p>
          </p:txBody>
        </p:sp>
        <p:grpSp>
          <p:nvGrpSpPr>
            <p:cNvPr id="174" name="Group 60"/>
            <p:cNvGrpSpPr/>
            <p:nvPr/>
          </p:nvGrpSpPr>
          <p:grpSpPr>
            <a:xfrm>
              <a:off x="1351440" y="2831760"/>
              <a:ext cx="6636240" cy="3439800"/>
              <a:chOff x="1351440" y="2831760"/>
              <a:chExt cx="6636240" cy="3439800"/>
            </a:xfrm>
          </p:grpSpPr>
          <p:sp>
            <p:nvSpPr>
              <p:cNvPr id="175" name="Freeform 61"/>
              <p:cNvSpPr/>
              <p:nvPr/>
            </p:nvSpPr>
            <p:spPr>
              <a:xfrm>
                <a:off x="1351440" y="4233240"/>
                <a:ext cx="1346760" cy="1453680"/>
              </a:xfrm>
              <a:custGeom>
                <a:avLst/>
                <a:gdLst>
                  <a:gd name="textAreaLeft" fmla="*/ 0 w 1346760"/>
                  <a:gd name="textAreaRight" fmla="*/ 1347120 w 1346760"/>
                  <a:gd name="textAreaTop" fmla="*/ 0 h 1453680"/>
                  <a:gd name="textAreaBottom" fmla="*/ 1454040 h 1453680"/>
                </a:gdLst>
                <a:ahLst/>
                <a:rect l="textAreaLeft" t="textAreaTop" r="textAreaRight" b="textAreaBottom"/>
                <a:pathLst>
                  <a:path w="1141" h="1231">
                    <a:moveTo>
                      <a:pt x="855" y="103"/>
                    </a:moveTo>
                    <a:cubicBezTo>
                      <a:pt x="862" y="125"/>
                      <a:pt x="878" y="135"/>
                      <a:pt x="885" y="157"/>
                    </a:cubicBezTo>
                    <a:cubicBezTo>
                      <a:pt x="879" y="202"/>
                      <a:pt x="875" y="198"/>
                      <a:pt x="885" y="235"/>
                    </a:cubicBezTo>
                    <a:cubicBezTo>
                      <a:pt x="888" y="247"/>
                      <a:pt x="897" y="271"/>
                      <a:pt x="897" y="271"/>
                    </a:cubicBezTo>
                    <a:cubicBezTo>
                      <a:pt x="905" y="326"/>
                      <a:pt x="927" y="383"/>
                      <a:pt x="975" y="415"/>
                    </a:cubicBezTo>
                    <a:cubicBezTo>
                      <a:pt x="1017" y="478"/>
                      <a:pt x="1025" y="452"/>
                      <a:pt x="1131" y="457"/>
                    </a:cubicBezTo>
                    <a:cubicBezTo>
                      <a:pt x="1133" y="463"/>
                      <a:pt x="1141" y="471"/>
                      <a:pt x="1137" y="475"/>
                    </a:cubicBezTo>
                    <a:cubicBezTo>
                      <a:pt x="1123" y="489"/>
                      <a:pt x="1099" y="488"/>
                      <a:pt x="1083" y="499"/>
                    </a:cubicBezTo>
                    <a:cubicBezTo>
                      <a:pt x="1067" y="522"/>
                      <a:pt x="1071" y="541"/>
                      <a:pt x="1059" y="565"/>
                    </a:cubicBezTo>
                    <a:cubicBezTo>
                      <a:pt x="1049" y="584"/>
                      <a:pt x="1024" y="595"/>
                      <a:pt x="1005" y="601"/>
                    </a:cubicBezTo>
                    <a:cubicBezTo>
                      <a:pt x="992" y="640"/>
                      <a:pt x="986" y="659"/>
                      <a:pt x="945" y="673"/>
                    </a:cubicBezTo>
                    <a:cubicBezTo>
                      <a:pt x="941" y="686"/>
                      <a:pt x="931" y="696"/>
                      <a:pt x="927" y="709"/>
                    </a:cubicBezTo>
                    <a:cubicBezTo>
                      <a:pt x="923" y="723"/>
                      <a:pt x="924" y="737"/>
                      <a:pt x="921" y="751"/>
                    </a:cubicBezTo>
                    <a:cubicBezTo>
                      <a:pt x="920" y="757"/>
                      <a:pt x="917" y="763"/>
                      <a:pt x="915" y="769"/>
                    </a:cubicBezTo>
                    <a:cubicBezTo>
                      <a:pt x="913" y="811"/>
                      <a:pt x="917" y="854"/>
                      <a:pt x="909" y="895"/>
                    </a:cubicBezTo>
                    <a:cubicBezTo>
                      <a:pt x="908" y="901"/>
                      <a:pt x="897" y="898"/>
                      <a:pt x="891" y="901"/>
                    </a:cubicBezTo>
                    <a:cubicBezTo>
                      <a:pt x="870" y="911"/>
                      <a:pt x="856" y="930"/>
                      <a:pt x="837" y="943"/>
                    </a:cubicBezTo>
                    <a:cubicBezTo>
                      <a:pt x="829" y="1030"/>
                      <a:pt x="844" y="1008"/>
                      <a:pt x="789" y="1045"/>
                    </a:cubicBezTo>
                    <a:cubicBezTo>
                      <a:pt x="780" y="1058"/>
                      <a:pt x="768" y="1068"/>
                      <a:pt x="759" y="1081"/>
                    </a:cubicBezTo>
                    <a:cubicBezTo>
                      <a:pt x="739" y="1110"/>
                      <a:pt x="742" y="1144"/>
                      <a:pt x="711" y="1165"/>
                    </a:cubicBezTo>
                    <a:cubicBezTo>
                      <a:pt x="692" y="1194"/>
                      <a:pt x="660" y="1220"/>
                      <a:pt x="627" y="1231"/>
                    </a:cubicBezTo>
                    <a:cubicBezTo>
                      <a:pt x="597" y="1229"/>
                      <a:pt x="567" y="1228"/>
                      <a:pt x="537" y="1225"/>
                    </a:cubicBezTo>
                    <a:cubicBezTo>
                      <a:pt x="529" y="1224"/>
                      <a:pt x="518" y="1225"/>
                      <a:pt x="513" y="1219"/>
                    </a:cubicBezTo>
                    <a:cubicBezTo>
                      <a:pt x="489" y="1191"/>
                      <a:pt x="495" y="1147"/>
                      <a:pt x="489" y="1111"/>
                    </a:cubicBezTo>
                    <a:cubicBezTo>
                      <a:pt x="485" y="1089"/>
                      <a:pt x="475" y="1067"/>
                      <a:pt x="471" y="1045"/>
                    </a:cubicBezTo>
                    <a:cubicBezTo>
                      <a:pt x="469" y="993"/>
                      <a:pt x="465" y="941"/>
                      <a:pt x="465" y="889"/>
                    </a:cubicBezTo>
                    <a:cubicBezTo>
                      <a:pt x="465" y="869"/>
                      <a:pt x="465" y="848"/>
                      <a:pt x="471" y="829"/>
                    </a:cubicBezTo>
                    <a:cubicBezTo>
                      <a:pt x="475" y="815"/>
                      <a:pt x="495" y="793"/>
                      <a:pt x="495" y="793"/>
                    </a:cubicBezTo>
                    <a:cubicBezTo>
                      <a:pt x="480" y="747"/>
                      <a:pt x="469" y="733"/>
                      <a:pt x="441" y="697"/>
                    </a:cubicBezTo>
                    <a:cubicBezTo>
                      <a:pt x="432" y="686"/>
                      <a:pt x="417" y="661"/>
                      <a:pt x="417" y="661"/>
                    </a:cubicBezTo>
                    <a:cubicBezTo>
                      <a:pt x="420" y="639"/>
                      <a:pt x="434" y="605"/>
                      <a:pt x="423" y="583"/>
                    </a:cubicBezTo>
                    <a:cubicBezTo>
                      <a:pt x="420" y="577"/>
                      <a:pt x="417" y="569"/>
                      <a:pt x="411" y="565"/>
                    </a:cubicBezTo>
                    <a:cubicBezTo>
                      <a:pt x="400" y="558"/>
                      <a:pt x="375" y="553"/>
                      <a:pt x="375" y="553"/>
                    </a:cubicBezTo>
                    <a:cubicBezTo>
                      <a:pt x="352" y="518"/>
                      <a:pt x="331" y="536"/>
                      <a:pt x="297" y="547"/>
                    </a:cubicBezTo>
                    <a:cubicBezTo>
                      <a:pt x="293" y="553"/>
                      <a:pt x="288" y="559"/>
                      <a:pt x="285" y="565"/>
                    </a:cubicBezTo>
                    <a:cubicBezTo>
                      <a:pt x="282" y="571"/>
                      <a:pt x="285" y="581"/>
                      <a:pt x="279" y="583"/>
                    </a:cubicBezTo>
                    <a:cubicBezTo>
                      <a:pt x="269" y="586"/>
                      <a:pt x="259" y="580"/>
                      <a:pt x="249" y="577"/>
                    </a:cubicBezTo>
                    <a:cubicBezTo>
                      <a:pt x="206" y="565"/>
                      <a:pt x="168" y="559"/>
                      <a:pt x="123" y="553"/>
                    </a:cubicBezTo>
                    <a:cubicBezTo>
                      <a:pt x="101" y="539"/>
                      <a:pt x="103" y="525"/>
                      <a:pt x="81" y="511"/>
                    </a:cubicBezTo>
                    <a:cubicBezTo>
                      <a:pt x="71" y="482"/>
                      <a:pt x="58" y="462"/>
                      <a:pt x="33" y="445"/>
                    </a:cubicBezTo>
                    <a:cubicBezTo>
                      <a:pt x="0" y="395"/>
                      <a:pt x="36" y="353"/>
                      <a:pt x="51" y="307"/>
                    </a:cubicBezTo>
                    <a:cubicBezTo>
                      <a:pt x="62" y="170"/>
                      <a:pt x="34" y="258"/>
                      <a:pt x="75" y="217"/>
                    </a:cubicBezTo>
                    <a:cubicBezTo>
                      <a:pt x="80" y="212"/>
                      <a:pt x="81" y="204"/>
                      <a:pt x="87" y="199"/>
                    </a:cubicBezTo>
                    <a:cubicBezTo>
                      <a:pt x="103" y="186"/>
                      <a:pt x="141" y="169"/>
                      <a:pt x="141" y="169"/>
                    </a:cubicBezTo>
                    <a:cubicBezTo>
                      <a:pt x="149" y="144"/>
                      <a:pt x="158" y="120"/>
                      <a:pt x="171" y="97"/>
                    </a:cubicBezTo>
                    <a:cubicBezTo>
                      <a:pt x="178" y="84"/>
                      <a:pt x="181" y="66"/>
                      <a:pt x="195" y="61"/>
                    </a:cubicBezTo>
                    <a:cubicBezTo>
                      <a:pt x="244" y="45"/>
                      <a:pt x="218" y="51"/>
                      <a:pt x="273" y="43"/>
                    </a:cubicBezTo>
                    <a:cubicBezTo>
                      <a:pt x="320" y="27"/>
                      <a:pt x="268" y="43"/>
                      <a:pt x="369" y="31"/>
                    </a:cubicBezTo>
                    <a:cubicBezTo>
                      <a:pt x="393" y="28"/>
                      <a:pt x="441" y="19"/>
                      <a:pt x="441" y="19"/>
                    </a:cubicBezTo>
                    <a:cubicBezTo>
                      <a:pt x="469" y="0"/>
                      <a:pt x="494" y="9"/>
                      <a:pt x="525" y="19"/>
                    </a:cubicBezTo>
                    <a:cubicBezTo>
                      <a:pt x="556" y="65"/>
                      <a:pt x="542" y="89"/>
                      <a:pt x="603" y="109"/>
                    </a:cubicBezTo>
                    <a:cubicBezTo>
                      <a:pt x="627" y="107"/>
                      <a:pt x="652" y="110"/>
                      <a:pt x="675" y="103"/>
                    </a:cubicBezTo>
                    <a:cubicBezTo>
                      <a:pt x="682" y="101"/>
                      <a:pt x="681" y="90"/>
                      <a:pt x="687" y="85"/>
                    </a:cubicBezTo>
                    <a:cubicBezTo>
                      <a:pt x="692" y="81"/>
                      <a:pt x="699" y="81"/>
                      <a:pt x="705" y="79"/>
                    </a:cubicBezTo>
                    <a:cubicBezTo>
                      <a:pt x="759" y="86"/>
                      <a:pt x="800" y="103"/>
                      <a:pt x="855" y="103"/>
                    </a:cubicBez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9525">
                <a:noFill/>
              </a:ln>
              <a:scene3d>
                <a:camera prst="legacyObliqueTopRight"/>
                <a:lightRig dir="b" rig="legacyFlat3"/>
              </a:scene3d>
              <a:sp3d extrusionH="31750" prstMaterial="legacyMatte">
                <a:bevelT prst="angle" w="13500" h="13500"/>
                <a:bevelB prst="angle" w="13500" h="13500"/>
                <a:extrusionClr>
                  <a:schemeClr val="bg1">
                    <a:lumMod val="75000"/>
                  </a:schemeClr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808080"/>
                  </a:solidFill>
                  <a:latin typeface="Calibri"/>
                </a:endParaRPr>
              </a:p>
            </p:txBody>
          </p:sp>
          <p:sp>
            <p:nvSpPr>
              <p:cNvPr id="176" name="Freeform 62"/>
              <p:cNvSpPr/>
              <p:nvPr/>
            </p:nvSpPr>
            <p:spPr>
              <a:xfrm>
                <a:off x="5387760" y="2914200"/>
                <a:ext cx="2599920" cy="3357360"/>
              </a:xfrm>
              <a:custGeom>
                <a:avLst/>
                <a:gdLst>
                  <a:gd name="textAreaLeft" fmla="*/ 0 w 2599920"/>
                  <a:gd name="textAreaRight" fmla="*/ 2600280 w 2599920"/>
                  <a:gd name="textAreaTop" fmla="*/ 0 h 3357360"/>
                  <a:gd name="textAreaBottom" fmla="*/ 3357720 h 3357360"/>
                </a:gdLst>
                <a:ahLst/>
                <a:rect l="textAreaLeft" t="textAreaTop" r="textAreaRight" b="textAreaBottom"/>
                <a:pathLst>
                  <a:path w="2202" h="2843">
                    <a:moveTo>
                      <a:pt x="138" y="164"/>
                    </a:moveTo>
                    <a:cubicBezTo>
                      <a:pt x="124" y="169"/>
                      <a:pt x="107" y="166"/>
                      <a:pt x="96" y="176"/>
                    </a:cubicBezTo>
                    <a:cubicBezTo>
                      <a:pt x="80" y="190"/>
                      <a:pt x="72" y="212"/>
                      <a:pt x="60" y="230"/>
                    </a:cubicBezTo>
                    <a:cubicBezTo>
                      <a:pt x="52" y="242"/>
                      <a:pt x="24" y="254"/>
                      <a:pt x="24" y="254"/>
                    </a:cubicBezTo>
                    <a:cubicBezTo>
                      <a:pt x="0" y="289"/>
                      <a:pt x="25" y="298"/>
                      <a:pt x="36" y="332"/>
                    </a:cubicBezTo>
                    <a:cubicBezTo>
                      <a:pt x="8" y="373"/>
                      <a:pt x="17" y="354"/>
                      <a:pt x="6" y="386"/>
                    </a:cubicBezTo>
                    <a:cubicBezTo>
                      <a:pt x="15" y="414"/>
                      <a:pt x="25" y="414"/>
                      <a:pt x="48" y="398"/>
                    </a:cubicBezTo>
                    <a:cubicBezTo>
                      <a:pt x="73" y="415"/>
                      <a:pt x="83" y="447"/>
                      <a:pt x="54" y="470"/>
                    </a:cubicBezTo>
                    <a:cubicBezTo>
                      <a:pt x="44" y="478"/>
                      <a:pt x="29" y="481"/>
                      <a:pt x="18" y="488"/>
                    </a:cubicBezTo>
                    <a:cubicBezTo>
                      <a:pt x="8" y="518"/>
                      <a:pt x="10" y="555"/>
                      <a:pt x="42" y="566"/>
                    </a:cubicBezTo>
                    <a:cubicBezTo>
                      <a:pt x="50" y="590"/>
                      <a:pt x="60" y="600"/>
                      <a:pt x="84" y="608"/>
                    </a:cubicBezTo>
                    <a:cubicBezTo>
                      <a:pt x="84" y="608"/>
                      <a:pt x="108" y="560"/>
                      <a:pt x="108" y="608"/>
                    </a:cubicBezTo>
                    <a:cubicBezTo>
                      <a:pt x="108" y="621"/>
                      <a:pt x="96" y="644"/>
                      <a:pt x="96" y="644"/>
                    </a:cubicBezTo>
                    <a:cubicBezTo>
                      <a:pt x="111" y="688"/>
                      <a:pt x="113" y="687"/>
                      <a:pt x="150" y="662"/>
                    </a:cubicBezTo>
                    <a:cubicBezTo>
                      <a:pt x="168" y="635"/>
                      <a:pt x="190" y="631"/>
                      <a:pt x="216" y="614"/>
                    </a:cubicBezTo>
                    <a:cubicBezTo>
                      <a:pt x="231" y="570"/>
                      <a:pt x="225" y="590"/>
                      <a:pt x="234" y="554"/>
                    </a:cubicBezTo>
                    <a:cubicBezTo>
                      <a:pt x="268" y="565"/>
                      <a:pt x="302" y="559"/>
                      <a:pt x="336" y="548"/>
                    </a:cubicBezTo>
                    <a:cubicBezTo>
                      <a:pt x="356" y="550"/>
                      <a:pt x="377" y="546"/>
                      <a:pt x="396" y="554"/>
                    </a:cubicBezTo>
                    <a:cubicBezTo>
                      <a:pt x="404" y="557"/>
                      <a:pt x="402" y="572"/>
                      <a:pt x="408" y="578"/>
                    </a:cubicBezTo>
                    <a:cubicBezTo>
                      <a:pt x="417" y="587"/>
                      <a:pt x="433" y="589"/>
                      <a:pt x="444" y="596"/>
                    </a:cubicBezTo>
                    <a:cubicBezTo>
                      <a:pt x="464" y="626"/>
                      <a:pt x="450" y="610"/>
                      <a:pt x="492" y="638"/>
                    </a:cubicBezTo>
                    <a:cubicBezTo>
                      <a:pt x="498" y="642"/>
                      <a:pt x="510" y="650"/>
                      <a:pt x="510" y="650"/>
                    </a:cubicBezTo>
                    <a:cubicBezTo>
                      <a:pt x="543" y="700"/>
                      <a:pt x="524" y="676"/>
                      <a:pt x="570" y="722"/>
                    </a:cubicBezTo>
                    <a:cubicBezTo>
                      <a:pt x="580" y="732"/>
                      <a:pt x="606" y="746"/>
                      <a:pt x="606" y="746"/>
                    </a:cubicBezTo>
                    <a:cubicBezTo>
                      <a:pt x="620" y="789"/>
                      <a:pt x="607" y="775"/>
                      <a:pt x="636" y="794"/>
                    </a:cubicBezTo>
                    <a:cubicBezTo>
                      <a:pt x="651" y="838"/>
                      <a:pt x="678" y="861"/>
                      <a:pt x="690" y="908"/>
                    </a:cubicBezTo>
                    <a:cubicBezTo>
                      <a:pt x="686" y="969"/>
                      <a:pt x="654" y="1048"/>
                      <a:pt x="714" y="1088"/>
                    </a:cubicBezTo>
                    <a:cubicBezTo>
                      <a:pt x="729" y="1110"/>
                      <a:pt x="752" y="1133"/>
                      <a:pt x="774" y="1148"/>
                    </a:cubicBezTo>
                    <a:cubicBezTo>
                      <a:pt x="793" y="1176"/>
                      <a:pt x="798" y="1198"/>
                      <a:pt x="828" y="1208"/>
                    </a:cubicBezTo>
                    <a:cubicBezTo>
                      <a:pt x="836" y="1232"/>
                      <a:pt x="846" y="1244"/>
                      <a:pt x="864" y="1262"/>
                    </a:cubicBezTo>
                    <a:cubicBezTo>
                      <a:pt x="881" y="1312"/>
                      <a:pt x="865" y="1291"/>
                      <a:pt x="912" y="1322"/>
                    </a:cubicBezTo>
                    <a:cubicBezTo>
                      <a:pt x="924" y="1330"/>
                      <a:pt x="948" y="1346"/>
                      <a:pt x="948" y="1346"/>
                    </a:cubicBezTo>
                    <a:cubicBezTo>
                      <a:pt x="939" y="1311"/>
                      <a:pt x="928" y="1291"/>
                      <a:pt x="906" y="1262"/>
                    </a:cubicBezTo>
                    <a:cubicBezTo>
                      <a:pt x="898" y="1238"/>
                      <a:pt x="886" y="1233"/>
                      <a:pt x="894" y="1208"/>
                    </a:cubicBezTo>
                    <a:cubicBezTo>
                      <a:pt x="898" y="1214"/>
                      <a:pt x="901" y="1221"/>
                      <a:pt x="906" y="1226"/>
                    </a:cubicBezTo>
                    <a:cubicBezTo>
                      <a:pt x="911" y="1231"/>
                      <a:pt x="919" y="1232"/>
                      <a:pt x="924" y="1238"/>
                    </a:cubicBezTo>
                    <a:cubicBezTo>
                      <a:pt x="928" y="1243"/>
                      <a:pt x="926" y="1251"/>
                      <a:pt x="930" y="1256"/>
                    </a:cubicBezTo>
                    <a:cubicBezTo>
                      <a:pt x="939" y="1269"/>
                      <a:pt x="949" y="1281"/>
                      <a:pt x="960" y="1292"/>
                    </a:cubicBezTo>
                    <a:cubicBezTo>
                      <a:pt x="977" y="1309"/>
                      <a:pt x="994" y="1319"/>
                      <a:pt x="1008" y="1340"/>
                    </a:cubicBezTo>
                    <a:cubicBezTo>
                      <a:pt x="1016" y="1378"/>
                      <a:pt x="1026" y="1432"/>
                      <a:pt x="1068" y="1448"/>
                    </a:cubicBezTo>
                    <a:cubicBezTo>
                      <a:pt x="1099" y="1460"/>
                      <a:pt x="1142" y="1459"/>
                      <a:pt x="1170" y="1478"/>
                    </a:cubicBezTo>
                    <a:cubicBezTo>
                      <a:pt x="1206" y="1502"/>
                      <a:pt x="1218" y="1506"/>
                      <a:pt x="1260" y="1514"/>
                    </a:cubicBezTo>
                    <a:cubicBezTo>
                      <a:pt x="1283" y="1530"/>
                      <a:pt x="1307" y="1545"/>
                      <a:pt x="1332" y="1556"/>
                    </a:cubicBezTo>
                    <a:cubicBezTo>
                      <a:pt x="1344" y="1561"/>
                      <a:pt x="1368" y="1568"/>
                      <a:pt x="1368" y="1568"/>
                    </a:cubicBezTo>
                    <a:cubicBezTo>
                      <a:pt x="1410" y="1632"/>
                      <a:pt x="1391" y="1624"/>
                      <a:pt x="1470" y="1634"/>
                    </a:cubicBezTo>
                    <a:cubicBezTo>
                      <a:pt x="1474" y="1646"/>
                      <a:pt x="1478" y="1658"/>
                      <a:pt x="1482" y="1670"/>
                    </a:cubicBezTo>
                    <a:cubicBezTo>
                      <a:pt x="1484" y="1676"/>
                      <a:pt x="1488" y="1688"/>
                      <a:pt x="1488" y="1688"/>
                    </a:cubicBezTo>
                    <a:cubicBezTo>
                      <a:pt x="1482" y="1697"/>
                      <a:pt x="1461" y="1728"/>
                      <a:pt x="1452" y="1742"/>
                    </a:cubicBezTo>
                    <a:cubicBezTo>
                      <a:pt x="1445" y="1753"/>
                      <a:pt x="1444" y="1766"/>
                      <a:pt x="1440" y="1778"/>
                    </a:cubicBezTo>
                    <a:cubicBezTo>
                      <a:pt x="1438" y="1784"/>
                      <a:pt x="1434" y="1796"/>
                      <a:pt x="1434" y="1796"/>
                    </a:cubicBezTo>
                    <a:cubicBezTo>
                      <a:pt x="1451" y="1846"/>
                      <a:pt x="1439" y="1821"/>
                      <a:pt x="1470" y="1868"/>
                    </a:cubicBezTo>
                    <a:cubicBezTo>
                      <a:pt x="1474" y="1873"/>
                      <a:pt x="1482" y="1871"/>
                      <a:pt x="1488" y="1874"/>
                    </a:cubicBezTo>
                    <a:cubicBezTo>
                      <a:pt x="1494" y="1877"/>
                      <a:pt x="1500" y="1882"/>
                      <a:pt x="1506" y="1886"/>
                    </a:cubicBezTo>
                    <a:cubicBezTo>
                      <a:pt x="1510" y="1892"/>
                      <a:pt x="1512" y="1899"/>
                      <a:pt x="1518" y="1904"/>
                    </a:cubicBezTo>
                    <a:cubicBezTo>
                      <a:pt x="1523" y="1908"/>
                      <a:pt x="1532" y="1906"/>
                      <a:pt x="1536" y="1910"/>
                    </a:cubicBezTo>
                    <a:cubicBezTo>
                      <a:pt x="1540" y="1914"/>
                      <a:pt x="1539" y="1922"/>
                      <a:pt x="1542" y="1928"/>
                    </a:cubicBezTo>
                    <a:cubicBezTo>
                      <a:pt x="1561" y="1963"/>
                      <a:pt x="1582" y="1981"/>
                      <a:pt x="1620" y="1994"/>
                    </a:cubicBezTo>
                    <a:cubicBezTo>
                      <a:pt x="1652" y="2042"/>
                      <a:pt x="1621" y="2107"/>
                      <a:pt x="1614" y="2162"/>
                    </a:cubicBezTo>
                    <a:cubicBezTo>
                      <a:pt x="1616" y="2250"/>
                      <a:pt x="1615" y="2338"/>
                      <a:pt x="1620" y="2426"/>
                    </a:cubicBezTo>
                    <a:cubicBezTo>
                      <a:pt x="1621" y="2439"/>
                      <a:pt x="1632" y="2462"/>
                      <a:pt x="1632" y="2462"/>
                    </a:cubicBezTo>
                    <a:cubicBezTo>
                      <a:pt x="1628" y="2522"/>
                      <a:pt x="1628" y="2563"/>
                      <a:pt x="1614" y="2618"/>
                    </a:cubicBezTo>
                    <a:cubicBezTo>
                      <a:pt x="1618" y="2654"/>
                      <a:pt x="1605" y="2697"/>
                      <a:pt x="1626" y="2726"/>
                    </a:cubicBezTo>
                    <a:cubicBezTo>
                      <a:pt x="1634" y="2737"/>
                      <a:pt x="1654" y="2730"/>
                      <a:pt x="1668" y="2732"/>
                    </a:cubicBezTo>
                    <a:cubicBezTo>
                      <a:pt x="1672" y="2744"/>
                      <a:pt x="1676" y="2756"/>
                      <a:pt x="1680" y="2768"/>
                    </a:cubicBezTo>
                    <a:cubicBezTo>
                      <a:pt x="1682" y="2774"/>
                      <a:pt x="1686" y="2786"/>
                      <a:pt x="1686" y="2786"/>
                    </a:cubicBezTo>
                    <a:cubicBezTo>
                      <a:pt x="1694" y="2843"/>
                      <a:pt x="1696" y="2832"/>
                      <a:pt x="1752" y="2840"/>
                    </a:cubicBezTo>
                    <a:cubicBezTo>
                      <a:pt x="1799" y="2831"/>
                      <a:pt x="1780" y="2834"/>
                      <a:pt x="1770" y="2792"/>
                    </a:cubicBezTo>
                    <a:cubicBezTo>
                      <a:pt x="1788" y="2738"/>
                      <a:pt x="1713" y="2747"/>
                      <a:pt x="1680" y="2744"/>
                    </a:cubicBezTo>
                    <a:cubicBezTo>
                      <a:pt x="1690" y="2713"/>
                      <a:pt x="1678" y="2735"/>
                      <a:pt x="1704" y="2720"/>
                    </a:cubicBezTo>
                    <a:cubicBezTo>
                      <a:pt x="1717" y="2713"/>
                      <a:pt x="1740" y="2696"/>
                      <a:pt x="1740" y="2696"/>
                    </a:cubicBezTo>
                    <a:cubicBezTo>
                      <a:pt x="1743" y="2679"/>
                      <a:pt x="1747" y="2659"/>
                      <a:pt x="1752" y="2642"/>
                    </a:cubicBezTo>
                    <a:cubicBezTo>
                      <a:pt x="1756" y="2630"/>
                      <a:pt x="1764" y="2606"/>
                      <a:pt x="1764" y="2606"/>
                    </a:cubicBezTo>
                    <a:cubicBezTo>
                      <a:pt x="1766" y="2560"/>
                      <a:pt x="1766" y="2514"/>
                      <a:pt x="1770" y="2468"/>
                    </a:cubicBezTo>
                    <a:cubicBezTo>
                      <a:pt x="1774" y="2422"/>
                      <a:pt x="1853" y="2417"/>
                      <a:pt x="1884" y="2396"/>
                    </a:cubicBezTo>
                    <a:cubicBezTo>
                      <a:pt x="1898" y="2353"/>
                      <a:pt x="1923" y="2314"/>
                      <a:pt x="1938" y="2270"/>
                    </a:cubicBezTo>
                    <a:cubicBezTo>
                      <a:pt x="1941" y="2262"/>
                      <a:pt x="1951" y="2259"/>
                      <a:pt x="1956" y="2252"/>
                    </a:cubicBezTo>
                    <a:cubicBezTo>
                      <a:pt x="1965" y="2241"/>
                      <a:pt x="1972" y="2228"/>
                      <a:pt x="1980" y="2216"/>
                    </a:cubicBezTo>
                    <a:cubicBezTo>
                      <a:pt x="1993" y="2196"/>
                      <a:pt x="1996" y="2182"/>
                      <a:pt x="2016" y="2168"/>
                    </a:cubicBezTo>
                    <a:cubicBezTo>
                      <a:pt x="2028" y="2133"/>
                      <a:pt x="2059" y="2121"/>
                      <a:pt x="2088" y="2102"/>
                    </a:cubicBezTo>
                    <a:cubicBezTo>
                      <a:pt x="2097" y="2089"/>
                      <a:pt x="2109" y="2079"/>
                      <a:pt x="2118" y="2066"/>
                    </a:cubicBezTo>
                    <a:cubicBezTo>
                      <a:pt x="2125" y="2055"/>
                      <a:pt x="2129" y="2041"/>
                      <a:pt x="2136" y="2030"/>
                    </a:cubicBezTo>
                    <a:cubicBezTo>
                      <a:pt x="2148" y="1981"/>
                      <a:pt x="2162" y="1934"/>
                      <a:pt x="2178" y="1886"/>
                    </a:cubicBezTo>
                    <a:cubicBezTo>
                      <a:pt x="2184" y="1868"/>
                      <a:pt x="2190" y="1850"/>
                      <a:pt x="2196" y="1832"/>
                    </a:cubicBezTo>
                    <a:cubicBezTo>
                      <a:pt x="2198" y="1826"/>
                      <a:pt x="2202" y="1814"/>
                      <a:pt x="2202" y="1814"/>
                    </a:cubicBezTo>
                    <a:cubicBezTo>
                      <a:pt x="2192" y="1793"/>
                      <a:pt x="2175" y="1778"/>
                      <a:pt x="2154" y="1766"/>
                    </a:cubicBezTo>
                    <a:cubicBezTo>
                      <a:pt x="2143" y="1760"/>
                      <a:pt x="2129" y="1761"/>
                      <a:pt x="2118" y="1754"/>
                    </a:cubicBezTo>
                    <a:cubicBezTo>
                      <a:pt x="2112" y="1750"/>
                      <a:pt x="2107" y="1743"/>
                      <a:pt x="2100" y="1742"/>
                    </a:cubicBezTo>
                    <a:cubicBezTo>
                      <a:pt x="2070" y="1737"/>
                      <a:pt x="2040" y="1738"/>
                      <a:pt x="2010" y="1736"/>
                    </a:cubicBezTo>
                    <a:cubicBezTo>
                      <a:pt x="2006" y="1730"/>
                      <a:pt x="2004" y="1723"/>
                      <a:pt x="1998" y="1718"/>
                    </a:cubicBezTo>
                    <a:cubicBezTo>
                      <a:pt x="1993" y="1714"/>
                      <a:pt x="1984" y="1716"/>
                      <a:pt x="1980" y="1712"/>
                    </a:cubicBezTo>
                    <a:cubicBezTo>
                      <a:pt x="1970" y="1702"/>
                      <a:pt x="1964" y="1688"/>
                      <a:pt x="1956" y="1676"/>
                    </a:cubicBezTo>
                    <a:cubicBezTo>
                      <a:pt x="1949" y="1665"/>
                      <a:pt x="1920" y="1664"/>
                      <a:pt x="1920" y="1664"/>
                    </a:cubicBezTo>
                    <a:cubicBezTo>
                      <a:pt x="1904" y="1616"/>
                      <a:pt x="1928" y="1672"/>
                      <a:pt x="1896" y="1640"/>
                    </a:cubicBezTo>
                    <a:cubicBezTo>
                      <a:pt x="1892" y="1636"/>
                      <a:pt x="1894" y="1626"/>
                      <a:pt x="1890" y="1622"/>
                    </a:cubicBezTo>
                    <a:cubicBezTo>
                      <a:pt x="1879" y="1611"/>
                      <a:pt x="1850" y="1606"/>
                      <a:pt x="1836" y="1598"/>
                    </a:cubicBezTo>
                    <a:cubicBezTo>
                      <a:pt x="1771" y="1562"/>
                      <a:pt x="1739" y="1536"/>
                      <a:pt x="1662" y="1526"/>
                    </a:cubicBezTo>
                    <a:cubicBezTo>
                      <a:pt x="1626" y="1528"/>
                      <a:pt x="1590" y="1528"/>
                      <a:pt x="1554" y="1532"/>
                    </a:cubicBezTo>
                    <a:cubicBezTo>
                      <a:pt x="1541" y="1534"/>
                      <a:pt x="1530" y="1540"/>
                      <a:pt x="1518" y="1544"/>
                    </a:cubicBezTo>
                    <a:cubicBezTo>
                      <a:pt x="1512" y="1546"/>
                      <a:pt x="1500" y="1550"/>
                      <a:pt x="1500" y="1550"/>
                    </a:cubicBezTo>
                    <a:cubicBezTo>
                      <a:pt x="1469" y="1546"/>
                      <a:pt x="1440" y="1542"/>
                      <a:pt x="1410" y="1532"/>
                    </a:cubicBezTo>
                    <a:cubicBezTo>
                      <a:pt x="1379" y="1501"/>
                      <a:pt x="1395" y="1522"/>
                      <a:pt x="1374" y="1460"/>
                    </a:cubicBezTo>
                    <a:cubicBezTo>
                      <a:pt x="1371" y="1452"/>
                      <a:pt x="1358" y="1457"/>
                      <a:pt x="1350" y="1454"/>
                    </a:cubicBezTo>
                    <a:cubicBezTo>
                      <a:pt x="1342" y="1451"/>
                      <a:pt x="1334" y="1446"/>
                      <a:pt x="1326" y="1442"/>
                    </a:cubicBezTo>
                    <a:cubicBezTo>
                      <a:pt x="1315" y="1410"/>
                      <a:pt x="1334" y="1400"/>
                      <a:pt x="1314" y="1370"/>
                    </a:cubicBezTo>
                    <a:cubicBezTo>
                      <a:pt x="1292" y="1372"/>
                      <a:pt x="1268" y="1366"/>
                      <a:pt x="1248" y="1376"/>
                    </a:cubicBezTo>
                    <a:cubicBezTo>
                      <a:pt x="1241" y="1380"/>
                      <a:pt x="1262" y="1400"/>
                      <a:pt x="1254" y="1400"/>
                    </a:cubicBezTo>
                    <a:cubicBezTo>
                      <a:pt x="1240" y="1400"/>
                      <a:pt x="1232" y="1381"/>
                      <a:pt x="1218" y="1376"/>
                    </a:cubicBezTo>
                    <a:cubicBezTo>
                      <a:pt x="1188" y="1366"/>
                      <a:pt x="1206" y="1371"/>
                      <a:pt x="1164" y="1364"/>
                    </a:cubicBezTo>
                    <a:cubicBezTo>
                      <a:pt x="1155" y="1337"/>
                      <a:pt x="1143" y="1321"/>
                      <a:pt x="1158" y="1292"/>
                    </a:cubicBezTo>
                    <a:cubicBezTo>
                      <a:pt x="1164" y="1280"/>
                      <a:pt x="1208" y="1270"/>
                      <a:pt x="1212" y="1268"/>
                    </a:cubicBezTo>
                    <a:cubicBezTo>
                      <a:pt x="1228" y="1257"/>
                      <a:pt x="1250" y="1255"/>
                      <a:pt x="1266" y="1244"/>
                    </a:cubicBezTo>
                    <a:cubicBezTo>
                      <a:pt x="1288" y="1230"/>
                      <a:pt x="1313" y="1216"/>
                      <a:pt x="1338" y="1208"/>
                    </a:cubicBezTo>
                    <a:cubicBezTo>
                      <a:pt x="1373" y="1220"/>
                      <a:pt x="1374" y="1225"/>
                      <a:pt x="1386" y="1262"/>
                    </a:cubicBezTo>
                    <a:cubicBezTo>
                      <a:pt x="1390" y="1274"/>
                      <a:pt x="1398" y="1298"/>
                      <a:pt x="1398" y="1298"/>
                    </a:cubicBezTo>
                    <a:cubicBezTo>
                      <a:pt x="1390" y="1331"/>
                      <a:pt x="1373" y="1356"/>
                      <a:pt x="1416" y="1370"/>
                    </a:cubicBezTo>
                    <a:cubicBezTo>
                      <a:pt x="1426" y="1373"/>
                      <a:pt x="1436" y="1374"/>
                      <a:pt x="1446" y="1376"/>
                    </a:cubicBezTo>
                    <a:cubicBezTo>
                      <a:pt x="1458" y="1384"/>
                      <a:pt x="1468" y="1395"/>
                      <a:pt x="1482" y="1400"/>
                    </a:cubicBezTo>
                    <a:cubicBezTo>
                      <a:pt x="1494" y="1404"/>
                      <a:pt x="1518" y="1412"/>
                      <a:pt x="1518" y="1412"/>
                    </a:cubicBezTo>
                    <a:cubicBezTo>
                      <a:pt x="1554" y="1358"/>
                      <a:pt x="1476" y="1370"/>
                      <a:pt x="1440" y="1358"/>
                    </a:cubicBezTo>
                    <a:cubicBezTo>
                      <a:pt x="1420" y="1328"/>
                      <a:pt x="1420" y="1316"/>
                      <a:pt x="1440" y="1286"/>
                    </a:cubicBezTo>
                    <a:cubicBezTo>
                      <a:pt x="1428" y="1239"/>
                      <a:pt x="1418" y="1197"/>
                      <a:pt x="1464" y="1166"/>
                    </a:cubicBezTo>
                    <a:cubicBezTo>
                      <a:pt x="1474" y="1137"/>
                      <a:pt x="1481" y="1119"/>
                      <a:pt x="1494" y="1094"/>
                    </a:cubicBezTo>
                    <a:cubicBezTo>
                      <a:pt x="1500" y="1083"/>
                      <a:pt x="1499" y="1066"/>
                      <a:pt x="1512" y="1058"/>
                    </a:cubicBezTo>
                    <a:cubicBezTo>
                      <a:pt x="1523" y="1051"/>
                      <a:pt x="1548" y="1046"/>
                      <a:pt x="1548" y="1046"/>
                    </a:cubicBezTo>
                    <a:cubicBezTo>
                      <a:pt x="1577" y="1003"/>
                      <a:pt x="1562" y="969"/>
                      <a:pt x="1620" y="950"/>
                    </a:cubicBezTo>
                    <a:cubicBezTo>
                      <a:pt x="1652" y="961"/>
                      <a:pt x="1630" y="969"/>
                      <a:pt x="1662" y="980"/>
                    </a:cubicBezTo>
                    <a:cubicBezTo>
                      <a:pt x="1688" y="954"/>
                      <a:pt x="1692" y="946"/>
                      <a:pt x="1698" y="908"/>
                    </a:cubicBezTo>
                    <a:cubicBezTo>
                      <a:pt x="1682" y="903"/>
                      <a:pt x="1655" y="912"/>
                      <a:pt x="1650" y="896"/>
                    </a:cubicBezTo>
                    <a:cubicBezTo>
                      <a:pt x="1629" y="832"/>
                      <a:pt x="1671" y="817"/>
                      <a:pt x="1716" y="806"/>
                    </a:cubicBezTo>
                    <a:cubicBezTo>
                      <a:pt x="1770" y="824"/>
                      <a:pt x="1695" y="837"/>
                      <a:pt x="1734" y="872"/>
                    </a:cubicBezTo>
                    <a:cubicBezTo>
                      <a:pt x="1754" y="890"/>
                      <a:pt x="1787" y="886"/>
                      <a:pt x="1812" y="896"/>
                    </a:cubicBezTo>
                    <a:cubicBezTo>
                      <a:pt x="1842" y="886"/>
                      <a:pt x="1831" y="868"/>
                      <a:pt x="1806" y="860"/>
                    </a:cubicBezTo>
                    <a:cubicBezTo>
                      <a:pt x="1794" y="856"/>
                      <a:pt x="1782" y="856"/>
                      <a:pt x="1770" y="854"/>
                    </a:cubicBezTo>
                    <a:cubicBezTo>
                      <a:pt x="1766" y="842"/>
                      <a:pt x="1762" y="830"/>
                      <a:pt x="1758" y="818"/>
                    </a:cubicBezTo>
                    <a:cubicBezTo>
                      <a:pt x="1756" y="812"/>
                      <a:pt x="1752" y="800"/>
                      <a:pt x="1752" y="800"/>
                    </a:cubicBezTo>
                    <a:cubicBezTo>
                      <a:pt x="1761" y="763"/>
                      <a:pt x="1787" y="723"/>
                      <a:pt x="1734" y="710"/>
                    </a:cubicBezTo>
                    <a:cubicBezTo>
                      <a:pt x="1727" y="676"/>
                      <a:pt x="1720" y="670"/>
                      <a:pt x="1686" y="662"/>
                    </a:cubicBezTo>
                    <a:cubicBezTo>
                      <a:pt x="1666" y="657"/>
                      <a:pt x="1626" y="650"/>
                      <a:pt x="1626" y="650"/>
                    </a:cubicBezTo>
                    <a:cubicBezTo>
                      <a:pt x="1640" y="645"/>
                      <a:pt x="1667" y="643"/>
                      <a:pt x="1638" y="614"/>
                    </a:cubicBezTo>
                    <a:cubicBezTo>
                      <a:pt x="1625" y="601"/>
                      <a:pt x="1602" y="601"/>
                      <a:pt x="1584" y="596"/>
                    </a:cubicBezTo>
                    <a:cubicBezTo>
                      <a:pt x="1568" y="592"/>
                      <a:pt x="1536" y="584"/>
                      <a:pt x="1536" y="584"/>
                    </a:cubicBezTo>
                    <a:cubicBezTo>
                      <a:pt x="1528" y="560"/>
                      <a:pt x="1524" y="550"/>
                      <a:pt x="1500" y="542"/>
                    </a:cubicBezTo>
                    <a:cubicBezTo>
                      <a:pt x="1477" y="508"/>
                      <a:pt x="1471" y="512"/>
                      <a:pt x="1428" y="518"/>
                    </a:cubicBezTo>
                    <a:cubicBezTo>
                      <a:pt x="1391" y="542"/>
                      <a:pt x="1420" y="515"/>
                      <a:pt x="1416" y="578"/>
                    </a:cubicBezTo>
                    <a:cubicBezTo>
                      <a:pt x="1415" y="591"/>
                      <a:pt x="1404" y="614"/>
                      <a:pt x="1404" y="614"/>
                    </a:cubicBezTo>
                    <a:cubicBezTo>
                      <a:pt x="1412" y="638"/>
                      <a:pt x="1406" y="656"/>
                      <a:pt x="1398" y="680"/>
                    </a:cubicBezTo>
                    <a:cubicBezTo>
                      <a:pt x="1413" y="725"/>
                      <a:pt x="1402" y="706"/>
                      <a:pt x="1428" y="740"/>
                    </a:cubicBezTo>
                    <a:cubicBezTo>
                      <a:pt x="1430" y="746"/>
                      <a:pt x="1437" y="752"/>
                      <a:pt x="1434" y="758"/>
                    </a:cubicBezTo>
                    <a:cubicBezTo>
                      <a:pt x="1431" y="764"/>
                      <a:pt x="1421" y="760"/>
                      <a:pt x="1416" y="764"/>
                    </a:cubicBezTo>
                    <a:cubicBezTo>
                      <a:pt x="1377" y="795"/>
                      <a:pt x="1431" y="773"/>
                      <a:pt x="1386" y="788"/>
                    </a:cubicBezTo>
                    <a:cubicBezTo>
                      <a:pt x="1369" y="771"/>
                      <a:pt x="1355" y="758"/>
                      <a:pt x="1350" y="734"/>
                    </a:cubicBezTo>
                    <a:cubicBezTo>
                      <a:pt x="1345" y="712"/>
                      <a:pt x="1353" y="692"/>
                      <a:pt x="1326" y="686"/>
                    </a:cubicBezTo>
                    <a:cubicBezTo>
                      <a:pt x="1306" y="681"/>
                      <a:pt x="1286" y="682"/>
                      <a:pt x="1266" y="680"/>
                    </a:cubicBezTo>
                    <a:cubicBezTo>
                      <a:pt x="1231" y="668"/>
                      <a:pt x="1209" y="644"/>
                      <a:pt x="1200" y="608"/>
                    </a:cubicBezTo>
                    <a:cubicBezTo>
                      <a:pt x="1200" y="606"/>
                      <a:pt x="1193" y="566"/>
                      <a:pt x="1188" y="560"/>
                    </a:cubicBezTo>
                    <a:cubicBezTo>
                      <a:pt x="1183" y="554"/>
                      <a:pt x="1175" y="553"/>
                      <a:pt x="1170" y="548"/>
                    </a:cubicBezTo>
                    <a:cubicBezTo>
                      <a:pt x="1137" y="515"/>
                      <a:pt x="1168" y="529"/>
                      <a:pt x="1134" y="518"/>
                    </a:cubicBezTo>
                    <a:cubicBezTo>
                      <a:pt x="1114" y="458"/>
                      <a:pt x="1169" y="465"/>
                      <a:pt x="1206" y="440"/>
                    </a:cubicBezTo>
                    <a:cubicBezTo>
                      <a:pt x="1210" y="434"/>
                      <a:pt x="1212" y="427"/>
                      <a:pt x="1218" y="422"/>
                    </a:cubicBezTo>
                    <a:cubicBezTo>
                      <a:pt x="1223" y="418"/>
                      <a:pt x="1232" y="420"/>
                      <a:pt x="1236" y="416"/>
                    </a:cubicBezTo>
                    <a:cubicBezTo>
                      <a:pt x="1239" y="413"/>
                      <a:pt x="1248" y="374"/>
                      <a:pt x="1248" y="374"/>
                    </a:cubicBezTo>
                    <a:cubicBezTo>
                      <a:pt x="1316" y="397"/>
                      <a:pt x="1216" y="484"/>
                      <a:pt x="1296" y="464"/>
                    </a:cubicBezTo>
                    <a:cubicBezTo>
                      <a:pt x="1317" y="450"/>
                      <a:pt x="1330" y="453"/>
                      <a:pt x="1338" y="428"/>
                    </a:cubicBezTo>
                    <a:cubicBezTo>
                      <a:pt x="1330" y="416"/>
                      <a:pt x="1322" y="404"/>
                      <a:pt x="1314" y="392"/>
                    </a:cubicBezTo>
                    <a:cubicBezTo>
                      <a:pt x="1310" y="386"/>
                      <a:pt x="1302" y="374"/>
                      <a:pt x="1302" y="374"/>
                    </a:cubicBezTo>
                    <a:cubicBezTo>
                      <a:pt x="1308" y="343"/>
                      <a:pt x="1306" y="331"/>
                      <a:pt x="1332" y="314"/>
                    </a:cubicBezTo>
                    <a:cubicBezTo>
                      <a:pt x="1334" y="296"/>
                      <a:pt x="1331" y="277"/>
                      <a:pt x="1338" y="260"/>
                    </a:cubicBezTo>
                    <a:cubicBezTo>
                      <a:pt x="1346" y="240"/>
                      <a:pt x="1392" y="268"/>
                      <a:pt x="1404" y="272"/>
                    </a:cubicBezTo>
                    <a:cubicBezTo>
                      <a:pt x="1426" y="302"/>
                      <a:pt x="1424" y="308"/>
                      <a:pt x="1404" y="338"/>
                    </a:cubicBezTo>
                    <a:cubicBezTo>
                      <a:pt x="1405" y="345"/>
                      <a:pt x="1414" y="402"/>
                      <a:pt x="1416" y="404"/>
                    </a:cubicBezTo>
                    <a:cubicBezTo>
                      <a:pt x="1428" y="416"/>
                      <a:pt x="1484" y="426"/>
                      <a:pt x="1500" y="434"/>
                    </a:cubicBezTo>
                    <a:cubicBezTo>
                      <a:pt x="1506" y="432"/>
                      <a:pt x="1514" y="424"/>
                      <a:pt x="1518" y="428"/>
                    </a:cubicBezTo>
                    <a:cubicBezTo>
                      <a:pt x="1527" y="437"/>
                      <a:pt x="1526" y="452"/>
                      <a:pt x="1530" y="464"/>
                    </a:cubicBezTo>
                    <a:cubicBezTo>
                      <a:pt x="1532" y="470"/>
                      <a:pt x="1542" y="467"/>
                      <a:pt x="1548" y="470"/>
                    </a:cubicBezTo>
                    <a:cubicBezTo>
                      <a:pt x="1589" y="491"/>
                      <a:pt x="1540" y="476"/>
                      <a:pt x="1590" y="488"/>
                    </a:cubicBezTo>
                    <a:cubicBezTo>
                      <a:pt x="1600" y="486"/>
                      <a:pt x="1616" y="491"/>
                      <a:pt x="1620" y="482"/>
                    </a:cubicBezTo>
                    <a:cubicBezTo>
                      <a:pt x="1640" y="433"/>
                      <a:pt x="1617" y="429"/>
                      <a:pt x="1590" y="416"/>
                    </a:cubicBezTo>
                    <a:cubicBezTo>
                      <a:pt x="1588" y="413"/>
                      <a:pt x="1560" y="380"/>
                      <a:pt x="1584" y="374"/>
                    </a:cubicBezTo>
                    <a:cubicBezTo>
                      <a:pt x="1592" y="372"/>
                      <a:pt x="1596" y="386"/>
                      <a:pt x="1602" y="392"/>
                    </a:cubicBezTo>
                    <a:cubicBezTo>
                      <a:pt x="1650" y="376"/>
                      <a:pt x="1648" y="325"/>
                      <a:pt x="1602" y="302"/>
                    </a:cubicBezTo>
                    <a:cubicBezTo>
                      <a:pt x="1572" y="257"/>
                      <a:pt x="1588" y="276"/>
                      <a:pt x="1554" y="242"/>
                    </a:cubicBezTo>
                    <a:cubicBezTo>
                      <a:pt x="1565" y="198"/>
                      <a:pt x="1564" y="234"/>
                      <a:pt x="1536" y="206"/>
                    </a:cubicBezTo>
                    <a:cubicBezTo>
                      <a:pt x="1504" y="174"/>
                      <a:pt x="1560" y="198"/>
                      <a:pt x="1512" y="182"/>
                    </a:cubicBezTo>
                    <a:cubicBezTo>
                      <a:pt x="1487" y="144"/>
                      <a:pt x="1420" y="138"/>
                      <a:pt x="1380" y="134"/>
                    </a:cubicBezTo>
                    <a:cubicBezTo>
                      <a:pt x="1336" y="119"/>
                      <a:pt x="1344" y="127"/>
                      <a:pt x="1326" y="86"/>
                    </a:cubicBezTo>
                    <a:cubicBezTo>
                      <a:pt x="1321" y="74"/>
                      <a:pt x="1314" y="50"/>
                      <a:pt x="1314" y="50"/>
                    </a:cubicBezTo>
                    <a:cubicBezTo>
                      <a:pt x="1260" y="61"/>
                      <a:pt x="1298" y="50"/>
                      <a:pt x="1284" y="92"/>
                    </a:cubicBezTo>
                    <a:cubicBezTo>
                      <a:pt x="1243" y="64"/>
                      <a:pt x="1253" y="82"/>
                      <a:pt x="1242" y="50"/>
                    </a:cubicBezTo>
                    <a:cubicBezTo>
                      <a:pt x="1232" y="52"/>
                      <a:pt x="1220" y="50"/>
                      <a:pt x="1212" y="56"/>
                    </a:cubicBezTo>
                    <a:cubicBezTo>
                      <a:pt x="1207" y="60"/>
                      <a:pt x="1206" y="68"/>
                      <a:pt x="1206" y="74"/>
                    </a:cubicBezTo>
                    <a:cubicBezTo>
                      <a:pt x="1206" y="123"/>
                      <a:pt x="1212" y="134"/>
                      <a:pt x="1242" y="164"/>
                    </a:cubicBezTo>
                    <a:cubicBezTo>
                      <a:pt x="1251" y="201"/>
                      <a:pt x="1261" y="215"/>
                      <a:pt x="1272" y="248"/>
                    </a:cubicBezTo>
                    <a:cubicBezTo>
                      <a:pt x="1259" y="287"/>
                      <a:pt x="1238" y="271"/>
                      <a:pt x="1212" y="254"/>
                    </a:cubicBezTo>
                    <a:cubicBezTo>
                      <a:pt x="1208" y="248"/>
                      <a:pt x="1202" y="243"/>
                      <a:pt x="1200" y="236"/>
                    </a:cubicBezTo>
                    <a:cubicBezTo>
                      <a:pt x="1194" y="221"/>
                      <a:pt x="1202" y="197"/>
                      <a:pt x="1188" y="188"/>
                    </a:cubicBezTo>
                    <a:cubicBezTo>
                      <a:pt x="1169" y="175"/>
                      <a:pt x="1122" y="164"/>
                      <a:pt x="1122" y="164"/>
                    </a:cubicBezTo>
                    <a:cubicBezTo>
                      <a:pt x="1104" y="191"/>
                      <a:pt x="1103" y="197"/>
                      <a:pt x="1110" y="230"/>
                    </a:cubicBezTo>
                    <a:cubicBezTo>
                      <a:pt x="1108" y="246"/>
                      <a:pt x="1111" y="263"/>
                      <a:pt x="1104" y="278"/>
                    </a:cubicBezTo>
                    <a:cubicBezTo>
                      <a:pt x="1100" y="286"/>
                      <a:pt x="1036" y="301"/>
                      <a:pt x="1032" y="302"/>
                    </a:cubicBezTo>
                    <a:cubicBezTo>
                      <a:pt x="1026" y="300"/>
                      <a:pt x="1018" y="301"/>
                      <a:pt x="1014" y="296"/>
                    </a:cubicBezTo>
                    <a:cubicBezTo>
                      <a:pt x="1007" y="286"/>
                      <a:pt x="1002" y="260"/>
                      <a:pt x="1002" y="260"/>
                    </a:cubicBezTo>
                    <a:lnTo>
                      <a:pt x="972" y="146"/>
                    </a:lnTo>
                    <a:cubicBezTo>
                      <a:pt x="972" y="146"/>
                      <a:pt x="972" y="146"/>
                      <a:pt x="972" y="146"/>
                    </a:cubicBezTo>
                    <a:cubicBezTo>
                      <a:pt x="968" y="134"/>
                      <a:pt x="964" y="122"/>
                      <a:pt x="960" y="110"/>
                    </a:cubicBezTo>
                    <a:cubicBezTo>
                      <a:pt x="958" y="104"/>
                      <a:pt x="954" y="92"/>
                      <a:pt x="954" y="92"/>
                    </a:cubicBezTo>
                    <a:cubicBezTo>
                      <a:pt x="912" y="98"/>
                      <a:pt x="868" y="97"/>
                      <a:pt x="828" y="110"/>
                    </a:cubicBezTo>
                    <a:cubicBezTo>
                      <a:pt x="787" y="82"/>
                      <a:pt x="806" y="91"/>
                      <a:pt x="774" y="80"/>
                    </a:cubicBezTo>
                    <a:cubicBezTo>
                      <a:pt x="729" y="95"/>
                      <a:pt x="786" y="82"/>
                      <a:pt x="762" y="44"/>
                    </a:cubicBezTo>
                    <a:cubicBezTo>
                      <a:pt x="756" y="34"/>
                      <a:pt x="738" y="40"/>
                      <a:pt x="726" y="38"/>
                    </a:cubicBezTo>
                    <a:cubicBezTo>
                      <a:pt x="713" y="0"/>
                      <a:pt x="686" y="16"/>
                      <a:pt x="648" y="20"/>
                    </a:cubicBezTo>
                    <a:cubicBezTo>
                      <a:pt x="668" y="79"/>
                      <a:pt x="645" y="88"/>
                      <a:pt x="618" y="128"/>
                    </a:cubicBezTo>
                    <a:cubicBezTo>
                      <a:pt x="631" y="155"/>
                      <a:pt x="638" y="161"/>
                      <a:pt x="666" y="170"/>
                    </a:cubicBezTo>
                    <a:cubicBezTo>
                      <a:pt x="689" y="162"/>
                      <a:pt x="691" y="148"/>
                      <a:pt x="714" y="140"/>
                    </a:cubicBezTo>
                    <a:cubicBezTo>
                      <a:pt x="723" y="112"/>
                      <a:pt x="733" y="112"/>
                      <a:pt x="756" y="128"/>
                    </a:cubicBezTo>
                    <a:cubicBezTo>
                      <a:pt x="754" y="136"/>
                      <a:pt x="755" y="145"/>
                      <a:pt x="750" y="152"/>
                    </a:cubicBezTo>
                    <a:cubicBezTo>
                      <a:pt x="746" y="158"/>
                      <a:pt x="735" y="157"/>
                      <a:pt x="732" y="164"/>
                    </a:cubicBezTo>
                    <a:cubicBezTo>
                      <a:pt x="724" y="183"/>
                      <a:pt x="748" y="185"/>
                      <a:pt x="756" y="188"/>
                    </a:cubicBezTo>
                    <a:cubicBezTo>
                      <a:pt x="770" y="209"/>
                      <a:pt x="767" y="222"/>
                      <a:pt x="792" y="230"/>
                    </a:cubicBezTo>
                    <a:cubicBezTo>
                      <a:pt x="794" y="240"/>
                      <a:pt x="791" y="253"/>
                      <a:pt x="798" y="260"/>
                    </a:cubicBezTo>
                    <a:cubicBezTo>
                      <a:pt x="807" y="269"/>
                      <a:pt x="834" y="272"/>
                      <a:pt x="834" y="272"/>
                    </a:cubicBezTo>
                    <a:cubicBezTo>
                      <a:pt x="876" y="261"/>
                      <a:pt x="879" y="260"/>
                      <a:pt x="930" y="266"/>
                    </a:cubicBezTo>
                    <a:cubicBezTo>
                      <a:pt x="926" y="281"/>
                      <a:pt x="927" y="299"/>
                      <a:pt x="906" y="302"/>
                    </a:cubicBezTo>
                    <a:cubicBezTo>
                      <a:pt x="860" y="308"/>
                      <a:pt x="833" y="272"/>
                      <a:pt x="798" y="254"/>
                    </a:cubicBezTo>
                    <a:cubicBezTo>
                      <a:pt x="732" y="221"/>
                      <a:pt x="628" y="215"/>
                      <a:pt x="558" y="206"/>
                    </a:cubicBezTo>
                    <a:cubicBezTo>
                      <a:pt x="544" y="208"/>
                      <a:pt x="529" y="206"/>
                      <a:pt x="516" y="212"/>
                    </a:cubicBezTo>
                    <a:cubicBezTo>
                      <a:pt x="510" y="215"/>
                      <a:pt x="531" y="212"/>
                      <a:pt x="534" y="218"/>
                    </a:cubicBezTo>
                    <a:cubicBezTo>
                      <a:pt x="544" y="238"/>
                      <a:pt x="504" y="256"/>
                      <a:pt x="492" y="260"/>
                    </a:cubicBezTo>
                    <a:cubicBezTo>
                      <a:pt x="432" y="251"/>
                      <a:pt x="419" y="236"/>
                      <a:pt x="366" y="218"/>
                    </a:cubicBezTo>
                    <a:cubicBezTo>
                      <a:pt x="307" y="198"/>
                      <a:pt x="251" y="178"/>
                      <a:pt x="192" y="158"/>
                    </a:cubicBezTo>
                    <a:cubicBezTo>
                      <a:pt x="178" y="160"/>
                      <a:pt x="163" y="158"/>
                      <a:pt x="150" y="164"/>
                    </a:cubicBezTo>
                    <a:cubicBezTo>
                      <a:pt x="143" y="167"/>
                      <a:pt x="145" y="182"/>
                      <a:pt x="138" y="182"/>
                    </a:cubicBezTo>
                    <a:cubicBezTo>
                      <a:pt x="132" y="182"/>
                      <a:pt x="138" y="170"/>
                      <a:pt x="138" y="164"/>
                    </a:cubicBez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9525">
                <a:noFill/>
              </a:ln>
              <a:scene3d>
                <a:camera prst="legacyObliqueTopRight"/>
                <a:lightRig dir="b" rig="legacyFlat3"/>
              </a:scene3d>
              <a:sp3d extrusionH="31750" prstMaterial="legacyMatte">
                <a:bevelT prst="angle" w="13500" h="13500"/>
                <a:bevelB prst="angle" w="13500" h="13500"/>
                <a:extrusionClr>
                  <a:schemeClr val="bg1">
                    <a:lumMod val="75000"/>
                  </a:schemeClr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808080"/>
                  </a:solidFill>
                  <a:latin typeface="Calibri"/>
                </a:endParaRPr>
              </a:p>
            </p:txBody>
          </p:sp>
          <p:sp>
            <p:nvSpPr>
              <p:cNvPr id="177" name="Freeform 63"/>
              <p:cNvSpPr/>
              <p:nvPr/>
            </p:nvSpPr>
            <p:spPr>
              <a:xfrm>
                <a:off x="3892320" y="4991760"/>
                <a:ext cx="767160" cy="907560"/>
              </a:xfrm>
              <a:custGeom>
                <a:avLst/>
                <a:gdLst>
                  <a:gd name="textAreaLeft" fmla="*/ 0 w 767160"/>
                  <a:gd name="textAreaRight" fmla="*/ 767520 w 767160"/>
                  <a:gd name="textAreaTop" fmla="*/ 0 h 907560"/>
                  <a:gd name="textAreaBottom" fmla="*/ 907920 h 907560"/>
                </a:gdLst>
                <a:ahLst/>
                <a:rect l="textAreaLeft" t="textAreaTop" r="textAreaRight" b="textAreaBottom"/>
                <a:pathLst>
                  <a:path w="650" h="769">
                    <a:moveTo>
                      <a:pt x="468" y="175"/>
                    </a:moveTo>
                    <a:cubicBezTo>
                      <a:pt x="464" y="189"/>
                      <a:pt x="459" y="203"/>
                      <a:pt x="456" y="217"/>
                    </a:cubicBezTo>
                    <a:cubicBezTo>
                      <a:pt x="453" y="229"/>
                      <a:pt x="462" y="250"/>
                      <a:pt x="450" y="253"/>
                    </a:cubicBezTo>
                    <a:cubicBezTo>
                      <a:pt x="436" y="257"/>
                      <a:pt x="414" y="229"/>
                      <a:pt x="414" y="229"/>
                    </a:cubicBezTo>
                    <a:cubicBezTo>
                      <a:pt x="399" y="184"/>
                      <a:pt x="421" y="238"/>
                      <a:pt x="390" y="199"/>
                    </a:cubicBezTo>
                    <a:cubicBezTo>
                      <a:pt x="386" y="194"/>
                      <a:pt x="388" y="185"/>
                      <a:pt x="384" y="181"/>
                    </a:cubicBezTo>
                    <a:cubicBezTo>
                      <a:pt x="379" y="176"/>
                      <a:pt x="338" y="160"/>
                      <a:pt x="330" y="157"/>
                    </a:cubicBezTo>
                    <a:cubicBezTo>
                      <a:pt x="280" y="169"/>
                      <a:pt x="324" y="151"/>
                      <a:pt x="300" y="181"/>
                    </a:cubicBezTo>
                    <a:cubicBezTo>
                      <a:pt x="289" y="195"/>
                      <a:pt x="261" y="201"/>
                      <a:pt x="246" y="211"/>
                    </a:cubicBezTo>
                    <a:cubicBezTo>
                      <a:pt x="209" y="187"/>
                      <a:pt x="189" y="219"/>
                      <a:pt x="156" y="241"/>
                    </a:cubicBezTo>
                    <a:cubicBezTo>
                      <a:pt x="144" y="249"/>
                      <a:pt x="120" y="265"/>
                      <a:pt x="120" y="265"/>
                    </a:cubicBezTo>
                    <a:cubicBezTo>
                      <a:pt x="107" y="317"/>
                      <a:pt x="109" y="310"/>
                      <a:pt x="54" y="319"/>
                    </a:cubicBezTo>
                    <a:cubicBezTo>
                      <a:pt x="33" y="333"/>
                      <a:pt x="20" y="346"/>
                      <a:pt x="6" y="367"/>
                    </a:cubicBezTo>
                    <a:cubicBezTo>
                      <a:pt x="13" y="417"/>
                      <a:pt x="8" y="462"/>
                      <a:pt x="0" y="511"/>
                    </a:cubicBezTo>
                    <a:cubicBezTo>
                      <a:pt x="13" y="603"/>
                      <a:pt x="6" y="588"/>
                      <a:pt x="114" y="595"/>
                    </a:cubicBezTo>
                    <a:cubicBezTo>
                      <a:pt x="124" y="593"/>
                      <a:pt x="135" y="594"/>
                      <a:pt x="144" y="589"/>
                    </a:cubicBezTo>
                    <a:cubicBezTo>
                      <a:pt x="150" y="585"/>
                      <a:pt x="150" y="575"/>
                      <a:pt x="156" y="571"/>
                    </a:cubicBezTo>
                    <a:cubicBezTo>
                      <a:pt x="167" y="564"/>
                      <a:pt x="180" y="563"/>
                      <a:pt x="192" y="559"/>
                    </a:cubicBezTo>
                    <a:cubicBezTo>
                      <a:pt x="202" y="556"/>
                      <a:pt x="212" y="556"/>
                      <a:pt x="222" y="553"/>
                    </a:cubicBezTo>
                    <a:cubicBezTo>
                      <a:pt x="234" y="550"/>
                      <a:pt x="258" y="541"/>
                      <a:pt x="258" y="541"/>
                    </a:cubicBezTo>
                    <a:cubicBezTo>
                      <a:pt x="274" y="544"/>
                      <a:pt x="304" y="545"/>
                      <a:pt x="318" y="559"/>
                    </a:cubicBezTo>
                    <a:cubicBezTo>
                      <a:pt x="334" y="575"/>
                      <a:pt x="309" y="586"/>
                      <a:pt x="342" y="595"/>
                    </a:cubicBezTo>
                    <a:cubicBezTo>
                      <a:pt x="363" y="601"/>
                      <a:pt x="386" y="599"/>
                      <a:pt x="408" y="601"/>
                    </a:cubicBezTo>
                    <a:cubicBezTo>
                      <a:pt x="442" y="624"/>
                      <a:pt x="422" y="667"/>
                      <a:pt x="462" y="685"/>
                    </a:cubicBezTo>
                    <a:cubicBezTo>
                      <a:pt x="473" y="690"/>
                      <a:pt x="486" y="689"/>
                      <a:pt x="498" y="691"/>
                    </a:cubicBezTo>
                    <a:cubicBezTo>
                      <a:pt x="494" y="725"/>
                      <a:pt x="479" y="757"/>
                      <a:pt x="516" y="769"/>
                    </a:cubicBezTo>
                    <a:cubicBezTo>
                      <a:pt x="529" y="731"/>
                      <a:pt x="540" y="727"/>
                      <a:pt x="504" y="703"/>
                    </a:cubicBezTo>
                    <a:cubicBezTo>
                      <a:pt x="490" y="661"/>
                      <a:pt x="540" y="683"/>
                      <a:pt x="570" y="673"/>
                    </a:cubicBezTo>
                    <a:cubicBezTo>
                      <a:pt x="583" y="654"/>
                      <a:pt x="603" y="646"/>
                      <a:pt x="612" y="625"/>
                    </a:cubicBezTo>
                    <a:cubicBezTo>
                      <a:pt x="617" y="613"/>
                      <a:pt x="624" y="589"/>
                      <a:pt x="624" y="589"/>
                    </a:cubicBezTo>
                    <a:cubicBezTo>
                      <a:pt x="627" y="544"/>
                      <a:pt x="622" y="490"/>
                      <a:pt x="648" y="451"/>
                    </a:cubicBezTo>
                    <a:cubicBezTo>
                      <a:pt x="643" y="418"/>
                      <a:pt x="650" y="396"/>
                      <a:pt x="618" y="385"/>
                    </a:cubicBezTo>
                    <a:cubicBezTo>
                      <a:pt x="600" y="357"/>
                      <a:pt x="593" y="338"/>
                      <a:pt x="564" y="319"/>
                    </a:cubicBezTo>
                    <a:cubicBezTo>
                      <a:pt x="553" y="285"/>
                      <a:pt x="524" y="241"/>
                      <a:pt x="504" y="211"/>
                    </a:cubicBezTo>
                    <a:cubicBezTo>
                      <a:pt x="496" y="199"/>
                      <a:pt x="480" y="175"/>
                      <a:pt x="480" y="175"/>
                    </a:cubicBezTo>
                    <a:cubicBezTo>
                      <a:pt x="490" y="135"/>
                      <a:pt x="509" y="144"/>
                      <a:pt x="552" y="139"/>
                    </a:cubicBezTo>
                    <a:cubicBezTo>
                      <a:pt x="576" y="147"/>
                      <a:pt x="581" y="159"/>
                      <a:pt x="606" y="151"/>
                    </a:cubicBezTo>
                    <a:cubicBezTo>
                      <a:pt x="596" y="101"/>
                      <a:pt x="572" y="105"/>
                      <a:pt x="534" y="79"/>
                    </a:cubicBezTo>
                    <a:cubicBezTo>
                      <a:pt x="518" y="55"/>
                      <a:pt x="504" y="52"/>
                      <a:pt x="480" y="37"/>
                    </a:cubicBezTo>
                    <a:cubicBezTo>
                      <a:pt x="468" y="30"/>
                      <a:pt x="456" y="21"/>
                      <a:pt x="444" y="13"/>
                    </a:cubicBezTo>
                    <a:cubicBezTo>
                      <a:pt x="438" y="9"/>
                      <a:pt x="426" y="1"/>
                      <a:pt x="426" y="1"/>
                    </a:cubicBezTo>
                    <a:cubicBezTo>
                      <a:pt x="416" y="3"/>
                      <a:pt x="406" y="4"/>
                      <a:pt x="396" y="7"/>
                    </a:cubicBezTo>
                    <a:cubicBezTo>
                      <a:pt x="384" y="10"/>
                      <a:pt x="360" y="19"/>
                      <a:pt x="360" y="19"/>
                    </a:cubicBezTo>
                    <a:cubicBezTo>
                      <a:pt x="333" y="1"/>
                      <a:pt x="327" y="0"/>
                      <a:pt x="294" y="7"/>
                    </a:cubicBezTo>
                    <a:cubicBezTo>
                      <a:pt x="296" y="19"/>
                      <a:pt x="292" y="34"/>
                      <a:pt x="300" y="43"/>
                    </a:cubicBezTo>
                    <a:cubicBezTo>
                      <a:pt x="308" y="53"/>
                      <a:pt x="324" y="51"/>
                      <a:pt x="336" y="55"/>
                    </a:cubicBezTo>
                    <a:cubicBezTo>
                      <a:pt x="342" y="57"/>
                      <a:pt x="354" y="61"/>
                      <a:pt x="354" y="61"/>
                    </a:cubicBezTo>
                    <a:cubicBezTo>
                      <a:pt x="363" y="89"/>
                      <a:pt x="373" y="89"/>
                      <a:pt x="396" y="73"/>
                    </a:cubicBezTo>
                    <a:cubicBezTo>
                      <a:pt x="404" y="75"/>
                      <a:pt x="414" y="74"/>
                      <a:pt x="420" y="79"/>
                    </a:cubicBezTo>
                    <a:cubicBezTo>
                      <a:pt x="443" y="97"/>
                      <a:pt x="414" y="131"/>
                      <a:pt x="456" y="145"/>
                    </a:cubicBezTo>
                    <a:cubicBezTo>
                      <a:pt x="470" y="166"/>
                      <a:pt x="468" y="156"/>
                      <a:pt x="468" y="175"/>
                    </a:cubicBez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9525">
                <a:noFill/>
              </a:ln>
              <a:scene3d>
                <a:camera prst="legacyObliqueTopRight"/>
                <a:lightRig dir="b" rig="legacyFlat3"/>
              </a:scene3d>
              <a:sp3d extrusionH="31750" prstMaterial="legacyMatte">
                <a:bevelT prst="angle" w="13500" h="13500"/>
                <a:bevelB prst="angle" w="13500" h="13500"/>
                <a:extrusionClr>
                  <a:schemeClr val="bg1">
                    <a:lumMod val="75000"/>
                  </a:schemeClr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808080"/>
                  </a:solidFill>
                  <a:latin typeface="Calibri"/>
                </a:endParaRPr>
              </a:p>
            </p:txBody>
          </p:sp>
          <p:sp>
            <p:nvSpPr>
              <p:cNvPr id="178" name="Freeform 64"/>
              <p:cNvSpPr/>
              <p:nvPr/>
            </p:nvSpPr>
            <p:spPr>
              <a:xfrm>
                <a:off x="1593360" y="3639600"/>
                <a:ext cx="214560" cy="321480"/>
              </a:xfrm>
              <a:custGeom>
                <a:avLst/>
                <a:gdLst>
                  <a:gd name="textAreaLeft" fmla="*/ 0 w 214560"/>
                  <a:gd name="textAreaRight" fmla="*/ 214920 w 214560"/>
                  <a:gd name="textAreaTop" fmla="*/ 0 h 321480"/>
                  <a:gd name="textAreaBottom" fmla="*/ 321840 h 321480"/>
                </a:gdLst>
                <a:ahLst/>
                <a:rect l="textAreaLeft" t="textAreaTop" r="textAreaRight" b="textAreaBottom"/>
                <a:pathLst>
                  <a:path w="182" h="273">
                    <a:moveTo>
                      <a:pt x="74" y="105"/>
                    </a:moveTo>
                    <a:cubicBezTo>
                      <a:pt x="53" y="119"/>
                      <a:pt x="63" y="115"/>
                      <a:pt x="47" y="120"/>
                    </a:cubicBezTo>
                    <a:cubicBezTo>
                      <a:pt x="33" y="115"/>
                      <a:pt x="19" y="113"/>
                      <a:pt x="14" y="129"/>
                    </a:cubicBezTo>
                    <a:cubicBezTo>
                      <a:pt x="10" y="156"/>
                      <a:pt x="0" y="175"/>
                      <a:pt x="17" y="201"/>
                    </a:cubicBezTo>
                    <a:cubicBezTo>
                      <a:pt x="21" y="232"/>
                      <a:pt x="30" y="231"/>
                      <a:pt x="53" y="216"/>
                    </a:cubicBezTo>
                    <a:cubicBezTo>
                      <a:pt x="55" y="210"/>
                      <a:pt x="58" y="204"/>
                      <a:pt x="59" y="198"/>
                    </a:cubicBezTo>
                    <a:cubicBezTo>
                      <a:pt x="60" y="186"/>
                      <a:pt x="59" y="174"/>
                      <a:pt x="62" y="162"/>
                    </a:cubicBezTo>
                    <a:cubicBezTo>
                      <a:pt x="64" y="154"/>
                      <a:pt x="77" y="145"/>
                      <a:pt x="80" y="135"/>
                    </a:cubicBezTo>
                    <a:cubicBezTo>
                      <a:pt x="82" y="121"/>
                      <a:pt x="84" y="89"/>
                      <a:pt x="95" y="123"/>
                    </a:cubicBezTo>
                    <a:cubicBezTo>
                      <a:pt x="94" y="147"/>
                      <a:pt x="99" y="209"/>
                      <a:pt x="77" y="231"/>
                    </a:cubicBezTo>
                    <a:cubicBezTo>
                      <a:pt x="80" y="249"/>
                      <a:pt x="79" y="267"/>
                      <a:pt x="98" y="273"/>
                    </a:cubicBezTo>
                    <a:cubicBezTo>
                      <a:pt x="109" y="266"/>
                      <a:pt x="114" y="264"/>
                      <a:pt x="119" y="249"/>
                    </a:cubicBezTo>
                    <a:cubicBezTo>
                      <a:pt x="120" y="245"/>
                      <a:pt x="123" y="233"/>
                      <a:pt x="128" y="231"/>
                    </a:cubicBezTo>
                    <a:cubicBezTo>
                      <a:pt x="137" y="227"/>
                      <a:pt x="162" y="222"/>
                      <a:pt x="173" y="219"/>
                    </a:cubicBezTo>
                    <a:cubicBezTo>
                      <a:pt x="181" y="195"/>
                      <a:pt x="178" y="207"/>
                      <a:pt x="182" y="183"/>
                    </a:cubicBezTo>
                    <a:cubicBezTo>
                      <a:pt x="179" y="152"/>
                      <a:pt x="165" y="138"/>
                      <a:pt x="161" y="111"/>
                    </a:cubicBezTo>
                    <a:cubicBezTo>
                      <a:pt x="158" y="93"/>
                      <a:pt x="155" y="75"/>
                      <a:pt x="152" y="57"/>
                    </a:cubicBezTo>
                    <a:cubicBezTo>
                      <a:pt x="150" y="45"/>
                      <a:pt x="152" y="18"/>
                      <a:pt x="143" y="9"/>
                    </a:cubicBezTo>
                    <a:cubicBezTo>
                      <a:pt x="134" y="0"/>
                      <a:pt x="119" y="4"/>
                      <a:pt x="107" y="3"/>
                    </a:cubicBezTo>
                    <a:cubicBezTo>
                      <a:pt x="99" y="15"/>
                      <a:pt x="91" y="25"/>
                      <a:pt x="86" y="39"/>
                    </a:cubicBezTo>
                    <a:cubicBezTo>
                      <a:pt x="100" y="48"/>
                      <a:pt x="94" y="55"/>
                      <a:pt x="89" y="69"/>
                    </a:cubicBezTo>
                    <a:cubicBezTo>
                      <a:pt x="97" y="93"/>
                      <a:pt x="89" y="63"/>
                      <a:pt x="89" y="87"/>
                    </a:cubicBezTo>
                    <a:cubicBezTo>
                      <a:pt x="89" y="99"/>
                      <a:pt x="94" y="114"/>
                      <a:pt x="98" y="126"/>
                    </a:cubicBezTo>
                    <a:cubicBezTo>
                      <a:pt x="97" y="129"/>
                      <a:pt x="98" y="135"/>
                      <a:pt x="95" y="135"/>
                    </a:cubicBezTo>
                    <a:cubicBezTo>
                      <a:pt x="92" y="135"/>
                      <a:pt x="94" y="128"/>
                      <a:pt x="92" y="126"/>
                    </a:cubicBezTo>
                    <a:cubicBezTo>
                      <a:pt x="90" y="123"/>
                      <a:pt x="85" y="123"/>
                      <a:pt x="83" y="120"/>
                    </a:cubicBezTo>
                    <a:cubicBezTo>
                      <a:pt x="79" y="116"/>
                      <a:pt x="77" y="110"/>
                      <a:pt x="74" y="105"/>
                    </a:cubicBez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9525">
                <a:noFill/>
              </a:ln>
              <a:scene3d>
                <a:camera prst="legacyObliqueTopRight"/>
                <a:lightRig dir="b" rig="legacyFlat3"/>
              </a:scene3d>
              <a:sp3d extrusionH="31750" prstMaterial="legacyMatte">
                <a:bevelT prst="angle" w="13500" h="13500"/>
                <a:bevelB prst="angle" w="13500" h="13500"/>
                <a:extrusionClr>
                  <a:schemeClr val="bg1">
                    <a:lumMod val="75000"/>
                  </a:schemeClr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808080"/>
                  </a:solidFill>
                  <a:latin typeface="Calibri"/>
                </a:endParaRPr>
              </a:p>
            </p:txBody>
          </p:sp>
          <p:sp>
            <p:nvSpPr>
              <p:cNvPr id="179" name="Freeform 65"/>
              <p:cNvSpPr/>
              <p:nvPr/>
            </p:nvSpPr>
            <p:spPr>
              <a:xfrm>
                <a:off x="2826000" y="2860200"/>
                <a:ext cx="176040" cy="367920"/>
              </a:xfrm>
              <a:custGeom>
                <a:avLst/>
                <a:gdLst>
                  <a:gd name="textAreaLeft" fmla="*/ 0 w 176040"/>
                  <a:gd name="textAreaRight" fmla="*/ 176400 w 176040"/>
                  <a:gd name="textAreaTop" fmla="*/ 0 h 367920"/>
                  <a:gd name="textAreaBottom" fmla="*/ 368280 h 367920"/>
                </a:gdLst>
                <a:ahLst/>
                <a:rect l="textAreaLeft" t="textAreaTop" r="textAreaRight" b="textAreaBottom"/>
                <a:pathLst>
                  <a:path w="149" h="312">
                    <a:moveTo>
                      <a:pt x="113" y="3"/>
                    </a:moveTo>
                    <a:cubicBezTo>
                      <a:pt x="108" y="19"/>
                      <a:pt x="97" y="39"/>
                      <a:pt x="80" y="45"/>
                    </a:cubicBezTo>
                    <a:cubicBezTo>
                      <a:pt x="68" y="57"/>
                      <a:pt x="74" y="73"/>
                      <a:pt x="62" y="84"/>
                    </a:cubicBezTo>
                    <a:cubicBezTo>
                      <a:pt x="57" y="89"/>
                      <a:pt x="44" y="96"/>
                      <a:pt x="44" y="96"/>
                    </a:cubicBezTo>
                    <a:cubicBezTo>
                      <a:pt x="35" y="124"/>
                      <a:pt x="46" y="162"/>
                      <a:pt x="11" y="174"/>
                    </a:cubicBezTo>
                    <a:cubicBezTo>
                      <a:pt x="9" y="180"/>
                      <a:pt x="7" y="186"/>
                      <a:pt x="5" y="192"/>
                    </a:cubicBezTo>
                    <a:cubicBezTo>
                      <a:pt x="4" y="195"/>
                      <a:pt x="2" y="201"/>
                      <a:pt x="2" y="201"/>
                    </a:cubicBezTo>
                    <a:cubicBezTo>
                      <a:pt x="6" y="240"/>
                      <a:pt x="0" y="288"/>
                      <a:pt x="35" y="312"/>
                    </a:cubicBezTo>
                    <a:cubicBezTo>
                      <a:pt x="49" y="308"/>
                      <a:pt x="49" y="301"/>
                      <a:pt x="62" y="297"/>
                    </a:cubicBezTo>
                    <a:cubicBezTo>
                      <a:pt x="72" y="268"/>
                      <a:pt x="61" y="219"/>
                      <a:pt x="53" y="189"/>
                    </a:cubicBezTo>
                    <a:cubicBezTo>
                      <a:pt x="58" y="140"/>
                      <a:pt x="56" y="170"/>
                      <a:pt x="77" y="177"/>
                    </a:cubicBezTo>
                    <a:cubicBezTo>
                      <a:pt x="81" y="165"/>
                      <a:pt x="85" y="160"/>
                      <a:pt x="95" y="153"/>
                    </a:cubicBezTo>
                    <a:cubicBezTo>
                      <a:pt x="100" y="139"/>
                      <a:pt x="96" y="123"/>
                      <a:pt x="104" y="111"/>
                    </a:cubicBezTo>
                    <a:cubicBezTo>
                      <a:pt x="108" y="106"/>
                      <a:pt x="116" y="107"/>
                      <a:pt x="122" y="105"/>
                    </a:cubicBezTo>
                    <a:cubicBezTo>
                      <a:pt x="128" y="103"/>
                      <a:pt x="136" y="94"/>
                      <a:pt x="140" y="90"/>
                    </a:cubicBezTo>
                    <a:cubicBezTo>
                      <a:pt x="147" y="70"/>
                      <a:pt x="149" y="48"/>
                      <a:pt x="131" y="36"/>
                    </a:cubicBezTo>
                    <a:cubicBezTo>
                      <a:pt x="129" y="33"/>
                      <a:pt x="126" y="30"/>
                      <a:pt x="125" y="27"/>
                    </a:cubicBezTo>
                    <a:cubicBezTo>
                      <a:pt x="123" y="22"/>
                      <a:pt x="125" y="16"/>
                      <a:pt x="122" y="12"/>
                    </a:cubicBezTo>
                    <a:cubicBezTo>
                      <a:pt x="119" y="6"/>
                      <a:pt x="104" y="10"/>
                      <a:pt x="104" y="3"/>
                    </a:cubicBezTo>
                    <a:cubicBezTo>
                      <a:pt x="104" y="0"/>
                      <a:pt x="110" y="3"/>
                      <a:pt x="113" y="3"/>
                    </a:cubicBez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9525">
                <a:noFill/>
              </a:ln>
              <a:scene3d>
                <a:camera prst="legacyObliqueTopRight"/>
                <a:lightRig dir="b" rig="legacyFlat3"/>
              </a:scene3d>
              <a:sp3d extrusionH="31750" prstMaterial="legacyMatte">
                <a:bevelT prst="angle" w="13500" h="13500"/>
                <a:bevelB prst="angle" w="13500" h="13500"/>
                <a:extrusionClr>
                  <a:schemeClr val="bg1">
                    <a:lumMod val="75000"/>
                  </a:schemeClr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808080"/>
                  </a:solidFill>
                  <a:latin typeface="Calibri"/>
                </a:endParaRPr>
              </a:p>
            </p:txBody>
          </p:sp>
          <p:sp>
            <p:nvSpPr>
              <p:cNvPr id="180" name="Freeform 66"/>
              <p:cNvSpPr/>
              <p:nvPr/>
            </p:nvSpPr>
            <p:spPr>
              <a:xfrm>
                <a:off x="3503520" y="4871880"/>
                <a:ext cx="246960" cy="20952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209520"/>
                  <a:gd name="textAreaBottom" fmla="*/ 209880 h 209520"/>
                </a:gdLst>
                <a:ahLst/>
                <a:rect l="textAreaLeft" t="textAreaTop" r="textAreaRight" b="textAreaBottom"/>
                <a:pathLst>
                  <a:path w="209" h="177">
                    <a:moveTo>
                      <a:pt x="107" y="36"/>
                    </a:moveTo>
                    <a:cubicBezTo>
                      <a:pt x="88" y="31"/>
                      <a:pt x="98" y="35"/>
                      <a:pt x="77" y="21"/>
                    </a:cubicBezTo>
                    <a:cubicBezTo>
                      <a:pt x="72" y="17"/>
                      <a:pt x="59" y="15"/>
                      <a:pt x="59" y="15"/>
                    </a:cubicBezTo>
                    <a:cubicBezTo>
                      <a:pt x="48" y="4"/>
                      <a:pt x="42" y="3"/>
                      <a:pt x="26" y="0"/>
                    </a:cubicBezTo>
                    <a:cubicBezTo>
                      <a:pt x="0" y="9"/>
                      <a:pt x="33" y="28"/>
                      <a:pt x="47" y="33"/>
                    </a:cubicBezTo>
                    <a:cubicBezTo>
                      <a:pt x="55" y="45"/>
                      <a:pt x="62" y="48"/>
                      <a:pt x="74" y="54"/>
                    </a:cubicBezTo>
                    <a:cubicBezTo>
                      <a:pt x="85" y="87"/>
                      <a:pt x="67" y="38"/>
                      <a:pt x="86" y="69"/>
                    </a:cubicBezTo>
                    <a:cubicBezTo>
                      <a:pt x="93" y="81"/>
                      <a:pt x="92" y="96"/>
                      <a:pt x="98" y="108"/>
                    </a:cubicBezTo>
                    <a:cubicBezTo>
                      <a:pt x="109" y="130"/>
                      <a:pt x="135" y="143"/>
                      <a:pt x="155" y="156"/>
                    </a:cubicBezTo>
                    <a:cubicBezTo>
                      <a:pt x="165" y="171"/>
                      <a:pt x="173" y="168"/>
                      <a:pt x="191" y="171"/>
                    </a:cubicBezTo>
                    <a:cubicBezTo>
                      <a:pt x="209" y="177"/>
                      <a:pt x="206" y="155"/>
                      <a:pt x="200" y="141"/>
                    </a:cubicBezTo>
                    <a:cubicBezTo>
                      <a:pt x="197" y="134"/>
                      <a:pt x="187" y="132"/>
                      <a:pt x="182" y="126"/>
                    </a:cubicBezTo>
                    <a:cubicBezTo>
                      <a:pt x="171" y="112"/>
                      <a:pt x="169" y="102"/>
                      <a:pt x="155" y="93"/>
                    </a:cubicBezTo>
                    <a:cubicBezTo>
                      <a:pt x="143" y="74"/>
                      <a:pt x="142" y="89"/>
                      <a:pt x="125" y="63"/>
                    </a:cubicBezTo>
                    <a:cubicBezTo>
                      <a:pt x="121" y="57"/>
                      <a:pt x="117" y="51"/>
                      <a:pt x="113" y="45"/>
                    </a:cubicBezTo>
                    <a:cubicBezTo>
                      <a:pt x="111" y="42"/>
                      <a:pt x="107" y="36"/>
                      <a:pt x="107" y="36"/>
                    </a:cubicBez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9525">
                <a:noFill/>
              </a:ln>
              <a:scene3d>
                <a:camera prst="legacyObliqueTopRight"/>
                <a:lightRig dir="b" rig="legacyFlat3"/>
              </a:scene3d>
              <a:sp3d extrusionH="31750" prstMaterial="legacyMatte">
                <a:bevelT prst="angle" w="13500" h="13500"/>
                <a:bevelB prst="angle" w="13500" h="13500"/>
                <a:extrusionClr>
                  <a:schemeClr val="bg1">
                    <a:lumMod val="75000"/>
                  </a:schemeClr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808080"/>
                  </a:solidFill>
                  <a:latin typeface="Calibri"/>
                </a:endParaRPr>
              </a:p>
            </p:txBody>
          </p:sp>
          <p:sp>
            <p:nvSpPr>
              <p:cNvPr id="181" name="Freeform 67"/>
              <p:cNvSpPr/>
              <p:nvPr/>
            </p:nvSpPr>
            <p:spPr>
              <a:xfrm>
                <a:off x="3767400" y="4780440"/>
                <a:ext cx="333360" cy="382320"/>
              </a:xfrm>
              <a:custGeom>
                <a:avLst/>
                <a:gdLst>
                  <a:gd name="textAreaLeft" fmla="*/ 0 w 333360"/>
                  <a:gd name="textAreaRight" fmla="*/ 333720 w 333360"/>
                  <a:gd name="textAreaTop" fmla="*/ 0 h 382320"/>
                  <a:gd name="textAreaBottom" fmla="*/ 382680 h 382320"/>
                </a:gdLst>
                <a:ahLst/>
                <a:rect l="textAreaLeft" t="textAreaTop" r="textAreaRight" b="textAreaBottom"/>
                <a:pathLst>
                  <a:path w="282" h="324">
                    <a:moveTo>
                      <a:pt x="198" y="0"/>
                    </a:moveTo>
                    <a:cubicBezTo>
                      <a:pt x="184" y="21"/>
                      <a:pt x="188" y="11"/>
                      <a:pt x="183" y="27"/>
                    </a:cubicBezTo>
                    <a:cubicBezTo>
                      <a:pt x="190" y="49"/>
                      <a:pt x="196" y="63"/>
                      <a:pt x="168" y="57"/>
                    </a:cubicBezTo>
                    <a:cubicBezTo>
                      <a:pt x="159" y="30"/>
                      <a:pt x="140" y="75"/>
                      <a:pt x="129" y="78"/>
                    </a:cubicBezTo>
                    <a:cubicBezTo>
                      <a:pt x="114" y="82"/>
                      <a:pt x="121" y="80"/>
                      <a:pt x="108" y="84"/>
                    </a:cubicBezTo>
                    <a:cubicBezTo>
                      <a:pt x="100" y="95"/>
                      <a:pt x="98" y="104"/>
                      <a:pt x="87" y="111"/>
                    </a:cubicBezTo>
                    <a:cubicBezTo>
                      <a:pt x="80" y="122"/>
                      <a:pt x="74" y="122"/>
                      <a:pt x="63" y="129"/>
                    </a:cubicBezTo>
                    <a:cubicBezTo>
                      <a:pt x="27" y="117"/>
                      <a:pt x="32" y="135"/>
                      <a:pt x="24" y="159"/>
                    </a:cubicBezTo>
                    <a:cubicBezTo>
                      <a:pt x="29" y="194"/>
                      <a:pt x="36" y="179"/>
                      <a:pt x="66" y="189"/>
                    </a:cubicBezTo>
                    <a:cubicBezTo>
                      <a:pt x="69" y="197"/>
                      <a:pt x="80" y="208"/>
                      <a:pt x="72" y="216"/>
                    </a:cubicBezTo>
                    <a:cubicBezTo>
                      <a:pt x="67" y="221"/>
                      <a:pt x="54" y="228"/>
                      <a:pt x="54" y="228"/>
                    </a:cubicBezTo>
                    <a:cubicBezTo>
                      <a:pt x="40" y="249"/>
                      <a:pt x="44" y="239"/>
                      <a:pt x="39" y="255"/>
                    </a:cubicBezTo>
                    <a:cubicBezTo>
                      <a:pt x="14" y="247"/>
                      <a:pt x="27" y="248"/>
                      <a:pt x="0" y="252"/>
                    </a:cubicBezTo>
                    <a:cubicBezTo>
                      <a:pt x="9" y="280"/>
                      <a:pt x="6" y="278"/>
                      <a:pt x="39" y="282"/>
                    </a:cubicBezTo>
                    <a:cubicBezTo>
                      <a:pt x="52" y="286"/>
                      <a:pt x="65" y="291"/>
                      <a:pt x="78" y="294"/>
                    </a:cubicBezTo>
                    <a:cubicBezTo>
                      <a:pt x="86" y="306"/>
                      <a:pt x="87" y="319"/>
                      <a:pt x="102" y="324"/>
                    </a:cubicBezTo>
                    <a:cubicBezTo>
                      <a:pt x="119" y="307"/>
                      <a:pt x="123" y="291"/>
                      <a:pt x="102" y="273"/>
                    </a:cubicBezTo>
                    <a:cubicBezTo>
                      <a:pt x="92" y="264"/>
                      <a:pt x="82" y="264"/>
                      <a:pt x="69" y="261"/>
                    </a:cubicBezTo>
                    <a:cubicBezTo>
                      <a:pt x="63" y="259"/>
                      <a:pt x="51" y="255"/>
                      <a:pt x="51" y="255"/>
                    </a:cubicBezTo>
                    <a:cubicBezTo>
                      <a:pt x="67" y="245"/>
                      <a:pt x="66" y="225"/>
                      <a:pt x="84" y="219"/>
                    </a:cubicBezTo>
                    <a:cubicBezTo>
                      <a:pt x="92" y="220"/>
                      <a:pt x="101" y="219"/>
                      <a:pt x="108" y="222"/>
                    </a:cubicBezTo>
                    <a:cubicBezTo>
                      <a:pt x="115" y="225"/>
                      <a:pt x="113" y="235"/>
                      <a:pt x="117" y="240"/>
                    </a:cubicBezTo>
                    <a:cubicBezTo>
                      <a:pt x="121" y="245"/>
                      <a:pt x="129" y="247"/>
                      <a:pt x="135" y="249"/>
                    </a:cubicBezTo>
                    <a:cubicBezTo>
                      <a:pt x="144" y="235"/>
                      <a:pt x="147" y="226"/>
                      <a:pt x="162" y="216"/>
                    </a:cubicBezTo>
                    <a:cubicBezTo>
                      <a:pt x="170" y="204"/>
                      <a:pt x="176" y="205"/>
                      <a:pt x="189" y="201"/>
                    </a:cubicBezTo>
                    <a:cubicBezTo>
                      <a:pt x="201" y="218"/>
                      <a:pt x="196" y="238"/>
                      <a:pt x="207" y="255"/>
                    </a:cubicBezTo>
                    <a:cubicBezTo>
                      <a:pt x="226" y="249"/>
                      <a:pt x="221" y="230"/>
                      <a:pt x="237" y="219"/>
                    </a:cubicBezTo>
                    <a:cubicBezTo>
                      <a:pt x="240" y="220"/>
                      <a:pt x="244" y="220"/>
                      <a:pt x="246" y="222"/>
                    </a:cubicBezTo>
                    <a:cubicBezTo>
                      <a:pt x="248" y="224"/>
                      <a:pt x="246" y="231"/>
                      <a:pt x="249" y="231"/>
                    </a:cubicBezTo>
                    <a:cubicBezTo>
                      <a:pt x="253" y="231"/>
                      <a:pt x="257" y="215"/>
                      <a:pt x="258" y="213"/>
                    </a:cubicBezTo>
                    <a:cubicBezTo>
                      <a:pt x="262" y="183"/>
                      <a:pt x="259" y="191"/>
                      <a:pt x="282" y="183"/>
                    </a:cubicBezTo>
                    <a:cubicBezTo>
                      <a:pt x="277" y="136"/>
                      <a:pt x="274" y="150"/>
                      <a:pt x="237" y="138"/>
                    </a:cubicBezTo>
                    <a:cubicBezTo>
                      <a:pt x="228" y="139"/>
                      <a:pt x="218" y="138"/>
                      <a:pt x="210" y="141"/>
                    </a:cubicBezTo>
                    <a:cubicBezTo>
                      <a:pt x="205" y="143"/>
                      <a:pt x="203" y="171"/>
                      <a:pt x="195" y="183"/>
                    </a:cubicBezTo>
                    <a:cubicBezTo>
                      <a:pt x="187" y="182"/>
                      <a:pt x="178" y="184"/>
                      <a:pt x="171" y="180"/>
                    </a:cubicBezTo>
                    <a:cubicBezTo>
                      <a:pt x="168" y="178"/>
                      <a:pt x="172" y="173"/>
                      <a:pt x="174" y="171"/>
                    </a:cubicBezTo>
                    <a:cubicBezTo>
                      <a:pt x="180" y="164"/>
                      <a:pt x="190" y="164"/>
                      <a:pt x="198" y="162"/>
                    </a:cubicBezTo>
                    <a:cubicBezTo>
                      <a:pt x="196" y="146"/>
                      <a:pt x="197" y="129"/>
                      <a:pt x="192" y="114"/>
                    </a:cubicBezTo>
                    <a:cubicBezTo>
                      <a:pt x="190" y="108"/>
                      <a:pt x="186" y="96"/>
                      <a:pt x="186" y="96"/>
                    </a:cubicBezTo>
                    <a:cubicBezTo>
                      <a:pt x="189" y="73"/>
                      <a:pt x="197" y="49"/>
                      <a:pt x="204" y="27"/>
                    </a:cubicBezTo>
                    <a:cubicBezTo>
                      <a:pt x="200" y="10"/>
                      <a:pt x="202" y="19"/>
                      <a:pt x="198" y="0"/>
                    </a:cubicBez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9525">
                <a:noFill/>
              </a:ln>
              <a:scene3d>
                <a:camera prst="legacyObliqueTopRight"/>
                <a:lightRig dir="b" rig="legacyFlat3"/>
              </a:scene3d>
              <a:sp3d extrusionH="31750" prstMaterial="legacyMatte">
                <a:bevelT prst="angle" w="13500" h="13500"/>
                <a:bevelB prst="angle" w="13500" h="13500"/>
                <a:extrusionClr>
                  <a:schemeClr val="bg1">
                    <a:lumMod val="75000"/>
                  </a:schemeClr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808080"/>
                  </a:solidFill>
                  <a:latin typeface="Calibri"/>
                </a:endParaRPr>
              </a:p>
            </p:txBody>
          </p:sp>
          <p:sp>
            <p:nvSpPr>
              <p:cNvPr id="182" name="Freeform 68"/>
              <p:cNvSpPr/>
              <p:nvPr/>
            </p:nvSpPr>
            <p:spPr>
              <a:xfrm>
                <a:off x="4019760" y="4592520"/>
                <a:ext cx="71640" cy="135000"/>
              </a:xfrm>
              <a:custGeom>
                <a:avLst/>
                <a:gdLst>
                  <a:gd name="textAreaLeft" fmla="*/ 0 w 71640"/>
                  <a:gd name="textAreaRight" fmla="*/ 72000 w 71640"/>
                  <a:gd name="textAreaTop" fmla="*/ 0 h 135000"/>
                  <a:gd name="textAreaBottom" fmla="*/ 135360 h 135000"/>
                </a:gdLst>
                <a:ahLst/>
                <a:rect l="textAreaLeft" t="textAreaTop" r="textAreaRight" b="textAreaBottom"/>
                <a:pathLst>
                  <a:path w="61" h="114">
                    <a:moveTo>
                      <a:pt x="9" y="27"/>
                    </a:moveTo>
                    <a:cubicBezTo>
                      <a:pt x="16" y="38"/>
                      <a:pt x="19" y="37"/>
                      <a:pt x="12" y="54"/>
                    </a:cubicBezTo>
                    <a:cubicBezTo>
                      <a:pt x="9" y="61"/>
                      <a:pt x="0" y="72"/>
                      <a:pt x="0" y="72"/>
                    </a:cubicBezTo>
                    <a:cubicBezTo>
                      <a:pt x="6" y="91"/>
                      <a:pt x="30" y="99"/>
                      <a:pt x="48" y="105"/>
                    </a:cubicBezTo>
                    <a:cubicBezTo>
                      <a:pt x="50" y="108"/>
                      <a:pt x="50" y="114"/>
                      <a:pt x="54" y="114"/>
                    </a:cubicBezTo>
                    <a:cubicBezTo>
                      <a:pt x="58" y="114"/>
                      <a:pt x="61" y="109"/>
                      <a:pt x="60" y="105"/>
                    </a:cubicBezTo>
                    <a:cubicBezTo>
                      <a:pt x="59" y="101"/>
                      <a:pt x="45" y="92"/>
                      <a:pt x="42" y="90"/>
                    </a:cubicBezTo>
                    <a:cubicBezTo>
                      <a:pt x="41" y="73"/>
                      <a:pt x="50" y="0"/>
                      <a:pt x="9" y="27"/>
                    </a:cubicBez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9525">
                <a:noFill/>
              </a:ln>
              <a:scene3d>
                <a:camera prst="legacyObliqueTopRight"/>
                <a:lightRig dir="b" rig="legacyFlat3"/>
              </a:scene3d>
              <a:sp3d extrusionH="31750" prstMaterial="legacyMatte">
                <a:bevelT prst="angle" w="13500" h="13500"/>
                <a:bevelB prst="angle" w="13500" h="13500"/>
                <a:extrusionClr>
                  <a:schemeClr val="bg1">
                    <a:lumMod val="75000"/>
                  </a:schemeClr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808080"/>
                  </a:solidFill>
                  <a:latin typeface="Calibri"/>
                </a:endParaRPr>
              </a:p>
            </p:txBody>
          </p:sp>
          <p:sp>
            <p:nvSpPr>
              <p:cNvPr id="183" name="Freeform 69"/>
              <p:cNvSpPr/>
              <p:nvPr/>
            </p:nvSpPr>
            <p:spPr>
              <a:xfrm>
                <a:off x="4453920" y="3813120"/>
                <a:ext cx="57600" cy="22644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226440"/>
                  <a:gd name="textAreaBottom" fmla="*/ 226800 h 226440"/>
                </a:gdLst>
                <a:ahLst/>
                <a:rect l="textAreaLeft" t="textAreaTop" r="textAreaRight" b="textAreaBottom"/>
                <a:pathLst>
                  <a:path w="49" h="192">
                    <a:moveTo>
                      <a:pt x="31" y="0"/>
                    </a:moveTo>
                    <a:cubicBezTo>
                      <a:pt x="31" y="0"/>
                      <a:pt x="22" y="27"/>
                      <a:pt x="22" y="27"/>
                    </a:cubicBezTo>
                    <a:cubicBezTo>
                      <a:pt x="21" y="30"/>
                      <a:pt x="19" y="36"/>
                      <a:pt x="19" y="36"/>
                    </a:cubicBezTo>
                    <a:cubicBezTo>
                      <a:pt x="17" y="65"/>
                      <a:pt x="15" y="77"/>
                      <a:pt x="10" y="102"/>
                    </a:cubicBezTo>
                    <a:cubicBezTo>
                      <a:pt x="9" y="115"/>
                      <a:pt x="9" y="128"/>
                      <a:pt x="7" y="141"/>
                    </a:cubicBezTo>
                    <a:cubicBezTo>
                      <a:pt x="6" y="147"/>
                      <a:pt x="1" y="159"/>
                      <a:pt x="1" y="159"/>
                    </a:cubicBezTo>
                    <a:cubicBezTo>
                      <a:pt x="2" y="169"/>
                      <a:pt x="0" y="180"/>
                      <a:pt x="4" y="189"/>
                    </a:cubicBezTo>
                    <a:cubicBezTo>
                      <a:pt x="5" y="192"/>
                      <a:pt x="11" y="189"/>
                      <a:pt x="13" y="186"/>
                    </a:cubicBezTo>
                    <a:cubicBezTo>
                      <a:pt x="27" y="164"/>
                      <a:pt x="4" y="175"/>
                      <a:pt x="25" y="168"/>
                    </a:cubicBezTo>
                    <a:cubicBezTo>
                      <a:pt x="34" y="155"/>
                      <a:pt x="31" y="142"/>
                      <a:pt x="40" y="129"/>
                    </a:cubicBezTo>
                    <a:cubicBezTo>
                      <a:pt x="41" y="112"/>
                      <a:pt x="41" y="95"/>
                      <a:pt x="43" y="78"/>
                    </a:cubicBezTo>
                    <a:cubicBezTo>
                      <a:pt x="44" y="72"/>
                      <a:pt x="49" y="60"/>
                      <a:pt x="49" y="60"/>
                    </a:cubicBezTo>
                    <a:cubicBezTo>
                      <a:pt x="48" y="52"/>
                      <a:pt x="49" y="44"/>
                      <a:pt x="46" y="36"/>
                    </a:cubicBezTo>
                    <a:lnTo>
                      <a:pt x="31" y="0"/>
                    </a:ln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9525">
                <a:noFill/>
              </a:ln>
              <a:scene3d>
                <a:camera prst="legacyObliqueTopRight"/>
                <a:lightRig dir="b" rig="legacyFlat3"/>
              </a:scene3d>
              <a:sp3d extrusionH="31750" prstMaterial="legacyMatte">
                <a:bevelT prst="angle" w="13500" h="13500"/>
                <a:bevelB prst="angle" w="13500" h="13500"/>
                <a:extrusionClr>
                  <a:schemeClr val="bg1">
                    <a:lumMod val="75000"/>
                  </a:schemeClr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808080"/>
                  </a:solidFill>
                  <a:latin typeface="Calibri"/>
                </a:endParaRPr>
              </a:p>
            </p:txBody>
          </p:sp>
          <p:sp>
            <p:nvSpPr>
              <p:cNvPr id="184" name="Freeform 70"/>
              <p:cNvSpPr/>
              <p:nvPr/>
            </p:nvSpPr>
            <p:spPr>
              <a:xfrm>
                <a:off x="4206600" y="4051440"/>
                <a:ext cx="317880" cy="360360"/>
              </a:xfrm>
              <a:custGeom>
                <a:avLst/>
                <a:gdLst>
                  <a:gd name="textAreaLeft" fmla="*/ 0 w 317880"/>
                  <a:gd name="textAreaRight" fmla="*/ 318240 w 31788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269" h="305">
                    <a:moveTo>
                      <a:pt x="222" y="5"/>
                    </a:moveTo>
                    <a:cubicBezTo>
                      <a:pt x="217" y="8"/>
                      <a:pt x="202" y="18"/>
                      <a:pt x="195" y="23"/>
                    </a:cubicBezTo>
                    <a:cubicBezTo>
                      <a:pt x="192" y="25"/>
                      <a:pt x="186" y="29"/>
                      <a:pt x="186" y="29"/>
                    </a:cubicBezTo>
                    <a:cubicBezTo>
                      <a:pt x="178" y="52"/>
                      <a:pt x="195" y="79"/>
                      <a:pt x="171" y="95"/>
                    </a:cubicBezTo>
                    <a:cubicBezTo>
                      <a:pt x="162" y="108"/>
                      <a:pt x="159" y="129"/>
                      <a:pt x="144" y="134"/>
                    </a:cubicBezTo>
                    <a:cubicBezTo>
                      <a:pt x="139" y="142"/>
                      <a:pt x="106" y="180"/>
                      <a:pt x="99" y="182"/>
                    </a:cubicBezTo>
                    <a:cubicBezTo>
                      <a:pt x="89" y="184"/>
                      <a:pt x="79" y="184"/>
                      <a:pt x="69" y="185"/>
                    </a:cubicBezTo>
                    <a:cubicBezTo>
                      <a:pt x="62" y="206"/>
                      <a:pt x="69" y="201"/>
                      <a:pt x="54" y="206"/>
                    </a:cubicBezTo>
                    <a:cubicBezTo>
                      <a:pt x="48" y="263"/>
                      <a:pt x="50" y="242"/>
                      <a:pt x="27" y="227"/>
                    </a:cubicBezTo>
                    <a:cubicBezTo>
                      <a:pt x="12" y="249"/>
                      <a:pt x="0" y="305"/>
                      <a:pt x="36" y="296"/>
                    </a:cubicBezTo>
                    <a:cubicBezTo>
                      <a:pt x="46" y="281"/>
                      <a:pt x="44" y="265"/>
                      <a:pt x="54" y="251"/>
                    </a:cubicBezTo>
                    <a:cubicBezTo>
                      <a:pt x="59" y="252"/>
                      <a:pt x="65" y="251"/>
                      <a:pt x="69" y="254"/>
                    </a:cubicBezTo>
                    <a:cubicBezTo>
                      <a:pt x="72" y="257"/>
                      <a:pt x="68" y="268"/>
                      <a:pt x="72" y="266"/>
                    </a:cubicBezTo>
                    <a:cubicBezTo>
                      <a:pt x="88" y="259"/>
                      <a:pt x="87" y="217"/>
                      <a:pt x="108" y="203"/>
                    </a:cubicBezTo>
                    <a:cubicBezTo>
                      <a:pt x="116" y="204"/>
                      <a:pt x="125" y="202"/>
                      <a:pt x="132" y="206"/>
                    </a:cubicBezTo>
                    <a:cubicBezTo>
                      <a:pt x="135" y="208"/>
                      <a:pt x="125" y="212"/>
                      <a:pt x="126" y="215"/>
                    </a:cubicBezTo>
                    <a:cubicBezTo>
                      <a:pt x="127" y="218"/>
                      <a:pt x="132" y="217"/>
                      <a:pt x="135" y="218"/>
                    </a:cubicBezTo>
                    <a:cubicBezTo>
                      <a:pt x="148" y="210"/>
                      <a:pt x="149" y="197"/>
                      <a:pt x="162" y="188"/>
                    </a:cubicBezTo>
                    <a:cubicBezTo>
                      <a:pt x="173" y="172"/>
                      <a:pt x="189" y="180"/>
                      <a:pt x="204" y="170"/>
                    </a:cubicBezTo>
                    <a:cubicBezTo>
                      <a:pt x="217" y="131"/>
                      <a:pt x="195" y="42"/>
                      <a:pt x="252" y="23"/>
                    </a:cubicBezTo>
                    <a:cubicBezTo>
                      <a:pt x="255" y="24"/>
                      <a:pt x="258" y="27"/>
                      <a:pt x="261" y="26"/>
                    </a:cubicBezTo>
                    <a:cubicBezTo>
                      <a:pt x="264" y="25"/>
                      <a:pt x="269" y="20"/>
                      <a:pt x="267" y="17"/>
                    </a:cubicBezTo>
                    <a:cubicBezTo>
                      <a:pt x="265" y="14"/>
                      <a:pt x="222" y="0"/>
                      <a:pt x="222" y="5"/>
                    </a:cubicBez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9525">
                <a:noFill/>
              </a:ln>
              <a:scene3d>
                <a:camera prst="legacyObliqueTopRight"/>
                <a:lightRig dir="b" rig="legacyFlat3"/>
              </a:scene3d>
              <a:sp3d extrusionH="31750" prstMaterial="legacyMatte">
                <a:bevelT prst="angle" w="13500" h="13500"/>
                <a:bevelB prst="angle" w="13500" h="13500"/>
                <a:extrusionClr>
                  <a:schemeClr val="bg1">
                    <a:lumMod val="75000"/>
                  </a:schemeClr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808080"/>
                  </a:solidFill>
                  <a:latin typeface="Calibri"/>
                </a:endParaRPr>
              </a:p>
            </p:txBody>
          </p:sp>
          <p:sp>
            <p:nvSpPr>
              <p:cNvPr id="185" name="Freeform 71"/>
              <p:cNvSpPr/>
              <p:nvPr/>
            </p:nvSpPr>
            <p:spPr>
              <a:xfrm>
                <a:off x="4724280" y="5577840"/>
                <a:ext cx="212040" cy="339480"/>
              </a:xfrm>
              <a:custGeom>
                <a:avLst/>
                <a:gdLst>
                  <a:gd name="textAreaLeft" fmla="*/ 0 w 212040"/>
                  <a:gd name="textAreaRight" fmla="*/ 212400 w 21204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80" h="287">
                    <a:moveTo>
                      <a:pt x="120" y="0"/>
                    </a:moveTo>
                    <a:cubicBezTo>
                      <a:pt x="115" y="2"/>
                      <a:pt x="105" y="4"/>
                      <a:pt x="102" y="9"/>
                    </a:cubicBezTo>
                    <a:cubicBezTo>
                      <a:pt x="99" y="14"/>
                      <a:pt x="96" y="27"/>
                      <a:pt x="96" y="27"/>
                    </a:cubicBezTo>
                    <a:cubicBezTo>
                      <a:pt x="100" y="42"/>
                      <a:pt x="109" y="52"/>
                      <a:pt x="114" y="66"/>
                    </a:cubicBezTo>
                    <a:cubicBezTo>
                      <a:pt x="111" y="112"/>
                      <a:pt x="117" y="122"/>
                      <a:pt x="84" y="144"/>
                    </a:cubicBezTo>
                    <a:cubicBezTo>
                      <a:pt x="80" y="150"/>
                      <a:pt x="76" y="156"/>
                      <a:pt x="72" y="162"/>
                    </a:cubicBezTo>
                    <a:cubicBezTo>
                      <a:pt x="68" y="167"/>
                      <a:pt x="54" y="168"/>
                      <a:pt x="54" y="168"/>
                    </a:cubicBezTo>
                    <a:cubicBezTo>
                      <a:pt x="49" y="183"/>
                      <a:pt x="37" y="192"/>
                      <a:pt x="24" y="201"/>
                    </a:cubicBezTo>
                    <a:cubicBezTo>
                      <a:pt x="10" y="221"/>
                      <a:pt x="5" y="240"/>
                      <a:pt x="0" y="264"/>
                    </a:cubicBezTo>
                    <a:cubicBezTo>
                      <a:pt x="5" y="278"/>
                      <a:pt x="4" y="287"/>
                      <a:pt x="18" y="273"/>
                    </a:cubicBezTo>
                    <a:cubicBezTo>
                      <a:pt x="22" y="261"/>
                      <a:pt x="27" y="255"/>
                      <a:pt x="36" y="246"/>
                    </a:cubicBezTo>
                    <a:cubicBezTo>
                      <a:pt x="39" y="237"/>
                      <a:pt x="57" y="225"/>
                      <a:pt x="57" y="225"/>
                    </a:cubicBezTo>
                    <a:cubicBezTo>
                      <a:pt x="63" y="216"/>
                      <a:pt x="81" y="204"/>
                      <a:pt x="81" y="204"/>
                    </a:cubicBezTo>
                    <a:cubicBezTo>
                      <a:pt x="85" y="193"/>
                      <a:pt x="95" y="180"/>
                      <a:pt x="105" y="174"/>
                    </a:cubicBezTo>
                    <a:cubicBezTo>
                      <a:pt x="112" y="163"/>
                      <a:pt x="119" y="165"/>
                      <a:pt x="123" y="153"/>
                    </a:cubicBezTo>
                    <a:cubicBezTo>
                      <a:pt x="128" y="118"/>
                      <a:pt x="125" y="135"/>
                      <a:pt x="135" y="150"/>
                    </a:cubicBezTo>
                    <a:cubicBezTo>
                      <a:pt x="153" y="132"/>
                      <a:pt x="140" y="111"/>
                      <a:pt x="168" y="102"/>
                    </a:cubicBezTo>
                    <a:cubicBezTo>
                      <a:pt x="173" y="94"/>
                      <a:pt x="180" y="75"/>
                      <a:pt x="180" y="75"/>
                    </a:cubicBezTo>
                    <a:cubicBezTo>
                      <a:pt x="175" y="59"/>
                      <a:pt x="163" y="52"/>
                      <a:pt x="147" y="48"/>
                    </a:cubicBezTo>
                    <a:cubicBezTo>
                      <a:pt x="144" y="35"/>
                      <a:pt x="138" y="0"/>
                      <a:pt x="120" y="0"/>
                    </a:cubicBez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9525">
                <a:noFill/>
              </a:ln>
              <a:scene3d>
                <a:camera prst="legacyObliqueTopRight"/>
                <a:lightRig dir="b" rig="legacyFlat3"/>
              </a:scene3d>
              <a:sp3d extrusionH="31750" prstMaterial="legacyMatte">
                <a:bevelT prst="angle" w="13500" h="13500"/>
                <a:bevelB prst="angle" w="13500" h="13500"/>
                <a:extrusionClr>
                  <a:schemeClr val="bg1">
                    <a:lumMod val="75000"/>
                  </a:schemeClr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808080"/>
                  </a:solidFill>
                  <a:latin typeface="Calibri"/>
                </a:endParaRPr>
              </a:p>
            </p:txBody>
          </p:sp>
          <p:grpSp>
            <p:nvGrpSpPr>
              <p:cNvPr id="186" name="Group 72"/>
              <p:cNvGrpSpPr/>
              <p:nvPr/>
            </p:nvGrpSpPr>
            <p:grpSpPr>
              <a:xfrm>
                <a:off x="1573920" y="2831760"/>
                <a:ext cx="3761640" cy="2096280"/>
                <a:chOff x="1573920" y="2831760"/>
                <a:chExt cx="3761640" cy="2096280"/>
              </a:xfrm>
            </p:grpSpPr>
            <p:sp>
              <p:nvSpPr>
                <p:cNvPr id="187" name="Freeform 73"/>
                <p:cNvSpPr/>
                <p:nvPr/>
              </p:nvSpPr>
              <p:spPr>
                <a:xfrm>
                  <a:off x="1573920" y="2831760"/>
                  <a:ext cx="3761640" cy="2096280"/>
                </a:xfrm>
                <a:custGeom>
                  <a:avLst/>
                  <a:gdLst>
                    <a:gd name="textAreaLeft" fmla="*/ 0 w 3761640"/>
                    <a:gd name="textAreaRight" fmla="*/ 3762000 w 3761640"/>
                    <a:gd name="textAreaTop" fmla="*/ 0 h 2096280"/>
                    <a:gd name="textAreaBottom" fmla="*/ 2096640 h 2096280"/>
                  </a:gdLst>
                  <a:ahLst/>
                  <a:rect l="textAreaLeft" t="textAreaTop" r="textAreaRight" b="textAreaBottom"/>
                  <a:pathLst>
                    <a:path w="3185" h="1776">
                      <a:moveTo>
                        <a:pt x="2160" y="1134"/>
                      </a:moveTo>
                      <a:cubicBezTo>
                        <a:pt x="2177" y="1159"/>
                        <a:pt x="2179" y="1187"/>
                        <a:pt x="2196" y="1212"/>
                      </a:cubicBezTo>
                      <a:cubicBezTo>
                        <a:pt x="2182" y="1254"/>
                        <a:pt x="2165" y="1214"/>
                        <a:pt x="2178" y="1254"/>
                      </a:cubicBezTo>
                      <a:cubicBezTo>
                        <a:pt x="2180" y="1268"/>
                        <a:pt x="2172" y="1288"/>
                        <a:pt x="2184" y="1296"/>
                      </a:cubicBezTo>
                      <a:cubicBezTo>
                        <a:pt x="2194" y="1303"/>
                        <a:pt x="2208" y="1288"/>
                        <a:pt x="2220" y="1284"/>
                      </a:cubicBezTo>
                      <a:cubicBezTo>
                        <a:pt x="2226" y="1282"/>
                        <a:pt x="2238" y="1278"/>
                        <a:pt x="2238" y="1278"/>
                      </a:cubicBezTo>
                      <a:cubicBezTo>
                        <a:pt x="2249" y="1244"/>
                        <a:pt x="2251" y="1194"/>
                        <a:pt x="2214" y="1182"/>
                      </a:cubicBezTo>
                      <a:cubicBezTo>
                        <a:pt x="2212" y="1176"/>
                        <a:pt x="2204" y="1168"/>
                        <a:pt x="2208" y="1164"/>
                      </a:cubicBezTo>
                      <a:cubicBezTo>
                        <a:pt x="2217" y="1155"/>
                        <a:pt x="2244" y="1152"/>
                        <a:pt x="2244" y="1152"/>
                      </a:cubicBezTo>
                      <a:cubicBezTo>
                        <a:pt x="2246" y="1146"/>
                        <a:pt x="2246" y="1138"/>
                        <a:pt x="2250" y="1134"/>
                      </a:cubicBezTo>
                      <a:cubicBezTo>
                        <a:pt x="2254" y="1130"/>
                        <a:pt x="2265" y="1133"/>
                        <a:pt x="2268" y="1128"/>
                      </a:cubicBezTo>
                      <a:cubicBezTo>
                        <a:pt x="2274" y="1117"/>
                        <a:pt x="2267" y="1102"/>
                        <a:pt x="2274" y="1092"/>
                      </a:cubicBezTo>
                      <a:cubicBezTo>
                        <a:pt x="2282" y="1080"/>
                        <a:pt x="2298" y="1076"/>
                        <a:pt x="2310" y="1068"/>
                      </a:cubicBezTo>
                      <a:cubicBezTo>
                        <a:pt x="2316" y="1064"/>
                        <a:pt x="2328" y="1056"/>
                        <a:pt x="2328" y="1056"/>
                      </a:cubicBezTo>
                      <a:cubicBezTo>
                        <a:pt x="2346" y="1029"/>
                        <a:pt x="2360" y="1006"/>
                        <a:pt x="2382" y="984"/>
                      </a:cubicBezTo>
                      <a:cubicBezTo>
                        <a:pt x="2384" y="978"/>
                        <a:pt x="2384" y="970"/>
                        <a:pt x="2388" y="966"/>
                      </a:cubicBezTo>
                      <a:cubicBezTo>
                        <a:pt x="2392" y="962"/>
                        <a:pt x="2402" y="965"/>
                        <a:pt x="2406" y="960"/>
                      </a:cubicBezTo>
                      <a:cubicBezTo>
                        <a:pt x="2413" y="950"/>
                        <a:pt x="2418" y="924"/>
                        <a:pt x="2418" y="924"/>
                      </a:cubicBezTo>
                      <a:cubicBezTo>
                        <a:pt x="2420" y="902"/>
                        <a:pt x="2424" y="880"/>
                        <a:pt x="2424" y="858"/>
                      </a:cubicBezTo>
                      <a:cubicBezTo>
                        <a:pt x="2424" y="846"/>
                        <a:pt x="2428" y="829"/>
                        <a:pt x="2418" y="822"/>
                      </a:cubicBezTo>
                      <a:cubicBezTo>
                        <a:pt x="2401" y="811"/>
                        <a:pt x="2378" y="818"/>
                        <a:pt x="2358" y="816"/>
                      </a:cubicBezTo>
                      <a:cubicBezTo>
                        <a:pt x="2337" y="785"/>
                        <a:pt x="2353" y="790"/>
                        <a:pt x="2382" y="780"/>
                      </a:cubicBezTo>
                      <a:cubicBezTo>
                        <a:pt x="2392" y="750"/>
                        <a:pt x="2409" y="729"/>
                        <a:pt x="2430" y="708"/>
                      </a:cubicBezTo>
                      <a:cubicBezTo>
                        <a:pt x="2502" y="710"/>
                        <a:pt x="2574" y="718"/>
                        <a:pt x="2646" y="714"/>
                      </a:cubicBezTo>
                      <a:cubicBezTo>
                        <a:pt x="2661" y="713"/>
                        <a:pt x="2654" y="686"/>
                        <a:pt x="2658" y="672"/>
                      </a:cubicBezTo>
                      <a:cubicBezTo>
                        <a:pt x="2665" y="648"/>
                        <a:pt x="2677" y="644"/>
                        <a:pt x="2700" y="636"/>
                      </a:cubicBezTo>
                      <a:cubicBezTo>
                        <a:pt x="2743" y="650"/>
                        <a:pt x="2741" y="688"/>
                        <a:pt x="2700" y="702"/>
                      </a:cubicBezTo>
                      <a:cubicBezTo>
                        <a:pt x="2692" y="725"/>
                        <a:pt x="2687" y="758"/>
                        <a:pt x="2676" y="780"/>
                      </a:cubicBezTo>
                      <a:cubicBezTo>
                        <a:pt x="2653" y="827"/>
                        <a:pt x="2673" y="771"/>
                        <a:pt x="2658" y="816"/>
                      </a:cubicBezTo>
                      <a:cubicBezTo>
                        <a:pt x="2663" y="847"/>
                        <a:pt x="2665" y="863"/>
                        <a:pt x="2682" y="888"/>
                      </a:cubicBezTo>
                      <a:cubicBezTo>
                        <a:pt x="2710" y="847"/>
                        <a:pt x="2701" y="866"/>
                        <a:pt x="2712" y="834"/>
                      </a:cubicBezTo>
                      <a:cubicBezTo>
                        <a:pt x="2720" y="764"/>
                        <a:pt x="2712" y="790"/>
                        <a:pt x="2754" y="762"/>
                      </a:cubicBezTo>
                      <a:cubicBezTo>
                        <a:pt x="2762" y="738"/>
                        <a:pt x="2766" y="688"/>
                        <a:pt x="2784" y="672"/>
                      </a:cubicBezTo>
                      <a:cubicBezTo>
                        <a:pt x="2795" y="663"/>
                        <a:pt x="2808" y="656"/>
                        <a:pt x="2820" y="648"/>
                      </a:cubicBezTo>
                      <a:cubicBezTo>
                        <a:pt x="2830" y="641"/>
                        <a:pt x="2844" y="645"/>
                        <a:pt x="2856" y="642"/>
                      </a:cubicBezTo>
                      <a:cubicBezTo>
                        <a:pt x="2868" y="639"/>
                        <a:pt x="2880" y="634"/>
                        <a:pt x="2892" y="630"/>
                      </a:cubicBezTo>
                      <a:cubicBezTo>
                        <a:pt x="2898" y="628"/>
                        <a:pt x="2910" y="624"/>
                        <a:pt x="2910" y="624"/>
                      </a:cubicBezTo>
                      <a:cubicBezTo>
                        <a:pt x="2916" y="618"/>
                        <a:pt x="2921" y="611"/>
                        <a:pt x="2928" y="606"/>
                      </a:cubicBezTo>
                      <a:cubicBezTo>
                        <a:pt x="2939" y="597"/>
                        <a:pt x="2964" y="582"/>
                        <a:pt x="2964" y="582"/>
                      </a:cubicBezTo>
                      <a:cubicBezTo>
                        <a:pt x="2978" y="561"/>
                        <a:pt x="2988" y="554"/>
                        <a:pt x="3012" y="546"/>
                      </a:cubicBezTo>
                      <a:cubicBezTo>
                        <a:pt x="3025" y="507"/>
                        <a:pt x="3018" y="500"/>
                        <a:pt x="3060" y="486"/>
                      </a:cubicBezTo>
                      <a:cubicBezTo>
                        <a:pt x="3078" y="488"/>
                        <a:pt x="3097" y="486"/>
                        <a:pt x="3114" y="492"/>
                      </a:cubicBezTo>
                      <a:cubicBezTo>
                        <a:pt x="3121" y="494"/>
                        <a:pt x="3119" y="508"/>
                        <a:pt x="3126" y="510"/>
                      </a:cubicBezTo>
                      <a:cubicBezTo>
                        <a:pt x="3140" y="513"/>
                        <a:pt x="3154" y="506"/>
                        <a:pt x="3168" y="504"/>
                      </a:cubicBezTo>
                      <a:cubicBezTo>
                        <a:pt x="3172" y="498"/>
                        <a:pt x="3179" y="493"/>
                        <a:pt x="3180" y="486"/>
                      </a:cubicBezTo>
                      <a:cubicBezTo>
                        <a:pt x="3185" y="432"/>
                        <a:pt x="3161" y="439"/>
                        <a:pt x="3120" y="432"/>
                      </a:cubicBezTo>
                      <a:cubicBezTo>
                        <a:pt x="3104" y="408"/>
                        <a:pt x="3076" y="394"/>
                        <a:pt x="3054" y="372"/>
                      </a:cubicBezTo>
                      <a:cubicBezTo>
                        <a:pt x="3033" y="351"/>
                        <a:pt x="3024" y="317"/>
                        <a:pt x="2988" y="312"/>
                      </a:cubicBezTo>
                      <a:cubicBezTo>
                        <a:pt x="2954" y="307"/>
                        <a:pt x="2920" y="308"/>
                        <a:pt x="2886" y="306"/>
                      </a:cubicBezTo>
                      <a:cubicBezTo>
                        <a:pt x="2875" y="339"/>
                        <a:pt x="2897" y="327"/>
                        <a:pt x="2886" y="360"/>
                      </a:cubicBezTo>
                      <a:cubicBezTo>
                        <a:pt x="2834" y="355"/>
                        <a:pt x="2793" y="347"/>
                        <a:pt x="2742" y="354"/>
                      </a:cubicBezTo>
                      <a:cubicBezTo>
                        <a:pt x="2700" y="340"/>
                        <a:pt x="2732" y="332"/>
                        <a:pt x="2712" y="306"/>
                      </a:cubicBezTo>
                      <a:cubicBezTo>
                        <a:pt x="2697" y="288"/>
                        <a:pt x="2621" y="291"/>
                        <a:pt x="2586" y="282"/>
                      </a:cubicBezTo>
                      <a:cubicBezTo>
                        <a:pt x="2549" y="227"/>
                        <a:pt x="2530" y="229"/>
                        <a:pt x="2466" y="216"/>
                      </a:cubicBezTo>
                      <a:cubicBezTo>
                        <a:pt x="2460" y="212"/>
                        <a:pt x="2453" y="209"/>
                        <a:pt x="2448" y="204"/>
                      </a:cubicBezTo>
                      <a:cubicBezTo>
                        <a:pt x="2443" y="199"/>
                        <a:pt x="2443" y="189"/>
                        <a:pt x="2436" y="186"/>
                      </a:cubicBezTo>
                      <a:cubicBezTo>
                        <a:pt x="2428" y="183"/>
                        <a:pt x="2404" y="201"/>
                        <a:pt x="2400" y="204"/>
                      </a:cubicBezTo>
                      <a:cubicBezTo>
                        <a:pt x="2390" y="234"/>
                        <a:pt x="2379" y="224"/>
                        <a:pt x="2370" y="258"/>
                      </a:cubicBezTo>
                      <a:cubicBezTo>
                        <a:pt x="2338" y="253"/>
                        <a:pt x="2324" y="241"/>
                        <a:pt x="2298" y="258"/>
                      </a:cubicBezTo>
                      <a:cubicBezTo>
                        <a:pt x="2278" y="251"/>
                        <a:pt x="2244" y="228"/>
                        <a:pt x="2244" y="228"/>
                      </a:cubicBezTo>
                      <a:cubicBezTo>
                        <a:pt x="2237" y="208"/>
                        <a:pt x="2251" y="183"/>
                        <a:pt x="2238" y="168"/>
                      </a:cubicBezTo>
                      <a:cubicBezTo>
                        <a:pt x="2221" y="149"/>
                        <a:pt x="2205" y="145"/>
                        <a:pt x="2184" y="138"/>
                      </a:cubicBezTo>
                      <a:cubicBezTo>
                        <a:pt x="2177" y="164"/>
                        <a:pt x="2180" y="177"/>
                        <a:pt x="2154" y="186"/>
                      </a:cubicBezTo>
                      <a:cubicBezTo>
                        <a:pt x="2081" y="162"/>
                        <a:pt x="2000" y="174"/>
                        <a:pt x="1926" y="192"/>
                      </a:cubicBezTo>
                      <a:cubicBezTo>
                        <a:pt x="1898" y="211"/>
                        <a:pt x="1894" y="204"/>
                        <a:pt x="1884" y="174"/>
                      </a:cubicBezTo>
                      <a:cubicBezTo>
                        <a:pt x="1888" y="168"/>
                        <a:pt x="1890" y="161"/>
                        <a:pt x="1896" y="156"/>
                      </a:cubicBezTo>
                      <a:cubicBezTo>
                        <a:pt x="1901" y="152"/>
                        <a:pt x="1913" y="156"/>
                        <a:pt x="1914" y="150"/>
                      </a:cubicBezTo>
                      <a:cubicBezTo>
                        <a:pt x="1926" y="90"/>
                        <a:pt x="1904" y="77"/>
                        <a:pt x="1860" y="66"/>
                      </a:cubicBezTo>
                      <a:cubicBezTo>
                        <a:pt x="1847" y="0"/>
                        <a:pt x="1862" y="11"/>
                        <a:pt x="1776" y="18"/>
                      </a:cubicBezTo>
                      <a:cubicBezTo>
                        <a:pt x="1749" y="36"/>
                        <a:pt x="1761" y="49"/>
                        <a:pt x="1740" y="66"/>
                      </a:cubicBezTo>
                      <a:cubicBezTo>
                        <a:pt x="1735" y="70"/>
                        <a:pt x="1728" y="69"/>
                        <a:pt x="1722" y="72"/>
                      </a:cubicBezTo>
                      <a:cubicBezTo>
                        <a:pt x="1702" y="83"/>
                        <a:pt x="1673" y="112"/>
                        <a:pt x="1650" y="120"/>
                      </a:cubicBezTo>
                      <a:cubicBezTo>
                        <a:pt x="1625" y="128"/>
                        <a:pt x="1637" y="122"/>
                        <a:pt x="1614" y="138"/>
                      </a:cubicBezTo>
                      <a:cubicBezTo>
                        <a:pt x="1606" y="161"/>
                        <a:pt x="1591" y="166"/>
                        <a:pt x="1578" y="186"/>
                      </a:cubicBezTo>
                      <a:cubicBezTo>
                        <a:pt x="1572" y="210"/>
                        <a:pt x="1568" y="226"/>
                        <a:pt x="1554" y="246"/>
                      </a:cubicBezTo>
                      <a:cubicBezTo>
                        <a:pt x="1549" y="285"/>
                        <a:pt x="1550" y="300"/>
                        <a:pt x="1530" y="330"/>
                      </a:cubicBezTo>
                      <a:cubicBezTo>
                        <a:pt x="1498" y="309"/>
                        <a:pt x="1489" y="273"/>
                        <a:pt x="1458" y="252"/>
                      </a:cubicBezTo>
                      <a:cubicBezTo>
                        <a:pt x="1450" y="228"/>
                        <a:pt x="1443" y="218"/>
                        <a:pt x="1422" y="204"/>
                      </a:cubicBezTo>
                      <a:cubicBezTo>
                        <a:pt x="1408" y="226"/>
                        <a:pt x="1394" y="251"/>
                        <a:pt x="1386" y="276"/>
                      </a:cubicBezTo>
                      <a:cubicBezTo>
                        <a:pt x="1403" y="328"/>
                        <a:pt x="1410" y="342"/>
                        <a:pt x="1386" y="426"/>
                      </a:cubicBezTo>
                      <a:cubicBezTo>
                        <a:pt x="1382" y="438"/>
                        <a:pt x="1350" y="438"/>
                        <a:pt x="1350" y="438"/>
                      </a:cubicBezTo>
                      <a:cubicBezTo>
                        <a:pt x="1357" y="387"/>
                        <a:pt x="1363" y="338"/>
                        <a:pt x="1374" y="288"/>
                      </a:cubicBezTo>
                      <a:cubicBezTo>
                        <a:pt x="1378" y="268"/>
                        <a:pt x="1386" y="228"/>
                        <a:pt x="1386" y="228"/>
                      </a:cubicBezTo>
                      <a:cubicBezTo>
                        <a:pt x="1374" y="182"/>
                        <a:pt x="1349" y="198"/>
                        <a:pt x="1308" y="204"/>
                      </a:cubicBezTo>
                      <a:cubicBezTo>
                        <a:pt x="1281" y="244"/>
                        <a:pt x="1269" y="301"/>
                        <a:pt x="1260" y="348"/>
                      </a:cubicBezTo>
                      <a:cubicBezTo>
                        <a:pt x="1224" y="336"/>
                        <a:pt x="1236" y="328"/>
                        <a:pt x="1194" y="336"/>
                      </a:cubicBezTo>
                      <a:cubicBezTo>
                        <a:pt x="1171" y="371"/>
                        <a:pt x="1137" y="360"/>
                        <a:pt x="1104" y="378"/>
                      </a:cubicBezTo>
                      <a:cubicBezTo>
                        <a:pt x="1091" y="385"/>
                        <a:pt x="1068" y="402"/>
                        <a:pt x="1068" y="402"/>
                      </a:cubicBezTo>
                      <a:cubicBezTo>
                        <a:pt x="1066" y="396"/>
                        <a:pt x="1061" y="390"/>
                        <a:pt x="1062" y="384"/>
                      </a:cubicBezTo>
                      <a:cubicBezTo>
                        <a:pt x="1063" y="377"/>
                        <a:pt x="1077" y="372"/>
                        <a:pt x="1074" y="366"/>
                      </a:cubicBezTo>
                      <a:cubicBezTo>
                        <a:pt x="1071" y="360"/>
                        <a:pt x="1062" y="370"/>
                        <a:pt x="1056" y="372"/>
                      </a:cubicBezTo>
                      <a:cubicBezTo>
                        <a:pt x="1048" y="374"/>
                        <a:pt x="1040" y="376"/>
                        <a:pt x="1032" y="378"/>
                      </a:cubicBezTo>
                      <a:cubicBezTo>
                        <a:pt x="1022" y="409"/>
                        <a:pt x="1003" y="410"/>
                        <a:pt x="972" y="420"/>
                      </a:cubicBezTo>
                      <a:cubicBezTo>
                        <a:pt x="966" y="422"/>
                        <a:pt x="954" y="426"/>
                        <a:pt x="954" y="426"/>
                      </a:cubicBezTo>
                      <a:cubicBezTo>
                        <a:pt x="948" y="422"/>
                        <a:pt x="943" y="414"/>
                        <a:pt x="936" y="414"/>
                      </a:cubicBezTo>
                      <a:cubicBezTo>
                        <a:pt x="918" y="414"/>
                        <a:pt x="884" y="468"/>
                        <a:pt x="870" y="480"/>
                      </a:cubicBezTo>
                      <a:cubicBezTo>
                        <a:pt x="846" y="500"/>
                        <a:pt x="798" y="512"/>
                        <a:pt x="768" y="522"/>
                      </a:cubicBezTo>
                      <a:cubicBezTo>
                        <a:pt x="745" y="488"/>
                        <a:pt x="757" y="457"/>
                        <a:pt x="720" y="432"/>
                      </a:cubicBezTo>
                      <a:cubicBezTo>
                        <a:pt x="726" y="430"/>
                        <a:pt x="732" y="424"/>
                        <a:pt x="738" y="426"/>
                      </a:cubicBezTo>
                      <a:cubicBezTo>
                        <a:pt x="745" y="429"/>
                        <a:pt x="745" y="439"/>
                        <a:pt x="750" y="444"/>
                      </a:cubicBezTo>
                      <a:cubicBezTo>
                        <a:pt x="762" y="456"/>
                        <a:pt x="771" y="457"/>
                        <a:pt x="786" y="462"/>
                      </a:cubicBezTo>
                      <a:cubicBezTo>
                        <a:pt x="814" y="455"/>
                        <a:pt x="824" y="450"/>
                        <a:pt x="840" y="426"/>
                      </a:cubicBezTo>
                      <a:cubicBezTo>
                        <a:pt x="838" y="406"/>
                        <a:pt x="840" y="385"/>
                        <a:pt x="834" y="366"/>
                      </a:cubicBezTo>
                      <a:cubicBezTo>
                        <a:pt x="827" y="344"/>
                        <a:pt x="740" y="338"/>
                        <a:pt x="726" y="336"/>
                      </a:cubicBezTo>
                      <a:cubicBezTo>
                        <a:pt x="685" y="322"/>
                        <a:pt x="729" y="341"/>
                        <a:pt x="696" y="312"/>
                      </a:cubicBezTo>
                      <a:cubicBezTo>
                        <a:pt x="685" y="303"/>
                        <a:pt x="660" y="288"/>
                        <a:pt x="660" y="288"/>
                      </a:cubicBezTo>
                      <a:cubicBezTo>
                        <a:pt x="616" y="303"/>
                        <a:pt x="591" y="316"/>
                        <a:pt x="552" y="342"/>
                      </a:cubicBezTo>
                      <a:cubicBezTo>
                        <a:pt x="474" y="394"/>
                        <a:pt x="547" y="325"/>
                        <a:pt x="498" y="366"/>
                      </a:cubicBezTo>
                      <a:cubicBezTo>
                        <a:pt x="479" y="382"/>
                        <a:pt x="471" y="400"/>
                        <a:pt x="450" y="414"/>
                      </a:cubicBezTo>
                      <a:cubicBezTo>
                        <a:pt x="434" y="437"/>
                        <a:pt x="438" y="456"/>
                        <a:pt x="426" y="480"/>
                      </a:cubicBezTo>
                      <a:cubicBezTo>
                        <a:pt x="420" y="492"/>
                        <a:pt x="400" y="503"/>
                        <a:pt x="390" y="510"/>
                      </a:cubicBezTo>
                      <a:cubicBezTo>
                        <a:pt x="379" y="542"/>
                        <a:pt x="389" y="524"/>
                        <a:pt x="348" y="552"/>
                      </a:cubicBezTo>
                      <a:cubicBezTo>
                        <a:pt x="336" y="560"/>
                        <a:pt x="312" y="576"/>
                        <a:pt x="312" y="576"/>
                      </a:cubicBezTo>
                      <a:cubicBezTo>
                        <a:pt x="306" y="594"/>
                        <a:pt x="300" y="612"/>
                        <a:pt x="294" y="630"/>
                      </a:cubicBezTo>
                      <a:cubicBezTo>
                        <a:pt x="292" y="636"/>
                        <a:pt x="288" y="648"/>
                        <a:pt x="288" y="648"/>
                      </a:cubicBezTo>
                      <a:cubicBezTo>
                        <a:pt x="300" y="742"/>
                        <a:pt x="274" y="662"/>
                        <a:pt x="360" y="702"/>
                      </a:cubicBezTo>
                      <a:cubicBezTo>
                        <a:pt x="360" y="702"/>
                        <a:pt x="390" y="747"/>
                        <a:pt x="396" y="756"/>
                      </a:cubicBezTo>
                      <a:cubicBezTo>
                        <a:pt x="400" y="762"/>
                        <a:pt x="408" y="774"/>
                        <a:pt x="408" y="774"/>
                      </a:cubicBezTo>
                      <a:cubicBezTo>
                        <a:pt x="451" y="765"/>
                        <a:pt x="436" y="759"/>
                        <a:pt x="468" y="738"/>
                      </a:cubicBezTo>
                      <a:cubicBezTo>
                        <a:pt x="470" y="732"/>
                        <a:pt x="470" y="725"/>
                        <a:pt x="474" y="720"/>
                      </a:cubicBezTo>
                      <a:cubicBezTo>
                        <a:pt x="479" y="714"/>
                        <a:pt x="491" y="715"/>
                        <a:pt x="492" y="708"/>
                      </a:cubicBezTo>
                      <a:cubicBezTo>
                        <a:pt x="510" y="608"/>
                        <a:pt x="463" y="594"/>
                        <a:pt x="534" y="570"/>
                      </a:cubicBezTo>
                      <a:cubicBezTo>
                        <a:pt x="539" y="554"/>
                        <a:pt x="538" y="536"/>
                        <a:pt x="546" y="522"/>
                      </a:cubicBezTo>
                      <a:cubicBezTo>
                        <a:pt x="556" y="505"/>
                        <a:pt x="600" y="498"/>
                        <a:pt x="600" y="498"/>
                      </a:cubicBezTo>
                      <a:cubicBezTo>
                        <a:pt x="600" y="498"/>
                        <a:pt x="591" y="537"/>
                        <a:pt x="588" y="540"/>
                      </a:cubicBezTo>
                      <a:cubicBezTo>
                        <a:pt x="578" y="550"/>
                        <a:pt x="552" y="564"/>
                        <a:pt x="552" y="564"/>
                      </a:cubicBezTo>
                      <a:cubicBezTo>
                        <a:pt x="548" y="578"/>
                        <a:pt x="540" y="591"/>
                        <a:pt x="540" y="606"/>
                      </a:cubicBezTo>
                      <a:cubicBezTo>
                        <a:pt x="540" y="665"/>
                        <a:pt x="577" y="666"/>
                        <a:pt x="624" y="678"/>
                      </a:cubicBezTo>
                      <a:cubicBezTo>
                        <a:pt x="612" y="724"/>
                        <a:pt x="587" y="716"/>
                        <a:pt x="546" y="726"/>
                      </a:cubicBezTo>
                      <a:cubicBezTo>
                        <a:pt x="542" y="732"/>
                        <a:pt x="537" y="737"/>
                        <a:pt x="534" y="744"/>
                      </a:cubicBezTo>
                      <a:cubicBezTo>
                        <a:pt x="529" y="756"/>
                        <a:pt x="534" y="776"/>
                        <a:pt x="522" y="780"/>
                      </a:cubicBezTo>
                      <a:cubicBezTo>
                        <a:pt x="480" y="794"/>
                        <a:pt x="433" y="803"/>
                        <a:pt x="396" y="828"/>
                      </a:cubicBezTo>
                      <a:cubicBezTo>
                        <a:pt x="386" y="826"/>
                        <a:pt x="374" y="828"/>
                        <a:pt x="366" y="822"/>
                      </a:cubicBezTo>
                      <a:cubicBezTo>
                        <a:pt x="360" y="818"/>
                        <a:pt x="351" y="760"/>
                        <a:pt x="348" y="750"/>
                      </a:cubicBezTo>
                      <a:cubicBezTo>
                        <a:pt x="336" y="774"/>
                        <a:pt x="338" y="789"/>
                        <a:pt x="312" y="798"/>
                      </a:cubicBezTo>
                      <a:cubicBezTo>
                        <a:pt x="310" y="804"/>
                        <a:pt x="310" y="812"/>
                        <a:pt x="306" y="816"/>
                      </a:cubicBezTo>
                      <a:cubicBezTo>
                        <a:pt x="302" y="820"/>
                        <a:pt x="293" y="818"/>
                        <a:pt x="288" y="822"/>
                      </a:cubicBezTo>
                      <a:cubicBezTo>
                        <a:pt x="243" y="852"/>
                        <a:pt x="295" y="832"/>
                        <a:pt x="252" y="846"/>
                      </a:cubicBezTo>
                      <a:cubicBezTo>
                        <a:pt x="248" y="852"/>
                        <a:pt x="246" y="859"/>
                        <a:pt x="240" y="864"/>
                      </a:cubicBezTo>
                      <a:cubicBezTo>
                        <a:pt x="235" y="868"/>
                        <a:pt x="226" y="866"/>
                        <a:pt x="222" y="870"/>
                      </a:cubicBezTo>
                      <a:cubicBezTo>
                        <a:pt x="218" y="874"/>
                        <a:pt x="220" y="883"/>
                        <a:pt x="216" y="888"/>
                      </a:cubicBezTo>
                      <a:cubicBezTo>
                        <a:pt x="211" y="894"/>
                        <a:pt x="204" y="896"/>
                        <a:pt x="198" y="900"/>
                      </a:cubicBezTo>
                      <a:cubicBezTo>
                        <a:pt x="184" y="921"/>
                        <a:pt x="171" y="934"/>
                        <a:pt x="150" y="948"/>
                      </a:cubicBezTo>
                      <a:cubicBezTo>
                        <a:pt x="148" y="954"/>
                        <a:pt x="145" y="960"/>
                        <a:pt x="144" y="966"/>
                      </a:cubicBezTo>
                      <a:cubicBezTo>
                        <a:pt x="141" y="998"/>
                        <a:pt x="145" y="1031"/>
                        <a:pt x="138" y="1062"/>
                      </a:cubicBezTo>
                      <a:cubicBezTo>
                        <a:pt x="137" y="1068"/>
                        <a:pt x="126" y="1065"/>
                        <a:pt x="120" y="1068"/>
                      </a:cubicBezTo>
                      <a:cubicBezTo>
                        <a:pt x="114" y="1071"/>
                        <a:pt x="108" y="1076"/>
                        <a:pt x="102" y="1080"/>
                      </a:cubicBezTo>
                      <a:cubicBezTo>
                        <a:pt x="52" y="1074"/>
                        <a:pt x="18" y="1063"/>
                        <a:pt x="0" y="1116"/>
                      </a:cubicBezTo>
                      <a:cubicBezTo>
                        <a:pt x="2" y="1136"/>
                        <a:pt x="4" y="1156"/>
                        <a:pt x="6" y="1176"/>
                      </a:cubicBezTo>
                      <a:cubicBezTo>
                        <a:pt x="8" y="1190"/>
                        <a:pt x="1" y="1210"/>
                        <a:pt x="12" y="1218"/>
                      </a:cubicBezTo>
                      <a:cubicBezTo>
                        <a:pt x="23" y="1226"/>
                        <a:pt x="40" y="1214"/>
                        <a:pt x="54" y="1212"/>
                      </a:cubicBezTo>
                      <a:cubicBezTo>
                        <a:pt x="60" y="1210"/>
                        <a:pt x="66" y="1206"/>
                        <a:pt x="72" y="1206"/>
                      </a:cubicBezTo>
                      <a:cubicBezTo>
                        <a:pt x="84" y="1206"/>
                        <a:pt x="97" y="1217"/>
                        <a:pt x="108" y="1212"/>
                      </a:cubicBezTo>
                      <a:cubicBezTo>
                        <a:pt x="121" y="1206"/>
                        <a:pt x="124" y="1188"/>
                        <a:pt x="132" y="1176"/>
                      </a:cubicBezTo>
                      <a:cubicBezTo>
                        <a:pt x="144" y="1158"/>
                        <a:pt x="163" y="1140"/>
                        <a:pt x="180" y="1128"/>
                      </a:cubicBezTo>
                      <a:cubicBezTo>
                        <a:pt x="209" y="1084"/>
                        <a:pt x="259" y="1086"/>
                        <a:pt x="306" y="1074"/>
                      </a:cubicBezTo>
                      <a:cubicBezTo>
                        <a:pt x="319" y="1034"/>
                        <a:pt x="342" y="1076"/>
                        <a:pt x="366" y="1092"/>
                      </a:cubicBezTo>
                      <a:cubicBezTo>
                        <a:pt x="380" y="1113"/>
                        <a:pt x="377" y="1126"/>
                        <a:pt x="402" y="1134"/>
                      </a:cubicBezTo>
                      <a:cubicBezTo>
                        <a:pt x="409" y="1144"/>
                        <a:pt x="420" y="1174"/>
                        <a:pt x="432" y="1134"/>
                      </a:cubicBezTo>
                      <a:cubicBezTo>
                        <a:pt x="438" y="1113"/>
                        <a:pt x="417" y="1104"/>
                        <a:pt x="408" y="1092"/>
                      </a:cubicBezTo>
                      <a:cubicBezTo>
                        <a:pt x="399" y="1081"/>
                        <a:pt x="384" y="1056"/>
                        <a:pt x="384" y="1056"/>
                      </a:cubicBezTo>
                      <a:cubicBezTo>
                        <a:pt x="395" y="993"/>
                        <a:pt x="383" y="1030"/>
                        <a:pt x="426" y="1044"/>
                      </a:cubicBezTo>
                      <a:cubicBezTo>
                        <a:pt x="436" y="1075"/>
                        <a:pt x="455" y="1104"/>
                        <a:pt x="468" y="1134"/>
                      </a:cubicBezTo>
                      <a:cubicBezTo>
                        <a:pt x="484" y="1169"/>
                        <a:pt x="482" y="1178"/>
                        <a:pt x="510" y="1206"/>
                      </a:cubicBezTo>
                      <a:cubicBezTo>
                        <a:pt x="544" y="1195"/>
                        <a:pt x="522" y="1209"/>
                        <a:pt x="522" y="1158"/>
                      </a:cubicBezTo>
                      <a:cubicBezTo>
                        <a:pt x="522" y="1146"/>
                        <a:pt x="526" y="1134"/>
                        <a:pt x="528" y="1122"/>
                      </a:cubicBezTo>
                      <a:cubicBezTo>
                        <a:pt x="544" y="1124"/>
                        <a:pt x="562" y="1135"/>
                        <a:pt x="576" y="1128"/>
                      </a:cubicBezTo>
                      <a:cubicBezTo>
                        <a:pt x="599" y="1117"/>
                        <a:pt x="583" y="1065"/>
                        <a:pt x="600" y="1050"/>
                      </a:cubicBezTo>
                      <a:cubicBezTo>
                        <a:pt x="610" y="1042"/>
                        <a:pt x="636" y="1038"/>
                        <a:pt x="636" y="1038"/>
                      </a:cubicBezTo>
                      <a:cubicBezTo>
                        <a:pt x="650" y="1017"/>
                        <a:pt x="672" y="992"/>
                        <a:pt x="696" y="984"/>
                      </a:cubicBezTo>
                      <a:cubicBezTo>
                        <a:pt x="702" y="986"/>
                        <a:pt x="712" y="984"/>
                        <a:pt x="714" y="990"/>
                      </a:cubicBezTo>
                      <a:cubicBezTo>
                        <a:pt x="725" y="1036"/>
                        <a:pt x="683" y="1038"/>
                        <a:pt x="732" y="1026"/>
                      </a:cubicBezTo>
                      <a:cubicBezTo>
                        <a:pt x="751" y="997"/>
                        <a:pt x="757" y="1013"/>
                        <a:pt x="792" y="1020"/>
                      </a:cubicBezTo>
                      <a:cubicBezTo>
                        <a:pt x="796" y="1032"/>
                        <a:pt x="800" y="1044"/>
                        <a:pt x="804" y="1056"/>
                      </a:cubicBezTo>
                      <a:cubicBezTo>
                        <a:pt x="806" y="1062"/>
                        <a:pt x="810" y="1074"/>
                        <a:pt x="810" y="1074"/>
                      </a:cubicBezTo>
                      <a:cubicBezTo>
                        <a:pt x="778" y="1095"/>
                        <a:pt x="773" y="1092"/>
                        <a:pt x="732" y="1086"/>
                      </a:cubicBezTo>
                      <a:cubicBezTo>
                        <a:pt x="680" y="1069"/>
                        <a:pt x="651" y="1107"/>
                        <a:pt x="606" y="1122"/>
                      </a:cubicBezTo>
                      <a:cubicBezTo>
                        <a:pt x="602" y="1134"/>
                        <a:pt x="591" y="1146"/>
                        <a:pt x="594" y="1158"/>
                      </a:cubicBezTo>
                      <a:cubicBezTo>
                        <a:pt x="609" y="1216"/>
                        <a:pt x="646" y="1207"/>
                        <a:pt x="696" y="1212"/>
                      </a:cubicBezTo>
                      <a:cubicBezTo>
                        <a:pt x="689" y="1238"/>
                        <a:pt x="692" y="1251"/>
                        <a:pt x="666" y="1260"/>
                      </a:cubicBezTo>
                      <a:cubicBezTo>
                        <a:pt x="654" y="1297"/>
                        <a:pt x="657" y="1337"/>
                        <a:pt x="696" y="1350"/>
                      </a:cubicBezTo>
                      <a:cubicBezTo>
                        <a:pt x="702" y="1356"/>
                        <a:pt x="707" y="1363"/>
                        <a:pt x="714" y="1368"/>
                      </a:cubicBezTo>
                      <a:cubicBezTo>
                        <a:pt x="719" y="1372"/>
                        <a:pt x="728" y="1370"/>
                        <a:pt x="732" y="1374"/>
                      </a:cubicBezTo>
                      <a:cubicBezTo>
                        <a:pt x="757" y="1399"/>
                        <a:pt x="770" y="1434"/>
                        <a:pt x="786" y="1464"/>
                      </a:cubicBezTo>
                      <a:cubicBezTo>
                        <a:pt x="793" y="1477"/>
                        <a:pt x="802" y="1488"/>
                        <a:pt x="810" y="1500"/>
                      </a:cubicBezTo>
                      <a:cubicBezTo>
                        <a:pt x="814" y="1506"/>
                        <a:pt x="822" y="1518"/>
                        <a:pt x="822" y="1518"/>
                      </a:cubicBezTo>
                      <a:cubicBezTo>
                        <a:pt x="826" y="1562"/>
                        <a:pt x="823" y="1591"/>
                        <a:pt x="846" y="1626"/>
                      </a:cubicBezTo>
                      <a:cubicBezTo>
                        <a:pt x="904" y="1614"/>
                        <a:pt x="883" y="1593"/>
                        <a:pt x="924" y="1572"/>
                      </a:cubicBezTo>
                      <a:cubicBezTo>
                        <a:pt x="941" y="1564"/>
                        <a:pt x="969" y="1562"/>
                        <a:pt x="984" y="1560"/>
                      </a:cubicBezTo>
                      <a:cubicBezTo>
                        <a:pt x="1000" y="1549"/>
                        <a:pt x="1038" y="1536"/>
                        <a:pt x="1038" y="1536"/>
                      </a:cubicBezTo>
                      <a:cubicBezTo>
                        <a:pt x="1066" y="1508"/>
                        <a:pt x="1074" y="1450"/>
                        <a:pt x="1038" y="1422"/>
                      </a:cubicBezTo>
                      <a:cubicBezTo>
                        <a:pt x="1021" y="1408"/>
                        <a:pt x="994" y="1413"/>
                        <a:pt x="972" y="1410"/>
                      </a:cubicBezTo>
                      <a:cubicBezTo>
                        <a:pt x="947" y="1402"/>
                        <a:pt x="950" y="1389"/>
                        <a:pt x="936" y="1368"/>
                      </a:cubicBezTo>
                      <a:cubicBezTo>
                        <a:pt x="934" y="1360"/>
                        <a:pt x="927" y="1352"/>
                        <a:pt x="930" y="1344"/>
                      </a:cubicBezTo>
                      <a:cubicBezTo>
                        <a:pt x="932" y="1338"/>
                        <a:pt x="942" y="1338"/>
                        <a:pt x="948" y="1338"/>
                      </a:cubicBezTo>
                      <a:cubicBezTo>
                        <a:pt x="963" y="1338"/>
                        <a:pt x="972" y="1350"/>
                        <a:pt x="984" y="1356"/>
                      </a:cubicBezTo>
                      <a:cubicBezTo>
                        <a:pt x="1004" y="1366"/>
                        <a:pt x="1039" y="1366"/>
                        <a:pt x="1056" y="1368"/>
                      </a:cubicBezTo>
                      <a:cubicBezTo>
                        <a:pt x="1078" y="1435"/>
                        <a:pt x="1099" y="1410"/>
                        <a:pt x="1182" y="1416"/>
                      </a:cubicBezTo>
                      <a:cubicBezTo>
                        <a:pt x="1231" y="1428"/>
                        <a:pt x="1223" y="1458"/>
                        <a:pt x="1272" y="1470"/>
                      </a:cubicBezTo>
                      <a:cubicBezTo>
                        <a:pt x="1301" y="1489"/>
                        <a:pt x="1288" y="1475"/>
                        <a:pt x="1302" y="1518"/>
                      </a:cubicBezTo>
                      <a:cubicBezTo>
                        <a:pt x="1307" y="1532"/>
                        <a:pt x="1318" y="1542"/>
                        <a:pt x="1326" y="1554"/>
                      </a:cubicBezTo>
                      <a:cubicBezTo>
                        <a:pt x="1330" y="1560"/>
                        <a:pt x="1338" y="1572"/>
                        <a:pt x="1338" y="1572"/>
                      </a:cubicBezTo>
                      <a:cubicBezTo>
                        <a:pt x="1341" y="1596"/>
                        <a:pt x="1335" y="1625"/>
                        <a:pt x="1350" y="1644"/>
                      </a:cubicBezTo>
                      <a:cubicBezTo>
                        <a:pt x="1360" y="1657"/>
                        <a:pt x="1386" y="1680"/>
                        <a:pt x="1386" y="1680"/>
                      </a:cubicBezTo>
                      <a:cubicBezTo>
                        <a:pt x="1447" y="1660"/>
                        <a:pt x="1442" y="1571"/>
                        <a:pt x="1494" y="1536"/>
                      </a:cubicBezTo>
                      <a:cubicBezTo>
                        <a:pt x="1504" y="1506"/>
                        <a:pt x="1529" y="1511"/>
                        <a:pt x="1554" y="1494"/>
                      </a:cubicBezTo>
                      <a:cubicBezTo>
                        <a:pt x="1574" y="1465"/>
                        <a:pt x="1578" y="1463"/>
                        <a:pt x="1614" y="1470"/>
                      </a:cubicBezTo>
                      <a:cubicBezTo>
                        <a:pt x="1624" y="1501"/>
                        <a:pt x="1635" y="1543"/>
                        <a:pt x="1668" y="1554"/>
                      </a:cubicBezTo>
                      <a:cubicBezTo>
                        <a:pt x="1682" y="1575"/>
                        <a:pt x="1679" y="1588"/>
                        <a:pt x="1704" y="1596"/>
                      </a:cubicBezTo>
                      <a:cubicBezTo>
                        <a:pt x="1729" y="1634"/>
                        <a:pt x="1686" y="1698"/>
                        <a:pt x="1740" y="1716"/>
                      </a:cubicBezTo>
                      <a:cubicBezTo>
                        <a:pt x="1759" y="1744"/>
                        <a:pt x="1764" y="1766"/>
                        <a:pt x="1794" y="1776"/>
                      </a:cubicBezTo>
                      <a:cubicBezTo>
                        <a:pt x="1796" y="1770"/>
                        <a:pt x="1802" y="1764"/>
                        <a:pt x="1800" y="1758"/>
                      </a:cubicBezTo>
                      <a:cubicBezTo>
                        <a:pt x="1797" y="1750"/>
                        <a:pt x="1787" y="1747"/>
                        <a:pt x="1782" y="1740"/>
                      </a:cubicBezTo>
                      <a:cubicBezTo>
                        <a:pt x="1766" y="1721"/>
                        <a:pt x="1767" y="1712"/>
                        <a:pt x="1758" y="1686"/>
                      </a:cubicBezTo>
                      <a:cubicBezTo>
                        <a:pt x="1756" y="1679"/>
                        <a:pt x="1749" y="1675"/>
                        <a:pt x="1746" y="1668"/>
                      </a:cubicBezTo>
                      <a:cubicBezTo>
                        <a:pt x="1741" y="1656"/>
                        <a:pt x="1734" y="1632"/>
                        <a:pt x="1734" y="1632"/>
                      </a:cubicBezTo>
                      <a:cubicBezTo>
                        <a:pt x="1744" y="1603"/>
                        <a:pt x="1753" y="1601"/>
                        <a:pt x="1782" y="1608"/>
                      </a:cubicBezTo>
                      <a:cubicBezTo>
                        <a:pt x="1810" y="1627"/>
                        <a:pt x="1812" y="1655"/>
                        <a:pt x="1818" y="1686"/>
                      </a:cubicBezTo>
                      <a:cubicBezTo>
                        <a:pt x="1859" y="1658"/>
                        <a:pt x="1840" y="1667"/>
                        <a:pt x="1872" y="1656"/>
                      </a:cubicBezTo>
                      <a:cubicBezTo>
                        <a:pt x="1874" y="1648"/>
                        <a:pt x="1876" y="1640"/>
                        <a:pt x="1878" y="1632"/>
                      </a:cubicBezTo>
                      <a:cubicBezTo>
                        <a:pt x="1882" y="1620"/>
                        <a:pt x="1890" y="1596"/>
                        <a:pt x="1890" y="1596"/>
                      </a:cubicBezTo>
                      <a:cubicBezTo>
                        <a:pt x="1883" y="1566"/>
                        <a:pt x="1863" y="1546"/>
                        <a:pt x="1854" y="1518"/>
                      </a:cubicBezTo>
                      <a:cubicBezTo>
                        <a:pt x="1866" y="1514"/>
                        <a:pt x="1882" y="1516"/>
                        <a:pt x="1890" y="1506"/>
                      </a:cubicBezTo>
                      <a:cubicBezTo>
                        <a:pt x="1906" y="1484"/>
                        <a:pt x="1914" y="1468"/>
                        <a:pt x="1944" y="1458"/>
                      </a:cubicBezTo>
                      <a:cubicBezTo>
                        <a:pt x="1977" y="1447"/>
                        <a:pt x="2010" y="1442"/>
                        <a:pt x="2040" y="1422"/>
                      </a:cubicBezTo>
                      <a:cubicBezTo>
                        <a:pt x="2044" y="1416"/>
                        <a:pt x="2047" y="1409"/>
                        <a:pt x="2052" y="1404"/>
                      </a:cubicBezTo>
                      <a:cubicBezTo>
                        <a:pt x="2057" y="1399"/>
                        <a:pt x="2065" y="1398"/>
                        <a:pt x="2070" y="1392"/>
                      </a:cubicBezTo>
                      <a:cubicBezTo>
                        <a:pt x="2078" y="1382"/>
                        <a:pt x="2081" y="1367"/>
                        <a:pt x="2088" y="1356"/>
                      </a:cubicBezTo>
                      <a:cubicBezTo>
                        <a:pt x="2085" y="1315"/>
                        <a:pt x="2058" y="1240"/>
                        <a:pt x="2100" y="1212"/>
                      </a:cubicBezTo>
                      <a:cubicBezTo>
                        <a:pt x="2134" y="1161"/>
                        <a:pt x="2089" y="1164"/>
                        <a:pt x="2052" y="1158"/>
                      </a:cubicBezTo>
                      <a:cubicBezTo>
                        <a:pt x="2072" y="1151"/>
                        <a:pt x="2086" y="1141"/>
                        <a:pt x="2106" y="1134"/>
                      </a:cubicBezTo>
                      <a:cubicBezTo>
                        <a:pt x="2162" y="1140"/>
                        <a:pt x="2160" y="1158"/>
                        <a:pt x="2160" y="1134"/>
                      </a:cubicBezTo>
                      <a:close/>
                    </a:path>
                  </a:pathLst>
                </a:custGeom>
                <a:solidFill>
                  <a:schemeClr val="bg1">
                    <a:lumMod val="65000"/>
                  </a:schemeClr>
                </a:solidFill>
                <a:ln w="9525">
                  <a:noFill/>
                </a:ln>
                <a:scene3d>
                  <a:camera prst="legacyObliqueTopRight"/>
                  <a:lightRig dir="b" rig="legacyFlat3"/>
                </a:scene3d>
                <a:sp3d extrusionH="31750" prstMaterial="legacyMatte">
                  <a:bevelT prst="angle" w="13500" h="13500"/>
                  <a:bevelB prst="angle" w="13500" h="13500"/>
                  <a:extrusionClr>
                    <a:schemeClr val="bg1">
                      <a:lumMod val="75000"/>
                    </a:schemeClr>
                  </a:extrusionClr>
                </a:sp3d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808080"/>
                    </a:solidFill>
                    <a:latin typeface="Calibri"/>
                  </a:endParaRPr>
                </a:p>
              </p:txBody>
            </p:sp>
            <p:sp>
              <p:nvSpPr>
                <p:cNvPr id="188" name="Freeform 74"/>
                <p:cNvSpPr/>
                <p:nvPr/>
              </p:nvSpPr>
              <p:spPr>
                <a:xfrm>
                  <a:off x="4104360" y="4121280"/>
                  <a:ext cx="135360" cy="262800"/>
                </a:xfrm>
                <a:custGeom>
                  <a:avLst/>
                  <a:gdLst>
                    <a:gd name="textAreaLeft" fmla="*/ 0 w 135360"/>
                    <a:gd name="textAreaRight" fmla="*/ 135720 w 135360"/>
                    <a:gd name="textAreaTop" fmla="*/ 0 h 262800"/>
                    <a:gd name="textAreaBottom" fmla="*/ 263160 h 262800"/>
                  </a:gdLst>
                  <a:ahLst/>
                  <a:rect l="textAreaLeft" t="textAreaTop" r="textAreaRight" b="textAreaBottom"/>
                  <a:pathLst>
                    <a:path w="576" h="1117">
                      <a:moveTo>
                        <a:pt x="420" y="42"/>
                      </a:moveTo>
                      <a:cubicBezTo>
                        <a:pt x="386" y="92"/>
                        <a:pt x="330" y="118"/>
                        <a:pt x="282" y="150"/>
                      </a:cubicBezTo>
                      <a:cubicBezTo>
                        <a:pt x="275" y="201"/>
                        <a:pt x="278" y="193"/>
                        <a:pt x="234" y="204"/>
                      </a:cubicBezTo>
                      <a:cubicBezTo>
                        <a:pt x="228" y="208"/>
                        <a:pt x="221" y="211"/>
                        <a:pt x="216" y="216"/>
                      </a:cubicBezTo>
                      <a:cubicBezTo>
                        <a:pt x="211" y="221"/>
                        <a:pt x="209" y="229"/>
                        <a:pt x="204" y="234"/>
                      </a:cubicBezTo>
                      <a:cubicBezTo>
                        <a:pt x="180" y="255"/>
                        <a:pt x="157" y="262"/>
                        <a:pt x="132" y="276"/>
                      </a:cubicBezTo>
                      <a:cubicBezTo>
                        <a:pt x="77" y="306"/>
                        <a:pt x="113" y="289"/>
                        <a:pt x="78" y="318"/>
                      </a:cubicBezTo>
                      <a:cubicBezTo>
                        <a:pt x="60" y="333"/>
                        <a:pt x="12" y="342"/>
                        <a:pt x="12" y="342"/>
                      </a:cubicBezTo>
                      <a:cubicBezTo>
                        <a:pt x="6" y="360"/>
                        <a:pt x="0" y="369"/>
                        <a:pt x="12" y="390"/>
                      </a:cubicBezTo>
                      <a:cubicBezTo>
                        <a:pt x="22" y="407"/>
                        <a:pt x="66" y="414"/>
                        <a:pt x="66" y="414"/>
                      </a:cubicBezTo>
                      <a:cubicBezTo>
                        <a:pt x="84" y="432"/>
                        <a:pt x="99" y="436"/>
                        <a:pt x="120" y="450"/>
                      </a:cubicBezTo>
                      <a:cubicBezTo>
                        <a:pt x="146" y="490"/>
                        <a:pt x="141" y="488"/>
                        <a:pt x="114" y="522"/>
                      </a:cubicBezTo>
                      <a:cubicBezTo>
                        <a:pt x="105" y="533"/>
                        <a:pt x="90" y="558"/>
                        <a:pt x="90" y="558"/>
                      </a:cubicBezTo>
                      <a:cubicBezTo>
                        <a:pt x="96" y="562"/>
                        <a:pt x="102" y="567"/>
                        <a:pt x="108" y="570"/>
                      </a:cubicBezTo>
                      <a:cubicBezTo>
                        <a:pt x="114" y="573"/>
                        <a:pt x="120" y="573"/>
                        <a:pt x="126" y="576"/>
                      </a:cubicBezTo>
                      <a:cubicBezTo>
                        <a:pt x="139" y="583"/>
                        <a:pt x="162" y="600"/>
                        <a:pt x="162" y="600"/>
                      </a:cubicBezTo>
                      <a:cubicBezTo>
                        <a:pt x="173" y="616"/>
                        <a:pt x="186" y="654"/>
                        <a:pt x="186" y="654"/>
                      </a:cubicBezTo>
                      <a:cubicBezTo>
                        <a:pt x="181" y="700"/>
                        <a:pt x="189" y="723"/>
                        <a:pt x="144" y="708"/>
                      </a:cubicBezTo>
                      <a:cubicBezTo>
                        <a:pt x="107" y="720"/>
                        <a:pt x="110" y="713"/>
                        <a:pt x="132" y="786"/>
                      </a:cubicBezTo>
                      <a:cubicBezTo>
                        <a:pt x="134" y="792"/>
                        <a:pt x="144" y="789"/>
                        <a:pt x="150" y="792"/>
                      </a:cubicBezTo>
                      <a:cubicBezTo>
                        <a:pt x="163" y="799"/>
                        <a:pt x="174" y="808"/>
                        <a:pt x="186" y="816"/>
                      </a:cubicBezTo>
                      <a:cubicBezTo>
                        <a:pt x="192" y="820"/>
                        <a:pt x="204" y="828"/>
                        <a:pt x="204" y="828"/>
                      </a:cubicBezTo>
                      <a:cubicBezTo>
                        <a:pt x="200" y="886"/>
                        <a:pt x="197" y="947"/>
                        <a:pt x="174" y="1002"/>
                      </a:cubicBezTo>
                      <a:cubicBezTo>
                        <a:pt x="171" y="1009"/>
                        <a:pt x="165" y="1013"/>
                        <a:pt x="162" y="1020"/>
                      </a:cubicBezTo>
                      <a:cubicBezTo>
                        <a:pt x="157" y="1032"/>
                        <a:pt x="154" y="1044"/>
                        <a:pt x="150" y="1056"/>
                      </a:cubicBezTo>
                      <a:cubicBezTo>
                        <a:pt x="148" y="1062"/>
                        <a:pt x="144" y="1074"/>
                        <a:pt x="144" y="1074"/>
                      </a:cubicBezTo>
                      <a:cubicBezTo>
                        <a:pt x="158" y="1117"/>
                        <a:pt x="146" y="1099"/>
                        <a:pt x="234" y="1086"/>
                      </a:cubicBezTo>
                      <a:cubicBezTo>
                        <a:pt x="276" y="1080"/>
                        <a:pt x="318" y="1063"/>
                        <a:pt x="360" y="1056"/>
                      </a:cubicBezTo>
                      <a:cubicBezTo>
                        <a:pt x="385" y="1039"/>
                        <a:pt x="404" y="1023"/>
                        <a:pt x="432" y="1014"/>
                      </a:cubicBezTo>
                      <a:cubicBezTo>
                        <a:pt x="450" y="996"/>
                        <a:pt x="456" y="980"/>
                        <a:pt x="480" y="972"/>
                      </a:cubicBezTo>
                      <a:cubicBezTo>
                        <a:pt x="505" y="934"/>
                        <a:pt x="519" y="897"/>
                        <a:pt x="564" y="882"/>
                      </a:cubicBezTo>
                      <a:cubicBezTo>
                        <a:pt x="576" y="846"/>
                        <a:pt x="570" y="809"/>
                        <a:pt x="558" y="774"/>
                      </a:cubicBezTo>
                      <a:cubicBezTo>
                        <a:pt x="508" y="791"/>
                        <a:pt x="522" y="759"/>
                        <a:pt x="516" y="708"/>
                      </a:cubicBezTo>
                      <a:cubicBezTo>
                        <a:pt x="511" y="662"/>
                        <a:pt x="498" y="532"/>
                        <a:pt x="456" y="504"/>
                      </a:cubicBezTo>
                      <a:cubicBezTo>
                        <a:pt x="428" y="462"/>
                        <a:pt x="444" y="476"/>
                        <a:pt x="414" y="456"/>
                      </a:cubicBezTo>
                      <a:cubicBezTo>
                        <a:pt x="410" y="450"/>
                        <a:pt x="408" y="442"/>
                        <a:pt x="402" y="438"/>
                      </a:cubicBezTo>
                      <a:cubicBezTo>
                        <a:pt x="391" y="431"/>
                        <a:pt x="366" y="426"/>
                        <a:pt x="366" y="426"/>
                      </a:cubicBezTo>
                      <a:cubicBezTo>
                        <a:pt x="368" y="420"/>
                        <a:pt x="367" y="412"/>
                        <a:pt x="372" y="408"/>
                      </a:cubicBezTo>
                      <a:cubicBezTo>
                        <a:pt x="382" y="401"/>
                        <a:pt x="408" y="396"/>
                        <a:pt x="408" y="396"/>
                      </a:cubicBezTo>
                      <a:cubicBezTo>
                        <a:pt x="430" y="363"/>
                        <a:pt x="461" y="345"/>
                        <a:pt x="474" y="306"/>
                      </a:cubicBezTo>
                      <a:cubicBezTo>
                        <a:pt x="472" y="294"/>
                        <a:pt x="472" y="282"/>
                        <a:pt x="468" y="270"/>
                      </a:cubicBezTo>
                      <a:cubicBezTo>
                        <a:pt x="466" y="263"/>
                        <a:pt x="456" y="259"/>
                        <a:pt x="456" y="252"/>
                      </a:cubicBezTo>
                      <a:cubicBezTo>
                        <a:pt x="456" y="223"/>
                        <a:pt x="469" y="215"/>
                        <a:pt x="486" y="198"/>
                      </a:cubicBezTo>
                      <a:cubicBezTo>
                        <a:pt x="501" y="153"/>
                        <a:pt x="479" y="207"/>
                        <a:pt x="510" y="168"/>
                      </a:cubicBezTo>
                      <a:cubicBezTo>
                        <a:pt x="518" y="158"/>
                        <a:pt x="523" y="144"/>
                        <a:pt x="528" y="132"/>
                      </a:cubicBezTo>
                      <a:cubicBezTo>
                        <a:pt x="528" y="132"/>
                        <a:pt x="543" y="87"/>
                        <a:pt x="546" y="78"/>
                      </a:cubicBezTo>
                      <a:cubicBezTo>
                        <a:pt x="548" y="72"/>
                        <a:pt x="552" y="60"/>
                        <a:pt x="552" y="60"/>
                      </a:cubicBezTo>
                      <a:cubicBezTo>
                        <a:pt x="527" y="52"/>
                        <a:pt x="518" y="25"/>
                        <a:pt x="510" y="0"/>
                      </a:cubicBezTo>
                      <a:cubicBezTo>
                        <a:pt x="496" y="2"/>
                        <a:pt x="481" y="0"/>
                        <a:pt x="468" y="6"/>
                      </a:cubicBezTo>
                      <a:cubicBezTo>
                        <a:pt x="459" y="10"/>
                        <a:pt x="420" y="76"/>
                        <a:pt x="420" y="42"/>
                      </a:cubicBezTo>
                      <a:close/>
                    </a:path>
                  </a:pathLst>
                </a:custGeom>
                <a:solidFill>
                  <a:schemeClr val="bg1">
                    <a:lumMod val="65000"/>
                  </a:schemeClr>
                </a:solidFill>
                <a:ln w="9525">
                  <a:noFill/>
                </a:ln>
                <a:scene3d>
                  <a:camera prst="legacyObliqueTopRight"/>
                  <a:lightRig dir="b" rig="legacyFlat3"/>
                </a:scene3d>
                <a:sp3d extrusionH="31750" prstMaterial="legacyMatte">
                  <a:bevelT prst="angle" w="13500" h="13500"/>
                  <a:bevelB prst="angle" w="13500" h="13500"/>
                  <a:extrusionClr>
                    <a:schemeClr val="bg1">
                      <a:lumMod val="75000"/>
                    </a:schemeClr>
                  </a:extrusionClr>
                </a:sp3d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pPr>
                    <a:lnSpc>
                      <a:spcPct val="100000"/>
                    </a:lnSpc>
                  </a:pPr>
                  <a:endParaRPr b="0" lang="en-US" sz="1800" spc="-1" strike="noStrike">
                    <a:solidFill>
                      <a:srgbClr val="80808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89" name="Freeform 75"/>
              <p:cNvSpPr/>
              <p:nvPr/>
            </p:nvSpPr>
            <p:spPr>
              <a:xfrm>
                <a:off x="2492280" y="5199120"/>
                <a:ext cx="137520" cy="275400"/>
              </a:xfrm>
              <a:custGeom>
                <a:avLst/>
                <a:gdLst>
                  <a:gd name="textAreaLeft" fmla="*/ 0 w 137520"/>
                  <a:gd name="textAreaRight" fmla="*/ 137880 w 137520"/>
                  <a:gd name="textAreaTop" fmla="*/ 0 h 275400"/>
                  <a:gd name="textAreaBottom" fmla="*/ 275760 h 275400"/>
                </a:gdLst>
                <a:ahLst/>
                <a:rect l="textAreaLeft" t="textAreaTop" r="textAreaRight" b="textAreaBottom"/>
                <a:pathLst>
                  <a:path w="117" h="234">
                    <a:moveTo>
                      <a:pt x="105" y="6"/>
                    </a:moveTo>
                    <a:cubicBezTo>
                      <a:pt x="91" y="16"/>
                      <a:pt x="97" y="9"/>
                      <a:pt x="90" y="30"/>
                    </a:cubicBezTo>
                    <a:cubicBezTo>
                      <a:pt x="89" y="32"/>
                      <a:pt x="60" y="39"/>
                      <a:pt x="51" y="45"/>
                    </a:cubicBezTo>
                    <a:cubicBezTo>
                      <a:pt x="40" y="61"/>
                      <a:pt x="27" y="80"/>
                      <a:pt x="21" y="99"/>
                    </a:cubicBezTo>
                    <a:cubicBezTo>
                      <a:pt x="18" y="127"/>
                      <a:pt x="8" y="146"/>
                      <a:pt x="0" y="171"/>
                    </a:cubicBezTo>
                    <a:cubicBezTo>
                      <a:pt x="2" y="182"/>
                      <a:pt x="5" y="212"/>
                      <a:pt x="9" y="222"/>
                    </a:cubicBezTo>
                    <a:cubicBezTo>
                      <a:pt x="13" y="230"/>
                      <a:pt x="32" y="232"/>
                      <a:pt x="39" y="234"/>
                    </a:cubicBezTo>
                    <a:cubicBezTo>
                      <a:pt x="59" y="204"/>
                      <a:pt x="64" y="168"/>
                      <a:pt x="84" y="138"/>
                    </a:cubicBezTo>
                    <a:cubicBezTo>
                      <a:pt x="88" y="122"/>
                      <a:pt x="87" y="101"/>
                      <a:pt x="96" y="87"/>
                    </a:cubicBezTo>
                    <a:cubicBezTo>
                      <a:pt x="104" y="75"/>
                      <a:pt x="112" y="56"/>
                      <a:pt x="117" y="42"/>
                    </a:cubicBezTo>
                    <a:cubicBezTo>
                      <a:pt x="116" y="30"/>
                      <a:pt x="117" y="18"/>
                      <a:pt x="114" y="6"/>
                    </a:cubicBezTo>
                    <a:cubicBezTo>
                      <a:pt x="113" y="3"/>
                      <a:pt x="109" y="0"/>
                      <a:pt x="105" y="0"/>
                    </a:cubicBezTo>
                    <a:cubicBezTo>
                      <a:pt x="103" y="0"/>
                      <a:pt x="105" y="4"/>
                      <a:pt x="105" y="6"/>
                    </a:cubicBezTo>
                    <a:close/>
                  </a:path>
                </a:pathLst>
              </a:custGeom>
              <a:solidFill>
                <a:schemeClr val="bg1">
                  <a:lumMod val="65000"/>
                </a:schemeClr>
              </a:solidFill>
              <a:ln w="9525">
                <a:noFill/>
              </a:ln>
              <a:scene3d>
                <a:camera prst="legacyObliqueTopRight"/>
                <a:lightRig dir="b" rig="legacyFlat3"/>
              </a:scene3d>
              <a:sp3d extrusionH="31750" prstMaterial="legacyMatte">
                <a:bevelT prst="angle" w="13500" h="13500"/>
                <a:bevelB prst="angle" w="13500" h="13500"/>
                <a:extrusionClr>
                  <a:schemeClr val="bg1">
                    <a:lumMod val="75000"/>
                  </a:schemeClr>
                </a:extrusionClr>
              </a:sp3d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rgbClr val="808080"/>
                  </a:solidFill>
                  <a:latin typeface="Calibri"/>
                </a:endParaRPr>
              </a:p>
            </p:txBody>
          </p:sp>
        </p:grpSp>
        <p:sp>
          <p:nvSpPr>
            <p:cNvPr id="190" name="Freeform 76"/>
            <p:cNvSpPr/>
            <p:nvPr/>
          </p:nvSpPr>
          <p:spPr>
            <a:xfrm>
              <a:off x="6543000" y="2967120"/>
              <a:ext cx="119520" cy="16200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101" h="138">
                  <a:moveTo>
                    <a:pt x="53" y="0"/>
                  </a:moveTo>
                  <a:cubicBezTo>
                    <a:pt x="45" y="25"/>
                    <a:pt x="46" y="39"/>
                    <a:pt x="23" y="54"/>
                  </a:cubicBezTo>
                  <a:cubicBezTo>
                    <a:pt x="0" y="88"/>
                    <a:pt x="21" y="125"/>
                    <a:pt x="59" y="138"/>
                  </a:cubicBezTo>
                  <a:cubicBezTo>
                    <a:pt x="86" y="111"/>
                    <a:pt x="93" y="92"/>
                    <a:pt x="101" y="54"/>
                  </a:cubicBezTo>
                  <a:cubicBezTo>
                    <a:pt x="94" y="34"/>
                    <a:pt x="98" y="33"/>
                    <a:pt x="77" y="24"/>
                  </a:cubicBezTo>
                  <a:cubicBezTo>
                    <a:pt x="39" y="7"/>
                    <a:pt x="31" y="22"/>
                    <a:pt x="53" y="0"/>
                  </a:cubicBezTo>
                  <a:close/>
                </a:path>
              </a:pathLst>
            </a:custGeom>
            <a:solidFill>
              <a:schemeClr val="bg1">
                <a:lumMod val="65000"/>
              </a:schemeClr>
            </a:solidFill>
            <a:ln w="9525">
              <a:noFill/>
            </a:ln>
            <a:scene3d>
              <a:camera prst="legacyObliqueTopRight"/>
              <a:lightRig dir="b" rig="legacyFlat3"/>
            </a:scene3d>
            <a:sp3d extrusionH="31750" prstMaterial="legacyMatte">
              <a:bevelT prst="angle" w="13500" h="13500"/>
              <a:bevelB prst="angle" w="13500" h="13500"/>
              <a:extrusionClr>
                <a:schemeClr val="bg1">
                  <a:lumMod val="75000"/>
                </a:schemeClr>
              </a:extrusionClr>
            </a:sp3d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808080"/>
                </a:solidFill>
                <a:latin typeface="Calibri"/>
              </a:endParaRPr>
            </a:p>
          </p:txBody>
        </p:sp>
      </p:grpSp>
      <p:sp>
        <p:nvSpPr>
          <p:cNvPr id="191" name="Freeform 79"/>
          <p:cNvSpPr/>
          <p:nvPr/>
        </p:nvSpPr>
        <p:spPr>
          <a:xfrm>
            <a:off x="5341320" y="3279600"/>
            <a:ext cx="2188800" cy="2295000"/>
          </a:xfrm>
          <a:custGeom>
            <a:avLst/>
            <a:gdLst>
              <a:gd name="textAreaLeft" fmla="*/ 0 w 2188800"/>
              <a:gd name="textAreaRight" fmla="*/ 2189160 w 2188800"/>
              <a:gd name="textAreaTop" fmla="*/ 0 h 2295000"/>
              <a:gd name="textAreaBottom" fmla="*/ 2295360 h 2295000"/>
            </a:gdLst>
            <a:ahLst/>
            <a:rect l="textAreaLeft" t="textAreaTop" r="textAreaRight" b="textAreaBottom"/>
            <a:pathLst>
              <a:path w="1504" h="1578">
                <a:moveTo>
                  <a:pt x="39" y="0"/>
                </a:moveTo>
                <a:cubicBezTo>
                  <a:pt x="10" y="43"/>
                  <a:pt x="6" y="31"/>
                  <a:pt x="33" y="72"/>
                </a:cubicBezTo>
                <a:cubicBezTo>
                  <a:pt x="28" y="99"/>
                  <a:pt x="24" y="124"/>
                  <a:pt x="15" y="150"/>
                </a:cubicBezTo>
                <a:cubicBezTo>
                  <a:pt x="18" y="171"/>
                  <a:pt x="21" y="204"/>
                  <a:pt x="33" y="204"/>
                </a:cubicBezTo>
                <a:cubicBezTo>
                  <a:pt x="39" y="204"/>
                  <a:pt x="35" y="191"/>
                  <a:pt x="39" y="186"/>
                </a:cubicBezTo>
                <a:cubicBezTo>
                  <a:pt x="44" y="180"/>
                  <a:pt x="51" y="178"/>
                  <a:pt x="57" y="174"/>
                </a:cubicBezTo>
                <a:cubicBezTo>
                  <a:pt x="102" y="189"/>
                  <a:pt x="66" y="231"/>
                  <a:pt x="39" y="240"/>
                </a:cubicBezTo>
                <a:cubicBezTo>
                  <a:pt x="0" y="298"/>
                  <a:pt x="52" y="340"/>
                  <a:pt x="81" y="384"/>
                </a:cubicBezTo>
                <a:cubicBezTo>
                  <a:pt x="89" y="360"/>
                  <a:pt x="93" y="350"/>
                  <a:pt x="117" y="342"/>
                </a:cubicBezTo>
                <a:cubicBezTo>
                  <a:pt x="141" y="378"/>
                  <a:pt x="104" y="383"/>
                  <a:pt x="141" y="408"/>
                </a:cubicBezTo>
                <a:cubicBezTo>
                  <a:pt x="184" y="394"/>
                  <a:pt x="170" y="381"/>
                  <a:pt x="201" y="360"/>
                </a:cubicBezTo>
                <a:cubicBezTo>
                  <a:pt x="209" y="337"/>
                  <a:pt x="224" y="332"/>
                  <a:pt x="237" y="312"/>
                </a:cubicBezTo>
                <a:cubicBezTo>
                  <a:pt x="240" y="295"/>
                  <a:pt x="250" y="243"/>
                  <a:pt x="267" y="294"/>
                </a:cubicBezTo>
                <a:cubicBezTo>
                  <a:pt x="254" y="344"/>
                  <a:pt x="297" y="323"/>
                  <a:pt x="339" y="318"/>
                </a:cubicBezTo>
                <a:cubicBezTo>
                  <a:pt x="373" y="309"/>
                  <a:pt x="394" y="289"/>
                  <a:pt x="417" y="324"/>
                </a:cubicBezTo>
                <a:cubicBezTo>
                  <a:pt x="419" y="332"/>
                  <a:pt x="418" y="342"/>
                  <a:pt x="423" y="348"/>
                </a:cubicBezTo>
                <a:cubicBezTo>
                  <a:pt x="427" y="353"/>
                  <a:pt x="436" y="350"/>
                  <a:pt x="441" y="354"/>
                </a:cubicBezTo>
                <a:cubicBezTo>
                  <a:pt x="463" y="372"/>
                  <a:pt x="455" y="379"/>
                  <a:pt x="489" y="390"/>
                </a:cubicBezTo>
                <a:cubicBezTo>
                  <a:pt x="495" y="396"/>
                  <a:pt x="500" y="403"/>
                  <a:pt x="507" y="408"/>
                </a:cubicBezTo>
                <a:cubicBezTo>
                  <a:pt x="512" y="412"/>
                  <a:pt x="521" y="410"/>
                  <a:pt x="525" y="414"/>
                </a:cubicBezTo>
                <a:cubicBezTo>
                  <a:pt x="546" y="435"/>
                  <a:pt x="513" y="431"/>
                  <a:pt x="543" y="450"/>
                </a:cubicBezTo>
                <a:cubicBezTo>
                  <a:pt x="554" y="457"/>
                  <a:pt x="579" y="462"/>
                  <a:pt x="579" y="462"/>
                </a:cubicBezTo>
                <a:cubicBezTo>
                  <a:pt x="587" y="485"/>
                  <a:pt x="588" y="495"/>
                  <a:pt x="609" y="516"/>
                </a:cubicBezTo>
                <a:cubicBezTo>
                  <a:pt x="621" y="528"/>
                  <a:pt x="645" y="552"/>
                  <a:pt x="645" y="552"/>
                </a:cubicBezTo>
                <a:cubicBezTo>
                  <a:pt x="657" y="587"/>
                  <a:pt x="642" y="555"/>
                  <a:pt x="669" y="582"/>
                </a:cubicBezTo>
                <a:cubicBezTo>
                  <a:pt x="690" y="603"/>
                  <a:pt x="677" y="611"/>
                  <a:pt x="705" y="630"/>
                </a:cubicBezTo>
                <a:cubicBezTo>
                  <a:pt x="726" y="694"/>
                  <a:pt x="689" y="763"/>
                  <a:pt x="711" y="828"/>
                </a:cubicBezTo>
                <a:cubicBezTo>
                  <a:pt x="716" y="843"/>
                  <a:pt x="735" y="848"/>
                  <a:pt x="747" y="858"/>
                </a:cubicBezTo>
                <a:cubicBezTo>
                  <a:pt x="758" y="867"/>
                  <a:pt x="783" y="882"/>
                  <a:pt x="783" y="882"/>
                </a:cubicBezTo>
                <a:cubicBezTo>
                  <a:pt x="796" y="922"/>
                  <a:pt x="824" y="958"/>
                  <a:pt x="849" y="990"/>
                </a:cubicBezTo>
                <a:cubicBezTo>
                  <a:pt x="870" y="1018"/>
                  <a:pt x="875" y="1038"/>
                  <a:pt x="903" y="1056"/>
                </a:cubicBezTo>
                <a:cubicBezTo>
                  <a:pt x="925" y="1089"/>
                  <a:pt x="927" y="1098"/>
                  <a:pt x="963" y="1110"/>
                </a:cubicBezTo>
                <a:cubicBezTo>
                  <a:pt x="950" y="1090"/>
                  <a:pt x="915" y="1056"/>
                  <a:pt x="915" y="1056"/>
                </a:cubicBezTo>
                <a:cubicBezTo>
                  <a:pt x="913" y="1050"/>
                  <a:pt x="911" y="1044"/>
                  <a:pt x="909" y="1038"/>
                </a:cubicBezTo>
                <a:cubicBezTo>
                  <a:pt x="907" y="1030"/>
                  <a:pt x="905" y="1022"/>
                  <a:pt x="903" y="1014"/>
                </a:cubicBezTo>
                <a:cubicBezTo>
                  <a:pt x="899" y="1002"/>
                  <a:pt x="891" y="978"/>
                  <a:pt x="891" y="978"/>
                </a:cubicBezTo>
                <a:cubicBezTo>
                  <a:pt x="893" y="970"/>
                  <a:pt x="889" y="957"/>
                  <a:pt x="897" y="954"/>
                </a:cubicBezTo>
                <a:cubicBezTo>
                  <a:pt x="904" y="952"/>
                  <a:pt x="906" y="966"/>
                  <a:pt x="909" y="972"/>
                </a:cubicBezTo>
                <a:cubicBezTo>
                  <a:pt x="923" y="1001"/>
                  <a:pt x="903" y="982"/>
                  <a:pt x="933" y="1002"/>
                </a:cubicBezTo>
                <a:cubicBezTo>
                  <a:pt x="944" y="1034"/>
                  <a:pt x="935" y="1015"/>
                  <a:pt x="963" y="1056"/>
                </a:cubicBezTo>
                <a:cubicBezTo>
                  <a:pt x="971" y="1068"/>
                  <a:pt x="999" y="1080"/>
                  <a:pt x="999" y="1080"/>
                </a:cubicBezTo>
                <a:cubicBezTo>
                  <a:pt x="1007" y="1092"/>
                  <a:pt x="1018" y="1102"/>
                  <a:pt x="1023" y="1116"/>
                </a:cubicBezTo>
                <a:cubicBezTo>
                  <a:pt x="1030" y="1138"/>
                  <a:pt x="1029" y="1164"/>
                  <a:pt x="1047" y="1182"/>
                </a:cubicBezTo>
                <a:cubicBezTo>
                  <a:pt x="1068" y="1203"/>
                  <a:pt x="1110" y="1203"/>
                  <a:pt x="1137" y="1212"/>
                </a:cubicBezTo>
                <a:cubicBezTo>
                  <a:pt x="1198" y="1232"/>
                  <a:pt x="1256" y="1264"/>
                  <a:pt x="1317" y="1284"/>
                </a:cubicBezTo>
                <a:cubicBezTo>
                  <a:pt x="1336" y="1303"/>
                  <a:pt x="1364" y="1315"/>
                  <a:pt x="1389" y="1326"/>
                </a:cubicBezTo>
                <a:cubicBezTo>
                  <a:pt x="1401" y="1331"/>
                  <a:pt x="1425" y="1338"/>
                  <a:pt x="1425" y="1338"/>
                </a:cubicBezTo>
                <a:cubicBezTo>
                  <a:pt x="1433" y="1350"/>
                  <a:pt x="1441" y="1362"/>
                  <a:pt x="1449" y="1374"/>
                </a:cubicBezTo>
                <a:cubicBezTo>
                  <a:pt x="1458" y="1388"/>
                  <a:pt x="1497" y="1386"/>
                  <a:pt x="1497" y="1386"/>
                </a:cubicBezTo>
                <a:cubicBezTo>
                  <a:pt x="1504" y="1412"/>
                  <a:pt x="1503" y="1424"/>
                  <a:pt x="1485" y="1446"/>
                </a:cubicBezTo>
                <a:cubicBezTo>
                  <a:pt x="1480" y="1453"/>
                  <a:pt x="1472" y="1457"/>
                  <a:pt x="1467" y="1464"/>
                </a:cubicBezTo>
                <a:cubicBezTo>
                  <a:pt x="1462" y="1470"/>
                  <a:pt x="1455" y="1489"/>
                  <a:pt x="1455" y="1482"/>
                </a:cubicBezTo>
                <a:cubicBezTo>
                  <a:pt x="1455" y="1457"/>
                  <a:pt x="1469" y="1457"/>
                  <a:pt x="1485" y="1452"/>
                </a:cubicBezTo>
                <a:cubicBezTo>
                  <a:pt x="1480" y="1490"/>
                  <a:pt x="1473" y="1524"/>
                  <a:pt x="1461" y="1560"/>
                </a:cubicBezTo>
                <a:cubicBezTo>
                  <a:pt x="1471" y="1562"/>
                  <a:pt x="1485" y="1558"/>
                  <a:pt x="1491" y="1566"/>
                </a:cubicBezTo>
                <a:cubicBezTo>
                  <a:pt x="1495" y="1572"/>
                  <a:pt x="1473" y="1578"/>
                  <a:pt x="1473" y="1578"/>
                </a:cubicBezTo>
              </a:path>
            </a:pathLst>
          </a:cu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Freeform 80"/>
          <p:cNvSpPr/>
          <p:nvPr/>
        </p:nvSpPr>
        <p:spPr>
          <a:xfrm>
            <a:off x="5352120" y="3182760"/>
            <a:ext cx="2414160" cy="3126960"/>
          </a:xfrm>
          <a:custGeom>
            <a:avLst/>
            <a:gdLst>
              <a:gd name="textAreaLeft" fmla="*/ 0 w 2414160"/>
              <a:gd name="textAreaRight" fmla="*/ 2414520 w 2414160"/>
              <a:gd name="textAreaTop" fmla="*/ 0 h 3126960"/>
              <a:gd name="textAreaBottom" fmla="*/ 3127320 h 3126960"/>
            </a:gdLst>
            <a:ahLst/>
            <a:rect l="textAreaLeft" t="textAreaTop" r="textAreaRight" b="textAreaBottom"/>
            <a:pathLst>
              <a:path w="1658" h="2148">
                <a:moveTo>
                  <a:pt x="133" y="0"/>
                </a:moveTo>
                <a:cubicBezTo>
                  <a:pt x="107" y="4"/>
                  <a:pt x="91" y="0"/>
                  <a:pt x="73" y="18"/>
                </a:cubicBezTo>
                <a:cubicBezTo>
                  <a:pt x="59" y="32"/>
                  <a:pt x="68" y="66"/>
                  <a:pt x="49" y="72"/>
                </a:cubicBezTo>
                <a:cubicBezTo>
                  <a:pt x="24" y="80"/>
                  <a:pt x="36" y="74"/>
                  <a:pt x="13" y="90"/>
                </a:cubicBezTo>
                <a:cubicBezTo>
                  <a:pt x="3" y="120"/>
                  <a:pt x="20" y="119"/>
                  <a:pt x="37" y="144"/>
                </a:cubicBezTo>
                <a:cubicBezTo>
                  <a:pt x="0" y="181"/>
                  <a:pt x="7" y="179"/>
                  <a:pt x="13" y="240"/>
                </a:cubicBezTo>
                <a:cubicBezTo>
                  <a:pt x="19" y="238"/>
                  <a:pt x="27" y="238"/>
                  <a:pt x="31" y="234"/>
                </a:cubicBezTo>
                <a:cubicBezTo>
                  <a:pt x="49" y="216"/>
                  <a:pt x="20" y="205"/>
                  <a:pt x="55" y="228"/>
                </a:cubicBezTo>
                <a:cubicBezTo>
                  <a:pt x="60" y="242"/>
                  <a:pt x="59" y="307"/>
                  <a:pt x="43" y="312"/>
                </a:cubicBezTo>
                <a:cubicBezTo>
                  <a:pt x="31" y="316"/>
                  <a:pt x="7" y="324"/>
                  <a:pt x="7" y="324"/>
                </a:cubicBezTo>
                <a:cubicBezTo>
                  <a:pt x="9" y="342"/>
                  <a:pt x="7" y="361"/>
                  <a:pt x="13" y="378"/>
                </a:cubicBezTo>
                <a:cubicBezTo>
                  <a:pt x="18" y="393"/>
                  <a:pt x="37" y="400"/>
                  <a:pt x="43" y="414"/>
                </a:cubicBezTo>
                <a:cubicBezTo>
                  <a:pt x="48" y="426"/>
                  <a:pt x="55" y="450"/>
                  <a:pt x="55" y="450"/>
                </a:cubicBezTo>
                <a:cubicBezTo>
                  <a:pt x="103" y="418"/>
                  <a:pt x="77" y="424"/>
                  <a:pt x="133" y="432"/>
                </a:cubicBezTo>
                <a:cubicBezTo>
                  <a:pt x="117" y="480"/>
                  <a:pt x="133" y="466"/>
                  <a:pt x="85" y="474"/>
                </a:cubicBezTo>
                <a:cubicBezTo>
                  <a:pt x="87" y="482"/>
                  <a:pt x="85" y="492"/>
                  <a:pt x="91" y="498"/>
                </a:cubicBezTo>
                <a:cubicBezTo>
                  <a:pt x="122" y="529"/>
                  <a:pt x="123" y="473"/>
                  <a:pt x="139" y="468"/>
                </a:cubicBezTo>
                <a:cubicBezTo>
                  <a:pt x="167" y="459"/>
                  <a:pt x="151" y="463"/>
                  <a:pt x="187" y="456"/>
                </a:cubicBezTo>
                <a:cubicBezTo>
                  <a:pt x="203" y="431"/>
                  <a:pt x="219" y="395"/>
                  <a:pt x="229" y="366"/>
                </a:cubicBezTo>
                <a:cubicBezTo>
                  <a:pt x="235" y="370"/>
                  <a:pt x="243" y="372"/>
                  <a:pt x="247" y="378"/>
                </a:cubicBezTo>
                <a:cubicBezTo>
                  <a:pt x="252" y="387"/>
                  <a:pt x="245" y="402"/>
                  <a:pt x="253" y="408"/>
                </a:cubicBezTo>
                <a:cubicBezTo>
                  <a:pt x="259" y="412"/>
                  <a:pt x="265" y="399"/>
                  <a:pt x="271" y="396"/>
                </a:cubicBezTo>
                <a:cubicBezTo>
                  <a:pt x="277" y="393"/>
                  <a:pt x="283" y="392"/>
                  <a:pt x="289" y="390"/>
                </a:cubicBezTo>
                <a:cubicBezTo>
                  <a:pt x="321" y="392"/>
                  <a:pt x="354" y="389"/>
                  <a:pt x="385" y="396"/>
                </a:cubicBezTo>
                <a:cubicBezTo>
                  <a:pt x="385" y="396"/>
                  <a:pt x="430" y="426"/>
                  <a:pt x="439" y="432"/>
                </a:cubicBezTo>
                <a:cubicBezTo>
                  <a:pt x="445" y="436"/>
                  <a:pt x="457" y="444"/>
                  <a:pt x="457" y="444"/>
                </a:cubicBezTo>
                <a:cubicBezTo>
                  <a:pt x="461" y="450"/>
                  <a:pt x="464" y="457"/>
                  <a:pt x="469" y="462"/>
                </a:cubicBezTo>
                <a:cubicBezTo>
                  <a:pt x="480" y="471"/>
                  <a:pt x="505" y="486"/>
                  <a:pt x="505" y="486"/>
                </a:cubicBezTo>
                <a:cubicBezTo>
                  <a:pt x="517" y="521"/>
                  <a:pt x="502" y="489"/>
                  <a:pt x="529" y="516"/>
                </a:cubicBezTo>
                <a:cubicBezTo>
                  <a:pt x="546" y="533"/>
                  <a:pt x="548" y="559"/>
                  <a:pt x="565" y="576"/>
                </a:cubicBezTo>
                <a:cubicBezTo>
                  <a:pt x="592" y="603"/>
                  <a:pt x="629" y="627"/>
                  <a:pt x="661" y="648"/>
                </a:cubicBezTo>
                <a:cubicBezTo>
                  <a:pt x="664" y="685"/>
                  <a:pt x="663" y="725"/>
                  <a:pt x="673" y="762"/>
                </a:cubicBezTo>
                <a:cubicBezTo>
                  <a:pt x="676" y="774"/>
                  <a:pt x="685" y="798"/>
                  <a:pt x="685" y="798"/>
                </a:cubicBezTo>
                <a:cubicBezTo>
                  <a:pt x="693" y="923"/>
                  <a:pt x="676" y="872"/>
                  <a:pt x="745" y="918"/>
                </a:cubicBezTo>
                <a:cubicBezTo>
                  <a:pt x="776" y="965"/>
                  <a:pt x="803" y="1015"/>
                  <a:pt x="835" y="1062"/>
                </a:cubicBezTo>
                <a:cubicBezTo>
                  <a:pt x="849" y="1082"/>
                  <a:pt x="853" y="1102"/>
                  <a:pt x="877" y="1110"/>
                </a:cubicBezTo>
                <a:cubicBezTo>
                  <a:pt x="887" y="1141"/>
                  <a:pt x="904" y="1158"/>
                  <a:pt x="931" y="1176"/>
                </a:cubicBezTo>
                <a:cubicBezTo>
                  <a:pt x="924" y="1148"/>
                  <a:pt x="925" y="1138"/>
                  <a:pt x="901" y="1122"/>
                </a:cubicBezTo>
                <a:cubicBezTo>
                  <a:pt x="900" y="1118"/>
                  <a:pt x="883" y="1069"/>
                  <a:pt x="883" y="1068"/>
                </a:cubicBezTo>
                <a:cubicBezTo>
                  <a:pt x="881" y="1062"/>
                  <a:pt x="877" y="1050"/>
                  <a:pt x="877" y="1050"/>
                </a:cubicBezTo>
                <a:cubicBezTo>
                  <a:pt x="921" y="1020"/>
                  <a:pt x="925" y="1077"/>
                  <a:pt x="943" y="1104"/>
                </a:cubicBezTo>
                <a:cubicBezTo>
                  <a:pt x="952" y="1117"/>
                  <a:pt x="964" y="1127"/>
                  <a:pt x="973" y="1140"/>
                </a:cubicBezTo>
                <a:cubicBezTo>
                  <a:pt x="982" y="1176"/>
                  <a:pt x="983" y="1172"/>
                  <a:pt x="1003" y="1200"/>
                </a:cubicBezTo>
                <a:cubicBezTo>
                  <a:pt x="1028" y="1235"/>
                  <a:pt x="1010" y="1244"/>
                  <a:pt x="1057" y="1260"/>
                </a:cubicBezTo>
                <a:cubicBezTo>
                  <a:pt x="1087" y="1290"/>
                  <a:pt x="1116" y="1297"/>
                  <a:pt x="1159" y="1302"/>
                </a:cubicBezTo>
                <a:cubicBezTo>
                  <a:pt x="1236" y="1328"/>
                  <a:pt x="1307" y="1366"/>
                  <a:pt x="1381" y="1398"/>
                </a:cubicBezTo>
                <a:cubicBezTo>
                  <a:pt x="1424" y="1416"/>
                  <a:pt x="1431" y="1439"/>
                  <a:pt x="1483" y="1452"/>
                </a:cubicBezTo>
                <a:cubicBezTo>
                  <a:pt x="1497" y="1493"/>
                  <a:pt x="1474" y="1526"/>
                  <a:pt x="1441" y="1548"/>
                </a:cubicBezTo>
                <a:cubicBezTo>
                  <a:pt x="1431" y="1579"/>
                  <a:pt x="1426" y="1586"/>
                  <a:pt x="1441" y="1632"/>
                </a:cubicBezTo>
                <a:cubicBezTo>
                  <a:pt x="1443" y="1638"/>
                  <a:pt x="1453" y="1635"/>
                  <a:pt x="1459" y="1638"/>
                </a:cubicBezTo>
                <a:cubicBezTo>
                  <a:pt x="1465" y="1641"/>
                  <a:pt x="1471" y="1646"/>
                  <a:pt x="1477" y="1650"/>
                </a:cubicBezTo>
                <a:cubicBezTo>
                  <a:pt x="1500" y="1684"/>
                  <a:pt x="1519" y="1722"/>
                  <a:pt x="1537" y="1758"/>
                </a:cubicBezTo>
                <a:cubicBezTo>
                  <a:pt x="1544" y="1771"/>
                  <a:pt x="1543" y="1810"/>
                  <a:pt x="1555" y="1818"/>
                </a:cubicBezTo>
                <a:cubicBezTo>
                  <a:pt x="1565" y="1825"/>
                  <a:pt x="1579" y="1826"/>
                  <a:pt x="1591" y="1830"/>
                </a:cubicBezTo>
                <a:cubicBezTo>
                  <a:pt x="1597" y="1832"/>
                  <a:pt x="1609" y="1836"/>
                  <a:pt x="1609" y="1836"/>
                </a:cubicBezTo>
                <a:cubicBezTo>
                  <a:pt x="1646" y="1891"/>
                  <a:pt x="1624" y="1960"/>
                  <a:pt x="1645" y="2022"/>
                </a:cubicBezTo>
                <a:cubicBezTo>
                  <a:pt x="1647" y="2046"/>
                  <a:pt x="1648" y="2070"/>
                  <a:pt x="1651" y="2094"/>
                </a:cubicBezTo>
                <a:cubicBezTo>
                  <a:pt x="1652" y="2104"/>
                  <a:pt x="1658" y="2114"/>
                  <a:pt x="1657" y="2124"/>
                </a:cubicBezTo>
                <a:cubicBezTo>
                  <a:pt x="1655" y="2137"/>
                  <a:pt x="1627" y="2148"/>
                  <a:pt x="1627" y="2148"/>
                </a:cubicBezTo>
              </a:path>
            </a:pathLst>
          </a:cu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Arc 82"/>
          <p:cNvSpPr/>
          <p:nvPr/>
        </p:nvSpPr>
        <p:spPr>
          <a:xfrm flipV="1" rot="10601400">
            <a:off x="4036320" y="3364560"/>
            <a:ext cx="2311200" cy="674280"/>
          </a:xfrm>
          <a:custGeom>
            <a:avLst/>
            <a:gdLst>
              <a:gd name="textAreaLeft" fmla="*/ 0 w 2311200"/>
              <a:gd name="textAreaRight" fmla="*/ 2311560 w 2311200"/>
              <a:gd name="textAreaTop" fmla="*/ -360 h 674280"/>
              <a:gd name="textAreaBottom" fmla="*/ 674280 h 674280"/>
            </a:gdLst>
            <a:ahLst/>
            <a:rect l="textAreaLeft" t="textAreaTop" r="textAreaRight" b="textAreaBottom"/>
            <a:pathLst>
              <a:path fill="none" w="33762" h="21600">
                <a:moveTo>
                  <a:pt x="0" y="5363"/>
                </a:moveTo>
                <a:cubicBezTo>
                  <a:pt x="3940" y="1906"/>
                  <a:pt x="9003" y="-1"/>
                  <a:pt x="14245" y="0"/>
                </a:cubicBezTo>
                <a:cubicBezTo>
                  <a:pt x="22589" y="0"/>
                  <a:pt x="30187" y="4806"/>
                  <a:pt x="33762" y="12345"/>
                </a:cubicBezTo>
              </a:path>
              <a:path stroke="0" w="33762" h="21600">
                <a:moveTo>
                  <a:pt x="0" y="5363"/>
                </a:moveTo>
                <a:cubicBezTo>
                  <a:pt x="3940" y="1906"/>
                  <a:pt x="9003" y="-1"/>
                  <a:pt x="14245" y="0"/>
                </a:cubicBezTo>
                <a:cubicBezTo>
                  <a:pt x="22589" y="0"/>
                  <a:pt x="30187" y="4806"/>
                  <a:pt x="33762" y="12345"/>
                </a:cubicBezTo>
                <a:lnTo>
                  <a:pt x="14245" y="21600"/>
                </a:lnTo>
                <a:close/>
              </a:path>
            </a:pathLst>
          </a:custGeom>
          <a:noFill/>
          <a:ln w="28575">
            <a:solidFill>
              <a:srgbClr val="93d502"/>
            </a:solidFill>
            <a:round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Arc 83"/>
          <p:cNvSpPr/>
          <p:nvPr/>
        </p:nvSpPr>
        <p:spPr>
          <a:xfrm flipV="1" rot="12027000">
            <a:off x="3981240" y="3762000"/>
            <a:ext cx="3622320" cy="1324440"/>
          </a:xfrm>
          <a:custGeom>
            <a:avLst/>
            <a:gdLst>
              <a:gd name="textAreaLeft" fmla="*/ 0 w 3622320"/>
              <a:gd name="textAreaRight" fmla="*/ 3622680 w 3622320"/>
              <a:gd name="textAreaTop" fmla="*/ -360 h 1324440"/>
              <a:gd name="textAreaBottom" fmla="*/ 1324440 h 1324440"/>
            </a:gdLst>
            <a:ahLst/>
            <a:rect l="textAreaLeft" t="textAreaTop" r="textAreaRight" b="textAreaBottom"/>
            <a:pathLst>
              <a:path fill="none" w="39693" h="21600">
                <a:moveTo>
                  <a:pt x="0" y="13887"/>
                </a:moveTo>
                <a:cubicBezTo>
                  <a:pt x="3197" y="5523"/>
                  <a:pt x="11222" y="-1"/>
                  <a:pt x="20176" y="0"/>
                </a:cubicBezTo>
                <a:cubicBezTo>
                  <a:pt x="28520" y="0"/>
                  <a:pt x="36118" y="4806"/>
                  <a:pt x="39693" y="12345"/>
                </a:cubicBezTo>
              </a:path>
              <a:path stroke="0" w="39693" h="21600">
                <a:moveTo>
                  <a:pt x="0" y="13887"/>
                </a:moveTo>
                <a:cubicBezTo>
                  <a:pt x="3197" y="5523"/>
                  <a:pt x="11222" y="-1"/>
                  <a:pt x="20176" y="0"/>
                </a:cubicBezTo>
                <a:cubicBezTo>
                  <a:pt x="28520" y="0"/>
                  <a:pt x="36118" y="4806"/>
                  <a:pt x="39693" y="12345"/>
                </a:cubicBezTo>
                <a:lnTo>
                  <a:pt x="20176" y="21600"/>
                </a:lnTo>
                <a:close/>
              </a:path>
            </a:pathLst>
          </a:custGeom>
          <a:noFill/>
          <a:ln w="28575">
            <a:solidFill>
              <a:srgbClr val="93d502"/>
            </a:solidFill>
            <a:round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Arc 86"/>
          <p:cNvSpPr/>
          <p:nvPr/>
        </p:nvSpPr>
        <p:spPr>
          <a:xfrm flipH="1" flipV="1" rot="9222000">
            <a:off x="1800000" y="3795480"/>
            <a:ext cx="2287080" cy="897480"/>
          </a:xfrm>
          <a:custGeom>
            <a:avLst/>
            <a:gdLst>
              <a:gd name="textAreaLeft" fmla="*/ -360 w 2287080"/>
              <a:gd name="textAreaRight" fmla="*/ 2287080 w 2287080"/>
              <a:gd name="textAreaTop" fmla="*/ -360 h 897480"/>
              <a:gd name="textAreaBottom" fmla="*/ 897480 h 897480"/>
            </a:gdLst>
            <a:ahLst/>
            <a:rect l="textAreaLeft" t="textAreaTop" r="textAreaRight" b="textAreaBottom"/>
            <a:pathLst>
              <a:path fill="none" w="33762" h="21600">
                <a:moveTo>
                  <a:pt x="0" y="5363"/>
                </a:moveTo>
                <a:cubicBezTo>
                  <a:pt x="3940" y="1906"/>
                  <a:pt x="9003" y="-1"/>
                  <a:pt x="14245" y="0"/>
                </a:cubicBezTo>
                <a:cubicBezTo>
                  <a:pt x="22589" y="0"/>
                  <a:pt x="30187" y="4806"/>
                  <a:pt x="33762" y="12345"/>
                </a:cubicBezTo>
              </a:path>
              <a:path stroke="0" w="33762" h="21600">
                <a:moveTo>
                  <a:pt x="0" y="5363"/>
                </a:moveTo>
                <a:cubicBezTo>
                  <a:pt x="3940" y="1906"/>
                  <a:pt x="9003" y="-1"/>
                  <a:pt x="14245" y="0"/>
                </a:cubicBezTo>
                <a:cubicBezTo>
                  <a:pt x="22589" y="0"/>
                  <a:pt x="30187" y="4806"/>
                  <a:pt x="33762" y="12345"/>
                </a:cubicBezTo>
                <a:lnTo>
                  <a:pt x="14245" y="21600"/>
                </a:lnTo>
                <a:close/>
              </a:path>
            </a:pathLst>
          </a:custGeom>
          <a:noFill/>
          <a:ln w="28575">
            <a:solidFill>
              <a:srgbClr val="93d502"/>
            </a:solidFill>
            <a:round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Arc 89"/>
          <p:cNvSpPr/>
          <p:nvPr/>
        </p:nvSpPr>
        <p:spPr>
          <a:xfrm flipH="1" flipV="1" rot="3938400">
            <a:off x="3544560" y="4097880"/>
            <a:ext cx="1435680" cy="876240"/>
          </a:xfrm>
          <a:custGeom>
            <a:avLst/>
            <a:gdLst>
              <a:gd name="textAreaLeft" fmla="*/ 360 w 1435680"/>
              <a:gd name="textAreaRight" fmla="*/ 1436400 w 1435680"/>
              <a:gd name="textAreaTop" fmla="*/ 360 h 876240"/>
              <a:gd name="textAreaBottom" fmla="*/ 876960 h 876240"/>
            </a:gdLst>
            <a:ahLst/>
            <a:rect l="textAreaLeft" t="textAreaTop" r="textAreaRight" b="textAreaBottom"/>
            <a:pathLst>
              <a:path fill="none" w="24410" h="21600">
                <a:moveTo>
                  <a:pt x="-1" y="561"/>
                </a:moveTo>
                <a:cubicBezTo>
                  <a:pt x="1604" y="188"/>
                  <a:pt x="3245" y="-1"/>
                  <a:pt x="4893" y="0"/>
                </a:cubicBezTo>
                <a:cubicBezTo>
                  <a:pt x="13237" y="0"/>
                  <a:pt x="20835" y="4806"/>
                  <a:pt x="24410" y="12345"/>
                </a:cubicBezTo>
              </a:path>
              <a:path stroke="0" w="24410" h="21600">
                <a:moveTo>
                  <a:pt x="-1" y="561"/>
                </a:moveTo>
                <a:cubicBezTo>
                  <a:pt x="1604" y="188"/>
                  <a:pt x="3245" y="-1"/>
                  <a:pt x="4893" y="0"/>
                </a:cubicBezTo>
                <a:cubicBezTo>
                  <a:pt x="13237" y="0"/>
                  <a:pt x="20835" y="4806"/>
                  <a:pt x="24410" y="12345"/>
                </a:cubicBezTo>
                <a:lnTo>
                  <a:pt x="4893" y="21600"/>
                </a:lnTo>
                <a:close/>
              </a:path>
            </a:pathLst>
          </a:custGeom>
          <a:noFill/>
          <a:ln w="28575">
            <a:solidFill>
              <a:srgbClr val="93d502"/>
            </a:solidFill>
            <a:round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102"/>
          <p:cNvSpPr/>
          <p:nvPr/>
        </p:nvSpPr>
        <p:spPr>
          <a:xfrm>
            <a:off x="3635280" y="5918040"/>
            <a:ext cx="766440" cy="2721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  <a:ea typeface="Gulim"/>
              </a:rPr>
              <a:t>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77"/>
          <p:cNvSpPr/>
          <p:nvPr/>
        </p:nvSpPr>
        <p:spPr>
          <a:xfrm>
            <a:off x="3783240" y="3657600"/>
            <a:ext cx="463320" cy="463320"/>
          </a:xfrm>
          <a:prstGeom prst="ellipse">
            <a:avLst/>
          </a:prstGeom>
          <a:solidFill>
            <a:srgbClr val="93d502">
              <a:alpha val="50000"/>
            </a:srgbClr>
          </a:solidFill>
          <a:ln w="1905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480960" y="61092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113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幻灯片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背景图片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动态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通用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ppt 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设计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模板素材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毕业答辩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文化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月工作总结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精品ppt模板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课件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中国风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活动策划方案ppt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ingxiao/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ppt免费下载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工业制造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会议报告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交通安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教育培训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卡通动漫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体育运动ppt模板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  <Words>645</Words>
  <Paragraphs>5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2T14:47:08Z</dcterms:created>
  <dc:creator>czysp</dc:creator>
  <dc:description/>
  <dc:language>en-US</dc:language>
  <cp:lastModifiedBy>yu wang</cp:lastModifiedBy>
  <dcterms:modified xsi:type="dcterms:W3CDTF">2015-08-08T10:02:52Z</dcterms:modified>
  <cp:revision>3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6</vt:r8>
  </property>
</Properties>
</file>