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2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7358040" y="5357520"/>
            <a:ext cx="857160" cy="1500120"/>
            <a:chOff x="7358040" y="5357520"/>
            <a:chExt cx="857160" cy="1500120"/>
          </a:xfrm>
        </p:grpSpPr>
        <p:pic>
          <p:nvPicPr>
            <p:cNvPr id="3" name="Picture 2" descr="C:\Documents and Settings\wwj\My Documents\My Pictures\ppt素材\水墨鱼正文.jpg"/>
            <p:cNvPicPr/>
            <p:nvPr/>
          </p:nvPicPr>
          <p:blipFill>
            <a:blip r:embed="rId3"/>
            <a:srcRect l="3125" t="58794" r="85159" b="14845"/>
            <a:stretch/>
          </p:blipFill>
          <p:spPr>
            <a:xfrm flipH="1" rot="10800000">
              <a:off x="7358040" y="5584680"/>
              <a:ext cx="666720" cy="12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2" descr="C:\Documents and Settings\wwj\My Documents\My Pictures\ppt素材\水墨鱼正文.jpg"/>
            <p:cNvPicPr/>
            <p:nvPr/>
          </p:nvPicPr>
          <p:blipFill>
            <a:blip r:embed="rId4"/>
            <a:srcRect l="3125" t="58794" r="81810" b="32979"/>
            <a:stretch/>
          </p:blipFill>
          <p:spPr>
            <a:xfrm flipH="1" rot="10800000">
              <a:off x="7358040" y="6429240"/>
              <a:ext cx="85716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" descr="C:\Documents and Settings\wwj\My Documents\My Pictures\ppt素材\水墨鱼正文.jpg"/>
            <p:cNvPicPr/>
            <p:nvPr/>
          </p:nvPicPr>
          <p:blipFill>
            <a:blip r:embed="rId5"/>
            <a:srcRect l="6054" t="57816" r="85159" b="9962"/>
            <a:stretch/>
          </p:blipFill>
          <p:spPr>
            <a:xfrm flipH="1" rot="10800000">
              <a:off x="7524720" y="5357520"/>
              <a:ext cx="50004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" name="Group 8"/>
          <p:cNvGrpSpPr/>
          <p:nvPr/>
        </p:nvGrpSpPr>
        <p:grpSpPr>
          <a:xfrm>
            <a:off x="8143560" y="0"/>
            <a:ext cx="785880" cy="1500120"/>
            <a:chOff x="8143560" y="0"/>
            <a:chExt cx="785880" cy="1500120"/>
          </a:xfrm>
        </p:grpSpPr>
        <p:pic>
          <p:nvPicPr>
            <p:cNvPr id="7" name="Picture 2" descr="C:\Documents and Settings\wwj\My Documents\My Pictures\ppt素材\水墨鱼正文.jpg"/>
            <p:cNvPicPr/>
            <p:nvPr/>
          </p:nvPicPr>
          <p:blipFill>
            <a:blip r:embed="rId6"/>
            <a:srcRect l="3125" t="58794" r="85159" b="14845"/>
            <a:stretch/>
          </p:blipFill>
          <p:spPr>
            <a:xfrm flipH="1">
              <a:off x="8262360" y="45360"/>
              <a:ext cx="667080" cy="12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" descr="C:\Documents and Settings\wwj\My Documents\My Pictures\ppt素材\水墨鱼正文.jpg"/>
            <p:cNvPicPr/>
            <p:nvPr/>
          </p:nvPicPr>
          <p:blipFill>
            <a:blip r:embed="rId7"/>
            <a:srcRect l="3125" t="57816" r="83064" b="32422"/>
            <a:stretch/>
          </p:blipFill>
          <p:spPr>
            <a:xfrm flipH="1">
              <a:off x="8143560" y="0"/>
              <a:ext cx="78588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" descr="C:\Documents and Settings\wwj\My Documents\My Pictures\ppt素材\水墨鱼正文.jpg"/>
            <p:cNvPicPr/>
            <p:nvPr/>
          </p:nvPicPr>
          <p:blipFill>
            <a:blip r:embed="rId8"/>
            <a:srcRect l="6054" t="57816" r="85159" b="9962"/>
            <a:stretch/>
          </p:blipFill>
          <p:spPr>
            <a:xfrm flipH="1">
              <a:off x="8262720" y="0"/>
              <a:ext cx="50004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" name="Group 12"/>
          <p:cNvGrpSpPr/>
          <p:nvPr/>
        </p:nvGrpSpPr>
        <p:grpSpPr>
          <a:xfrm>
            <a:off x="1911240" y="712800"/>
            <a:ext cx="446040" cy="233280"/>
            <a:chOff x="1911240" y="712800"/>
            <a:chExt cx="446040" cy="233280"/>
          </a:xfrm>
        </p:grpSpPr>
        <p:pic>
          <p:nvPicPr>
            <p:cNvPr id="11" name="Picture 2" descr="C:\Documents and Settings\wwj\My Documents\My Pictures\ppt素材\水墨鱼正文.jpg"/>
            <p:cNvPicPr/>
            <p:nvPr/>
          </p:nvPicPr>
          <p:blipFill>
            <a:blip r:embed="rId9"/>
            <a:srcRect l="3128" t="58804" r="85167" b="14850"/>
            <a:stretch/>
          </p:blipFill>
          <p:spPr>
            <a:xfrm flipH="1" rot="16200000">
              <a:off x="2008080" y="629280"/>
              <a:ext cx="19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2" descr="C:\Documents and Settings\wwj\My Documents\My Pictures\ppt素材\水墨鱼正文.jpg"/>
            <p:cNvPicPr/>
            <p:nvPr/>
          </p:nvPicPr>
          <p:blipFill>
            <a:blip r:embed="rId10"/>
            <a:srcRect l="3128" t="57841" r="83082" b="32432"/>
            <a:stretch/>
          </p:blipFill>
          <p:spPr>
            <a:xfrm flipH="1" rot="16200000">
              <a:off x="1861920" y="761760"/>
              <a:ext cx="233280" cy="1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2" descr="C:\Documents and Settings\wwj\My Documents\My Pictures\ppt素材\水墨鱼正文.jpg"/>
            <p:cNvPicPr/>
            <p:nvPr/>
          </p:nvPicPr>
          <p:blipFill>
            <a:blip r:embed="rId11"/>
            <a:srcRect l="6065" t="57815" r="85167" b="9961"/>
            <a:stretch/>
          </p:blipFill>
          <p:spPr>
            <a:xfrm flipH="1" rot="16200000">
              <a:off x="2059920" y="613080"/>
              <a:ext cx="14832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" name="Group 16"/>
          <p:cNvGrpSpPr/>
          <p:nvPr/>
        </p:nvGrpSpPr>
        <p:grpSpPr>
          <a:xfrm>
            <a:off x="6857640" y="713880"/>
            <a:ext cx="446040" cy="233640"/>
            <a:chOff x="6857640" y="713880"/>
            <a:chExt cx="446040" cy="233640"/>
          </a:xfrm>
        </p:grpSpPr>
        <p:pic>
          <p:nvPicPr>
            <p:cNvPr id="15" name="Picture 2" descr="C:\Documents and Settings\wwj\My Documents\My Pictures\ppt素材\水墨鱼正文.jpg"/>
            <p:cNvPicPr/>
            <p:nvPr/>
          </p:nvPicPr>
          <p:blipFill>
            <a:blip r:embed="rId12"/>
            <a:srcRect l="3128" t="58804" r="85167" b="14850"/>
            <a:stretch/>
          </p:blipFill>
          <p:spPr>
            <a:xfrm flipH="1" rot="5400000">
              <a:off x="7008480" y="665640"/>
              <a:ext cx="19836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Picture 2" descr="C:\Documents and Settings\wwj\My Documents\My Pictures\ppt素材\水墨鱼正文.jpg"/>
            <p:cNvPicPr/>
            <p:nvPr/>
          </p:nvPicPr>
          <p:blipFill>
            <a:blip r:embed="rId13"/>
            <a:srcRect l="3128" t="57841" r="83082" b="32432"/>
            <a:stretch/>
          </p:blipFill>
          <p:spPr>
            <a:xfrm flipH="1" rot="5400000">
              <a:off x="7119360" y="763200"/>
              <a:ext cx="233640" cy="1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Picture 2" descr="C:\Documents and Settings\wwj\My Documents\My Pictures\ppt素材\水墨鱼正文.jpg"/>
            <p:cNvPicPr/>
            <p:nvPr/>
          </p:nvPicPr>
          <p:blipFill>
            <a:blip r:embed="rId14"/>
            <a:srcRect l="6065" t="57815" r="85167" b="9961"/>
            <a:stretch/>
          </p:blipFill>
          <p:spPr>
            <a:xfrm flipH="1" rot="5400000">
              <a:off x="7006320" y="600840"/>
              <a:ext cx="148680" cy="446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C:\Documents and Settings\wwj\My Documents\My Pictures\ppt素材\水墨鱼封面.jpg"/>
          <p:cNvPicPr/>
          <p:nvPr/>
        </p:nvPicPr>
        <p:blipFill>
          <a:blip r:embed="rId3"/>
          <a:srcRect l="0" t="30211" r="72658" b="37500"/>
          <a:stretch/>
        </p:blipFill>
        <p:spPr>
          <a:xfrm>
            <a:off x="0" y="2071800"/>
            <a:ext cx="2500200" cy="2214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2249640" y="4857840"/>
            <a:ext cx="46796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  <a:ea typeface="华文新魏"/>
              </a:rPr>
              <a:t>Your  nam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714760" y="2786040"/>
            <a:ext cx="36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Bradley Hand ITC"/>
              </a:rPr>
              <a:t>Title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1993680" y="1557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水墨金鱼中国风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99800" y="1117080"/>
            <a:ext cx="5286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99800" y="142560"/>
            <a:ext cx="5286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99800" y="1117080"/>
            <a:ext cx="5286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9800" y="142560"/>
            <a:ext cx="5286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54:53Z</dcterms:created>
  <dc:creator>FEI</dc:creator>
  <dc:description/>
  <cp:keywords/>
  <dc:language>en-US</dc:language>
  <cp:lastModifiedBy>yu wang</cp:lastModifiedBy>
  <dcterms:modified xsi:type="dcterms:W3CDTF">2015-08-08T10:02:25Z</dcterms:modified>
  <cp:revision>47</cp:revision>
  <dc:subject/>
  <dc:title>上海诺睿网络信息科技有限公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