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237-FE56-47B6-B5E3-EA0B2A28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B65-82A3-4295-BDDE-769E9B1E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40A-A046-4AD8-AA29-7A9F11F0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D78-5F88-4365-B603-8C859A88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B2F2-F38C-4AF2-8BE7-18B10179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655A-FC87-4A91-A664-F3CD2988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B326-6C71-4CC7-9A8F-9A0EDF72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C5D-4B2F-4904-B901-69DD708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F4FE-D353-4CE0-B0D6-2E854455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C3CE-5BAC-439E-BD3C-E110934B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A88-C108-489A-B46D-33ACA734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BAA-C3D7-4B38-BEB8-3322D4A3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9508-4B55-4581-84C2-40F7596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F8E0-AF53-4ACA-9934-6FDA76BD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1C9-E852-4C68-8417-83CF2EC7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BACA-AF2D-4119-BBA5-F39B8DA6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A282-80CC-4416-AC0E-953566EE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2B8-D0D4-4EB4-971E-0063D94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B35-C00D-4ADF-BF1C-5E2EDB7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869-B883-45A5-B017-013D94F6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AD9-B10E-4B93-BFBE-CE9D345B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7FD-4626-42FF-BC58-56210955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D42-6B9D-47DD-B5CC-30440E3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426-EFEA-4F81-BAB2-9BFC4C5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4DDB-B69A-4E50-A8DE-AA9094A67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8"/>
          <p:cNvGraphicFramePr/>
          <p:nvPr/>
        </p:nvGraphicFramePr>
        <p:xfrm>
          <a:off x="0" y="-1440"/>
          <a:ext cx="990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A97D-2739-4F16-9E85-8D36B8AB1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그림 81" descr="BG_004.jpg"/>
          <p:cNvPicPr/>
          <p:nvPr/>
        </p:nvPicPr>
        <p:blipFill>
          <a:blip r:embed="rId1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2133720" y="836640"/>
            <a:ext cx="56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时尚女孩简洁</a:t>
            </a:r>
            <a:r>
              <a:rPr b="0" lang="en-US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37"/>
          <p:cNvGrpSpPr/>
          <p:nvPr/>
        </p:nvGrpSpPr>
        <p:grpSpPr>
          <a:xfrm>
            <a:off x="2286000" y="2725560"/>
            <a:ext cx="5547600" cy="432000"/>
            <a:chOff x="2286000" y="2725560"/>
            <a:chExt cx="5547600" cy="432000"/>
          </a:xfrm>
        </p:grpSpPr>
        <p:sp>
          <p:nvSpPr>
            <p:cNvPr id="88" name="AutoShape 38"/>
            <p:cNvSpPr/>
            <p:nvPr/>
          </p:nvSpPr>
          <p:spPr>
            <a:xfrm>
              <a:off x="2286000" y="27255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AutoShape 39"/>
            <p:cNvSpPr/>
            <p:nvPr/>
          </p:nvSpPr>
          <p:spPr>
            <a:xfrm>
              <a:off x="2395800" y="272988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0" name="Text Box 23"/>
          <p:cNvSpPr/>
          <p:nvPr/>
        </p:nvSpPr>
        <p:spPr>
          <a:xfrm>
            <a:off x="3189240" y="27432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300400" y="27432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1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2" name="Group 112"/>
          <p:cNvGrpSpPr/>
          <p:nvPr/>
        </p:nvGrpSpPr>
        <p:grpSpPr>
          <a:xfrm>
            <a:off x="2286000" y="3335400"/>
            <a:ext cx="5547600" cy="431640"/>
            <a:chOff x="2286000" y="3335400"/>
            <a:chExt cx="5547600" cy="431640"/>
          </a:xfrm>
        </p:grpSpPr>
        <p:sp>
          <p:nvSpPr>
            <p:cNvPr id="93" name="AutoShape 113"/>
            <p:cNvSpPr/>
            <p:nvPr/>
          </p:nvSpPr>
          <p:spPr>
            <a:xfrm>
              <a:off x="2286000" y="33354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AutoShape 114"/>
            <p:cNvSpPr/>
            <p:nvPr/>
          </p:nvSpPr>
          <p:spPr>
            <a:xfrm>
              <a:off x="2395800" y="3339720"/>
              <a:ext cx="5322960" cy="11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5" name="Text Box 115"/>
          <p:cNvSpPr/>
          <p:nvPr/>
        </p:nvSpPr>
        <p:spPr>
          <a:xfrm>
            <a:off x="3189240" y="33526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116"/>
          <p:cNvSpPr/>
          <p:nvPr/>
        </p:nvSpPr>
        <p:spPr>
          <a:xfrm>
            <a:off x="2300400" y="33526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2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Group 117"/>
          <p:cNvGrpSpPr/>
          <p:nvPr/>
        </p:nvGrpSpPr>
        <p:grpSpPr>
          <a:xfrm>
            <a:off x="2286000" y="3944880"/>
            <a:ext cx="5547600" cy="432000"/>
            <a:chOff x="2286000" y="3944880"/>
            <a:chExt cx="5547600" cy="432000"/>
          </a:xfrm>
        </p:grpSpPr>
        <p:sp>
          <p:nvSpPr>
            <p:cNvPr id="98" name="AutoShape 118"/>
            <p:cNvSpPr/>
            <p:nvPr/>
          </p:nvSpPr>
          <p:spPr>
            <a:xfrm>
              <a:off x="2286000" y="394488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AutoShape 119"/>
            <p:cNvSpPr/>
            <p:nvPr/>
          </p:nvSpPr>
          <p:spPr>
            <a:xfrm>
              <a:off x="2395800" y="394920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" name="Text Box 120"/>
          <p:cNvSpPr/>
          <p:nvPr/>
        </p:nvSpPr>
        <p:spPr>
          <a:xfrm>
            <a:off x="3189240" y="396252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121"/>
          <p:cNvSpPr/>
          <p:nvPr/>
        </p:nvSpPr>
        <p:spPr>
          <a:xfrm>
            <a:off x="2300400" y="396252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3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Group 122"/>
          <p:cNvGrpSpPr/>
          <p:nvPr/>
        </p:nvGrpSpPr>
        <p:grpSpPr>
          <a:xfrm>
            <a:off x="2286000" y="4554360"/>
            <a:ext cx="5547600" cy="432000"/>
            <a:chOff x="2286000" y="4554360"/>
            <a:chExt cx="5547600" cy="432000"/>
          </a:xfrm>
        </p:grpSpPr>
        <p:sp>
          <p:nvSpPr>
            <p:cNvPr id="103" name="AutoShape 123"/>
            <p:cNvSpPr/>
            <p:nvPr/>
          </p:nvSpPr>
          <p:spPr>
            <a:xfrm>
              <a:off x="2286000" y="45543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AutoShape 124"/>
            <p:cNvSpPr/>
            <p:nvPr/>
          </p:nvSpPr>
          <p:spPr>
            <a:xfrm>
              <a:off x="2395800" y="455868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125"/>
          <p:cNvSpPr/>
          <p:nvPr/>
        </p:nvSpPr>
        <p:spPr>
          <a:xfrm>
            <a:off x="3189240" y="45720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126"/>
          <p:cNvSpPr/>
          <p:nvPr/>
        </p:nvSpPr>
        <p:spPr>
          <a:xfrm>
            <a:off x="2300400" y="45720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4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7" name="Group 127"/>
          <p:cNvGrpSpPr/>
          <p:nvPr/>
        </p:nvGrpSpPr>
        <p:grpSpPr>
          <a:xfrm>
            <a:off x="2286000" y="5164200"/>
            <a:ext cx="5547600" cy="431640"/>
            <a:chOff x="2286000" y="5164200"/>
            <a:chExt cx="5547600" cy="431640"/>
          </a:xfrm>
        </p:grpSpPr>
        <p:sp>
          <p:nvSpPr>
            <p:cNvPr id="108" name="AutoShape 128"/>
            <p:cNvSpPr/>
            <p:nvPr/>
          </p:nvSpPr>
          <p:spPr>
            <a:xfrm>
              <a:off x="2286000" y="51642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1a558a"/>
                </a:gs>
                <a:gs pos="50000">
                  <a:srgbClr val="43a7e5"/>
                </a:gs>
                <a:gs pos="100000">
                  <a:srgbClr val="1a558a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AutoShape 129"/>
            <p:cNvSpPr/>
            <p:nvPr/>
          </p:nvSpPr>
          <p:spPr>
            <a:xfrm>
              <a:off x="2395800" y="5168520"/>
              <a:ext cx="5322960" cy="11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0" name="Text Box 130"/>
          <p:cNvSpPr/>
          <p:nvPr/>
        </p:nvSpPr>
        <p:spPr>
          <a:xfrm>
            <a:off x="3189240" y="51814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131"/>
          <p:cNvSpPr/>
          <p:nvPr/>
        </p:nvSpPr>
        <p:spPr>
          <a:xfrm>
            <a:off x="2300400" y="51814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굴림"/>
                <a:ea typeface="Arial"/>
              </a:rPr>
              <a:t>05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22" descr="bar"/>
          <p:cNvPicPr/>
          <p:nvPr/>
        </p:nvPicPr>
        <p:blipFill>
          <a:blip r:embed="rId1"/>
          <a:stretch/>
        </p:blipFill>
        <p:spPr>
          <a:xfrm>
            <a:off x="2405160" y="1773360"/>
            <a:ext cx="5427720" cy="593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3"/>
          <p:cNvSpPr/>
          <p:nvPr/>
        </p:nvSpPr>
        <p:spPr>
          <a:xfrm>
            <a:off x="2865600" y="184464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직사각형 17"/>
          <p:cNvSpPr/>
          <p:nvPr/>
        </p:nvSpPr>
        <p:spPr>
          <a:xfrm>
            <a:off x="2571840" y="3143160"/>
            <a:ext cx="50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6a6a6"/>
                </a:solidFill>
                <a:latin typeface="Tahoma"/>
                <a:ea typeface="Galapogos BRK"/>
              </a:rPr>
              <a:t>Insert Text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직사각형 21" descr=""/>
          <p:cNvPicPr/>
          <p:nvPr/>
        </p:nvPicPr>
        <p:blipFill>
          <a:blip r:embed="rId1"/>
          <a:stretch/>
        </p:blipFill>
        <p:spPr>
          <a:xfrm>
            <a:off x="0" y="212760"/>
            <a:ext cx="31449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3405960" y="303228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HC헤드라인1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2268360" y="27082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8268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굴림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굴림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굴림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굴림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굴림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굴림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굴림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굴림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굴림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5:05:33Z</dcterms:created>
  <dc:creator>강은정</dc:creator>
  <dc:description/>
  <dc:language>en-US</dc:language>
  <cp:lastModifiedBy>yu wang</cp:lastModifiedBy>
  <dcterms:modified xsi:type="dcterms:W3CDTF">2015-08-08T10:07:08Z</dcterms:modified>
  <cp:revision>19</cp:revision>
  <dc:subject/>
  <dc:title>슬라이드 1</dc:title>
</cp:coreProperties>
</file>