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9C1-88C6-4C1A-A31D-4A2AB5E2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617-2327-498B-9353-592C29D8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6A0-02B8-4BFD-BD54-8735185F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4CF-D713-4A99-AA95-222839FD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B0F-66C9-43EF-806E-7155324E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575-FFD5-44B5-9EB2-C392547D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082-E1B1-4A5E-8B68-D0CFC2A9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541-56D0-4C50-B060-8DF5D0B8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25D-96F5-4AFC-AB99-17F59365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451-2F92-48F2-9C3E-3EB4B115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2FC-AE58-4765-A419-2B80944E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1FB-1CF4-4F02-A80A-5D662306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6C8C-129A-492A-B08E-B7E87EE8885C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965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商务人士精美商务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85688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66720" y="6381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6:48:38Z</dcterms:created>
  <dc:creator>Admin</dc:creator>
  <dc:description/>
  <dc:language>en-US</dc:language>
  <cp:lastModifiedBy>yu wang</cp:lastModifiedBy>
  <dcterms:modified xsi:type="dcterms:W3CDTF">2015-08-08T10:05:12Z</dcterms:modified>
  <cp:revision>7</cp:revision>
  <dc:subject/>
  <dc:title>PRESENTATION  NAME</dc:title>
</cp:coreProperties>
</file>