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6DA-C50D-4882-8F3E-91608B5A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312-8DEC-457C-92E3-22025C1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8D0-3658-4B33-B36B-3AA89C64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895-2597-42FE-9CB3-FE7F8F16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836-6582-42CF-A53F-46375D1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D13-8D17-469F-9D6E-450A29D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43-22F2-4AFF-82B2-AFA296B7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F08-0492-44F4-9062-BE1719D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C2E-A312-492B-9EFB-B38991D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D13-3FBF-4100-B97E-57E151A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434-1F9E-4ED2-8C3C-87C2F2A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7D2-C138-4ACC-B50E-B720BBA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alibaba520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 hidden="1"/>
          <p:cNvSpPr/>
          <p:nvPr/>
        </p:nvSpPr>
        <p:spPr>
          <a:xfrm>
            <a:off x="0" y="0"/>
            <a:ext cx="9143640" cy="428040"/>
          </a:xfrm>
          <a:prstGeom prst="rect">
            <a:avLst/>
          </a:prstGeom>
          <a:gradFill rotWithShape="0">
            <a:gsLst>
              <a:gs pos="53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2" descr="ring2.png"/>
          <p:cNvPicPr/>
          <p:nvPr/>
        </p:nvPicPr>
        <p:blipFill>
          <a:blip r:embed="rId2"/>
          <a:srcRect l="15071" t="56590" r="15013" b="0"/>
          <a:stretch/>
        </p:blipFill>
        <p:spPr>
          <a:xfrm>
            <a:off x="0" y="3426480"/>
            <a:ext cx="8864280" cy="32108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 hidden="1"/>
          <p:cNvSpPr/>
          <p:nvPr/>
        </p:nvSpPr>
        <p:spPr>
          <a:xfrm>
            <a:off x="14400" y="980640"/>
            <a:ext cx="9129240" cy="5648400"/>
          </a:xfrm>
          <a:prstGeom prst="roundRect">
            <a:avLst>
              <a:gd name="adj" fmla="val 799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21176"/>
                </a:srgbClr>
              </a:gs>
            </a:gsLst>
            <a:lin ang="16200000"/>
          </a:gradFill>
          <a:ln w="3175">
            <a:solidFill>
              <a:srgbClr val="ffffff">
                <a:alpha val="9000"/>
              </a:srgbClr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rIns="7315200" tIns="91440" bIns="0" anchor="ctr">
            <a:noAutofit/>
          </a:bodyPr>
          <a:p>
            <a:pPr algn="ctr">
              <a:lnSpc>
                <a:spcPct val="80000"/>
              </a:lnSpc>
            </a:pPr>
            <a:endParaRPr b="0" lang="en-US" sz="3200" spc="-72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矩形 9" hidden="1"/>
          <p:cNvSpPr/>
          <p:nvPr/>
        </p:nvSpPr>
        <p:spPr>
          <a:xfrm>
            <a:off x="0" y="22320"/>
            <a:ext cx="9143640" cy="764280"/>
          </a:xfrm>
          <a:prstGeom prst="rect">
            <a:avLst/>
          </a:prstGeom>
          <a:gradFill rotWithShape="0">
            <a:gsLst>
              <a:gs pos="53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" name="Picture 2" descr="C:\Users\YD\Desktop\德润标志 PNG1.png"/>
          <p:cNvPicPr/>
          <p:nvPr/>
        </p:nvPicPr>
        <p:blipFill>
          <a:blip r:embed="rId3"/>
          <a:stretch/>
        </p:blipFill>
        <p:spPr>
          <a:xfrm>
            <a:off x="107640" y="66960"/>
            <a:ext cx="1439640" cy="600840"/>
          </a:xfrm>
          <a:prstGeom prst="rect">
            <a:avLst/>
          </a:prstGeom>
          <a:ln w="0">
            <a:noFill/>
          </a:ln>
        </p:spPr>
      </p:pic>
      <p:sp>
        <p:nvSpPr>
          <p:cNvPr id="5" name="TextBox 3" hidden="1"/>
          <p:cNvSpPr/>
          <p:nvPr/>
        </p:nvSpPr>
        <p:spPr>
          <a:xfrm>
            <a:off x="3871800" y="204480"/>
            <a:ext cx="388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299" strike="noStrike">
                <a:solidFill>
                  <a:srgbClr val="f2f2f2"/>
                </a:solidFill>
                <a:latin typeface="微软雅黑"/>
                <a:ea typeface="微软雅黑"/>
              </a:rPr>
              <a:t>德润</a:t>
            </a:r>
            <a:r>
              <a:rPr b="0" lang="en-US" sz="2400" spc="299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400" spc="299" strike="noStrike">
                <a:solidFill>
                  <a:srgbClr val="f2f2f2"/>
                </a:solidFill>
                <a:latin typeface="微软雅黑"/>
                <a:ea typeface="微软雅黑"/>
              </a:rPr>
              <a:t>商务 原创水晶</a:t>
            </a:r>
            <a:r>
              <a:rPr b="0" lang="en-US" sz="2400" spc="299" strike="noStrike">
                <a:solidFill>
                  <a:srgbClr val="f2f2f2"/>
                </a:solidFill>
                <a:latin typeface="微软雅黑"/>
                <a:ea typeface="微软雅黑"/>
              </a:rPr>
              <a:t>3D</a:t>
            </a:r>
            <a:r>
              <a:rPr b="0" lang="zh-CN" sz="2400" spc="299" strike="noStrike">
                <a:solidFill>
                  <a:srgbClr val="f2f2f2"/>
                </a:solidFill>
                <a:latin typeface="微软雅黑"/>
                <a:ea typeface="微软雅黑"/>
              </a:rPr>
              <a:t>质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1" hidden="1">
            <a:hlinkClick r:id="rId4"/>
          </p:cNvPr>
          <p:cNvSpPr/>
          <p:nvPr/>
        </p:nvSpPr>
        <p:spPr>
          <a:xfrm>
            <a:off x="2675880" y="6497280"/>
            <a:ext cx="5739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299" strike="noStrike">
                <a:solidFill>
                  <a:srgbClr val="f2f2f2"/>
                </a:solidFill>
                <a:latin typeface="微软雅黑"/>
                <a:ea typeface="微软雅黑"/>
              </a:rPr>
              <a:t>转载请注明出处 德润</a:t>
            </a:r>
            <a:r>
              <a:rPr b="0" lang="en-US" sz="1600" spc="299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1600" spc="299" strike="noStrike">
                <a:solidFill>
                  <a:srgbClr val="f2f2f2"/>
                </a:solidFill>
                <a:latin typeface="微软雅黑"/>
                <a:ea typeface="微软雅黑"/>
              </a:rPr>
              <a:t>版权所有  </a:t>
            </a:r>
            <a:r>
              <a:rPr b="0" lang="en-US" sz="1600" spc="299" strike="noStrike">
                <a:solidFill>
                  <a:srgbClr val="f2f2f2"/>
                </a:solidFill>
                <a:latin typeface="微软雅黑"/>
                <a:ea typeface="微软雅黑"/>
              </a:rPr>
              <a:t>www.alibaba520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544CC-F116-4AC9-BBD4-4B9BCAACE6EC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6"/>
          <p:cNvGrpSpPr/>
          <p:nvPr/>
        </p:nvGrpSpPr>
        <p:grpSpPr>
          <a:xfrm>
            <a:off x="2673360" y="1989360"/>
            <a:ext cx="3609360" cy="3297960"/>
            <a:chOff x="2673360" y="1989360"/>
            <a:chExt cx="3609360" cy="3297960"/>
          </a:xfrm>
        </p:grpSpPr>
        <p:grpSp>
          <p:nvGrpSpPr>
            <p:cNvPr id="49" name="组合 15"/>
            <p:cNvGrpSpPr/>
            <p:nvPr/>
          </p:nvGrpSpPr>
          <p:grpSpPr>
            <a:xfrm>
              <a:off x="3542400" y="1989360"/>
              <a:ext cx="2059920" cy="2145960"/>
              <a:chOff x="3542400" y="1989360"/>
              <a:chExt cx="2059920" cy="2145960"/>
            </a:xfrm>
          </p:grpSpPr>
          <p:sp>
            <p:nvSpPr>
              <p:cNvPr id="50" name="任意多边形 3"/>
              <p:cNvSpPr/>
              <p:nvPr/>
            </p:nvSpPr>
            <p:spPr>
              <a:xfrm>
                <a:off x="4649760" y="1989360"/>
                <a:ext cx="952560" cy="1845720"/>
              </a:xfrm>
              <a:custGeom>
                <a:avLst/>
                <a:gdLst>
                  <a:gd name="textAreaLeft" fmla="*/ 0 w 952560"/>
                  <a:gd name="textAreaRight" fmla="*/ 952920 w 952560"/>
                  <a:gd name="textAreaTop" fmla="*/ 0 h 1845720"/>
                  <a:gd name="textAreaBottom" fmla="*/ 1846080 h 1845720"/>
                </a:gdLst>
                <a:ahLst/>
                <a:rect l="textAreaLeft" t="textAreaTop" r="textAreaRight" b="textAreaBottom"/>
                <a:pathLst>
                  <a:path w="694944" h="1345997">
                    <a:moveTo>
                      <a:pt x="168249" y="0"/>
                    </a:moveTo>
                    <a:lnTo>
                      <a:pt x="0" y="790042"/>
                    </a:lnTo>
                    <a:lnTo>
                      <a:pt x="526694" y="1345997"/>
                    </a:lnTo>
                    <a:lnTo>
                      <a:pt x="694944" y="526695"/>
                    </a:lnTo>
                    <a:lnTo>
                      <a:pt x="1682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93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51" name="任意多边形 4"/>
              <p:cNvSpPr/>
              <p:nvPr/>
            </p:nvSpPr>
            <p:spPr>
              <a:xfrm>
                <a:off x="3546000" y="1991880"/>
                <a:ext cx="1333800" cy="13615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1361520"/>
                  <a:gd name="textAreaBottom" fmla="*/ 1361880 h 1361520"/>
                </a:gdLst>
                <a:ahLst/>
                <a:rect l="textAreaLeft" t="textAreaTop" r="textAreaRight" b="textAreaBottom"/>
                <a:pathLst>
                  <a:path w="972921" h="992878">
                    <a:moveTo>
                      <a:pt x="972921" y="0"/>
                    </a:moveTo>
                    <a:lnTo>
                      <a:pt x="182880" y="180891"/>
                    </a:lnTo>
                    <a:lnTo>
                      <a:pt x="0" y="992878"/>
                    </a:lnTo>
                    <a:lnTo>
                      <a:pt x="811987" y="795368"/>
                    </a:lnTo>
                    <a:lnTo>
                      <a:pt x="9729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30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52" name="任意多边形 12"/>
              <p:cNvSpPr/>
              <p:nvPr/>
            </p:nvSpPr>
            <p:spPr>
              <a:xfrm>
                <a:off x="3542400" y="3069000"/>
                <a:ext cx="1823760" cy="1066320"/>
              </a:xfrm>
              <a:custGeom>
                <a:avLst/>
                <a:gdLst>
                  <a:gd name="textAreaLeft" fmla="*/ 0 w 1823760"/>
                  <a:gd name="textAreaRight" fmla="*/ 1824120 w 182376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1330036" h="777834">
                    <a:moveTo>
                      <a:pt x="0" y="201881"/>
                    </a:moveTo>
                    <a:lnTo>
                      <a:pt x="552203" y="777834"/>
                    </a:lnTo>
                    <a:lnTo>
                      <a:pt x="1330036" y="558141"/>
                    </a:lnTo>
                    <a:lnTo>
                      <a:pt x="819397" y="0"/>
                    </a:lnTo>
                    <a:lnTo>
                      <a:pt x="0" y="2018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30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  <p:grpSp>
          <p:nvGrpSpPr>
            <p:cNvPr id="53" name="组合 14"/>
            <p:cNvGrpSpPr/>
            <p:nvPr/>
          </p:nvGrpSpPr>
          <p:grpSpPr>
            <a:xfrm>
              <a:off x="2673360" y="3263400"/>
              <a:ext cx="2075760" cy="2023920"/>
              <a:chOff x="2673360" y="3263400"/>
              <a:chExt cx="2075760" cy="2023920"/>
            </a:xfrm>
          </p:grpSpPr>
          <p:sp>
            <p:nvSpPr>
              <p:cNvPr id="54" name="任意多边形 9"/>
              <p:cNvSpPr/>
              <p:nvPr/>
            </p:nvSpPr>
            <p:spPr>
              <a:xfrm>
                <a:off x="2683440" y="4345200"/>
                <a:ext cx="1815480" cy="942120"/>
              </a:xfrm>
              <a:custGeom>
                <a:avLst/>
                <a:gdLst>
                  <a:gd name="textAreaLeft" fmla="*/ 0 w 1815480"/>
                  <a:gd name="textAreaRight" fmla="*/ 1815840 w 1815480"/>
                  <a:gd name="textAreaTop" fmla="*/ 0 h 942120"/>
                  <a:gd name="textAreaBottom" fmla="*/ 942480 h 942120"/>
                </a:gdLst>
                <a:ahLst/>
                <a:rect l="textAreaLeft" t="textAreaTop" r="textAreaRight" b="textAreaBottom"/>
                <a:pathLst>
                  <a:path w="1324051" h="687201">
                    <a:moveTo>
                      <a:pt x="800539" y="0"/>
                    </a:moveTo>
                    <a:lnTo>
                      <a:pt x="1324051" y="513441"/>
                    </a:lnTo>
                    <a:lnTo>
                      <a:pt x="551822" y="687201"/>
                    </a:lnTo>
                    <a:lnTo>
                      <a:pt x="0" y="165066"/>
                    </a:lnTo>
                    <a:lnTo>
                      <a:pt x="800539" y="0"/>
                    </a:lnTo>
                    <a:close/>
                  </a:path>
                </a:pathLst>
              </a:custGeom>
              <a:gradFill rotWithShape="0">
                <a:gsLst>
                  <a:gs pos="28000">
                    <a:srgbClr val="ecb38f">
                      <a:alpha val="61176"/>
                    </a:srgbClr>
                  </a:gs>
                  <a:gs pos="100000">
                    <a:srgbClr val="bb5b20">
                      <a:alpha val="93333"/>
                    </a:srgbClr>
                  </a:gs>
                </a:gsLst>
                <a:lin ang="108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Segoe"/>
                </a:endParaRPr>
              </a:p>
            </p:txBody>
          </p:sp>
          <p:sp>
            <p:nvSpPr>
              <p:cNvPr id="55" name="任意多边形 8"/>
              <p:cNvSpPr/>
              <p:nvPr/>
            </p:nvSpPr>
            <p:spPr>
              <a:xfrm>
                <a:off x="2673360" y="3263400"/>
                <a:ext cx="1374120" cy="1314000"/>
              </a:xfrm>
              <a:custGeom>
                <a:avLst/>
                <a:gdLst>
                  <a:gd name="textAreaLeft" fmla="*/ 0 w 1374120"/>
                  <a:gd name="textAreaRight" fmla="*/ 1374480 w 1374120"/>
                  <a:gd name="textAreaTop" fmla="*/ 0 h 1314000"/>
                  <a:gd name="textAreaBottom" fmla="*/ 1314360 h 1314000"/>
                </a:gdLst>
                <a:ahLst/>
                <a:rect l="textAreaLeft" t="textAreaTop" r="textAreaRight" b="textAreaBottom"/>
                <a:pathLst>
                  <a:path w="1002183" h="958291">
                    <a:moveTo>
                      <a:pt x="243635" y="131673"/>
                    </a:moveTo>
                    <a:lnTo>
                      <a:pt x="0" y="958291"/>
                    </a:lnTo>
                    <a:lnTo>
                      <a:pt x="804672" y="797356"/>
                    </a:lnTo>
                    <a:lnTo>
                      <a:pt x="1002183" y="0"/>
                    </a:lnTo>
                    <a:lnTo>
                      <a:pt x="243635" y="131673"/>
                    </a:lnTo>
                    <a:close/>
                  </a:path>
                </a:pathLst>
              </a:custGeom>
              <a:gradFill rotWithShape="0">
                <a:gsLst>
                  <a:gs pos="28000">
                    <a:srgbClr val="ecb38f"/>
                  </a:gs>
                  <a:gs pos="100000">
                    <a:srgbClr val="bb5b20">
                      <a:alpha val="93333"/>
                    </a:srgbClr>
                  </a:gs>
                </a:gsLst>
                <a:lin ang="7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Segoe"/>
                </a:endParaRPr>
              </a:p>
            </p:txBody>
          </p:sp>
          <p:sp>
            <p:nvSpPr>
              <p:cNvPr id="56" name="任意多边形 10"/>
              <p:cNvSpPr/>
              <p:nvPr/>
            </p:nvSpPr>
            <p:spPr>
              <a:xfrm>
                <a:off x="3770640" y="3270600"/>
                <a:ext cx="978480" cy="177840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78400"/>
                  <a:gd name="textAreaBottom" fmla="*/ 1778760 h 1778400"/>
                </a:gdLst>
                <a:ahLst/>
                <a:rect l="textAreaLeft" t="textAreaTop" r="textAreaRight" b="textAreaBottom"/>
                <a:pathLst>
                  <a:path w="713706" h="1297016">
                    <a:moveTo>
                      <a:pt x="197856" y="0"/>
                    </a:moveTo>
                    <a:lnTo>
                      <a:pt x="713706" y="499659"/>
                    </a:lnTo>
                    <a:lnTo>
                      <a:pt x="523939" y="1297016"/>
                    </a:lnTo>
                    <a:lnTo>
                      <a:pt x="0" y="774454"/>
                    </a:lnTo>
                    <a:lnTo>
                      <a:pt x="197856" y="0"/>
                    </a:lnTo>
                    <a:close/>
                  </a:path>
                </a:pathLst>
              </a:custGeom>
              <a:gradFill rotWithShape="0">
                <a:gsLst>
                  <a:gs pos="28000">
                    <a:srgbClr val="ecb38f">
                      <a:alpha val="58039"/>
                    </a:srgbClr>
                  </a:gs>
                  <a:gs pos="100000">
                    <a:srgbClr val="bb5b20">
                      <a:alpha val="93333"/>
                    </a:srgbClr>
                  </a:gs>
                </a:gsLst>
                <a:lin ang="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Segoe"/>
                </a:endParaRPr>
              </a:p>
            </p:txBody>
          </p:sp>
        </p:grpSp>
        <p:grpSp>
          <p:nvGrpSpPr>
            <p:cNvPr id="57" name="组合 13"/>
            <p:cNvGrpSpPr/>
            <p:nvPr/>
          </p:nvGrpSpPr>
          <p:grpSpPr>
            <a:xfrm>
              <a:off x="4238280" y="3273480"/>
              <a:ext cx="2044440" cy="2012040"/>
              <a:chOff x="4238280" y="3273480"/>
              <a:chExt cx="2044440" cy="2012040"/>
            </a:xfrm>
          </p:grpSpPr>
          <p:sp>
            <p:nvSpPr>
              <p:cNvPr id="58" name="任意多边形 5"/>
              <p:cNvSpPr/>
              <p:nvPr/>
            </p:nvSpPr>
            <p:spPr>
              <a:xfrm>
                <a:off x="4960800" y="3273480"/>
                <a:ext cx="1314000" cy="1343880"/>
              </a:xfrm>
              <a:custGeom>
                <a:avLst/>
                <a:gdLst>
                  <a:gd name="textAreaLeft" fmla="*/ 0 w 1314000"/>
                  <a:gd name="textAreaRight" fmla="*/ 1314360 w 1314000"/>
                  <a:gd name="textAreaTop" fmla="*/ 0 h 1343880"/>
                  <a:gd name="textAreaBottom" fmla="*/ 1344240 h 1343880"/>
                </a:gdLst>
                <a:ahLst/>
                <a:rect l="textAreaLeft" t="textAreaTop" r="textAreaRight" b="textAreaBottom"/>
                <a:pathLst>
                  <a:path w="958291" h="980237">
                    <a:moveTo>
                      <a:pt x="760354" y="149059"/>
                    </a:moveTo>
                    <a:lnTo>
                      <a:pt x="958291" y="980237"/>
                    </a:lnTo>
                    <a:lnTo>
                      <a:pt x="160934" y="811987"/>
                    </a:lnTo>
                    <a:lnTo>
                      <a:pt x="0" y="0"/>
                    </a:lnTo>
                    <a:lnTo>
                      <a:pt x="760354" y="1490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c57">
                      <a:alpha val="70196"/>
                    </a:srgbClr>
                  </a:gs>
                  <a:gs pos="100000">
                    <a:srgbClr val="3497ae">
                      <a:alpha val="50196"/>
                    </a:srgbClr>
                  </a:gs>
                </a:gsLst>
                <a:lin ang="18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59" name="任意多边形 6"/>
              <p:cNvSpPr/>
              <p:nvPr/>
            </p:nvSpPr>
            <p:spPr>
              <a:xfrm>
                <a:off x="4238280" y="3278880"/>
                <a:ext cx="964800" cy="1800360"/>
              </a:xfrm>
              <a:custGeom>
                <a:avLst/>
                <a:gdLst>
                  <a:gd name="textAreaLeft" fmla="*/ 0 w 964800"/>
                  <a:gd name="textAreaRight" fmla="*/ 965160 w 964800"/>
                  <a:gd name="textAreaTop" fmla="*/ 0 h 1800360"/>
                  <a:gd name="textAreaBottom" fmla="*/ 1800720 h 1800360"/>
                </a:gdLst>
                <a:ahLst/>
                <a:rect l="textAreaLeft" t="textAreaTop" r="textAreaRight" b="textAreaBottom"/>
                <a:pathLst>
                  <a:path w="703637" h="1312889">
                    <a:moveTo>
                      <a:pt x="0" y="515532"/>
                    </a:moveTo>
                    <a:lnTo>
                      <a:pt x="168249" y="1312889"/>
                    </a:lnTo>
                    <a:lnTo>
                      <a:pt x="703637" y="800824"/>
                    </a:lnTo>
                    <a:lnTo>
                      <a:pt x="525409" y="0"/>
                    </a:lnTo>
                    <a:lnTo>
                      <a:pt x="0" y="5155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c57">
                      <a:alpha val="10196"/>
                    </a:srgbClr>
                  </a:gs>
                  <a:gs pos="100000">
                    <a:srgbClr val="3497ae">
                      <a:alpha val="50196"/>
                    </a:srgbClr>
                  </a:gs>
                </a:gsLst>
                <a:lin ang="21594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60" name="任意多边形 7"/>
              <p:cNvSpPr/>
              <p:nvPr/>
            </p:nvSpPr>
            <p:spPr>
              <a:xfrm>
                <a:off x="4485240" y="4377240"/>
                <a:ext cx="1797480" cy="908280"/>
              </a:xfrm>
              <a:custGeom>
                <a:avLst/>
                <a:gdLst>
                  <a:gd name="textAreaLeft" fmla="*/ 0 w 1797480"/>
                  <a:gd name="textAreaRight" fmla="*/ 1797840 w 179748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1310798" h="662500">
                    <a:moveTo>
                      <a:pt x="1310798" y="171432"/>
                    </a:moveTo>
                    <a:lnTo>
                      <a:pt x="800111" y="662500"/>
                    </a:lnTo>
                    <a:lnTo>
                      <a:pt x="0" y="494251"/>
                    </a:lnTo>
                    <a:lnTo>
                      <a:pt x="529449" y="0"/>
                    </a:lnTo>
                    <a:lnTo>
                      <a:pt x="1310798" y="171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97ae">
                      <a:alpha val="50196"/>
                    </a:srgbClr>
                  </a:gs>
                  <a:gs pos="100000">
                    <a:srgbClr val="7cc6d8"/>
                  </a:gs>
                </a:gsLst>
                <a:lin ang="48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sp>
        <p:nvSpPr>
          <p:cNvPr id="61" name="TextBox 18"/>
          <p:cNvSpPr/>
          <p:nvPr/>
        </p:nvSpPr>
        <p:spPr>
          <a:xfrm>
            <a:off x="2622240" y="839880"/>
            <a:ext cx="4196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51" strike="noStrike">
                <a:solidFill>
                  <a:srgbClr val="000000">
                    <a:alpha val="95000"/>
                  </a:srgbClr>
                </a:solidFill>
                <a:latin typeface="黑体"/>
                <a:ea typeface="黑体"/>
              </a:rPr>
              <a:t>商务水晶</a:t>
            </a:r>
            <a:r>
              <a:rPr b="1" lang="en-US" sz="4000" spc="-151" strike="noStrike">
                <a:solidFill>
                  <a:srgbClr val="000000">
                    <a:alpha val="95000"/>
                  </a:srgbClr>
                </a:solidFill>
                <a:latin typeface="黑体"/>
                <a:ea typeface="黑体"/>
              </a:rPr>
              <a:t>PPT</a:t>
            </a:r>
            <a:r>
              <a:rPr b="1" lang="zh-CN" sz="4000" spc="-151" strike="noStrike">
                <a:solidFill>
                  <a:srgbClr val="000000">
                    <a:alpha val="95000"/>
                  </a:srgbClr>
                </a:solidFill>
                <a:latin typeface="黑体"/>
                <a:ea typeface="黑体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9"/>
          <p:cNvSpPr/>
          <p:nvPr/>
        </p:nvSpPr>
        <p:spPr>
          <a:xfrm>
            <a:off x="4849920" y="1655280"/>
            <a:ext cx="1955880" cy="26568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65680"/>
              <a:gd name="textAreaBottom" fmla="*/ 266040 h 265680"/>
            </a:gdLst>
            <a:ahLst/>
            <a:rect l="textAreaLeft" t="textAreaTop" r="textAreaRight" b="textAreaBottom"/>
            <a:pathLst>
              <a:path w="1956121" h="266217">
                <a:moveTo>
                  <a:pt x="0" y="266217"/>
                </a:moveTo>
                <a:lnTo>
                  <a:pt x="57873" y="0"/>
                </a:lnTo>
                <a:lnTo>
                  <a:pt x="1956121" y="0"/>
                </a:lnTo>
              </a:path>
            </a:pathLst>
          </a:custGeom>
          <a:noFill/>
          <a:ln>
            <a:solidFill>
              <a:srgbClr val="ffffff"/>
            </a:solidFill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021080" y="15541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7021080" y="205200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2"/>
          <p:cNvSpPr/>
          <p:nvPr/>
        </p:nvSpPr>
        <p:spPr>
          <a:xfrm>
            <a:off x="1851840" y="4826520"/>
            <a:ext cx="1654920" cy="335160"/>
          </a:xfrm>
          <a:custGeom>
            <a:avLst/>
            <a:gdLst>
              <a:gd name="textAreaLeft" fmla="*/ 0 w 1654920"/>
              <a:gd name="textAreaRight" fmla="*/ 1655280 w 16549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655180" h="335666">
                <a:moveTo>
                  <a:pt x="1655180" y="0"/>
                </a:moveTo>
                <a:lnTo>
                  <a:pt x="729205" y="335666"/>
                </a:lnTo>
                <a:lnTo>
                  <a:pt x="0" y="335666"/>
                </a:lnTo>
              </a:path>
            </a:pathLst>
          </a:custGeom>
          <a:noFill/>
          <a:ln>
            <a:solidFill>
              <a:srgbClr val="ffffff"/>
            </a:solidFill>
            <a:headEnd len="med" type="oval" w="med"/>
            <a:tailEnd len="med" type="oval" w="med"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958320" y="420480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958320" y="470268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5"/>
          <p:cNvSpPr/>
          <p:nvPr/>
        </p:nvSpPr>
        <p:spPr>
          <a:xfrm>
            <a:off x="5312880" y="4872960"/>
            <a:ext cx="1851480" cy="393120"/>
          </a:xfrm>
          <a:custGeom>
            <a:avLst/>
            <a:gdLst>
              <a:gd name="textAreaLeft" fmla="*/ 0 w 1851480"/>
              <a:gd name="textAreaRight" fmla="*/ 1851840 w 1851480"/>
              <a:gd name="textAreaTop" fmla="*/ 0 h 393120"/>
              <a:gd name="textAreaBottom" fmla="*/ 393480 h 393120"/>
            </a:gdLst>
            <a:ahLst/>
            <a:rect l="textAreaLeft" t="textAreaTop" r="textAreaRight" b="textAreaBottom"/>
            <a:pathLst>
              <a:path w="1851949" h="393539">
                <a:moveTo>
                  <a:pt x="0" y="0"/>
                </a:moveTo>
                <a:lnTo>
                  <a:pt x="1111169" y="393539"/>
                </a:lnTo>
                <a:lnTo>
                  <a:pt x="1851949" y="393539"/>
                </a:lnTo>
              </a:path>
            </a:pathLst>
          </a:custGeom>
          <a:noFill/>
          <a:ln>
            <a:solidFill>
              <a:srgbClr val="ffffff"/>
            </a:solidFill>
            <a:headEnd len="med" type="oval" w="med"/>
            <a:tailEnd len="med" type="oval" w="med"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7416000" y="43045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7416000" y="480276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6271920" y="1301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6627240" y="4908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1946880" y="47930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5"/>
          <p:cNvGrpSpPr/>
          <p:nvPr/>
        </p:nvGrpSpPr>
        <p:grpSpPr>
          <a:xfrm>
            <a:off x="2562480" y="1688040"/>
            <a:ext cx="3737880" cy="3821040"/>
            <a:chOff x="2562480" y="1688040"/>
            <a:chExt cx="3737880" cy="3821040"/>
          </a:xfrm>
        </p:grpSpPr>
        <p:grpSp>
          <p:nvGrpSpPr>
            <p:cNvPr id="76" name="组合 13"/>
            <p:cNvGrpSpPr/>
            <p:nvPr/>
          </p:nvGrpSpPr>
          <p:grpSpPr>
            <a:xfrm>
              <a:off x="2562480" y="1701000"/>
              <a:ext cx="2795400" cy="3808080"/>
              <a:chOff x="2562480" y="1701000"/>
              <a:chExt cx="2795400" cy="3808080"/>
            </a:xfrm>
          </p:grpSpPr>
          <p:grpSp>
            <p:nvGrpSpPr>
              <p:cNvPr id="77" name="组合 11"/>
              <p:cNvGrpSpPr/>
              <p:nvPr/>
            </p:nvGrpSpPr>
            <p:grpSpPr>
              <a:xfrm>
                <a:off x="3492000" y="3303360"/>
                <a:ext cx="1865880" cy="2205720"/>
                <a:chOff x="3492000" y="3303360"/>
                <a:chExt cx="1865880" cy="2205720"/>
              </a:xfrm>
            </p:grpSpPr>
            <p:sp>
              <p:nvSpPr>
                <p:cNvPr id="78" name="任意多边形 3"/>
                <p:cNvSpPr/>
                <p:nvPr/>
              </p:nvSpPr>
              <p:spPr>
                <a:xfrm rot="10800000">
                  <a:off x="3499200" y="3303360"/>
                  <a:ext cx="950040" cy="1622880"/>
                </a:xfrm>
                <a:custGeom>
                  <a:avLst/>
                  <a:gdLst>
                    <a:gd name="textAreaLeft" fmla="*/ 0 w 950040"/>
                    <a:gd name="textAreaRight" fmla="*/ 950400 w 950040"/>
                    <a:gd name="textAreaTop" fmla="*/ 0 h 1622880"/>
                    <a:gd name="textAreaBottom" fmla="*/ 1623240 h 1622880"/>
                  </a:gdLst>
                  <a:ahLst/>
                  <a:rect l="textAreaLeft" t="textAreaTop" r="textAreaRight" b="textAreaBottom"/>
                  <a:pathLst>
                    <a:path w="680725" h="1162879">
                      <a:moveTo>
                        <a:pt x="0" y="1162879"/>
                      </a:moveTo>
                      <a:lnTo>
                        <a:pt x="9939" y="447261"/>
                      </a:lnTo>
                      <a:lnTo>
                        <a:pt x="675861" y="0"/>
                      </a:lnTo>
                      <a:cubicBezTo>
                        <a:pt x="677482" y="245095"/>
                        <a:pt x="679104" y="490189"/>
                        <a:pt x="680725" y="735284"/>
                      </a:cubicBezTo>
                      <a:lnTo>
                        <a:pt x="0" y="11628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6000">
                        <a:alpha val="70196"/>
                      </a:srgbClr>
                    </a:gs>
                    <a:gs pos="100000">
                      <a:srgbClr val="ffc000">
                        <a:alpha val="50196"/>
                      </a:srgbClr>
                    </a:gs>
                  </a:gsLst>
                  <a:lin ang="93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79" name="任意多边形 4"/>
                <p:cNvSpPr/>
                <p:nvPr/>
              </p:nvSpPr>
              <p:spPr>
                <a:xfrm rot="10800000">
                  <a:off x="4428720" y="3303360"/>
                  <a:ext cx="922320" cy="160884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1608840"/>
                    <a:gd name="textAreaBottom" fmla="*/ 1609200 h 1608840"/>
                  </a:gdLst>
                  <a:ahLst/>
                  <a:rect l="textAreaLeft" t="textAreaTop" r="textAreaRight" b="textAreaBottom"/>
                  <a:pathLst>
                    <a:path w="661057" h="1152727">
                      <a:moveTo>
                        <a:pt x="661057" y="442608"/>
                      </a:moveTo>
                      <a:lnTo>
                        <a:pt x="0" y="0"/>
                      </a:lnTo>
                      <a:lnTo>
                        <a:pt x="0" y="735072"/>
                      </a:lnTo>
                      <a:lnTo>
                        <a:pt x="650695" y="1152727"/>
                      </a:lnTo>
                      <a:lnTo>
                        <a:pt x="661057" y="442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6000">
                        <a:alpha val="70196"/>
                      </a:srgbClr>
                    </a:gs>
                    <a:gs pos="100000">
                      <a:srgbClr val="ffc000">
                        <a:alpha val="50196"/>
                      </a:srgbClr>
                    </a:gs>
                  </a:gsLst>
                  <a:lin ang="93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80" name="任意多边形 5"/>
                <p:cNvSpPr/>
                <p:nvPr/>
              </p:nvSpPr>
              <p:spPr>
                <a:xfrm rot="10800000">
                  <a:off x="4435560" y="3872160"/>
                  <a:ext cx="922320" cy="163620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1636200"/>
                    <a:gd name="textAreaBottom" fmla="*/ 1636560 h 1636200"/>
                  </a:gdLst>
                  <a:ahLst/>
                  <a:rect l="textAreaLeft" t="textAreaTop" r="textAreaRight" b="textAreaBottom"/>
                  <a:pathLst>
                    <a:path w="661058" h="1172395">
                      <a:moveTo>
                        <a:pt x="0" y="441975"/>
                      </a:moveTo>
                      <a:lnTo>
                        <a:pt x="661058" y="0"/>
                      </a:lnTo>
                      <a:lnTo>
                        <a:pt x="661058" y="705256"/>
                      </a:lnTo>
                      <a:lnTo>
                        <a:pt x="5076" y="1172395"/>
                      </a:lnTo>
                      <a:lnTo>
                        <a:pt x="0" y="44197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6000">
                        <a:alpha val="70196"/>
                      </a:srgbClr>
                    </a:gs>
                    <a:gs pos="100000">
                      <a:srgbClr val="ffc000">
                        <a:alpha val="50196"/>
                      </a:srgbClr>
                    </a:gs>
                  </a:gsLst>
                  <a:lin ang="30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81" name="任意多边形 6"/>
                <p:cNvSpPr/>
                <p:nvPr/>
              </p:nvSpPr>
              <p:spPr>
                <a:xfrm rot="10800000">
                  <a:off x="3492000" y="3899880"/>
                  <a:ext cx="943200" cy="160920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609200"/>
                    <a:gd name="textAreaBottom" fmla="*/ 1609560 h 1609200"/>
                  </a:gdLst>
                  <a:ahLst/>
                  <a:rect l="textAreaLeft" t="textAreaTop" r="textAreaRight" b="textAreaBottom"/>
                  <a:pathLst>
                    <a:path w="675861" h="1152939">
                      <a:moveTo>
                        <a:pt x="0" y="0"/>
                      </a:moveTo>
                      <a:lnTo>
                        <a:pt x="0" y="715617"/>
                      </a:lnTo>
                      <a:lnTo>
                        <a:pt x="675861" y="1152939"/>
                      </a:lnTo>
                      <a:lnTo>
                        <a:pt x="675861" y="4273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6000">
                        <a:alpha val="70196"/>
                      </a:srgbClr>
                    </a:gs>
                    <a:gs pos="100000">
                      <a:srgbClr val="ffc000">
                        <a:alpha val="50196"/>
                      </a:srgbClr>
                    </a:gs>
                  </a:gsLst>
                  <a:lin ang="93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</p:grpSp>
          <p:grpSp>
            <p:nvGrpSpPr>
              <p:cNvPr id="82" name="组合 12"/>
              <p:cNvGrpSpPr/>
              <p:nvPr/>
            </p:nvGrpSpPr>
            <p:grpSpPr>
              <a:xfrm>
                <a:off x="2562480" y="1701000"/>
                <a:ext cx="1872720" cy="2198520"/>
                <a:chOff x="2562480" y="1701000"/>
                <a:chExt cx="1872720" cy="2198520"/>
              </a:xfrm>
            </p:grpSpPr>
            <p:sp>
              <p:nvSpPr>
                <p:cNvPr id="83" name="任意多边形 7"/>
                <p:cNvSpPr/>
                <p:nvPr/>
              </p:nvSpPr>
              <p:spPr>
                <a:xfrm rot="10800000">
                  <a:off x="2569680" y="1701000"/>
                  <a:ext cx="963720" cy="1615680"/>
                </a:xfrm>
                <a:custGeom>
                  <a:avLst/>
                  <a:gdLst>
                    <a:gd name="textAreaLeft" fmla="*/ 0 w 963720"/>
                    <a:gd name="textAreaRight" fmla="*/ 964080 w 963720"/>
                    <a:gd name="textAreaTop" fmla="*/ 0 h 1615680"/>
                    <a:gd name="textAreaBottom" fmla="*/ 1616040 h 1615680"/>
                  </a:gdLst>
                  <a:ahLst/>
                  <a:rect l="textAreaLeft" t="textAreaTop" r="textAreaRight" b="textAreaBottom"/>
                  <a:pathLst>
                    <a:path w="690664" h="1157591">
                      <a:moveTo>
                        <a:pt x="0" y="1157591"/>
                      </a:moveTo>
                      <a:lnTo>
                        <a:pt x="19878" y="447261"/>
                      </a:lnTo>
                      <a:lnTo>
                        <a:pt x="685800" y="0"/>
                      </a:lnTo>
                      <a:cubicBezTo>
                        <a:pt x="687421" y="245095"/>
                        <a:pt x="689043" y="490189"/>
                        <a:pt x="690664" y="735284"/>
                      </a:cubicBezTo>
                      <a:lnTo>
                        <a:pt x="0" y="11575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497ae">
                        <a:alpha val="50196"/>
                      </a:srgbClr>
                    </a:gs>
                    <a:gs pos="100000">
                      <a:srgbClr val="7cc6d8"/>
                    </a:gs>
                  </a:gsLst>
                  <a:lin ang="48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84" name="任意多边形 9"/>
                <p:cNvSpPr/>
                <p:nvPr/>
              </p:nvSpPr>
              <p:spPr>
                <a:xfrm rot="10800000">
                  <a:off x="3506040" y="2262600"/>
                  <a:ext cx="929160" cy="1622520"/>
                </a:xfrm>
                <a:custGeom>
                  <a:avLst/>
                  <a:gdLst>
                    <a:gd name="textAreaLeft" fmla="*/ 0 w 929160"/>
                    <a:gd name="textAreaRight" fmla="*/ 929520 w 929160"/>
                    <a:gd name="textAreaTop" fmla="*/ 0 h 1622520"/>
                    <a:gd name="textAreaBottom" fmla="*/ 1622880 h 1622520"/>
                  </a:gdLst>
                  <a:ahLst/>
                  <a:rect l="textAreaLeft" t="textAreaTop" r="textAreaRight" b="textAreaBottom"/>
                  <a:pathLst>
                    <a:path w="665922" h="1162667">
                      <a:moveTo>
                        <a:pt x="0" y="417655"/>
                      </a:moveTo>
                      <a:lnTo>
                        <a:pt x="661058" y="0"/>
                      </a:lnTo>
                      <a:cubicBezTo>
                        <a:pt x="662679" y="231843"/>
                        <a:pt x="664301" y="463685"/>
                        <a:pt x="665922" y="695528"/>
                      </a:cubicBezTo>
                      <a:lnTo>
                        <a:pt x="9940" y="1162667"/>
                      </a:lnTo>
                      <a:lnTo>
                        <a:pt x="0" y="4176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497ae">
                        <a:alpha val="50196"/>
                      </a:srgbClr>
                    </a:gs>
                    <a:gs pos="100000">
                      <a:srgbClr val="7cc6d8"/>
                    </a:gs>
                  </a:gsLst>
                  <a:lin ang="48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85" name="任意多边形 10"/>
                <p:cNvSpPr/>
                <p:nvPr/>
              </p:nvSpPr>
              <p:spPr>
                <a:xfrm rot="10800000">
                  <a:off x="2562480" y="2290320"/>
                  <a:ext cx="943200" cy="1609200"/>
                </a:xfrm>
                <a:custGeom>
                  <a:avLst/>
                  <a:gdLst>
                    <a:gd name="textAreaLeft" fmla="*/ 0 w 943200"/>
                    <a:gd name="textAreaRight" fmla="*/ 943560 w 943200"/>
                    <a:gd name="textAreaTop" fmla="*/ 0 h 1609200"/>
                    <a:gd name="textAreaBottom" fmla="*/ 1609560 h 1609200"/>
                  </a:gdLst>
                  <a:ahLst/>
                  <a:rect l="textAreaLeft" t="textAreaTop" r="textAreaRight" b="textAreaBottom"/>
                  <a:pathLst>
                    <a:path w="675861" h="1152939">
                      <a:moveTo>
                        <a:pt x="0" y="0"/>
                      </a:moveTo>
                      <a:lnTo>
                        <a:pt x="0" y="715617"/>
                      </a:lnTo>
                      <a:lnTo>
                        <a:pt x="675861" y="1152939"/>
                      </a:lnTo>
                      <a:lnTo>
                        <a:pt x="675861" y="4273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a4c57">
                        <a:alpha val="70196"/>
                      </a:srgbClr>
                    </a:gs>
                    <a:gs pos="100000">
                      <a:srgbClr val="3497ae">
                        <a:alpha val="50196"/>
                      </a:srgbClr>
                    </a:gs>
                  </a:gsLst>
                  <a:lin ang="18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  <p:sp>
              <p:nvSpPr>
                <p:cNvPr id="86" name="任意多边形 8"/>
                <p:cNvSpPr/>
                <p:nvPr/>
              </p:nvSpPr>
              <p:spPr>
                <a:xfrm rot="10800000">
                  <a:off x="3505680" y="1707840"/>
                  <a:ext cx="915480" cy="1595160"/>
                </a:xfrm>
                <a:custGeom>
                  <a:avLst/>
                  <a:gdLst>
                    <a:gd name="textAreaLeft" fmla="*/ 0 w 915480"/>
                    <a:gd name="textAreaRight" fmla="*/ 915840 w 915480"/>
                    <a:gd name="textAreaTop" fmla="*/ 0 h 1595160"/>
                    <a:gd name="textAreaBottom" fmla="*/ 1595520 h 1595160"/>
                  </a:gdLst>
                  <a:ahLst/>
                  <a:rect l="textAreaLeft" t="textAreaTop" r="textAreaRight" b="textAreaBottom"/>
                  <a:pathLst>
                    <a:path w="656193" h="1143000">
                      <a:moveTo>
                        <a:pt x="656193" y="442609"/>
                      </a:moveTo>
                      <a:lnTo>
                        <a:pt x="0" y="0"/>
                      </a:lnTo>
                      <a:lnTo>
                        <a:pt x="0" y="739936"/>
                      </a:lnTo>
                      <a:lnTo>
                        <a:pt x="636104" y="1143000"/>
                      </a:lnTo>
                      <a:lnTo>
                        <a:pt x="656193" y="4426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497ae">
                        <a:alpha val="60000"/>
                      </a:srgbClr>
                    </a:gs>
                    <a:gs pos="100000">
                      <a:srgbClr val="7cc6d8"/>
                    </a:gs>
                  </a:gsLst>
                  <a:lin ang="4800000"/>
                </a:gradFill>
                <a:ln w="38100">
                  <a:noFill/>
                </a:ln>
                <a:scene3d>
                  <a:camera prst="orthographicFront"/>
                  <a:lightRig dir="t" rig="flat">
                    <a:rot lat="0" lon="0" rev="5400000"/>
                  </a:lightRig>
                </a:scene3d>
                <a:sp3d>
                  <a:bevelT prst="softRound" w="38100" h="38100"/>
                  <a:bevelB w="381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</p:grpSp>
        </p:grpSp>
        <p:grpSp>
          <p:nvGrpSpPr>
            <p:cNvPr id="87" name="组合 16"/>
            <p:cNvGrpSpPr/>
            <p:nvPr/>
          </p:nvGrpSpPr>
          <p:grpSpPr>
            <a:xfrm>
              <a:off x="4427280" y="1688040"/>
              <a:ext cx="1873080" cy="2198160"/>
              <a:chOff x="4427280" y="1688040"/>
              <a:chExt cx="1873080" cy="2198160"/>
            </a:xfrm>
          </p:grpSpPr>
          <p:sp>
            <p:nvSpPr>
              <p:cNvPr id="88" name="任意多边形 17"/>
              <p:cNvSpPr/>
              <p:nvPr/>
            </p:nvSpPr>
            <p:spPr>
              <a:xfrm rot="10800000">
                <a:off x="4434480" y="1688040"/>
                <a:ext cx="963720" cy="1615680"/>
              </a:xfrm>
              <a:custGeom>
                <a:avLst/>
                <a:gdLst>
                  <a:gd name="textAreaLeft" fmla="*/ 0 w 963720"/>
                  <a:gd name="textAreaRight" fmla="*/ 964080 w 963720"/>
                  <a:gd name="textAreaTop" fmla="*/ 0 h 1615680"/>
                  <a:gd name="textAreaBottom" fmla="*/ 1616040 h 1615680"/>
                </a:gdLst>
                <a:ahLst/>
                <a:rect l="textAreaLeft" t="textAreaTop" r="textAreaRight" b="textAreaBottom"/>
                <a:pathLst>
                  <a:path w="690664" h="1157591">
                    <a:moveTo>
                      <a:pt x="0" y="1157591"/>
                    </a:moveTo>
                    <a:lnTo>
                      <a:pt x="19878" y="447261"/>
                    </a:lnTo>
                    <a:lnTo>
                      <a:pt x="685800" y="0"/>
                    </a:lnTo>
                    <a:cubicBezTo>
                      <a:pt x="687421" y="245095"/>
                      <a:pt x="689043" y="490189"/>
                      <a:pt x="690664" y="735284"/>
                    </a:cubicBezTo>
                    <a:lnTo>
                      <a:pt x="0" y="11575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174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89" name="任意多边形 20"/>
              <p:cNvSpPr/>
              <p:nvPr/>
            </p:nvSpPr>
            <p:spPr>
              <a:xfrm rot="10800000">
                <a:off x="5370840" y="1694520"/>
                <a:ext cx="915480" cy="159516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595160"/>
                  <a:gd name="textAreaBottom" fmla="*/ 1595520 h 1595160"/>
                </a:gdLst>
                <a:ahLst/>
                <a:rect l="textAreaLeft" t="textAreaTop" r="textAreaRight" b="textAreaBottom"/>
                <a:pathLst>
                  <a:path w="656193" h="1143000">
                    <a:moveTo>
                      <a:pt x="656193" y="442609"/>
                    </a:moveTo>
                    <a:lnTo>
                      <a:pt x="0" y="0"/>
                    </a:lnTo>
                    <a:lnTo>
                      <a:pt x="0" y="739936"/>
                    </a:lnTo>
                    <a:lnTo>
                      <a:pt x="636104" y="1143000"/>
                    </a:lnTo>
                    <a:lnTo>
                      <a:pt x="656193" y="4426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174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90" name="任意多边形 19"/>
              <p:cNvSpPr/>
              <p:nvPr/>
            </p:nvSpPr>
            <p:spPr>
              <a:xfrm rot="10800000">
                <a:off x="4427280" y="2277000"/>
                <a:ext cx="943200" cy="1609200"/>
              </a:xfrm>
              <a:custGeom>
                <a:avLst/>
                <a:gdLst>
                  <a:gd name="textAreaLeft" fmla="*/ 0 w 943200"/>
                  <a:gd name="textAreaRight" fmla="*/ 943560 w 943200"/>
                  <a:gd name="textAreaTop" fmla="*/ 0 h 1609200"/>
                  <a:gd name="textAreaBottom" fmla="*/ 1609560 h 1609200"/>
                </a:gdLst>
                <a:ahLst/>
                <a:rect l="textAreaLeft" t="textAreaTop" r="textAreaRight" b="textAreaBottom"/>
                <a:pathLst>
                  <a:path w="675861" h="1152939">
                    <a:moveTo>
                      <a:pt x="0" y="0"/>
                    </a:moveTo>
                    <a:lnTo>
                      <a:pt x="0" y="715617"/>
                    </a:lnTo>
                    <a:lnTo>
                      <a:pt x="675861" y="1152939"/>
                    </a:lnTo>
                    <a:lnTo>
                      <a:pt x="675861" y="42738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78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91" name="任意多边形 18"/>
              <p:cNvSpPr/>
              <p:nvPr/>
            </p:nvSpPr>
            <p:spPr>
              <a:xfrm rot="10800000">
                <a:off x="5371200" y="2249640"/>
                <a:ext cx="929160" cy="1622520"/>
              </a:xfrm>
              <a:custGeom>
                <a:avLst/>
                <a:gdLst>
                  <a:gd name="textAreaLeft" fmla="*/ 0 w 929160"/>
                  <a:gd name="textAreaRight" fmla="*/ 929520 w 9291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665922" h="1162667">
                    <a:moveTo>
                      <a:pt x="0" y="417655"/>
                    </a:moveTo>
                    <a:lnTo>
                      <a:pt x="661058" y="0"/>
                    </a:lnTo>
                    <a:cubicBezTo>
                      <a:pt x="662679" y="231843"/>
                      <a:pt x="664301" y="463685"/>
                      <a:pt x="665922" y="695528"/>
                    </a:cubicBezTo>
                    <a:lnTo>
                      <a:pt x="9940" y="1162667"/>
                    </a:lnTo>
                    <a:lnTo>
                      <a:pt x="0" y="4176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sp>
        <p:nvSpPr>
          <p:cNvPr id="92" name="TextBox 27"/>
          <p:cNvSpPr/>
          <p:nvPr/>
        </p:nvSpPr>
        <p:spPr>
          <a:xfrm>
            <a:off x="1571760" y="223344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1571760" y="27313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612480" y="223344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612480" y="27313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4102200" y="557820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4172400" y="472752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5107320" y="30816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3225600" y="30621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425520" y="1095120"/>
            <a:ext cx="118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51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并列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2"/>
          <p:cNvGrpSpPr/>
          <p:nvPr/>
        </p:nvGrpSpPr>
        <p:grpSpPr>
          <a:xfrm>
            <a:off x="2545200" y="1705320"/>
            <a:ext cx="3900960" cy="3672000"/>
            <a:chOff x="2545200" y="1705320"/>
            <a:chExt cx="3900960" cy="3672000"/>
          </a:xfrm>
        </p:grpSpPr>
        <p:grpSp>
          <p:nvGrpSpPr>
            <p:cNvPr id="102" name="组合 18"/>
            <p:cNvGrpSpPr/>
            <p:nvPr/>
          </p:nvGrpSpPr>
          <p:grpSpPr>
            <a:xfrm>
              <a:off x="4574880" y="1705320"/>
              <a:ext cx="1871280" cy="3672000"/>
              <a:chOff x="4574880" y="1705320"/>
              <a:chExt cx="1871280" cy="3672000"/>
            </a:xfrm>
          </p:grpSpPr>
          <p:sp>
            <p:nvSpPr>
              <p:cNvPr id="103" name="任意多边形 12"/>
              <p:cNvSpPr/>
              <p:nvPr/>
            </p:nvSpPr>
            <p:spPr>
              <a:xfrm>
                <a:off x="4574880" y="1705320"/>
                <a:ext cx="1871280" cy="2825640"/>
              </a:xfrm>
              <a:custGeom>
                <a:avLst/>
                <a:gdLst>
                  <a:gd name="textAreaLeft" fmla="*/ 0 w 1871280"/>
                  <a:gd name="textAreaRight" fmla="*/ 1871640 w 1871280"/>
                  <a:gd name="textAreaTop" fmla="*/ 0 h 2825640"/>
                  <a:gd name="textAreaBottom" fmla="*/ 2826000 h 2825640"/>
                </a:gdLst>
                <a:ahLst/>
                <a:rect l="textAreaLeft" t="textAreaTop" r="textAreaRight" b="textAreaBottom"/>
                <a:pathLst>
                  <a:path w="965983" h="1458468">
                    <a:moveTo>
                      <a:pt x="5863" y="1458468"/>
                    </a:moveTo>
                    <a:cubicBezTo>
                      <a:pt x="148" y="1275588"/>
                      <a:pt x="-5567" y="1092708"/>
                      <a:pt x="10435" y="932688"/>
                    </a:cubicBezTo>
                    <a:cubicBezTo>
                      <a:pt x="26437" y="772668"/>
                      <a:pt x="50821" y="621030"/>
                      <a:pt x="101875" y="498348"/>
                    </a:cubicBezTo>
                    <a:cubicBezTo>
                      <a:pt x="152929" y="375666"/>
                      <a:pt x="229129" y="271272"/>
                      <a:pt x="316759" y="196596"/>
                    </a:cubicBezTo>
                    <a:cubicBezTo>
                      <a:pt x="404389" y="121920"/>
                      <a:pt x="509545" y="83820"/>
                      <a:pt x="627655" y="50292"/>
                    </a:cubicBezTo>
                    <a:lnTo>
                      <a:pt x="874543" y="9144"/>
                    </a:lnTo>
                    <a:cubicBezTo>
                      <a:pt x="930931" y="762"/>
                      <a:pt x="948457" y="381"/>
                      <a:pt x="965983" y="0"/>
                    </a:cubicBezTo>
                    <a:cubicBezTo>
                      <a:pt x="964459" y="21336"/>
                      <a:pt x="963697" y="19812"/>
                      <a:pt x="961411" y="64008"/>
                    </a:cubicBezTo>
                    <a:cubicBezTo>
                      <a:pt x="959125" y="108204"/>
                      <a:pt x="963697" y="198120"/>
                      <a:pt x="952267" y="265176"/>
                    </a:cubicBezTo>
                    <a:cubicBezTo>
                      <a:pt x="940837" y="332232"/>
                      <a:pt x="926359" y="405384"/>
                      <a:pt x="892831" y="466344"/>
                    </a:cubicBezTo>
                    <a:cubicBezTo>
                      <a:pt x="859303" y="527304"/>
                      <a:pt x="805963" y="581406"/>
                      <a:pt x="751099" y="630936"/>
                    </a:cubicBezTo>
                    <a:cubicBezTo>
                      <a:pt x="696235" y="680466"/>
                      <a:pt x="628417" y="713232"/>
                      <a:pt x="563647" y="763524"/>
                    </a:cubicBezTo>
                    <a:cubicBezTo>
                      <a:pt x="498877" y="813816"/>
                      <a:pt x="422677" y="875538"/>
                      <a:pt x="362479" y="932688"/>
                    </a:cubicBezTo>
                    <a:cubicBezTo>
                      <a:pt x="302281" y="989838"/>
                      <a:pt x="253513" y="1042416"/>
                      <a:pt x="202459" y="1106424"/>
                    </a:cubicBezTo>
                    <a:cubicBezTo>
                      <a:pt x="151405" y="1170432"/>
                      <a:pt x="101875" y="1255776"/>
                      <a:pt x="69871" y="1312164"/>
                    </a:cubicBezTo>
                    <a:lnTo>
                      <a:pt x="5863" y="14584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c57">
                      <a:alpha val="70196"/>
                    </a:srgbClr>
                  </a:gs>
                  <a:gs pos="100000">
                    <a:srgbClr val="3497ae">
                      <a:alpha val="50196"/>
                    </a:srgbClr>
                  </a:gs>
                </a:gsLst>
                <a:lin ang="120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04" name="任意多边形 13"/>
              <p:cNvSpPr/>
              <p:nvPr/>
            </p:nvSpPr>
            <p:spPr>
              <a:xfrm>
                <a:off x="4586040" y="3509280"/>
                <a:ext cx="1420200" cy="1868040"/>
              </a:xfrm>
              <a:custGeom>
                <a:avLst/>
                <a:gdLst>
                  <a:gd name="textAreaLeft" fmla="*/ 0 w 1420200"/>
                  <a:gd name="textAreaRight" fmla="*/ 1420560 w 142020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733044" h="964233">
                    <a:moveTo>
                      <a:pt x="306324" y="42975"/>
                    </a:moveTo>
                    <a:cubicBezTo>
                      <a:pt x="340614" y="15543"/>
                      <a:pt x="353568" y="12495"/>
                      <a:pt x="397764" y="6399"/>
                    </a:cubicBezTo>
                    <a:cubicBezTo>
                      <a:pt x="441960" y="303"/>
                      <a:pt x="517398" y="-4269"/>
                      <a:pt x="571500" y="6399"/>
                    </a:cubicBezTo>
                    <a:cubicBezTo>
                      <a:pt x="625602" y="17067"/>
                      <a:pt x="699516" y="33831"/>
                      <a:pt x="722376" y="70407"/>
                    </a:cubicBezTo>
                    <a:cubicBezTo>
                      <a:pt x="745236" y="106983"/>
                      <a:pt x="726948" y="170229"/>
                      <a:pt x="708660" y="225855"/>
                    </a:cubicBezTo>
                    <a:cubicBezTo>
                      <a:pt x="690372" y="281481"/>
                      <a:pt x="642366" y="334821"/>
                      <a:pt x="612648" y="404163"/>
                    </a:cubicBezTo>
                    <a:cubicBezTo>
                      <a:pt x="582930" y="473505"/>
                      <a:pt x="549402" y="553515"/>
                      <a:pt x="530352" y="641907"/>
                    </a:cubicBezTo>
                    <a:cubicBezTo>
                      <a:pt x="511302" y="730299"/>
                      <a:pt x="485394" y="870507"/>
                      <a:pt x="498348" y="934515"/>
                    </a:cubicBezTo>
                    <a:cubicBezTo>
                      <a:pt x="496824" y="940611"/>
                      <a:pt x="506730" y="948231"/>
                      <a:pt x="493776" y="952803"/>
                    </a:cubicBezTo>
                    <a:cubicBezTo>
                      <a:pt x="480822" y="957375"/>
                      <a:pt x="470916" y="961947"/>
                      <a:pt x="420624" y="961947"/>
                    </a:cubicBezTo>
                    <a:cubicBezTo>
                      <a:pt x="370332" y="961947"/>
                      <a:pt x="248412" y="971091"/>
                      <a:pt x="192024" y="952803"/>
                    </a:cubicBezTo>
                    <a:cubicBezTo>
                      <a:pt x="135636" y="934515"/>
                      <a:pt x="109728" y="894891"/>
                      <a:pt x="82296" y="852219"/>
                    </a:cubicBezTo>
                    <a:cubicBezTo>
                      <a:pt x="54864" y="809547"/>
                      <a:pt x="41148" y="751635"/>
                      <a:pt x="27432" y="696771"/>
                    </a:cubicBezTo>
                    <a:cubicBezTo>
                      <a:pt x="13716" y="641907"/>
                      <a:pt x="6858" y="582471"/>
                      <a:pt x="0" y="523035"/>
                    </a:cubicBezTo>
                    <a:cubicBezTo>
                      <a:pt x="18288" y="480363"/>
                      <a:pt x="22860" y="453693"/>
                      <a:pt x="54864" y="395019"/>
                    </a:cubicBezTo>
                    <a:cubicBezTo>
                      <a:pt x="86868" y="336345"/>
                      <a:pt x="147828" y="231951"/>
                      <a:pt x="192024" y="170991"/>
                    </a:cubicBezTo>
                    <a:cubicBezTo>
                      <a:pt x="236220" y="110031"/>
                      <a:pt x="272034" y="70407"/>
                      <a:pt x="306324" y="42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93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  <p:grpSp>
          <p:nvGrpSpPr>
            <p:cNvPr id="105" name="组合 19"/>
            <p:cNvGrpSpPr/>
            <p:nvPr/>
          </p:nvGrpSpPr>
          <p:grpSpPr>
            <a:xfrm>
              <a:off x="2545200" y="1705320"/>
              <a:ext cx="1848600" cy="3672000"/>
              <a:chOff x="2545200" y="1705320"/>
              <a:chExt cx="1848600" cy="3672000"/>
            </a:xfrm>
          </p:grpSpPr>
          <p:sp>
            <p:nvSpPr>
              <p:cNvPr id="106" name="任意多边形 20"/>
              <p:cNvSpPr/>
              <p:nvPr/>
            </p:nvSpPr>
            <p:spPr>
              <a:xfrm flipH="1">
                <a:off x="2544840" y="1705320"/>
                <a:ext cx="1848600" cy="2825640"/>
              </a:xfrm>
              <a:custGeom>
                <a:avLst/>
                <a:gdLst>
                  <a:gd name="textAreaLeft" fmla="*/ -360 w 1848600"/>
                  <a:gd name="textAreaRight" fmla="*/ 1848600 w 1848600"/>
                  <a:gd name="textAreaTop" fmla="*/ 0 h 2825640"/>
                  <a:gd name="textAreaBottom" fmla="*/ 2826000 h 2825640"/>
                </a:gdLst>
                <a:ahLst/>
                <a:rect l="textAreaLeft" t="textAreaTop" r="textAreaRight" b="textAreaBottom"/>
                <a:pathLst>
                  <a:path w="965983" h="1458468">
                    <a:moveTo>
                      <a:pt x="5863" y="1458468"/>
                    </a:moveTo>
                    <a:cubicBezTo>
                      <a:pt x="148" y="1275588"/>
                      <a:pt x="-5567" y="1092708"/>
                      <a:pt x="10435" y="932688"/>
                    </a:cubicBezTo>
                    <a:cubicBezTo>
                      <a:pt x="26437" y="772668"/>
                      <a:pt x="50821" y="621030"/>
                      <a:pt x="101875" y="498348"/>
                    </a:cubicBezTo>
                    <a:cubicBezTo>
                      <a:pt x="152929" y="375666"/>
                      <a:pt x="229129" y="271272"/>
                      <a:pt x="316759" y="196596"/>
                    </a:cubicBezTo>
                    <a:cubicBezTo>
                      <a:pt x="404389" y="121920"/>
                      <a:pt x="509545" y="83820"/>
                      <a:pt x="627655" y="50292"/>
                    </a:cubicBezTo>
                    <a:lnTo>
                      <a:pt x="874543" y="9144"/>
                    </a:lnTo>
                    <a:cubicBezTo>
                      <a:pt x="930931" y="762"/>
                      <a:pt x="948457" y="381"/>
                      <a:pt x="965983" y="0"/>
                    </a:cubicBezTo>
                    <a:cubicBezTo>
                      <a:pt x="964459" y="21336"/>
                      <a:pt x="963697" y="19812"/>
                      <a:pt x="961411" y="64008"/>
                    </a:cubicBezTo>
                    <a:cubicBezTo>
                      <a:pt x="959125" y="108204"/>
                      <a:pt x="963697" y="198120"/>
                      <a:pt x="952267" y="265176"/>
                    </a:cubicBezTo>
                    <a:cubicBezTo>
                      <a:pt x="940837" y="332232"/>
                      <a:pt x="926359" y="405384"/>
                      <a:pt x="892831" y="466344"/>
                    </a:cubicBezTo>
                    <a:cubicBezTo>
                      <a:pt x="859303" y="527304"/>
                      <a:pt x="805963" y="581406"/>
                      <a:pt x="751099" y="630936"/>
                    </a:cubicBezTo>
                    <a:cubicBezTo>
                      <a:pt x="696235" y="680466"/>
                      <a:pt x="628417" y="713232"/>
                      <a:pt x="563647" y="763524"/>
                    </a:cubicBezTo>
                    <a:cubicBezTo>
                      <a:pt x="498877" y="813816"/>
                      <a:pt x="422677" y="875538"/>
                      <a:pt x="362479" y="932688"/>
                    </a:cubicBezTo>
                    <a:cubicBezTo>
                      <a:pt x="302281" y="989838"/>
                      <a:pt x="253513" y="1042416"/>
                      <a:pt x="202459" y="1106424"/>
                    </a:cubicBezTo>
                    <a:cubicBezTo>
                      <a:pt x="151405" y="1170432"/>
                      <a:pt x="101875" y="1255776"/>
                      <a:pt x="69871" y="1312164"/>
                    </a:cubicBezTo>
                    <a:lnTo>
                      <a:pt x="5863" y="14584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c57">
                      <a:alpha val="70196"/>
                    </a:srgbClr>
                  </a:gs>
                  <a:gs pos="100000">
                    <a:srgbClr val="3497ae">
                      <a:alpha val="50196"/>
                    </a:srgbClr>
                  </a:gs>
                </a:gsLst>
                <a:lin ang="204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07" name="任意多边形 21"/>
              <p:cNvSpPr/>
              <p:nvPr/>
            </p:nvSpPr>
            <p:spPr>
              <a:xfrm flipH="1">
                <a:off x="2979720" y="3509280"/>
                <a:ext cx="1402920" cy="1868040"/>
              </a:xfrm>
              <a:custGeom>
                <a:avLst/>
                <a:gdLst>
                  <a:gd name="textAreaLeft" fmla="*/ -360 w 1402920"/>
                  <a:gd name="textAreaRight" fmla="*/ 1402920 w 140292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733044" h="964233">
                    <a:moveTo>
                      <a:pt x="306324" y="42975"/>
                    </a:moveTo>
                    <a:cubicBezTo>
                      <a:pt x="340614" y="15543"/>
                      <a:pt x="353568" y="12495"/>
                      <a:pt x="397764" y="6399"/>
                    </a:cubicBezTo>
                    <a:cubicBezTo>
                      <a:pt x="441960" y="303"/>
                      <a:pt x="517398" y="-4269"/>
                      <a:pt x="571500" y="6399"/>
                    </a:cubicBezTo>
                    <a:cubicBezTo>
                      <a:pt x="625602" y="17067"/>
                      <a:pt x="699516" y="33831"/>
                      <a:pt x="722376" y="70407"/>
                    </a:cubicBezTo>
                    <a:cubicBezTo>
                      <a:pt x="745236" y="106983"/>
                      <a:pt x="726948" y="170229"/>
                      <a:pt x="708660" y="225855"/>
                    </a:cubicBezTo>
                    <a:cubicBezTo>
                      <a:pt x="690372" y="281481"/>
                      <a:pt x="642366" y="334821"/>
                      <a:pt x="612648" y="404163"/>
                    </a:cubicBezTo>
                    <a:cubicBezTo>
                      <a:pt x="582930" y="473505"/>
                      <a:pt x="549402" y="553515"/>
                      <a:pt x="530352" y="641907"/>
                    </a:cubicBezTo>
                    <a:cubicBezTo>
                      <a:pt x="511302" y="730299"/>
                      <a:pt x="485394" y="870507"/>
                      <a:pt x="498348" y="934515"/>
                    </a:cubicBezTo>
                    <a:cubicBezTo>
                      <a:pt x="496824" y="940611"/>
                      <a:pt x="506730" y="948231"/>
                      <a:pt x="493776" y="952803"/>
                    </a:cubicBezTo>
                    <a:cubicBezTo>
                      <a:pt x="480822" y="957375"/>
                      <a:pt x="470916" y="961947"/>
                      <a:pt x="420624" y="961947"/>
                    </a:cubicBezTo>
                    <a:cubicBezTo>
                      <a:pt x="370332" y="961947"/>
                      <a:pt x="248412" y="971091"/>
                      <a:pt x="192024" y="952803"/>
                    </a:cubicBezTo>
                    <a:cubicBezTo>
                      <a:pt x="135636" y="934515"/>
                      <a:pt x="109728" y="894891"/>
                      <a:pt x="82296" y="852219"/>
                    </a:cubicBezTo>
                    <a:cubicBezTo>
                      <a:pt x="54864" y="809547"/>
                      <a:pt x="41148" y="751635"/>
                      <a:pt x="27432" y="696771"/>
                    </a:cubicBezTo>
                    <a:cubicBezTo>
                      <a:pt x="13716" y="641907"/>
                      <a:pt x="6858" y="582471"/>
                      <a:pt x="0" y="523035"/>
                    </a:cubicBezTo>
                    <a:cubicBezTo>
                      <a:pt x="18288" y="480363"/>
                      <a:pt x="22860" y="453693"/>
                      <a:pt x="54864" y="395019"/>
                    </a:cubicBezTo>
                    <a:cubicBezTo>
                      <a:pt x="86868" y="336345"/>
                      <a:pt x="147828" y="231951"/>
                      <a:pt x="192024" y="170991"/>
                    </a:cubicBezTo>
                    <a:cubicBezTo>
                      <a:pt x="236220" y="110031"/>
                      <a:pt x="272034" y="70407"/>
                      <a:pt x="306324" y="42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5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sp>
        <p:nvSpPr>
          <p:cNvPr id="108" name="TextBox 23"/>
          <p:cNvSpPr/>
          <p:nvPr/>
        </p:nvSpPr>
        <p:spPr>
          <a:xfrm>
            <a:off x="425520" y="692640"/>
            <a:ext cx="118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51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突出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801720" y="16063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801720" y="210420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6"/>
          <p:cNvSpPr/>
          <p:nvPr/>
        </p:nvSpPr>
        <p:spPr>
          <a:xfrm>
            <a:off x="3225600" y="25005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7"/>
          <p:cNvSpPr/>
          <p:nvPr/>
        </p:nvSpPr>
        <p:spPr>
          <a:xfrm>
            <a:off x="5130360" y="25005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3553560" y="424332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5052960" y="425052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30"/>
          <p:cNvSpPr/>
          <p:nvPr/>
        </p:nvSpPr>
        <p:spPr>
          <a:xfrm>
            <a:off x="1678320" y="1712880"/>
            <a:ext cx="763560" cy="360"/>
          </a:xfrm>
          <a:custGeom>
            <a:avLst/>
            <a:gdLst>
              <a:gd name="textAreaLeft" fmla="*/ 0 w 763560"/>
              <a:gd name="textAreaRight" fmla="*/ 763920 w 763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3929" h="0">
                <a:moveTo>
                  <a:pt x="763929" y="0"/>
                </a:moveTo>
                <a:lnTo>
                  <a:pt x="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headEnd len="med" type="oval" w="med"/>
            <a:tailEnd len="med" type="oval" w="med"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31"/>
          <p:cNvSpPr/>
          <p:nvPr/>
        </p:nvSpPr>
        <p:spPr>
          <a:xfrm>
            <a:off x="6516360" y="1712880"/>
            <a:ext cx="763560" cy="360"/>
          </a:xfrm>
          <a:custGeom>
            <a:avLst/>
            <a:gdLst>
              <a:gd name="textAreaLeft" fmla="*/ 0 w 763560"/>
              <a:gd name="textAreaRight" fmla="*/ 763920 w 763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3929" h="0">
                <a:moveTo>
                  <a:pt x="763929" y="0"/>
                </a:moveTo>
                <a:lnTo>
                  <a:pt x="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headEnd len="med" type="oval" w="med"/>
            <a:tailEnd len="med" type="oval" w="med"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7448400" y="160632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7448400" y="2104200"/>
            <a:ext cx="66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61880" y="61509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0"/>
          <p:cNvGrpSpPr/>
          <p:nvPr/>
        </p:nvGrpSpPr>
        <p:grpSpPr>
          <a:xfrm>
            <a:off x="2665080" y="1607760"/>
            <a:ext cx="3786840" cy="3848400"/>
            <a:chOff x="2665080" y="1607760"/>
            <a:chExt cx="3786840" cy="3848400"/>
          </a:xfrm>
        </p:grpSpPr>
        <p:sp>
          <p:nvSpPr>
            <p:cNvPr id="121" name="六边形 3"/>
            <p:cNvSpPr/>
            <p:nvPr/>
          </p:nvSpPr>
          <p:spPr>
            <a:xfrm>
              <a:off x="3873960" y="160776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1a4c57">
                    <a:alpha val="70196"/>
                  </a:srgbClr>
                </a:gs>
                <a:gs pos="100000">
                  <a:srgbClr val="3497ae">
                    <a:alpha val="50196"/>
                  </a:srgbClr>
                </a:gs>
              </a:gsLst>
              <a:lin ang="54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22" name="六边形 4"/>
            <p:cNvSpPr/>
            <p:nvPr/>
          </p:nvSpPr>
          <p:spPr>
            <a:xfrm>
              <a:off x="3865680" y="294192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2">
                <a:lumMod val="50000"/>
              </a:schemeClr>
            </a:solidFill>
            <a:ln w="3175">
              <a:solidFill>
                <a:srgbClr val="ffffff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5000"/>
                </a:lnSpc>
              </a:pPr>
              <a:endParaRPr b="0" lang="en-US" sz="1300" spc="-1" strike="noStrike">
                <a:solidFill>
                  <a:srgbClr val="ffffff"/>
                </a:solidFill>
                <a:latin typeface="Segoe"/>
              </a:endParaRPr>
            </a:p>
          </p:txBody>
        </p:sp>
        <p:sp>
          <p:nvSpPr>
            <p:cNvPr id="123" name="六边形 5"/>
            <p:cNvSpPr/>
            <p:nvPr/>
          </p:nvSpPr>
          <p:spPr>
            <a:xfrm>
              <a:off x="5062320" y="228744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90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24" name="六边形 6"/>
            <p:cNvSpPr/>
            <p:nvPr/>
          </p:nvSpPr>
          <p:spPr>
            <a:xfrm>
              <a:off x="5062320" y="361296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3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25" name="六边形 7"/>
            <p:cNvSpPr/>
            <p:nvPr/>
          </p:nvSpPr>
          <p:spPr>
            <a:xfrm>
              <a:off x="3865680" y="425808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1a4c57">
                    <a:alpha val="70196"/>
                  </a:srgbClr>
                </a:gs>
                <a:gs pos="100000">
                  <a:srgbClr val="3497ae">
                    <a:alpha val="50196"/>
                  </a:srgbClr>
                </a:gs>
              </a:gsLst>
              <a:lin ang="16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26" name="六边形 8"/>
            <p:cNvSpPr/>
            <p:nvPr/>
          </p:nvSpPr>
          <p:spPr>
            <a:xfrm>
              <a:off x="2684880" y="227916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8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27" name="六边形 9"/>
            <p:cNvSpPr/>
            <p:nvPr/>
          </p:nvSpPr>
          <p:spPr>
            <a:xfrm>
              <a:off x="2665080" y="3596400"/>
              <a:ext cx="1389600" cy="1198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198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sp>
        <p:nvSpPr>
          <p:cNvPr id="128" name="TextBox 20"/>
          <p:cNvSpPr/>
          <p:nvPr/>
        </p:nvSpPr>
        <p:spPr>
          <a:xfrm>
            <a:off x="374040" y="1095120"/>
            <a:ext cx="118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51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分散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4260240" y="205668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4286880" y="33102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4260240" y="461124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5413320" y="268668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5436720" y="401220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9"/>
          <p:cNvSpPr/>
          <p:nvPr/>
        </p:nvSpPr>
        <p:spPr>
          <a:xfrm>
            <a:off x="3040560" y="397764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0"/>
          <p:cNvSpPr/>
          <p:nvPr/>
        </p:nvSpPr>
        <p:spPr>
          <a:xfrm>
            <a:off x="3040560" y="2678040"/>
            <a:ext cx="638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917640" y="4293000"/>
            <a:ext cx="7344360" cy="1162800"/>
          </a:xfrm>
          <a:custGeom>
            <a:avLst/>
            <a:gdLst>
              <a:gd name="textAreaLeft" fmla="*/ 0 w 7344360"/>
              <a:gd name="textAreaRight" fmla="*/ 7344720 w 7344360"/>
              <a:gd name="textAreaTop" fmla="*/ 0 h 1162800"/>
              <a:gd name="textAreaBottom" fmla="*/ 1163160 h 1162800"/>
            </a:gdLst>
            <a:ahLst/>
            <a:rect l="textAreaLeft" t="textAreaTop" r="textAreaRight" b="textAreaBottom"/>
            <a:pathLst>
              <a:path w="7344816" h="1163201">
                <a:moveTo>
                  <a:pt x="1087821" y="15766"/>
                </a:moveTo>
                <a:lnTo>
                  <a:pt x="5957450" y="0"/>
                </a:lnTo>
                <a:lnTo>
                  <a:pt x="7344816" y="1163201"/>
                </a:lnTo>
                <a:lnTo>
                  <a:pt x="0" y="1163201"/>
                </a:lnTo>
                <a:lnTo>
                  <a:pt x="1087821" y="157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15600000"/>
          </a:gra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grpSp>
        <p:nvGrpSpPr>
          <p:cNvPr id="137" name="组合 147"/>
          <p:cNvGrpSpPr/>
          <p:nvPr/>
        </p:nvGrpSpPr>
        <p:grpSpPr>
          <a:xfrm>
            <a:off x="1973880" y="3939840"/>
            <a:ext cx="652320" cy="1082880"/>
            <a:chOff x="1973880" y="3939840"/>
            <a:chExt cx="652320" cy="1082880"/>
          </a:xfrm>
        </p:grpSpPr>
        <p:sp>
          <p:nvSpPr>
            <p:cNvPr id="138" name="椭圆 1"/>
            <p:cNvSpPr/>
            <p:nvPr/>
          </p:nvSpPr>
          <p:spPr>
            <a:xfrm rot="16200000">
              <a:off x="2152080" y="4548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39" name="椭圆 1"/>
            <p:cNvSpPr/>
            <p:nvPr/>
          </p:nvSpPr>
          <p:spPr>
            <a:xfrm rot="16200000">
              <a:off x="2152080" y="4497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0" name="椭圆 1"/>
            <p:cNvSpPr/>
            <p:nvPr/>
          </p:nvSpPr>
          <p:spPr>
            <a:xfrm rot="16200000">
              <a:off x="2152080" y="4447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1" name="椭圆 1"/>
            <p:cNvSpPr/>
            <p:nvPr/>
          </p:nvSpPr>
          <p:spPr>
            <a:xfrm rot="16200000">
              <a:off x="2152080" y="4408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2" name="椭圆 1"/>
            <p:cNvSpPr/>
            <p:nvPr/>
          </p:nvSpPr>
          <p:spPr>
            <a:xfrm rot="16200000">
              <a:off x="2152080" y="4459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3" name="椭圆 1"/>
            <p:cNvSpPr/>
            <p:nvPr/>
          </p:nvSpPr>
          <p:spPr>
            <a:xfrm rot="16200000">
              <a:off x="2152080" y="4370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4" name="椭圆 1"/>
            <p:cNvSpPr/>
            <p:nvPr/>
          </p:nvSpPr>
          <p:spPr>
            <a:xfrm rot="16200000">
              <a:off x="2152080" y="4345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5" name="椭圆 1"/>
            <p:cNvSpPr/>
            <p:nvPr/>
          </p:nvSpPr>
          <p:spPr>
            <a:xfrm rot="16200000">
              <a:off x="2152080" y="4294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6" name="椭圆 1"/>
            <p:cNvSpPr/>
            <p:nvPr/>
          </p:nvSpPr>
          <p:spPr>
            <a:xfrm rot="16200000">
              <a:off x="2152080" y="4243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7" name="椭圆 1"/>
            <p:cNvSpPr/>
            <p:nvPr/>
          </p:nvSpPr>
          <p:spPr>
            <a:xfrm rot="16200000">
              <a:off x="2152080" y="42055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8" name="椭圆 1"/>
            <p:cNvSpPr/>
            <p:nvPr/>
          </p:nvSpPr>
          <p:spPr>
            <a:xfrm rot="16200000">
              <a:off x="2152080" y="4256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49" name="椭圆 1"/>
            <p:cNvSpPr/>
            <p:nvPr/>
          </p:nvSpPr>
          <p:spPr>
            <a:xfrm rot="16200000">
              <a:off x="2152080" y="41677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50" name="椭圆 1"/>
            <p:cNvSpPr/>
            <p:nvPr/>
          </p:nvSpPr>
          <p:spPr>
            <a:xfrm rot="16200000">
              <a:off x="2152080" y="4142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151" name="椭圆 1"/>
            <p:cNvSpPr/>
            <p:nvPr/>
          </p:nvSpPr>
          <p:spPr>
            <a:xfrm rot="16200000">
              <a:off x="2152080" y="4091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grpSp>
          <p:nvGrpSpPr>
            <p:cNvPr id="152" name="组合 135"/>
            <p:cNvGrpSpPr/>
            <p:nvPr/>
          </p:nvGrpSpPr>
          <p:grpSpPr>
            <a:xfrm>
              <a:off x="1973880" y="3939840"/>
              <a:ext cx="652320" cy="587520"/>
              <a:chOff x="1973880" y="3939840"/>
              <a:chExt cx="652320" cy="587520"/>
            </a:xfrm>
          </p:grpSpPr>
          <p:sp>
            <p:nvSpPr>
              <p:cNvPr id="153" name="椭圆 1"/>
              <p:cNvSpPr/>
              <p:nvPr/>
            </p:nvSpPr>
            <p:spPr>
              <a:xfrm rot="16200000">
                <a:off x="2152080" y="40406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4" name="椭圆 1"/>
              <p:cNvSpPr/>
              <p:nvPr/>
            </p:nvSpPr>
            <p:spPr>
              <a:xfrm rot="16200000">
                <a:off x="2152080" y="40024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5" name="椭圆 1"/>
              <p:cNvSpPr/>
              <p:nvPr/>
            </p:nvSpPr>
            <p:spPr>
              <a:xfrm rot="16200000">
                <a:off x="2152080" y="4053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6" name="椭圆 1"/>
              <p:cNvSpPr/>
              <p:nvPr/>
            </p:nvSpPr>
            <p:spPr>
              <a:xfrm rot="16200000">
                <a:off x="2152080" y="39643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7" name="椭圆 1"/>
              <p:cNvSpPr/>
              <p:nvPr/>
            </p:nvSpPr>
            <p:spPr>
              <a:xfrm rot="16200000">
                <a:off x="2152080" y="3939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8" name="椭圆 1"/>
              <p:cNvSpPr/>
              <p:nvPr/>
            </p:nvSpPr>
            <p:spPr>
              <a:xfrm rot="16200000">
                <a:off x="2152080" y="3888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59" name="椭圆 1"/>
              <p:cNvSpPr/>
              <p:nvPr/>
            </p:nvSpPr>
            <p:spPr>
              <a:xfrm rot="16200000">
                <a:off x="2152080" y="3837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0" name="椭圆 1"/>
              <p:cNvSpPr/>
              <p:nvPr/>
            </p:nvSpPr>
            <p:spPr>
              <a:xfrm rot="16200000">
                <a:off x="2152080" y="3799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1" name="椭圆 1"/>
              <p:cNvSpPr/>
              <p:nvPr/>
            </p:nvSpPr>
            <p:spPr>
              <a:xfrm rot="16200000">
                <a:off x="2152080" y="3850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2" name="椭圆 1"/>
              <p:cNvSpPr/>
              <p:nvPr/>
            </p:nvSpPr>
            <p:spPr>
              <a:xfrm rot="16200000">
                <a:off x="2152080" y="3761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6617">
                      <a:alpha val="70196"/>
                    </a:srgbClr>
                  </a:gs>
                  <a:gs pos="100000">
                    <a:srgbClr val="7dcc2e">
                      <a:alpha val="50196"/>
                    </a:srgbClr>
                  </a:gs>
                </a:gsLst>
                <a:lin ang="36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8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grpSp>
        <p:nvGrpSpPr>
          <p:cNvPr id="163" name="组合 84"/>
          <p:cNvGrpSpPr/>
          <p:nvPr/>
        </p:nvGrpSpPr>
        <p:grpSpPr>
          <a:xfrm>
            <a:off x="2843640" y="3114360"/>
            <a:ext cx="652320" cy="1908360"/>
            <a:chOff x="2843640" y="3114360"/>
            <a:chExt cx="652320" cy="1908360"/>
          </a:xfrm>
        </p:grpSpPr>
        <p:grpSp>
          <p:nvGrpSpPr>
            <p:cNvPr id="164" name="组合 34"/>
            <p:cNvGrpSpPr/>
            <p:nvPr/>
          </p:nvGrpSpPr>
          <p:grpSpPr>
            <a:xfrm>
              <a:off x="2843640" y="3939840"/>
              <a:ext cx="652320" cy="1082880"/>
              <a:chOff x="2843640" y="3939840"/>
              <a:chExt cx="652320" cy="1082880"/>
            </a:xfrm>
          </p:grpSpPr>
          <p:sp>
            <p:nvSpPr>
              <p:cNvPr id="165" name="椭圆 1"/>
              <p:cNvSpPr/>
              <p:nvPr/>
            </p:nvSpPr>
            <p:spPr>
              <a:xfrm rot="16200000">
                <a:off x="3021840" y="4548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6" name="椭圆 1"/>
              <p:cNvSpPr/>
              <p:nvPr/>
            </p:nvSpPr>
            <p:spPr>
              <a:xfrm rot="16200000">
                <a:off x="3021840" y="44978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7" name="椭圆 1"/>
              <p:cNvSpPr/>
              <p:nvPr/>
            </p:nvSpPr>
            <p:spPr>
              <a:xfrm rot="16200000">
                <a:off x="3021840" y="4447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8" name="椭圆 1"/>
              <p:cNvSpPr/>
              <p:nvPr/>
            </p:nvSpPr>
            <p:spPr>
              <a:xfrm rot="16200000">
                <a:off x="3021840" y="44089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69" name="椭圆 1"/>
              <p:cNvSpPr/>
              <p:nvPr/>
            </p:nvSpPr>
            <p:spPr>
              <a:xfrm rot="16200000">
                <a:off x="3021840" y="4459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0" name="椭圆 1"/>
              <p:cNvSpPr/>
              <p:nvPr/>
            </p:nvSpPr>
            <p:spPr>
              <a:xfrm rot="16200000">
                <a:off x="3021840" y="4370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1" name="椭圆 1"/>
              <p:cNvSpPr/>
              <p:nvPr/>
            </p:nvSpPr>
            <p:spPr>
              <a:xfrm rot="16200000">
                <a:off x="3021840" y="4345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2" name="椭圆 1"/>
              <p:cNvSpPr/>
              <p:nvPr/>
            </p:nvSpPr>
            <p:spPr>
              <a:xfrm rot="16200000">
                <a:off x="3021840" y="42944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3" name="椭圆 1"/>
              <p:cNvSpPr/>
              <p:nvPr/>
            </p:nvSpPr>
            <p:spPr>
              <a:xfrm rot="16200000">
                <a:off x="3021840" y="4243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4" name="椭圆 1"/>
              <p:cNvSpPr/>
              <p:nvPr/>
            </p:nvSpPr>
            <p:spPr>
              <a:xfrm rot="16200000">
                <a:off x="3021840" y="42055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5" name="椭圆 1"/>
              <p:cNvSpPr/>
              <p:nvPr/>
            </p:nvSpPr>
            <p:spPr>
              <a:xfrm rot="16200000">
                <a:off x="3021840" y="4256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6" name="椭圆 1"/>
              <p:cNvSpPr/>
              <p:nvPr/>
            </p:nvSpPr>
            <p:spPr>
              <a:xfrm rot="16200000">
                <a:off x="3021840" y="4167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7" name="椭圆 1"/>
              <p:cNvSpPr/>
              <p:nvPr/>
            </p:nvSpPr>
            <p:spPr>
              <a:xfrm rot="16200000">
                <a:off x="3021840" y="41421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8" name="椭圆 1"/>
              <p:cNvSpPr/>
              <p:nvPr/>
            </p:nvSpPr>
            <p:spPr>
              <a:xfrm rot="16200000">
                <a:off x="3021840" y="40914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79" name="椭圆 1"/>
              <p:cNvSpPr/>
              <p:nvPr/>
            </p:nvSpPr>
            <p:spPr>
              <a:xfrm rot="16200000">
                <a:off x="3021840" y="40406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0" name="椭圆 1"/>
              <p:cNvSpPr/>
              <p:nvPr/>
            </p:nvSpPr>
            <p:spPr>
              <a:xfrm rot="16200000">
                <a:off x="3021840" y="40024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1" name="椭圆 1"/>
              <p:cNvSpPr/>
              <p:nvPr/>
            </p:nvSpPr>
            <p:spPr>
              <a:xfrm rot="16200000">
                <a:off x="3021840" y="4053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2" name="椭圆 1"/>
              <p:cNvSpPr/>
              <p:nvPr/>
            </p:nvSpPr>
            <p:spPr>
              <a:xfrm rot="16200000">
                <a:off x="3021840" y="39643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3" name="椭圆 1"/>
              <p:cNvSpPr/>
              <p:nvPr/>
            </p:nvSpPr>
            <p:spPr>
              <a:xfrm rot="16200000">
                <a:off x="3021840" y="3939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4" name="椭圆 1"/>
              <p:cNvSpPr/>
              <p:nvPr/>
            </p:nvSpPr>
            <p:spPr>
              <a:xfrm rot="16200000">
                <a:off x="3021840" y="3888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5" name="椭圆 1"/>
              <p:cNvSpPr/>
              <p:nvPr/>
            </p:nvSpPr>
            <p:spPr>
              <a:xfrm rot="16200000">
                <a:off x="3021840" y="3837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6" name="椭圆 1"/>
              <p:cNvSpPr/>
              <p:nvPr/>
            </p:nvSpPr>
            <p:spPr>
              <a:xfrm rot="16200000">
                <a:off x="3021840" y="3799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7" name="椭圆 1"/>
              <p:cNvSpPr/>
              <p:nvPr/>
            </p:nvSpPr>
            <p:spPr>
              <a:xfrm rot="16200000">
                <a:off x="3021840" y="3850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88" name="椭圆 1"/>
              <p:cNvSpPr/>
              <p:nvPr/>
            </p:nvSpPr>
            <p:spPr>
              <a:xfrm rot="16200000">
                <a:off x="3021840" y="3761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  <p:grpSp>
          <p:nvGrpSpPr>
            <p:cNvPr id="189" name="组合 59"/>
            <p:cNvGrpSpPr/>
            <p:nvPr/>
          </p:nvGrpSpPr>
          <p:grpSpPr>
            <a:xfrm>
              <a:off x="2843640" y="3114360"/>
              <a:ext cx="652320" cy="1082880"/>
              <a:chOff x="2843640" y="3114360"/>
              <a:chExt cx="652320" cy="1082880"/>
            </a:xfrm>
          </p:grpSpPr>
          <p:sp>
            <p:nvSpPr>
              <p:cNvPr id="190" name="椭圆 1"/>
              <p:cNvSpPr/>
              <p:nvPr/>
            </p:nvSpPr>
            <p:spPr>
              <a:xfrm rot="16200000">
                <a:off x="3021840" y="3723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1" name="椭圆 1"/>
              <p:cNvSpPr/>
              <p:nvPr/>
            </p:nvSpPr>
            <p:spPr>
              <a:xfrm rot="16200000">
                <a:off x="3021840" y="36723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2" name="椭圆 1"/>
              <p:cNvSpPr/>
              <p:nvPr/>
            </p:nvSpPr>
            <p:spPr>
              <a:xfrm rot="16200000">
                <a:off x="3021840" y="3621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3" name="椭圆 1"/>
              <p:cNvSpPr/>
              <p:nvPr/>
            </p:nvSpPr>
            <p:spPr>
              <a:xfrm rot="16200000">
                <a:off x="3021840" y="35834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4" name="椭圆 1"/>
              <p:cNvSpPr/>
              <p:nvPr/>
            </p:nvSpPr>
            <p:spPr>
              <a:xfrm rot="16200000">
                <a:off x="3021840" y="3634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5" name="椭圆 1"/>
              <p:cNvSpPr/>
              <p:nvPr/>
            </p:nvSpPr>
            <p:spPr>
              <a:xfrm rot="16200000">
                <a:off x="3021840" y="3545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6" name="椭圆 1"/>
              <p:cNvSpPr/>
              <p:nvPr/>
            </p:nvSpPr>
            <p:spPr>
              <a:xfrm rot="16200000">
                <a:off x="3021840" y="3519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7" name="椭圆 1"/>
              <p:cNvSpPr/>
              <p:nvPr/>
            </p:nvSpPr>
            <p:spPr>
              <a:xfrm rot="16200000">
                <a:off x="3021840" y="34689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8" name="椭圆 1"/>
              <p:cNvSpPr/>
              <p:nvPr/>
            </p:nvSpPr>
            <p:spPr>
              <a:xfrm rot="16200000">
                <a:off x="3021840" y="3418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199" name="椭圆 1"/>
              <p:cNvSpPr/>
              <p:nvPr/>
            </p:nvSpPr>
            <p:spPr>
              <a:xfrm rot="16200000">
                <a:off x="3021840" y="33800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0" name="椭圆 1"/>
              <p:cNvSpPr/>
              <p:nvPr/>
            </p:nvSpPr>
            <p:spPr>
              <a:xfrm rot="16200000">
                <a:off x="3021840" y="34308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1" name="椭圆 1"/>
              <p:cNvSpPr/>
              <p:nvPr/>
            </p:nvSpPr>
            <p:spPr>
              <a:xfrm rot="16200000">
                <a:off x="3021840" y="33418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2" name="椭圆 1"/>
              <p:cNvSpPr/>
              <p:nvPr/>
            </p:nvSpPr>
            <p:spPr>
              <a:xfrm rot="16200000">
                <a:off x="3021840" y="3316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3" name="椭圆 1"/>
              <p:cNvSpPr/>
              <p:nvPr/>
            </p:nvSpPr>
            <p:spPr>
              <a:xfrm rot="16200000">
                <a:off x="3021840" y="32659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4" name="椭圆 1"/>
              <p:cNvSpPr/>
              <p:nvPr/>
            </p:nvSpPr>
            <p:spPr>
              <a:xfrm rot="16200000">
                <a:off x="3021840" y="32151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5" name="椭圆 1"/>
              <p:cNvSpPr/>
              <p:nvPr/>
            </p:nvSpPr>
            <p:spPr>
              <a:xfrm rot="16200000">
                <a:off x="3021840" y="3177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6" name="椭圆 1"/>
              <p:cNvSpPr/>
              <p:nvPr/>
            </p:nvSpPr>
            <p:spPr>
              <a:xfrm rot="16200000">
                <a:off x="3021840" y="3227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7" name="椭圆 1"/>
              <p:cNvSpPr/>
              <p:nvPr/>
            </p:nvSpPr>
            <p:spPr>
              <a:xfrm rot="16200000">
                <a:off x="3021840" y="31388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8" name="椭圆 1"/>
              <p:cNvSpPr/>
              <p:nvPr/>
            </p:nvSpPr>
            <p:spPr>
              <a:xfrm rot="16200000">
                <a:off x="3021840" y="3113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09" name="椭圆 1"/>
              <p:cNvSpPr/>
              <p:nvPr/>
            </p:nvSpPr>
            <p:spPr>
              <a:xfrm rot="16200000">
                <a:off x="3021840" y="30625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10" name="椭圆 1"/>
              <p:cNvSpPr/>
              <p:nvPr/>
            </p:nvSpPr>
            <p:spPr>
              <a:xfrm rot="16200000">
                <a:off x="3021840" y="3011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11" name="椭圆 1"/>
              <p:cNvSpPr/>
              <p:nvPr/>
            </p:nvSpPr>
            <p:spPr>
              <a:xfrm rot="16200000">
                <a:off x="3021840" y="2973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12" name="椭圆 1"/>
              <p:cNvSpPr/>
              <p:nvPr/>
            </p:nvSpPr>
            <p:spPr>
              <a:xfrm rot="16200000">
                <a:off x="3021840" y="3024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13" name="椭圆 1"/>
              <p:cNvSpPr/>
              <p:nvPr/>
            </p:nvSpPr>
            <p:spPr>
              <a:xfrm rot="16200000">
                <a:off x="3021840" y="29358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grpSp>
        <p:nvGrpSpPr>
          <p:cNvPr id="214" name="组合 85"/>
          <p:cNvGrpSpPr/>
          <p:nvPr/>
        </p:nvGrpSpPr>
        <p:grpSpPr>
          <a:xfrm>
            <a:off x="3708000" y="3939840"/>
            <a:ext cx="652320" cy="1082880"/>
            <a:chOff x="3708000" y="3939840"/>
            <a:chExt cx="652320" cy="1082880"/>
          </a:xfrm>
        </p:grpSpPr>
        <p:sp>
          <p:nvSpPr>
            <p:cNvPr id="215" name="椭圆 1"/>
            <p:cNvSpPr/>
            <p:nvPr/>
          </p:nvSpPr>
          <p:spPr>
            <a:xfrm rot="16200000">
              <a:off x="3886200" y="4548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16" name="椭圆 1"/>
            <p:cNvSpPr/>
            <p:nvPr/>
          </p:nvSpPr>
          <p:spPr>
            <a:xfrm rot="16200000">
              <a:off x="3886200" y="4497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17" name="椭圆 1"/>
            <p:cNvSpPr/>
            <p:nvPr/>
          </p:nvSpPr>
          <p:spPr>
            <a:xfrm rot="16200000">
              <a:off x="3886200" y="4447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18" name="椭圆 1"/>
            <p:cNvSpPr/>
            <p:nvPr/>
          </p:nvSpPr>
          <p:spPr>
            <a:xfrm rot="16200000">
              <a:off x="3886200" y="4408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19" name="椭圆 1"/>
            <p:cNvSpPr/>
            <p:nvPr/>
          </p:nvSpPr>
          <p:spPr>
            <a:xfrm rot="16200000">
              <a:off x="3886200" y="4459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0" name="椭圆 1"/>
            <p:cNvSpPr/>
            <p:nvPr/>
          </p:nvSpPr>
          <p:spPr>
            <a:xfrm rot="16200000">
              <a:off x="3886200" y="4370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1" name="椭圆 1"/>
            <p:cNvSpPr/>
            <p:nvPr/>
          </p:nvSpPr>
          <p:spPr>
            <a:xfrm rot="16200000">
              <a:off x="3886200" y="4345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2" name="椭圆 1"/>
            <p:cNvSpPr/>
            <p:nvPr/>
          </p:nvSpPr>
          <p:spPr>
            <a:xfrm rot="16200000">
              <a:off x="3886200" y="4294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3" name="椭圆 1"/>
            <p:cNvSpPr/>
            <p:nvPr/>
          </p:nvSpPr>
          <p:spPr>
            <a:xfrm rot="16200000">
              <a:off x="3886200" y="4243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4" name="椭圆 1"/>
            <p:cNvSpPr/>
            <p:nvPr/>
          </p:nvSpPr>
          <p:spPr>
            <a:xfrm rot="16200000">
              <a:off x="3886200" y="42055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5" name="椭圆 1"/>
            <p:cNvSpPr/>
            <p:nvPr/>
          </p:nvSpPr>
          <p:spPr>
            <a:xfrm rot="16200000">
              <a:off x="3886200" y="4256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6" name="椭圆 1"/>
            <p:cNvSpPr/>
            <p:nvPr/>
          </p:nvSpPr>
          <p:spPr>
            <a:xfrm rot="16200000">
              <a:off x="3886200" y="41677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7" name="椭圆 1"/>
            <p:cNvSpPr/>
            <p:nvPr/>
          </p:nvSpPr>
          <p:spPr>
            <a:xfrm rot="16200000">
              <a:off x="3886200" y="4142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8" name="椭圆 1"/>
            <p:cNvSpPr/>
            <p:nvPr/>
          </p:nvSpPr>
          <p:spPr>
            <a:xfrm rot="16200000">
              <a:off x="3886200" y="4091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29" name="椭圆 1"/>
            <p:cNvSpPr/>
            <p:nvPr/>
          </p:nvSpPr>
          <p:spPr>
            <a:xfrm rot="16200000">
              <a:off x="3886200" y="4040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0" name="椭圆 1"/>
            <p:cNvSpPr/>
            <p:nvPr/>
          </p:nvSpPr>
          <p:spPr>
            <a:xfrm rot="16200000">
              <a:off x="3886200" y="40024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1" name="椭圆 1"/>
            <p:cNvSpPr/>
            <p:nvPr/>
          </p:nvSpPr>
          <p:spPr>
            <a:xfrm rot="16200000">
              <a:off x="3886200" y="4053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2" name="椭圆 1"/>
            <p:cNvSpPr/>
            <p:nvPr/>
          </p:nvSpPr>
          <p:spPr>
            <a:xfrm rot="16200000">
              <a:off x="3886200" y="39643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3" name="椭圆 1"/>
            <p:cNvSpPr/>
            <p:nvPr/>
          </p:nvSpPr>
          <p:spPr>
            <a:xfrm rot="16200000">
              <a:off x="3886200" y="3939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4" name="椭圆 1"/>
            <p:cNvSpPr/>
            <p:nvPr/>
          </p:nvSpPr>
          <p:spPr>
            <a:xfrm rot="16200000">
              <a:off x="3886200" y="38880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5" name="椭圆 1"/>
            <p:cNvSpPr/>
            <p:nvPr/>
          </p:nvSpPr>
          <p:spPr>
            <a:xfrm rot="16200000">
              <a:off x="3886200" y="3837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6" name="椭圆 1"/>
            <p:cNvSpPr/>
            <p:nvPr/>
          </p:nvSpPr>
          <p:spPr>
            <a:xfrm rot="16200000">
              <a:off x="3886200" y="3799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7" name="椭圆 1"/>
            <p:cNvSpPr/>
            <p:nvPr/>
          </p:nvSpPr>
          <p:spPr>
            <a:xfrm rot="16200000">
              <a:off x="3886200" y="3850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38" name="椭圆 1"/>
            <p:cNvSpPr/>
            <p:nvPr/>
          </p:nvSpPr>
          <p:spPr>
            <a:xfrm rot="16200000">
              <a:off x="3886200" y="3761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239" name="组合 110"/>
          <p:cNvGrpSpPr/>
          <p:nvPr/>
        </p:nvGrpSpPr>
        <p:grpSpPr>
          <a:xfrm>
            <a:off x="3708000" y="3101400"/>
            <a:ext cx="652320" cy="1083240"/>
            <a:chOff x="3708000" y="3101400"/>
            <a:chExt cx="652320" cy="1083240"/>
          </a:xfrm>
        </p:grpSpPr>
        <p:sp>
          <p:nvSpPr>
            <p:cNvPr id="240" name="椭圆 1"/>
            <p:cNvSpPr/>
            <p:nvPr/>
          </p:nvSpPr>
          <p:spPr>
            <a:xfrm rot="16200000">
              <a:off x="3886200" y="37105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1" name="椭圆 1"/>
            <p:cNvSpPr/>
            <p:nvPr/>
          </p:nvSpPr>
          <p:spPr>
            <a:xfrm rot="16200000">
              <a:off x="3886200" y="3659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2" name="椭圆 1"/>
            <p:cNvSpPr/>
            <p:nvPr/>
          </p:nvSpPr>
          <p:spPr>
            <a:xfrm rot="16200000">
              <a:off x="3886200" y="3608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3" name="椭圆 1"/>
            <p:cNvSpPr/>
            <p:nvPr/>
          </p:nvSpPr>
          <p:spPr>
            <a:xfrm rot="16200000">
              <a:off x="3886200" y="35704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4" name="椭圆 1"/>
            <p:cNvSpPr/>
            <p:nvPr/>
          </p:nvSpPr>
          <p:spPr>
            <a:xfrm rot="16200000">
              <a:off x="3886200" y="3621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5" name="椭圆 1"/>
            <p:cNvSpPr/>
            <p:nvPr/>
          </p:nvSpPr>
          <p:spPr>
            <a:xfrm rot="16200000">
              <a:off x="3886200" y="3532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6" name="椭圆 1"/>
            <p:cNvSpPr/>
            <p:nvPr/>
          </p:nvSpPr>
          <p:spPr>
            <a:xfrm rot="16200000">
              <a:off x="3886200" y="3507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7" name="椭圆 1"/>
            <p:cNvSpPr/>
            <p:nvPr/>
          </p:nvSpPr>
          <p:spPr>
            <a:xfrm rot="16200000">
              <a:off x="3886200" y="34563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8" name="椭圆 1"/>
            <p:cNvSpPr/>
            <p:nvPr/>
          </p:nvSpPr>
          <p:spPr>
            <a:xfrm rot="16200000">
              <a:off x="3886200" y="3405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49" name="椭圆 1"/>
            <p:cNvSpPr/>
            <p:nvPr/>
          </p:nvSpPr>
          <p:spPr>
            <a:xfrm rot="16200000">
              <a:off x="3886200" y="3367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0" name="椭圆 1"/>
            <p:cNvSpPr/>
            <p:nvPr/>
          </p:nvSpPr>
          <p:spPr>
            <a:xfrm rot="16200000">
              <a:off x="3886200" y="3418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1" name="椭圆 1"/>
            <p:cNvSpPr/>
            <p:nvPr/>
          </p:nvSpPr>
          <p:spPr>
            <a:xfrm rot="16200000">
              <a:off x="3886200" y="3329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2" name="椭圆 1"/>
            <p:cNvSpPr/>
            <p:nvPr/>
          </p:nvSpPr>
          <p:spPr>
            <a:xfrm rot="16200000">
              <a:off x="3886200" y="3304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3" name="椭圆 1"/>
            <p:cNvSpPr/>
            <p:nvPr/>
          </p:nvSpPr>
          <p:spPr>
            <a:xfrm rot="16200000">
              <a:off x="3886200" y="32533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4" name="椭圆 1"/>
            <p:cNvSpPr/>
            <p:nvPr/>
          </p:nvSpPr>
          <p:spPr>
            <a:xfrm rot="16200000">
              <a:off x="3886200" y="3202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5" name="椭圆 1"/>
            <p:cNvSpPr/>
            <p:nvPr/>
          </p:nvSpPr>
          <p:spPr>
            <a:xfrm rot="16200000">
              <a:off x="3886200" y="3164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6" name="椭圆 1"/>
            <p:cNvSpPr/>
            <p:nvPr/>
          </p:nvSpPr>
          <p:spPr>
            <a:xfrm rot="16200000">
              <a:off x="3886200" y="3215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7" name="椭圆 1"/>
            <p:cNvSpPr/>
            <p:nvPr/>
          </p:nvSpPr>
          <p:spPr>
            <a:xfrm rot="16200000">
              <a:off x="3886200" y="3126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8" name="椭圆 1"/>
            <p:cNvSpPr/>
            <p:nvPr/>
          </p:nvSpPr>
          <p:spPr>
            <a:xfrm rot="16200000">
              <a:off x="3886200" y="3100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59" name="椭圆 1"/>
            <p:cNvSpPr/>
            <p:nvPr/>
          </p:nvSpPr>
          <p:spPr>
            <a:xfrm rot="16200000">
              <a:off x="3886200" y="3049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0" name="椭圆 1"/>
            <p:cNvSpPr/>
            <p:nvPr/>
          </p:nvSpPr>
          <p:spPr>
            <a:xfrm rot="16200000">
              <a:off x="3886200" y="2999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1" name="椭圆 1"/>
            <p:cNvSpPr/>
            <p:nvPr/>
          </p:nvSpPr>
          <p:spPr>
            <a:xfrm rot="16200000">
              <a:off x="3886200" y="29610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2" name="椭圆 1"/>
            <p:cNvSpPr/>
            <p:nvPr/>
          </p:nvSpPr>
          <p:spPr>
            <a:xfrm rot="16200000">
              <a:off x="3886200" y="3011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3" name="椭圆 1"/>
            <p:cNvSpPr/>
            <p:nvPr/>
          </p:nvSpPr>
          <p:spPr>
            <a:xfrm rot="16200000">
              <a:off x="3886200" y="2922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264" name="组合 136"/>
          <p:cNvGrpSpPr/>
          <p:nvPr/>
        </p:nvGrpSpPr>
        <p:grpSpPr>
          <a:xfrm>
            <a:off x="3709440" y="2760840"/>
            <a:ext cx="652320" cy="587880"/>
            <a:chOff x="3709440" y="2760840"/>
            <a:chExt cx="652320" cy="587880"/>
          </a:xfrm>
        </p:grpSpPr>
        <p:sp>
          <p:nvSpPr>
            <p:cNvPr id="265" name="椭圆 1"/>
            <p:cNvSpPr/>
            <p:nvPr/>
          </p:nvSpPr>
          <p:spPr>
            <a:xfrm rot="16200000">
              <a:off x="3887640" y="2861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6" name="椭圆 1"/>
            <p:cNvSpPr/>
            <p:nvPr/>
          </p:nvSpPr>
          <p:spPr>
            <a:xfrm rot="16200000">
              <a:off x="3887640" y="2823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7" name="椭圆 1"/>
            <p:cNvSpPr/>
            <p:nvPr/>
          </p:nvSpPr>
          <p:spPr>
            <a:xfrm rot="16200000">
              <a:off x="3887640" y="2874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8" name="椭圆 1"/>
            <p:cNvSpPr/>
            <p:nvPr/>
          </p:nvSpPr>
          <p:spPr>
            <a:xfrm rot="16200000">
              <a:off x="3887640" y="2785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69" name="椭圆 1"/>
            <p:cNvSpPr/>
            <p:nvPr/>
          </p:nvSpPr>
          <p:spPr>
            <a:xfrm rot="16200000">
              <a:off x="3887640" y="2760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70" name="椭圆 1"/>
            <p:cNvSpPr/>
            <p:nvPr/>
          </p:nvSpPr>
          <p:spPr>
            <a:xfrm rot="16200000">
              <a:off x="3887640" y="27093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71" name="椭圆 1"/>
            <p:cNvSpPr/>
            <p:nvPr/>
          </p:nvSpPr>
          <p:spPr>
            <a:xfrm rot="16200000">
              <a:off x="3887640" y="2658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72" name="椭圆 1"/>
            <p:cNvSpPr/>
            <p:nvPr/>
          </p:nvSpPr>
          <p:spPr>
            <a:xfrm rot="16200000">
              <a:off x="3887640" y="2620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73" name="椭圆 1"/>
            <p:cNvSpPr/>
            <p:nvPr/>
          </p:nvSpPr>
          <p:spPr>
            <a:xfrm rot="16200000">
              <a:off x="3887640" y="2671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274" name="椭圆 1"/>
            <p:cNvSpPr/>
            <p:nvPr/>
          </p:nvSpPr>
          <p:spPr>
            <a:xfrm rot="16200000">
              <a:off x="3887640" y="2582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275" name="组合 148"/>
          <p:cNvGrpSpPr/>
          <p:nvPr/>
        </p:nvGrpSpPr>
        <p:grpSpPr>
          <a:xfrm>
            <a:off x="4590360" y="3114360"/>
            <a:ext cx="652320" cy="1908360"/>
            <a:chOff x="4590360" y="3114360"/>
            <a:chExt cx="652320" cy="1908360"/>
          </a:xfrm>
        </p:grpSpPr>
        <p:grpSp>
          <p:nvGrpSpPr>
            <p:cNvPr id="276" name="组合 149"/>
            <p:cNvGrpSpPr/>
            <p:nvPr/>
          </p:nvGrpSpPr>
          <p:grpSpPr>
            <a:xfrm>
              <a:off x="4590360" y="3939840"/>
              <a:ext cx="652320" cy="1082880"/>
              <a:chOff x="4590360" y="3939840"/>
              <a:chExt cx="652320" cy="1082880"/>
            </a:xfrm>
          </p:grpSpPr>
          <p:sp>
            <p:nvSpPr>
              <p:cNvPr id="277" name="椭圆 1"/>
              <p:cNvSpPr/>
              <p:nvPr/>
            </p:nvSpPr>
            <p:spPr>
              <a:xfrm rot="16200000">
                <a:off x="4768560" y="4548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78" name="椭圆 1"/>
              <p:cNvSpPr/>
              <p:nvPr/>
            </p:nvSpPr>
            <p:spPr>
              <a:xfrm rot="16200000">
                <a:off x="4768560" y="44978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79" name="椭圆 1"/>
              <p:cNvSpPr/>
              <p:nvPr/>
            </p:nvSpPr>
            <p:spPr>
              <a:xfrm rot="16200000">
                <a:off x="4768560" y="4447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0" name="椭圆 1"/>
              <p:cNvSpPr/>
              <p:nvPr/>
            </p:nvSpPr>
            <p:spPr>
              <a:xfrm rot="16200000">
                <a:off x="4768560" y="44089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1" name="椭圆 1"/>
              <p:cNvSpPr/>
              <p:nvPr/>
            </p:nvSpPr>
            <p:spPr>
              <a:xfrm rot="16200000">
                <a:off x="4768560" y="4459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2" name="椭圆 1"/>
              <p:cNvSpPr/>
              <p:nvPr/>
            </p:nvSpPr>
            <p:spPr>
              <a:xfrm rot="16200000">
                <a:off x="4768560" y="4370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3" name="椭圆 1"/>
              <p:cNvSpPr/>
              <p:nvPr/>
            </p:nvSpPr>
            <p:spPr>
              <a:xfrm rot="16200000">
                <a:off x="4768560" y="4345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4" name="椭圆 1"/>
              <p:cNvSpPr/>
              <p:nvPr/>
            </p:nvSpPr>
            <p:spPr>
              <a:xfrm rot="16200000">
                <a:off x="4768560" y="42944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5" name="椭圆 1"/>
              <p:cNvSpPr/>
              <p:nvPr/>
            </p:nvSpPr>
            <p:spPr>
              <a:xfrm rot="16200000">
                <a:off x="4768560" y="4243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6" name="椭圆 1"/>
              <p:cNvSpPr/>
              <p:nvPr/>
            </p:nvSpPr>
            <p:spPr>
              <a:xfrm rot="16200000">
                <a:off x="4768560" y="42055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7" name="椭圆 1"/>
              <p:cNvSpPr/>
              <p:nvPr/>
            </p:nvSpPr>
            <p:spPr>
              <a:xfrm rot="16200000">
                <a:off x="4768560" y="4256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8" name="椭圆 1"/>
              <p:cNvSpPr/>
              <p:nvPr/>
            </p:nvSpPr>
            <p:spPr>
              <a:xfrm rot="16200000">
                <a:off x="4768560" y="4167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89" name="椭圆 1"/>
              <p:cNvSpPr/>
              <p:nvPr/>
            </p:nvSpPr>
            <p:spPr>
              <a:xfrm rot="16200000">
                <a:off x="4768560" y="41421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0" name="椭圆 1"/>
              <p:cNvSpPr/>
              <p:nvPr/>
            </p:nvSpPr>
            <p:spPr>
              <a:xfrm rot="16200000">
                <a:off x="4768560" y="40914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1" name="椭圆 1"/>
              <p:cNvSpPr/>
              <p:nvPr/>
            </p:nvSpPr>
            <p:spPr>
              <a:xfrm rot="16200000">
                <a:off x="4768560" y="40406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2" name="椭圆 1"/>
              <p:cNvSpPr/>
              <p:nvPr/>
            </p:nvSpPr>
            <p:spPr>
              <a:xfrm rot="16200000">
                <a:off x="4768560" y="40024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3" name="椭圆 1"/>
              <p:cNvSpPr/>
              <p:nvPr/>
            </p:nvSpPr>
            <p:spPr>
              <a:xfrm rot="16200000">
                <a:off x="4768560" y="4053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4" name="椭圆 1"/>
              <p:cNvSpPr/>
              <p:nvPr/>
            </p:nvSpPr>
            <p:spPr>
              <a:xfrm rot="16200000">
                <a:off x="4768560" y="39643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5" name="椭圆 1"/>
              <p:cNvSpPr/>
              <p:nvPr/>
            </p:nvSpPr>
            <p:spPr>
              <a:xfrm rot="16200000">
                <a:off x="4768560" y="3939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6" name="椭圆 1"/>
              <p:cNvSpPr/>
              <p:nvPr/>
            </p:nvSpPr>
            <p:spPr>
              <a:xfrm rot="16200000">
                <a:off x="4768560" y="3888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7" name="椭圆 1"/>
              <p:cNvSpPr/>
              <p:nvPr/>
            </p:nvSpPr>
            <p:spPr>
              <a:xfrm rot="16200000">
                <a:off x="4768560" y="3837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8" name="椭圆 1"/>
              <p:cNvSpPr/>
              <p:nvPr/>
            </p:nvSpPr>
            <p:spPr>
              <a:xfrm rot="16200000">
                <a:off x="4768560" y="3799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299" name="椭圆 1"/>
              <p:cNvSpPr/>
              <p:nvPr/>
            </p:nvSpPr>
            <p:spPr>
              <a:xfrm rot="16200000">
                <a:off x="4768560" y="3850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0" name="椭圆 1"/>
              <p:cNvSpPr/>
              <p:nvPr/>
            </p:nvSpPr>
            <p:spPr>
              <a:xfrm rot="16200000">
                <a:off x="4768560" y="3761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  <p:grpSp>
          <p:nvGrpSpPr>
            <p:cNvPr id="301" name="组合 150"/>
            <p:cNvGrpSpPr/>
            <p:nvPr/>
          </p:nvGrpSpPr>
          <p:grpSpPr>
            <a:xfrm>
              <a:off x="4590360" y="3114360"/>
              <a:ext cx="652320" cy="1082880"/>
              <a:chOff x="4590360" y="3114360"/>
              <a:chExt cx="652320" cy="1082880"/>
            </a:xfrm>
          </p:grpSpPr>
          <p:sp>
            <p:nvSpPr>
              <p:cNvPr id="302" name="椭圆 1"/>
              <p:cNvSpPr/>
              <p:nvPr/>
            </p:nvSpPr>
            <p:spPr>
              <a:xfrm rot="16200000">
                <a:off x="4768560" y="3723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3" name="椭圆 1"/>
              <p:cNvSpPr/>
              <p:nvPr/>
            </p:nvSpPr>
            <p:spPr>
              <a:xfrm rot="16200000">
                <a:off x="4768560" y="36723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4" name="椭圆 1"/>
              <p:cNvSpPr/>
              <p:nvPr/>
            </p:nvSpPr>
            <p:spPr>
              <a:xfrm rot="16200000">
                <a:off x="4768560" y="3621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5" name="椭圆 1"/>
              <p:cNvSpPr/>
              <p:nvPr/>
            </p:nvSpPr>
            <p:spPr>
              <a:xfrm rot="16200000">
                <a:off x="4768560" y="35834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6" name="椭圆 1"/>
              <p:cNvSpPr/>
              <p:nvPr/>
            </p:nvSpPr>
            <p:spPr>
              <a:xfrm rot="16200000">
                <a:off x="4768560" y="3634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7" name="椭圆 1"/>
              <p:cNvSpPr/>
              <p:nvPr/>
            </p:nvSpPr>
            <p:spPr>
              <a:xfrm rot="16200000">
                <a:off x="4768560" y="3545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8" name="椭圆 1"/>
              <p:cNvSpPr/>
              <p:nvPr/>
            </p:nvSpPr>
            <p:spPr>
              <a:xfrm rot="16200000">
                <a:off x="4768560" y="3519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09" name="椭圆 1"/>
              <p:cNvSpPr/>
              <p:nvPr/>
            </p:nvSpPr>
            <p:spPr>
              <a:xfrm rot="16200000">
                <a:off x="4768560" y="34689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0" name="椭圆 1"/>
              <p:cNvSpPr/>
              <p:nvPr/>
            </p:nvSpPr>
            <p:spPr>
              <a:xfrm rot="16200000">
                <a:off x="4768560" y="3418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1" name="椭圆 1"/>
              <p:cNvSpPr/>
              <p:nvPr/>
            </p:nvSpPr>
            <p:spPr>
              <a:xfrm rot="16200000">
                <a:off x="4768560" y="33800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2" name="椭圆 1"/>
              <p:cNvSpPr/>
              <p:nvPr/>
            </p:nvSpPr>
            <p:spPr>
              <a:xfrm rot="16200000">
                <a:off x="4768560" y="34308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3" name="椭圆 1"/>
              <p:cNvSpPr/>
              <p:nvPr/>
            </p:nvSpPr>
            <p:spPr>
              <a:xfrm rot="16200000">
                <a:off x="4768560" y="33418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4" name="椭圆 1"/>
              <p:cNvSpPr/>
              <p:nvPr/>
            </p:nvSpPr>
            <p:spPr>
              <a:xfrm rot="16200000">
                <a:off x="4768560" y="3316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5" name="椭圆 1"/>
              <p:cNvSpPr/>
              <p:nvPr/>
            </p:nvSpPr>
            <p:spPr>
              <a:xfrm rot="16200000">
                <a:off x="4768560" y="32659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6" name="椭圆 1"/>
              <p:cNvSpPr/>
              <p:nvPr/>
            </p:nvSpPr>
            <p:spPr>
              <a:xfrm rot="16200000">
                <a:off x="4768560" y="32151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7" name="椭圆 1"/>
              <p:cNvSpPr/>
              <p:nvPr/>
            </p:nvSpPr>
            <p:spPr>
              <a:xfrm rot="16200000">
                <a:off x="4768560" y="3177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8" name="椭圆 1"/>
              <p:cNvSpPr/>
              <p:nvPr/>
            </p:nvSpPr>
            <p:spPr>
              <a:xfrm rot="16200000">
                <a:off x="4768560" y="3227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19" name="椭圆 1"/>
              <p:cNvSpPr/>
              <p:nvPr/>
            </p:nvSpPr>
            <p:spPr>
              <a:xfrm rot="16200000">
                <a:off x="4768560" y="31388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0" name="椭圆 1"/>
              <p:cNvSpPr/>
              <p:nvPr/>
            </p:nvSpPr>
            <p:spPr>
              <a:xfrm rot="16200000">
                <a:off x="4768560" y="3113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1" name="椭圆 1"/>
              <p:cNvSpPr/>
              <p:nvPr/>
            </p:nvSpPr>
            <p:spPr>
              <a:xfrm rot="16200000">
                <a:off x="4768560" y="30625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2" name="椭圆 1"/>
              <p:cNvSpPr/>
              <p:nvPr/>
            </p:nvSpPr>
            <p:spPr>
              <a:xfrm rot="16200000">
                <a:off x="4768560" y="3011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3" name="椭圆 1"/>
              <p:cNvSpPr/>
              <p:nvPr/>
            </p:nvSpPr>
            <p:spPr>
              <a:xfrm rot="16200000">
                <a:off x="4768560" y="2973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4" name="椭圆 1"/>
              <p:cNvSpPr/>
              <p:nvPr/>
            </p:nvSpPr>
            <p:spPr>
              <a:xfrm rot="16200000">
                <a:off x="4768560" y="3024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325" name="椭圆 1"/>
              <p:cNvSpPr/>
              <p:nvPr/>
            </p:nvSpPr>
            <p:spPr>
              <a:xfrm rot="16200000">
                <a:off x="4768560" y="29358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</p:grpSp>
      <p:grpSp>
        <p:nvGrpSpPr>
          <p:cNvPr id="326" name="组合 199"/>
          <p:cNvGrpSpPr/>
          <p:nvPr/>
        </p:nvGrpSpPr>
        <p:grpSpPr>
          <a:xfrm>
            <a:off x="5508000" y="3939840"/>
            <a:ext cx="652320" cy="1082880"/>
            <a:chOff x="5508000" y="3939840"/>
            <a:chExt cx="652320" cy="1082880"/>
          </a:xfrm>
        </p:grpSpPr>
        <p:sp>
          <p:nvSpPr>
            <p:cNvPr id="327" name="椭圆 1"/>
            <p:cNvSpPr/>
            <p:nvPr/>
          </p:nvSpPr>
          <p:spPr>
            <a:xfrm rot="16200000">
              <a:off x="5686200" y="4548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28" name="椭圆 1"/>
            <p:cNvSpPr/>
            <p:nvPr/>
          </p:nvSpPr>
          <p:spPr>
            <a:xfrm rot="16200000">
              <a:off x="5686200" y="4497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29" name="椭圆 1"/>
            <p:cNvSpPr/>
            <p:nvPr/>
          </p:nvSpPr>
          <p:spPr>
            <a:xfrm rot="16200000">
              <a:off x="5686200" y="4447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0" name="椭圆 1"/>
            <p:cNvSpPr/>
            <p:nvPr/>
          </p:nvSpPr>
          <p:spPr>
            <a:xfrm rot="16200000">
              <a:off x="5686200" y="4408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1" name="椭圆 1"/>
            <p:cNvSpPr/>
            <p:nvPr/>
          </p:nvSpPr>
          <p:spPr>
            <a:xfrm rot="16200000">
              <a:off x="5686200" y="4459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2" name="椭圆 1"/>
            <p:cNvSpPr/>
            <p:nvPr/>
          </p:nvSpPr>
          <p:spPr>
            <a:xfrm rot="16200000">
              <a:off x="5686200" y="4370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3" name="椭圆 1"/>
            <p:cNvSpPr/>
            <p:nvPr/>
          </p:nvSpPr>
          <p:spPr>
            <a:xfrm rot="16200000">
              <a:off x="5686200" y="4345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4" name="椭圆 1"/>
            <p:cNvSpPr/>
            <p:nvPr/>
          </p:nvSpPr>
          <p:spPr>
            <a:xfrm rot="16200000">
              <a:off x="5686200" y="4294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5" name="椭圆 1"/>
            <p:cNvSpPr/>
            <p:nvPr/>
          </p:nvSpPr>
          <p:spPr>
            <a:xfrm rot="16200000">
              <a:off x="5686200" y="4243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6" name="椭圆 1"/>
            <p:cNvSpPr/>
            <p:nvPr/>
          </p:nvSpPr>
          <p:spPr>
            <a:xfrm rot="16200000">
              <a:off x="5686200" y="42055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7" name="椭圆 1"/>
            <p:cNvSpPr/>
            <p:nvPr/>
          </p:nvSpPr>
          <p:spPr>
            <a:xfrm rot="16200000">
              <a:off x="5686200" y="4256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8" name="椭圆 1"/>
            <p:cNvSpPr/>
            <p:nvPr/>
          </p:nvSpPr>
          <p:spPr>
            <a:xfrm rot="16200000">
              <a:off x="5686200" y="41677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39" name="椭圆 1"/>
            <p:cNvSpPr/>
            <p:nvPr/>
          </p:nvSpPr>
          <p:spPr>
            <a:xfrm rot="16200000">
              <a:off x="5686200" y="4142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0" name="椭圆 1"/>
            <p:cNvSpPr/>
            <p:nvPr/>
          </p:nvSpPr>
          <p:spPr>
            <a:xfrm rot="16200000">
              <a:off x="5686200" y="4091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1" name="椭圆 1"/>
            <p:cNvSpPr/>
            <p:nvPr/>
          </p:nvSpPr>
          <p:spPr>
            <a:xfrm rot="16200000">
              <a:off x="5686200" y="4040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2" name="椭圆 1"/>
            <p:cNvSpPr/>
            <p:nvPr/>
          </p:nvSpPr>
          <p:spPr>
            <a:xfrm rot="16200000">
              <a:off x="5686200" y="40024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3" name="椭圆 1"/>
            <p:cNvSpPr/>
            <p:nvPr/>
          </p:nvSpPr>
          <p:spPr>
            <a:xfrm rot="16200000">
              <a:off x="5686200" y="4053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4" name="椭圆 1"/>
            <p:cNvSpPr/>
            <p:nvPr/>
          </p:nvSpPr>
          <p:spPr>
            <a:xfrm rot="16200000">
              <a:off x="5686200" y="39643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5" name="椭圆 1"/>
            <p:cNvSpPr/>
            <p:nvPr/>
          </p:nvSpPr>
          <p:spPr>
            <a:xfrm rot="16200000">
              <a:off x="5686200" y="3939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6" name="椭圆 1"/>
            <p:cNvSpPr/>
            <p:nvPr/>
          </p:nvSpPr>
          <p:spPr>
            <a:xfrm rot="16200000">
              <a:off x="5686200" y="38880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7" name="椭圆 1"/>
            <p:cNvSpPr/>
            <p:nvPr/>
          </p:nvSpPr>
          <p:spPr>
            <a:xfrm rot="16200000">
              <a:off x="5686200" y="3837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8" name="椭圆 1"/>
            <p:cNvSpPr/>
            <p:nvPr/>
          </p:nvSpPr>
          <p:spPr>
            <a:xfrm rot="16200000">
              <a:off x="5686200" y="3799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49" name="椭圆 1"/>
            <p:cNvSpPr/>
            <p:nvPr/>
          </p:nvSpPr>
          <p:spPr>
            <a:xfrm rot="16200000">
              <a:off x="5686200" y="3850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0" name="椭圆 1"/>
            <p:cNvSpPr/>
            <p:nvPr/>
          </p:nvSpPr>
          <p:spPr>
            <a:xfrm rot="16200000">
              <a:off x="5686200" y="3761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351" name="组合 224"/>
          <p:cNvGrpSpPr/>
          <p:nvPr/>
        </p:nvGrpSpPr>
        <p:grpSpPr>
          <a:xfrm>
            <a:off x="5508000" y="3101400"/>
            <a:ext cx="652320" cy="1083240"/>
            <a:chOff x="5508000" y="3101400"/>
            <a:chExt cx="652320" cy="1083240"/>
          </a:xfrm>
        </p:grpSpPr>
        <p:sp>
          <p:nvSpPr>
            <p:cNvPr id="352" name="椭圆 1"/>
            <p:cNvSpPr/>
            <p:nvPr/>
          </p:nvSpPr>
          <p:spPr>
            <a:xfrm rot="16200000">
              <a:off x="5686200" y="37105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3" name="椭圆 1"/>
            <p:cNvSpPr/>
            <p:nvPr/>
          </p:nvSpPr>
          <p:spPr>
            <a:xfrm rot="16200000">
              <a:off x="5686200" y="3659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4" name="椭圆 1"/>
            <p:cNvSpPr/>
            <p:nvPr/>
          </p:nvSpPr>
          <p:spPr>
            <a:xfrm rot="16200000">
              <a:off x="5686200" y="3608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5" name="椭圆 1"/>
            <p:cNvSpPr/>
            <p:nvPr/>
          </p:nvSpPr>
          <p:spPr>
            <a:xfrm rot="16200000">
              <a:off x="5686200" y="35704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6" name="椭圆 1"/>
            <p:cNvSpPr/>
            <p:nvPr/>
          </p:nvSpPr>
          <p:spPr>
            <a:xfrm rot="16200000">
              <a:off x="5686200" y="3621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7" name="椭圆 1"/>
            <p:cNvSpPr/>
            <p:nvPr/>
          </p:nvSpPr>
          <p:spPr>
            <a:xfrm rot="16200000">
              <a:off x="5686200" y="3532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8" name="椭圆 1"/>
            <p:cNvSpPr/>
            <p:nvPr/>
          </p:nvSpPr>
          <p:spPr>
            <a:xfrm rot="16200000">
              <a:off x="5686200" y="3507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59" name="椭圆 1"/>
            <p:cNvSpPr/>
            <p:nvPr/>
          </p:nvSpPr>
          <p:spPr>
            <a:xfrm rot="16200000">
              <a:off x="5686200" y="34563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0" name="椭圆 1"/>
            <p:cNvSpPr/>
            <p:nvPr/>
          </p:nvSpPr>
          <p:spPr>
            <a:xfrm rot="16200000">
              <a:off x="5686200" y="3405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1" name="椭圆 1"/>
            <p:cNvSpPr/>
            <p:nvPr/>
          </p:nvSpPr>
          <p:spPr>
            <a:xfrm rot="16200000">
              <a:off x="5686200" y="3367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2" name="椭圆 1"/>
            <p:cNvSpPr/>
            <p:nvPr/>
          </p:nvSpPr>
          <p:spPr>
            <a:xfrm rot="16200000">
              <a:off x="5686200" y="3418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3" name="椭圆 1"/>
            <p:cNvSpPr/>
            <p:nvPr/>
          </p:nvSpPr>
          <p:spPr>
            <a:xfrm rot="16200000">
              <a:off x="5686200" y="3329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4" name="椭圆 1"/>
            <p:cNvSpPr/>
            <p:nvPr/>
          </p:nvSpPr>
          <p:spPr>
            <a:xfrm rot="16200000">
              <a:off x="5686200" y="33040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5" name="椭圆 1"/>
            <p:cNvSpPr/>
            <p:nvPr/>
          </p:nvSpPr>
          <p:spPr>
            <a:xfrm rot="16200000">
              <a:off x="5686200" y="32533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6" name="椭圆 1"/>
            <p:cNvSpPr/>
            <p:nvPr/>
          </p:nvSpPr>
          <p:spPr>
            <a:xfrm rot="16200000">
              <a:off x="5686200" y="3202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7" name="椭圆 1"/>
            <p:cNvSpPr/>
            <p:nvPr/>
          </p:nvSpPr>
          <p:spPr>
            <a:xfrm rot="16200000">
              <a:off x="5686200" y="31644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8" name="椭圆 1"/>
            <p:cNvSpPr/>
            <p:nvPr/>
          </p:nvSpPr>
          <p:spPr>
            <a:xfrm rot="16200000">
              <a:off x="5686200" y="3215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69" name="椭圆 1"/>
            <p:cNvSpPr/>
            <p:nvPr/>
          </p:nvSpPr>
          <p:spPr>
            <a:xfrm rot="16200000">
              <a:off x="5686200" y="31262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0" name="椭圆 1"/>
            <p:cNvSpPr/>
            <p:nvPr/>
          </p:nvSpPr>
          <p:spPr>
            <a:xfrm rot="16200000">
              <a:off x="5686200" y="3100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1" name="椭圆 1"/>
            <p:cNvSpPr/>
            <p:nvPr/>
          </p:nvSpPr>
          <p:spPr>
            <a:xfrm rot="16200000">
              <a:off x="5686200" y="3049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2" name="椭圆 1"/>
            <p:cNvSpPr/>
            <p:nvPr/>
          </p:nvSpPr>
          <p:spPr>
            <a:xfrm rot="16200000">
              <a:off x="5686200" y="2999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3" name="椭圆 1"/>
            <p:cNvSpPr/>
            <p:nvPr/>
          </p:nvSpPr>
          <p:spPr>
            <a:xfrm rot="16200000">
              <a:off x="5686200" y="29610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4" name="椭圆 1"/>
            <p:cNvSpPr/>
            <p:nvPr/>
          </p:nvSpPr>
          <p:spPr>
            <a:xfrm rot="16200000">
              <a:off x="5686200" y="3011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5" name="椭圆 1"/>
            <p:cNvSpPr/>
            <p:nvPr/>
          </p:nvSpPr>
          <p:spPr>
            <a:xfrm rot="16200000">
              <a:off x="5686200" y="2922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376" name="组合 249"/>
          <p:cNvGrpSpPr/>
          <p:nvPr/>
        </p:nvGrpSpPr>
        <p:grpSpPr>
          <a:xfrm>
            <a:off x="5509800" y="2760840"/>
            <a:ext cx="652320" cy="587880"/>
            <a:chOff x="5509800" y="2760840"/>
            <a:chExt cx="652320" cy="587880"/>
          </a:xfrm>
        </p:grpSpPr>
        <p:sp>
          <p:nvSpPr>
            <p:cNvPr id="377" name="椭圆 1"/>
            <p:cNvSpPr/>
            <p:nvPr/>
          </p:nvSpPr>
          <p:spPr>
            <a:xfrm rot="16200000">
              <a:off x="5688000" y="28616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8" name="椭圆 1"/>
            <p:cNvSpPr/>
            <p:nvPr/>
          </p:nvSpPr>
          <p:spPr>
            <a:xfrm rot="16200000">
              <a:off x="5688000" y="28238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79" name="椭圆 1"/>
            <p:cNvSpPr/>
            <p:nvPr/>
          </p:nvSpPr>
          <p:spPr>
            <a:xfrm rot="16200000">
              <a:off x="5688000" y="2874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0" name="椭圆 1"/>
            <p:cNvSpPr/>
            <p:nvPr/>
          </p:nvSpPr>
          <p:spPr>
            <a:xfrm rot="16200000">
              <a:off x="5688000" y="2785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1" name="椭圆 1"/>
            <p:cNvSpPr/>
            <p:nvPr/>
          </p:nvSpPr>
          <p:spPr>
            <a:xfrm rot="16200000">
              <a:off x="5688000" y="2760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2" name="椭圆 1"/>
            <p:cNvSpPr/>
            <p:nvPr/>
          </p:nvSpPr>
          <p:spPr>
            <a:xfrm rot="16200000">
              <a:off x="5688000" y="27093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3" name="椭圆 1"/>
            <p:cNvSpPr/>
            <p:nvPr/>
          </p:nvSpPr>
          <p:spPr>
            <a:xfrm rot="16200000">
              <a:off x="5688000" y="2658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4" name="椭圆 1"/>
            <p:cNvSpPr/>
            <p:nvPr/>
          </p:nvSpPr>
          <p:spPr>
            <a:xfrm rot="16200000">
              <a:off x="5688000" y="2620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5" name="椭圆 1"/>
            <p:cNvSpPr/>
            <p:nvPr/>
          </p:nvSpPr>
          <p:spPr>
            <a:xfrm rot="16200000">
              <a:off x="5688000" y="2671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6" name="椭圆 1"/>
            <p:cNvSpPr/>
            <p:nvPr/>
          </p:nvSpPr>
          <p:spPr>
            <a:xfrm rot="16200000">
              <a:off x="5688000" y="2582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grpSp>
        <p:nvGrpSpPr>
          <p:cNvPr id="387" name="组合 260"/>
          <p:cNvGrpSpPr/>
          <p:nvPr/>
        </p:nvGrpSpPr>
        <p:grpSpPr>
          <a:xfrm>
            <a:off x="5509800" y="2414520"/>
            <a:ext cx="652320" cy="587520"/>
            <a:chOff x="5509800" y="2414520"/>
            <a:chExt cx="652320" cy="587520"/>
          </a:xfrm>
        </p:grpSpPr>
        <p:sp>
          <p:nvSpPr>
            <p:cNvPr id="388" name="椭圆 1"/>
            <p:cNvSpPr/>
            <p:nvPr/>
          </p:nvSpPr>
          <p:spPr>
            <a:xfrm rot="16200000">
              <a:off x="5688000" y="25153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89" name="椭圆 1"/>
            <p:cNvSpPr/>
            <p:nvPr/>
          </p:nvSpPr>
          <p:spPr>
            <a:xfrm rot="16200000">
              <a:off x="5688000" y="24771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0" name="椭圆 1"/>
            <p:cNvSpPr/>
            <p:nvPr/>
          </p:nvSpPr>
          <p:spPr>
            <a:xfrm rot="16200000">
              <a:off x="5688000" y="2527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1" name="椭圆 1"/>
            <p:cNvSpPr/>
            <p:nvPr/>
          </p:nvSpPr>
          <p:spPr>
            <a:xfrm rot="16200000">
              <a:off x="5688000" y="24390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2" name="椭圆 1"/>
            <p:cNvSpPr/>
            <p:nvPr/>
          </p:nvSpPr>
          <p:spPr>
            <a:xfrm rot="16200000">
              <a:off x="5688000" y="2413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3" name="椭圆 1"/>
            <p:cNvSpPr/>
            <p:nvPr/>
          </p:nvSpPr>
          <p:spPr>
            <a:xfrm rot="16200000">
              <a:off x="5688000" y="23626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4" name="椭圆 1"/>
            <p:cNvSpPr/>
            <p:nvPr/>
          </p:nvSpPr>
          <p:spPr>
            <a:xfrm rot="16200000">
              <a:off x="5688000" y="23119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5" name="椭圆 1"/>
            <p:cNvSpPr/>
            <p:nvPr/>
          </p:nvSpPr>
          <p:spPr>
            <a:xfrm rot="16200000">
              <a:off x="5688000" y="22737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6" name="椭圆 1"/>
            <p:cNvSpPr/>
            <p:nvPr/>
          </p:nvSpPr>
          <p:spPr>
            <a:xfrm rot="16200000">
              <a:off x="5688000" y="23248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397" name="椭圆 1"/>
            <p:cNvSpPr/>
            <p:nvPr/>
          </p:nvSpPr>
          <p:spPr>
            <a:xfrm rot="16200000">
              <a:off x="5688000" y="22359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3f6617">
                    <a:alpha val="70196"/>
                  </a:srgbClr>
                </a:gs>
                <a:gs pos="100000">
                  <a:srgbClr val="7dcc2e">
                    <a:alpha val="50196"/>
                  </a:srgbClr>
                </a:gs>
              </a:gsLst>
              <a:lin ang="36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8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sp>
        <p:nvSpPr>
          <p:cNvPr id="398" name="椭圆 271"/>
          <p:cNvSpPr/>
          <p:nvPr/>
        </p:nvSpPr>
        <p:spPr>
          <a:xfrm>
            <a:off x="219240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sp>
        <p:nvSpPr>
          <p:cNvPr id="399" name="椭圆 272"/>
          <p:cNvSpPr/>
          <p:nvPr/>
        </p:nvSpPr>
        <p:spPr>
          <a:xfrm>
            <a:off x="306216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sp>
        <p:nvSpPr>
          <p:cNvPr id="400" name="椭圆 273"/>
          <p:cNvSpPr/>
          <p:nvPr/>
        </p:nvSpPr>
        <p:spPr>
          <a:xfrm>
            <a:off x="392796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sp>
        <p:nvSpPr>
          <p:cNvPr id="401" name="椭圆 274"/>
          <p:cNvSpPr/>
          <p:nvPr/>
        </p:nvSpPr>
        <p:spPr>
          <a:xfrm>
            <a:off x="480852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sp>
        <p:nvSpPr>
          <p:cNvPr id="402" name="椭圆 275"/>
          <p:cNvSpPr/>
          <p:nvPr/>
        </p:nvSpPr>
        <p:spPr>
          <a:xfrm>
            <a:off x="572796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grpSp>
        <p:nvGrpSpPr>
          <p:cNvPr id="403" name="组合 328"/>
          <p:cNvGrpSpPr/>
          <p:nvPr/>
        </p:nvGrpSpPr>
        <p:grpSpPr>
          <a:xfrm>
            <a:off x="6444360" y="3558600"/>
            <a:ext cx="652320" cy="1464120"/>
            <a:chOff x="6444360" y="3558600"/>
            <a:chExt cx="652320" cy="1464120"/>
          </a:xfrm>
        </p:grpSpPr>
        <p:grpSp>
          <p:nvGrpSpPr>
            <p:cNvPr id="404" name="组合 277"/>
            <p:cNvGrpSpPr/>
            <p:nvPr/>
          </p:nvGrpSpPr>
          <p:grpSpPr>
            <a:xfrm>
              <a:off x="6444360" y="3939840"/>
              <a:ext cx="652320" cy="1082880"/>
              <a:chOff x="6444360" y="3939840"/>
              <a:chExt cx="652320" cy="1082880"/>
            </a:xfrm>
          </p:grpSpPr>
          <p:sp>
            <p:nvSpPr>
              <p:cNvPr id="405" name="椭圆 1"/>
              <p:cNvSpPr/>
              <p:nvPr/>
            </p:nvSpPr>
            <p:spPr>
              <a:xfrm rot="16200000">
                <a:off x="6622560" y="45486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06" name="椭圆 1"/>
              <p:cNvSpPr/>
              <p:nvPr/>
            </p:nvSpPr>
            <p:spPr>
              <a:xfrm rot="16200000">
                <a:off x="6622560" y="44978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07" name="椭圆 1"/>
              <p:cNvSpPr/>
              <p:nvPr/>
            </p:nvSpPr>
            <p:spPr>
              <a:xfrm rot="16200000">
                <a:off x="6622560" y="4447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08" name="椭圆 1"/>
              <p:cNvSpPr/>
              <p:nvPr/>
            </p:nvSpPr>
            <p:spPr>
              <a:xfrm rot="16200000">
                <a:off x="6622560" y="44089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09" name="椭圆 1"/>
              <p:cNvSpPr/>
              <p:nvPr/>
            </p:nvSpPr>
            <p:spPr>
              <a:xfrm rot="16200000">
                <a:off x="6622560" y="4459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0" name="椭圆 1"/>
              <p:cNvSpPr/>
              <p:nvPr/>
            </p:nvSpPr>
            <p:spPr>
              <a:xfrm rot="16200000">
                <a:off x="6622560" y="43707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1" name="椭圆 1"/>
              <p:cNvSpPr/>
              <p:nvPr/>
            </p:nvSpPr>
            <p:spPr>
              <a:xfrm rot="16200000">
                <a:off x="6622560" y="4345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2" name="椭圆 1"/>
              <p:cNvSpPr/>
              <p:nvPr/>
            </p:nvSpPr>
            <p:spPr>
              <a:xfrm rot="16200000">
                <a:off x="6622560" y="42944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3" name="椭圆 1"/>
              <p:cNvSpPr/>
              <p:nvPr/>
            </p:nvSpPr>
            <p:spPr>
              <a:xfrm rot="16200000">
                <a:off x="6622560" y="42436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4" name="椭圆 1"/>
              <p:cNvSpPr/>
              <p:nvPr/>
            </p:nvSpPr>
            <p:spPr>
              <a:xfrm rot="16200000">
                <a:off x="6622560" y="42055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5" name="椭圆 1"/>
              <p:cNvSpPr/>
              <p:nvPr/>
            </p:nvSpPr>
            <p:spPr>
              <a:xfrm rot="16200000">
                <a:off x="6622560" y="4256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6" name="椭圆 1"/>
              <p:cNvSpPr/>
              <p:nvPr/>
            </p:nvSpPr>
            <p:spPr>
              <a:xfrm rot="16200000">
                <a:off x="6622560" y="41677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7" name="椭圆 1"/>
              <p:cNvSpPr/>
              <p:nvPr/>
            </p:nvSpPr>
            <p:spPr>
              <a:xfrm rot="16200000">
                <a:off x="6622560" y="414216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8" name="椭圆 1"/>
              <p:cNvSpPr/>
              <p:nvPr/>
            </p:nvSpPr>
            <p:spPr>
              <a:xfrm rot="16200000">
                <a:off x="6622560" y="40914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19" name="椭圆 1"/>
              <p:cNvSpPr/>
              <p:nvPr/>
            </p:nvSpPr>
            <p:spPr>
              <a:xfrm rot="16200000">
                <a:off x="6622560" y="40406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0" name="椭圆 1"/>
              <p:cNvSpPr/>
              <p:nvPr/>
            </p:nvSpPr>
            <p:spPr>
              <a:xfrm rot="16200000">
                <a:off x="6622560" y="40024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1" name="椭圆 1"/>
              <p:cNvSpPr/>
              <p:nvPr/>
            </p:nvSpPr>
            <p:spPr>
              <a:xfrm rot="16200000">
                <a:off x="6622560" y="4053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2" name="椭圆 1"/>
              <p:cNvSpPr/>
              <p:nvPr/>
            </p:nvSpPr>
            <p:spPr>
              <a:xfrm rot="16200000">
                <a:off x="6622560" y="39643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3" name="椭圆 1"/>
              <p:cNvSpPr/>
              <p:nvPr/>
            </p:nvSpPr>
            <p:spPr>
              <a:xfrm rot="16200000">
                <a:off x="6622560" y="393912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4" name="椭圆 1"/>
              <p:cNvSpPr/>
              <p:nvPr/>
            </p:nvSpPr>
            <p:spPr>
              <a:xfrm rot="16200000">
                <a:off x="6622560" y="38880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5" name="椭圆 1"/>
              <p:cNvSpPr/>
              <p:nvPr/>
            </p:nvSpPr>
            <p:spPr>
              <a:xfrm rot="16200000">
                <a:off x="6622560" y="383724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6" name="椭圆 1"/>
              <p:cNvSpPr/>
              <p:nvPr/>
            </p:nvSpPr>
            <p:spPr>
              <a:xfrm rot="16200000">
                <a:off x="6622560" y="37990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7" name="椭圆 1"/>
              <p:cNvSpPr/>
              <p:nvPr/>
            </p:nvSpPr>
            <p:spPr>
              <a:xfrm rot="16200000">
                <a:off x="6622560" y="385020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  <p:sp>
            <p:nvSpPr>
              <p:cNvPr id="428" name="椭圆 1"/>
              <p:cNvSpPr/>
              <p:nvPr/>
            </p:nvSpPr>
            <p:spPr>
              <a:xfrm rot="16200000">
                <a:off x="6622560" y="3761280"/>
                <a:ext cx="295560" cy="65232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255572" h="2098448">
                    <a:moveTo>
                      <a:pt x="795896" y="155894"/>
                    </a:moveTo>
                    <a:cubicBezTo>
                      <a:pt x="745293" y="128543"/>
                      <a:pt x="691491" y="113808"/>
                      <a:pt x="635709" y="113808"/>
                    </a:cubicBezTo>
                    <a:cubicBezTo>
                      <a:pt x="338205" y="113808"/>
                      <a:pt x="97031" y="532916"/>
                      <a:pt x="97031" y="1049912"/>
                    </a:cubicBezTo>
                    <a:cubicBezTo>
                      <a:pt x="97031" y="1566908"/>
                      <a:pt x="338205" y="1986016"/>
                      <a:pt x="635709" y="1986016"/>
                    </a:cubicBezTo>
                    <a:cubicBezTo>
                      <a:pt x="933213" y="1986016"/>
                      <a:pt x="1174387" y="1566908"/>
                      <a:pt x="1174387" y="1049912"/>
                    </a:cubicBezTo>
                    <a:cubicBezTo>
                      <a:pt x="1174387" y="629853"/>
                      <a:pt x="1015175" y="274415"/>
                      <a:pt x="795896" y="155894"/>
                    </a:cubicBezTo>
                    <a:close/>
                    <a:moveTo>
                      <a:pt x="814470" y="47171"/>
                    </a:moveTo>
                    <a:cubicBezTo>
                      <a:pt x="1070022" y="180015"/>
                      <a:pt x="1255572" y="578404"/>
                      <a:pt x="1255572" y="1049224"/>
                    </a:cubicBezTo>
                    <a:cubicBezTo>
                      <a:pt x="1255572" y="1628694"/>
                      <a:pt x="974503" y="2098448"/>
                      <a:pt x="627786" y="2098448"/>
                    </a:cubicBezTo>
                    <a:cubicBezTo>
                      <a:pt x="281069" y="2098448"/>
                      <a:pt x="0" y="1628694"/>
                      <a:pt x="0" y="1049224"/>
                    </a:cubicBezTo>
                    <a:cubicBezTo>
                      <a:pt x="0" y="469754"/>
                      <a:pt x="281069" y="0"/>
                      <a:pt x="627786" y="0"/>
                    </a:cubicBezTo>
                    <a:cubicBezTo>
                      <a:pt x="692795" y="0"/>
                      <a:pt x="755497" y="16514"/>
                      <a:pt x="814470" y="471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6000">
                      <a:alpha val="70196"/>
                    </a:srgbClr>
                  </a:gs>
                  <a:gs pos="100000">
                    <a:srgbClr val="ffc000">
                      <a:alpha val="50196"/>
                    </a:srgbClr>
                  </a:gs>
                </a:gsLst>
                <a:lin ang="19200000"/>
              </a:gradFill>
              <a:ln w="38100">
                <a:noFill/>
              </a:ln>
              <a:scene3d>
                <a:camera prst="orthographicFront"/>
                <a:lightRig dir="t" rig="flat">
                  <a:rot lat="0" lon="0" rev="5400000"/>
                </a:lightRig>
              </a:scene3d>
              <a:sp3d>
                <a:bevelT prst="softRound" w="38100" h="38100"/>
                <a:bevelB w="381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Segoe Semibold"/>
                </a:endParaRPr>
              </a:p>
            </p:txBody>
          </p:sp>
        </p:grpSp>
        <p:sp>
          <p:nvSpPr>
            <p:cNvPr id="429" name="椭圆 1"/>
            <p:cNvSpPr/>
            <p:nvPr/>
          </p:nvSpPr>
          <p:spPr>
            <a:xfrm rot="16200000">
              <a:off x="6622560" y="37231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0" name="椭圆 1"/>
            <p:cNvSpPr/>
            <p:nvPr/>
          </p:nvSpPr>
          <p:spPr>
            <a:xfrm rot="16200000">
              <a:off x="6622560" y="36723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1" name="椭圆 1"/>
            <p:cNvSpPr/>
            <p:nvPr/>
          </p:nvSpPr>
          <p:spPr>
            <a:xfrm rot="16200000">
              <a:off x="6622560" y="36216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2" name="椭圆 1"/>
            <p:cNvSpPr/>
            <p:nvPr/>
          </p:nvSpPr>
          <p:spPr>
            <a:xfrm rot="16200000">
              <a:off x="6622560" y="35834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3" name="椭圆 1"/>
            <p:cNvSpPr/>
            <p:nvPr/>
          </p:nvSpPr>
          <p:spPr>
            <a:xfrm rot="16200000">
              <a:off x="6622560" y="3634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4" name="椭圆 1"/>
            <p:cNvSpPr/>
            <p:nvPr/>
          </p:nvSpPr>
          <p:spPr>
            <a:xfrm rot="16200000">
              <a:off x="6622560" y="354528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5" name="椭圆 1"/>
            <p:cNvSpPr/>
            <p:nvPr/>
          </p:nvSpPr>
          <p:spPr>
            <a:xfrm rot="16200000">
              <a:off x="6622560" y="351972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6" name="椭圆 1"/>
            <p:cNvSpPr/>
            <p:nvPr/>
          </p:nvSpPr>
          <p:spPr>
            <a:xfrm rot="16200000">
              <a:off x="6622560" y="346896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7" name="椭圆 1"/>
            <p:cNvSpPr/>
            <p:nvPr/>
          </p:nvSpPr>
          <p:spPr>
            <a:xfrm rot="16200000">
              <a:off x="6622560" y="34182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8" name="椭圆 1"/>
            <p:cNvSpPr/>
            <p:nvPr/>
          </p:nvSpPr>
          <p:spPr>
            <a:xfrm rot="16200000">
              <a:off x="6622560" y="338004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sp>
          <p:nvSpPr>
            <p:cNvPr id="439" name="椭圆 1"/>
            <p:cNvSpPr/>
            <p:nvPr/>
          </p:nvSpPr>
          <p:spPr>
            <a:xfrm rot="16200000">
              <a:off x="6622560" y="3430800"/>
              <a:ext cx="295560" cy="65232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255572" h="2098448">
                  <a:moveTo>
                    <a:pt x="795896" y="155894"/>
                  </a:moveTo>
                  <a:cubicBezTo>
                    <a:pt x="745293" y="128543"/>
                    <a:pt x="691491" y="113808"/>
                    <a:pt x="635709" y="113808"/>
                  </a:cubicBezTo>
                  <a:cubicBezTo>
                    <a:pt x="338205" y="113808"/>
                    <a:pt x="97031" y="532916"/>
                    <a:pt x="97031" y="1049912"/>
                  </a:cubicBezTo>
                  <a:cubicBezTo>
                    <a:pt x="97031" y="1566908"/>
                    <a:pt x="338205" y="1986016"/>
                    <a:pt x="635709" y="1986016"/>
                  </a:cubicBezTo>
                  <a:cubicBezTo>
                    <a:pt x="933213" y="1986016"/>
                    <a:pt x="1174387" y="1566908"/>
                    <a:pt x="1174387" y="1049912"/>
                  </a:cubicBezTo>
                  <a:cubicBezTo>
                    <a:pt x="1174387" y="629853"/>
                    <a:pt x="1015175" y="274415"/>
                    <a:pt x="795896" y="155894"/>
                  </a:cubicBezTo>
                  <a:close/>
                  <a:moveTo>
                    <a:pt x="814470" y="47171"/>
                  </a:moveTo>
                  <a:cubicBezTo>
                    <a:pt x="1070022" y="180015"/>
                    <a:pt x="1255572" y="578404"/>
                    <a:pt x="1255572" y="1049224"/>
                  </a:cubicBezTo>
                  <a:cubicBezTo>
                    <a:pt x="1255572" y="1628694"/>
                    <a:pt x="974503" y="2098448"/>
                    <a:pt x="627786" y="2098448"/>
                  </a:cubicBezTo>
                  <a:cubicBezTo>
                    <a:pt x="281069" y="2098448"/>
                    <a:pt x="0" y="1628694"/>
                    <a:pt x="0" y="1049224"/>
                  </a:cubicBezTo>
                  <a:cubicBezTo>
                    <a:pt x="0" y="469754"/>
                    <a:pt x="281069" y="0"/>
                    <a:pt x="627786" y="0"/>
                  </a:cubicBezTo>
                  <a:cubicBezTo>
                    <a:pt x="692795" y="0"/>
                    <a:pt x="755497" y="16514"/>
                    <a:pt x="814470" y="4717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6000">
                    <a:alpha val="70196"/>
                  </a:srgbClr>
                </a:gs>
                <a:gs pos="100000">
                  <a:srgbClr val="ffc000">
                    <a:alpha val="50196"/>
                  </a:srgbClr>
                </a:gs>
              </a:gsLst>
              <a:lin ang="19200000"/>
            </a:gradFill>
            <a:ln w="38100">
              <a:noFill/>
            </a:ln>
            <a:scene3d>
              <a:camera prst="orthographicFront"/>
              <a:lightRig dir="t" rig="flat">
                <a:rot lat="0" lon="0" rev="5400000"/>
              </a:lightRig>
            </a:scene3d>
            <a:sp3d>
              <a:bevelT prst="softRound" w="38100" h="38100"/>
              <a:bevelB w="381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</p:grpSp>
      <p:sp>
        <p:nvSpPr>
          <p:cNvPr id="440" name="椭圆 327"/>
          <p:cNvSpPr/>
          <p:nvPr/>
        </p:nvSpPr>
        <p:spPr>
          <a:xfrm>
            <a:off x="6662520" y="53481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19050">
            <a:solidFill>
              <a:srgbClr val="ffffff">
                <a:alpha val="6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80808"/>
              </a:solidFill>
              <a:latin typeface="Segoe"/>
            </a:endParaRPr>
          </a:p>
        </p:txBody>
      </p:sp>
      <p:sp>
        <p:nvSpPr>
          <p:cNvPr id="441" name="TextBox 329"/>
          <p:cNvSpPr/>
          <p:nvPr/>
        </p:nvSpPr>
        <p:spPr>
          <a:xfrm>
            <a:off x="205128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30"/>
          <p:cNvSpPr/>
          <p:nvPr/>
        </p:nvSpPr>
        <p:spPr>
          <a:xfrm>
            <a:off x="292680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31"/>
          <p:cNvSpPr/>
          <p:nvPr/>
        </p:nvSpPr>
        <p:spPr>
          <a:xfrm>
            <a:off x="377856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32"/>
          <p:cNvSpPr/>
          <p:nvPr/>
        </p:nvSpPr>
        <p:spPr>
          <a:xfrm>
            <a:off x="467316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33"/>
          <p:cNvSpPr/>
          <p:nvPr/>
        </p:nvSpPr>
        <p:spPr>
          <a:xfrm>
            <a:off x="559260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334"/>
          <p:cNvSpPr/>
          <p:nvPr/>
        </p:nvSpPr>
        <p:spPr>
          <a:xfrm>
            <a:off x="6549840" y="55659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335"/>
          <p:cNvSpPr/>
          <p:nvPr/>
        </p:nvSpPr>
        <p:spPr>
          <a:xfrm>
            <a:off x="1119960" y="1962360"/>
            <a:ext cx="5681160" cy="924480"/>
          </a:xfrm>
          <a:custGeom>
            <a:avLst/>
            <a:gdLst>
              <a:gd name="textAreaLeft" fmla="*/ 0 w 5681160"/>
              <a:gd name="textAreaRight" fmla="*/ 5681520 w 5681160"/>
              <a:gd name="textAreaTop" fmla="*/ 0 h 924480"/>
              <a:gd name="textAreaBottom" fmla="*/ 924840 h 924480"/>
            </a:gdLst>
            <a:ahLst/>
            <a:rect l="textAreaLeft" t="textAreaTop" r="textAreaRight" b="textAreaBottom"/>
            <a:pathLst>
              <a:path w="5681609" h="924674">
                <a:moveTo>
                  <a:pt x="0" y="708917"/>
                </a:moveTo>
                <a:lnTo>
                  <a:pt x="1202077" y="914400"/>
                </a:lnTo>
                <a:lnTo>
                  <a:pt x="2065106" y="462337"/>
                </a:lnTo>
                <a:lnTo>
                  <a:pt x="2917861" y="236306"/>
                </a:lnTo>
                <a:lnTo>
                  <a:pt x="3811713" y="698643"/>
                </a:lnTo>
                <a:lnTo>
                  <a:pt x="4715838" y="0"/>
                </a:lnTo>
                <a:lnTo>
                  <a:pt x="5681609" y="924674"/>
                </a:ln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椭圆 336"/>
          <p:cNvSpPr/>
          <p:nvPr/>
        </p:nvSpPr>
        <p:spPr>
          <a:xfrm>
            <a:off x="2274120" y="282636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椭圆 337"/>
          <p:cNvSpPr/>
          <p:nvPr/>
        </p:nvSpPr>
        <p:spPr>
          <a:xfrm>
            <a:off x="3084120" y="240048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椭圆 338"/>
          <p:cNvSpPr/>
          <p:nvPr/>
        </p:nvSpPr>
        <p:spPr>
          <a:xfrm>
            <a:off x="3989160" y="216360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椭圆 339"/>
          <p:cNvSpPr/>
          <p:nvPr/>
        </p:nvSpPr>
        <p:spPr>
          <a:xfrm>
            <a:off x="4884120" y="260604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椭圆 340"/>
          <p:cNvSpPr/>
          <p:nvPr/>
        </p:nvSpPr>
        <p:spPr>
          <a:xfrm>
            <a:off x="5789520" y="193068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3" name="椭圆 341"/>
          <p:cNvSpPr/>
          <p:nvPr/>
        </p:nvSpPr>
        <p:spPr>
          <a:xfrm>
            <a:off x="6756480" y="2853000"/>
            <a:ext cx="99000" cy="99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TextBox 343"/>
          <p:cNvSpPr/>
          <p:nvPr/>
        </p:nvSpPr>
        <p:spPr>
          <a:xfrm>
            <a:off x="2125800" y="250560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44"/>
          <p:cNvSpPr/>
          <p:nvPr/>
        </p:nvSpPr>
        <p:spPr>
          <a:xfrm>
            <a:off x="2935800" y="209268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45"/>
          <p:cNvSpPr/>
          <p:nvPr/>
        </p:nvSpPr>
        <p:spPr>
          <a:xfrm>
            <a:off x="3841200" y="187596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46"/>
          <p:cNvSpPr/>
          <p:nvPr/>
        </p:nvSpPr>
        <p:spPr>
          <a:xfrm>
            <a:off x="4728960" y="229824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47"/>
          <p:cNvSpPr/>
          <p:nvPr/>
        </p:nvSpPr>
        <p:spPr>
          <a:xfrm>
            <a:off x="5641200" y="165060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48"/>
          <p:cNvSpPr/>
          <p:nvPr/>
        </p:nvSpPr>
        <p:spPr>
          <a:xfrm>
            <a:off x="6880320" y="273960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  <Words>603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17:00Z</dcterms:created>
  <dc:creator>dell</dc:creator>
  <dc:description/>
  <dc:language>en-US</dc:language>
  <cp:lastModifiedBy>yu wang</cp:lastModifiedBy>
  <dcterms:modified xsi:type="dcterms:W3CDTF">2015-08-08T10:05:13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