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57AD-EC38-4861-A7D5-8EB9651ED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E300-0060-4563-9799-96E5DC89F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6AAA-92C3-4749-8C5D-E23B61082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5E77-B603-4A00-8E3F-CFFF0FC3C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9F8A-3570-4873-B95E-F746BDB0C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84D6-D097-4754-96CD-EFB45E408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C349-E7FF-49D7-8CBF-050AF936C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35E0-62DA-4942-944A-6CACBA7DF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C663-CF5D-4E51-9447-30ED35BE0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5180-A457-4B7D-9680-5A777291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EA3D-B07E-4720-8FC4-BF1E7241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A963-A56A-4069-BA6A-87ADCFF5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5EDD4-C948-4E62-AC4B-3E5CFA3315F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078BA-6917-4E10-99B7-121E6F98CD8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6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5"/>
          <p:cNvSpPr/>
          <p:nvPr/>
        </p:nvSpPr>
        <p:spPr>
          <a:xfrm>
            <a:off x="0" y="3168720"/>
            <a:ext cx="9144000" cy="71280"/>
          </a:xfrm>
          <a:prstGeom prst="rect">
            <a:avLst/>
          </a:prstGeom>
          <a:solidFill>
            <a:srgbClr val="8cb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4"/>
          <p:cNvSpPr/>
          <p:nvPr/>
        </p:nvSpPr>
        <p:spPr>
          <a:xfrm rot="10800000">
            <a:off x="0" y="2842920"/>
            <a:ext cx="9144000" cy="285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6"/>
          <p:cNvSpPr/>
          <p:nvPr/>
        </p:nvSpPr>
        <p:spPr>
          <a:xfrm rot="10800000">
            <a:off x="3357720" y="2843280"/>
            <a:ext cx="2357280" cy="285840"/>
          </a:xfrm>
          <a:prstGeom prst="rect">
            <a:avLst/>
          </a:prstGeom>
          <a:solidFill>
            <a:srgbClr val="d8d8d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 rot="10800000">
            <a:off x="3357720" y="2843280"/>
            <a:ext cx="2357280" cy="285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4"/>
          <p:cNvSpPr/>
          <p:nvPr/>
        </p:nvSpPr>
        <p:spPr>
          <a:xfrm>
            <a:off x="3348000" y="3168720"/>
            <a:ext cx="2357640" cy="71280"/>
          </a:xfrm>
          <a:prstGeom prst="rect">
            <a:avLst/>
          </a:prstGeom>
          <a:solidFill>
            <a:srgbClr val="8cb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4359600" y="27860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4217040" y="278604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7"/>
          <p:cNvSpPr/>
          <p:nvPr/>
        </p:nvSpPr>
        <p:spPr>
          <a:xfrm>
            <a:off x="4539240" y="2786040"/>
            <a:ext cx="2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8"/>
          <p:cNvSpPr/>
          <p:nvPr/>
        </p:nvSpPr>
        <p:spPr>
          <a:xfrm>
            <a:off x="4610520" y="2786040"/>
            <a:ext cx="34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9"/>
          <p:cNvSpPr/>
          <p:nvPr/>
        </p:nvSpPr>
        <p:spPr>
          <a:xfrm>
            <a:off x="4788720" y="2786040"/>
            <a:ext cx="34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0"/>
          <p:cNvSpPr/>
          <p:nvPr/>
        </p:nvSpPr>
        <p:spPr>
          <a:xfrm>
            <a:off x="4034160" y="27860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1"/>
          <p:cNvSpPr/>
          <p:nvPr/>
        </p:nvSpPr>
        <p:spPr>
          <a:xfrm>
            <a:off x="3890160" y="27860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7"/>
          <p:cNvSpPr/>
          <p:nvPr/>
        </p:nvSpPr>
        <p:spPr>
          <a:xfrm>
            <a:off x="2860560" y="1785960"/>
            <a:ext cx="43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8"/>
          <p:cNvSpPr/>
          <p:nvPr/>
        </p:nvSpPr>
        <p:spPr>
          <a:xfrm>
            <a:off x="2934360" y="3643200"/>
            <a:ext cx="735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9"/>
          <p:cNvSpPr/>
          <p:nvPr/>
        </p:nvSpPr>
        <p:spPr>
          <a:xfrm>
            <a:off x="6432480" y="1428840"/>
            <a:ext cx="41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0"/>
          <p:cNvSpPr/>
          <p:nvPr/>
        </p:nvSpPr>
        <p:spPr>
          <a:xfrm>
            <a:off x="5576040" y="3571920"/>
            <a:ext cx="55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1"/>
          <p:cNvSpPr/>
          <p:nvPr/>
        </p:nvSpPr>
        <p:spPr>
          <a:xfrm>
            <a:off x="5432400" y="2286000"/>
            <a:ext cx="40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1"/>
          <p:cNvSpPr/>
          <p:nvPr/>
        </p:nvSpPr>
        <p:spPr>
          <a:xfrm>
            <a:off x="2249280" y="49356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生物主题毕业答辩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" nodeType="after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3.7037E-007 L -0.2599 0.3044 E">
                                      <p:cBhvr>
                                        <p:cTn id="38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2000" fill="hold"/>
                                        <p:tgtEl>
                                          <p:spTgt spid="5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33333E-006 L -0.24375 -0.30301 E">
                                      <p:cBhvr>
                                        <p:cTn id="45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" dur="2000" fill="hold"/>
                                        <p:tgtEl>
                                          <p:spTgt spid="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2.22222E-006 -3.7037E-007 L 0.11805 -0.3676 E">
                                      <p:cBhvr>
                                        <p:cTn id="52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54" dur="2000" fill="hold"/>
                                        <p:tgtEl>
                                          <p:spTgt spid="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5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3.7037E-007 L -0.03941 0.4199 E">
                                      <p:cBhvr>
                                        <p:cTn id="61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" dur="2000" fill="hold"/>
                                        <p:tgtEl>
                                          <p:spTgt spid="46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3.61111E-006 -3.7037E-007 L 0.16528 0.3044 E">
                                      <p:cBhvr>
                                        <p:cTn id="68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70" dur="2000" fill="hold"/>
                                        <p:tgtEl>
                                          <p:spTgt spid="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7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3.7037E-007 L 0.40156 0.13657 E">
                                      <p:cBhvr>
                                        <p:cTn id="77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9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7037E-007 L 0.29132 -0.20996 E">
                                      <p:cBhvr>
                                        <p:cTn id="86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7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2" dur="11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10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7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0" dur="12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11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780000" y="2060640"/>
            <a:ext cx="47527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大标题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4861080" y="407664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答辩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间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4932360" y="1784520"/>
            <a:ext cx="22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b6dde7"/>
                </a:solidFill>
                <a:latin typeface="微软雅黑"/>
                <a:ea typeface="微软雅黑"/>
              </a:rPr>
              <a:t>毕业论文答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5"/>
          <p:cNvSpPr/>
          <p:nvPr/>
        </p:nvSpPr>
        <p:spPr>
          <a:xfrm>
            <a:off x="504720" y="641520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3"/>
          <p:cNvSpPr/>
          <p:nvPr/>
        </p:nvSpPr>
        <p:spPr>
          <a:xfrm>
            <a:off x="2195640" y="2276640"/>
            <a:ext cx="511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b6dde7"/>
                </a:solidFill>
                <a:latin typeface="Calibri"/>
              </a:rPr>
              <a:t>THANKS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幻灯片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ppt背景图片素材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动态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通用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ppt 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设计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模板素材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毕业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文化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月工作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精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课件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中国风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活动策划方案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ppt免费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工业制造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会议报告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交通安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教育培训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卡通动漫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体育运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04:44:00Z</dcterms:created>
  <dc:creator>mouse</dc:creator>
  <dc:description/>
  <cp:keywords/>
  <dc:language>en-US</dc:language>
  <cp:lastModifiedBy>yu wang</cp:lastModifiedBy>
  <dcterms:modified xsi:type="dcterms:W3CDTF">2015-08-08T10:06:25Z</dcterms:modified>
  <cp:revision>7</cp:revision>
  <dc:subject/>
  <dc:title>你的大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77</vt:lpwstr>
  </property>
</Properties>
</file>