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3D9-CFD0-4660-AEFA-6D8E90B3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2FB-661B-4BD1-9460-1B4988F4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4DD-DE92-4E1D-A7D5-DDB3D11E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589-0865-4A7C-A728-8E33A502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A934-DD5E-4C44-ADF4-19D13819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98D2-4802-4132-8FD9-CDB0071F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ABAC-241D-492D-A03D-DC36D3BB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5267-7DC1-4B47-998E-2533F17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234A-862A-47EB-BEDE-32BAF7CB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D774-14B3-4C80-9FFB-14C846A7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9C7B-1181-4B05-9120-AA10989D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FED-0031-4B31-9BB0-4EBD74E1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D903-2A47-44C7-B086-06D7E3F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5262-0BE7-4B2E-8882-73E272CC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4BAB-01D6-4579-853C-F1A13237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DB8C-8682-4682-A267-FFC39986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04E-4C8E-4E53-9022-5844DECA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ED5-D9E5-46E8-B6DE-6F3C0D95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003-3DF9-489A-A6D1-8A276B20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CAE-A374-4CAD-BA38-32C6836D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632-2906-4037-88C5-435263C8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9D0-B5B7-4AE1-BA03-997F554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0A0-DE47-4C68-8ADE-681E7412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5CE-DDB9-4B81-9DA9-416144CD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A6AFA8-E3ED-4ED9-8061-891E4660A54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64E759-6305-490C-80F1-F23B08EFACE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idan\Desktop\34344.png"/>
          <p:cNvPicPr/>
          <p:nvPr/>
        </p:nvPicPr>
        <p:blipFill>
          <a:blip r:embed="rId2"/>
          <a:stretch/>
        </p:blipFill>
        <p:spPr>
          <a:xfrm>
            <a:off x="4214880" y="3929040"/>
            <a:ext cx="4643280" cy="5274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505960" y="445680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喜鹊报喜中国风</a:t>
            </a:r>
            <a:r>
              <a:rPr b="0" lang="en-US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316800" y="53247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357120" y="285840"/>
            <a:ext cx="1428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4670280" y="2052720"/>
            <a:ext cx="3352320" cy="2285640"/>
          </a:xfrm>
          <a:prstGeom prst="roundRect">
            <a:avLst>
              <a:gd name="adj" fmla="val 10347"/>
            </a:avLst>
          </a:prstGeom>
          <a:solidFill>
            <a:schemeClr val="bg1"/>
          </a:solidFill>
          <a:ln w="50800">
            <a:solidFill>
              <a:srgbClr val="4f81bd"/>
            </a:solidFill>
            <a:round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143000" y="2052720"/>
            <a:ext cx="3352320" cy="2285640"/>
          </a:xfrm>
          <a:prstGeom prst="roundRect">
            <a:avLst>
              <a:gd name="adj" fmla="val 10347"/>
            </a:avLst>
          </a:prstGeom>
          <a:solidFill>
            <a:schemeClr val="bg1"/>
          </a:solidFill>
          <a:ln w="50800">
            <a:solidFill>
              <a:srgbClr val="800080"/>
            </a:solidFill>
            <a:round/>
          </a:ln>
          <a:effectLst>
            <a:outerShdw algn="ctr" dir="8100000" dist="107423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3733920" y="1214280"/>
            <a:ext cx="790200" cy="1976400"/>
            <a:chOff x="3733920" y="1214280"/>
            <a:chExt cx="790200" cy="1976400"/>
          </a:xfrm>
        </p:grpSpPr>
        <p:sp>
          <p:nvSpPr>
            <p:cNvPr id="89" name="Freeform 6"/>
            <p:cNvSpPr/>
            <p:nvPr/>
          </p:nvSpPr>
          <p:spPr>
            <a:xfrm>
              <a:off x="3925800" y="1214280"/>
              <a:ext cx="369360" cy="4028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3733920" y="1660680"/>
              <a:ext cx="790200" cy="153000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1530000"/>
                <a:gd name="textAreaBottom" fmla="*/ 1530360 h 153000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 Box 8"/>
          <p:cNvSpPr/>
          <p:nvPr/>
        </p:nvSpPr>
        <p:spPr>
          <a:xfrm>
            <a:off x="1371600" y="2281320"/>
            <a:ext cx="2437920" cy="11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2281320"/>
            <a:ext cx="25905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4648320" y="1214280"/>
            <a:ext cx="790200" cy="1976400"/>
            <a:chOff x="4648320" y="1214280"/>
            <a:chExt cx="790200" cy="1976400"/>
          </a:xfrm>
        </p:grpSpPr>
        <p:sp>
          <p:nvSpPr>
            <p:cNvPr id="94" name="Freeform 11"/>
            <p:cNvSpPr/>
            <p:nvPr/>
          </p:nvSpPr>
          <p:spPr>
            <a:xfrm>
              <a:off x="4840200" y="1214280"/>
              <a:ext cx="369360" cy="4028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4648320" y="1660680"/>
              <a:ext cx="790200" cy="153000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1530000"/>
                <a:gd name="textAreaBottom" fmla="*/ 1530360 h 153000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57120" y="285840"/>
            <a:ext cx="1428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"/>
          <p:cNvSpPr/>
          <p:nvPr/>
        </p:nvSpPr>
        <p:spPr>
          <a:xfrm>
            <a:off x="2338200" y="2716200"/>
            <a:ext cx="6138720" cy="360"/>
          </a:xfrm>
          <a:prstGeom prst="line">
            <a:avLst/>
          </a:prstGeom>
          <a:ln cap="rnd" w="31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3"/>
          <p:cNvSpPr/>
          <p:nvPr/>
        </p:nvSpPr>
        <p:spPr>
          <a:xfrm>
            <a:off x="2338200" y="3439800"/>
            <a:ext cx="6138720" cy="360"/>
          </a:xfrm>
          <a:prstGeom prst="line">
            <a:avLst/>
          </a:prstGeom>
          <a:ln cap="rnd" w="31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338200" y="4163760"/>
            <a:ext cx="6138720" cy="360"/>
          </a:xfrm>
          <a:prstGeom prst="line">
            <a:avLst/>
          </a:prstGeom>
          <a:ln cap="rnd" w="31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2338200" y="4782960"/>
            <a:ext cx="6138720" cy="360"/>
          </a:xfrm>
          <a:prstGeom prst="line">
            <a:avLst/>
          </a:prstGeom>
          <a:ln cap="rnd" w="31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2338200" y="1962000"/>
            <a:ext cx="6138720" cy="360"/>
          </a:xfrm>
          <a:prstGeom prst="line">
            <a:avLst/>
          </a:prstGeom>
          <a:ln cap="rnd" w="31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432080" y="3768840"/>
            <a:ext cx="1498320" cy="1302840"/>
          </a:xfrm>
          <a:prstGeom prst="diamond">
            <a:avLst/>
          </a:prstGeom>
          <a:gradFill rotWithShape="0">
            <a:gsLst>
              <a:gs pos="0">
                <a:srgbClr val="576869"/>
              </a:gs>
              <a:gs pos="100000">
                <a:srgbClr val="4f81bd"/>
              </a:gs>
            </a:gsLst>
            <a:lin ang="18900000"/>
          </a:gradFill>
          <a:ln w="9525">
            <a:noFill/>
          </a:ln>
          <a:scene3d>
            <a:camera prst="legacyPerspectiveBottom">
              <a:rot lat="19499998" lon="0" rev="0"/>
            </a:camera>
            <a:lightRig dir="b" rig="legacyNormal4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409760" y="3021120"/>
            <a:ext cx="1566360" cy="1479240"/>
          </a:xfrm>
          <a:prstGeom prst="diamond">
            <a:avLst/>
          </a:prstGeom>
          <a:gradFill rotWithShape="0">
            <a:gsLst>
              <a:gs pos="0">
                <a:srgbClr val="181847"/>
              </a:gs>
              <a:gs pos="100000">
                <a:srgbClr val="c0504d"/>
              </a:gs>
            </a:gsLst>
            <a:lin ang="18900000"/>
          </a:gradFill>
          <a:ln w="9525">
            <a:noFill/>
          </a:ln>
          <a:scene3d>
            <a:camera prst="legacyPerspectiveBottom">
              <a:rot lat="19199998" lon="0" rev="0"/>
            </a:camera>
            <a:lightRig dir="b" rig="legacyNormal4"/>
          </a:scene3d>
          <a:sp3d extrusionH="1000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1352520" y="2252520"/>
            <a:ext cx="1680840" cy="1517400"/>
          </a:xfrm>
          <a:prstGeom prst="diamond">
            <a:avLst/>
          </a:prstGeom>
          <a:gradFill rotWithShape="0">
            <a:gsLst>
              <a:gs pos="0">
                <a:srgbClr val="576869"/>
              </a:gs>
              <a:gs pos="100000">
                <a:srgbClr val="4f81bd"/>
              </a:gs>
            </a:gsLst>
            <a:lin ang="18900000"/>
          </a:gradFill>
          <a:ln w="9525">
            <a:noFill/>
          </a:ln>
          <a:scene3d>
            <a:camera prst="legacyPerspectiveBottom">
              <a:rot lat="18900000" lon="0" rev="0"/>
            </a:camera>
            <a:lightRig dir="b" rig="legacyNormal4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1309680" y="1446120"/>
            <a:ext cx="1771200" cy="1598400"/>
          </a:xfrm>
          <a:prstGeom prst="diamond">
            <a:avLst/>
          </a:prstGeom>
          <a:gradFill rotWithShape="0">
            <a:gsLst>
              <a:gs pos="0">
                <a:srgbClr val="181847"/>
              </a:gs>
              <a:gs pos="100000">
                <a:srgbClr val="c0504d"/>
              </a:gs>
            </a:gsLst>
            <a:lin ang="18900000"/>
          </a:gradFill>
          <a:ln w="9525">
            <a:noFill/>
          </a:ln>
          <a:scene3d>
            <a:camera prst="legacyPerspectiveBottom">
              <a:rot lat="18900000" lon="0" rev="0"/>
            </a:camera>
            <a:lightRig dir="b" rig="legacyNormal4"/>
          </a:scene3d>
          <a:sp3d extrusionH="1000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1"/>
          <p:cNvSpPr/>
          <p:nvPr/>
        </p:nvSpPr>
        <p:spPr>
          <a:xfrm>
            <a:off x="1233360" y="1554120"/>
            <a:ext cx="960120" cy="3436560"/>
          </a:xfrm>
          <a:custGeom>
            <a:avLst/>
            <a:gdLst>
              <a:gd name="textAreaLeft" fmla="*/ 0 w 960120"/>
              <a:gd name="textAreaRight" fmla="*/ 960480 w 960120"/>
              <a:gd name="textAreaTop" fmla="*/ 0 h 3436560"/>
              <a:gd name="textAreaBottom" fmla="*/ 3436920 h 3436560"/>
            </a:gdLst>
            <a:ahLst/>
            <a:rect l="textAreaLeft" t="textAreaTop" r="textAreaRight" b="textAreaBottom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251000" y="725400"/>
            <a:ext cx="1895040" cy="1642680"/>
          </a:xfrm>
          <a:prstGeom prst="diamond">
            <a:avLst/>
          </a:prstGeom>
          <a:gradFill rotWithShape="0">
            <a:gsLst>
              <a:gs pos="0">
                <a:srgbClr val="4f81bd"/>
              </a:gs>
              <a:gs pos="100000">
                <a:srgbClr val="576869"/>
              </a:gs>
            </a:gsLst>
            <a:lin ang="18900000"/>
          </a:gradFill>
          <a:ln w="9525">
            <a:noFill/>
          </a:ln>
          <a:scene3d>
            <a:camera prst="legacyPerspectiveBottom">
              <a:rot lat="18600000" lon="0" rev="0"/>
            </a:camera>
            <a:lightRig dir="b" rig="legacyNormal4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3"/>
          <p:cNvSpPr/>
          <p:nvPr/>
        </p:nvSpPr>
        <p:spPr>
          <a:xfrm>
            <a:off x="1243080" y="1182600"/>
            <a:ext cx="1909440" cy="779040"/>
          </a:xfrm>
          <a:custGeom>
            <a:avLst/>
            <a:gdLst>
              <a:gd name="textAreaLeft" fmla="*/ 0 w 1909440"/>
              <a:gd name="textAreaRight" fmla="*/ 1909800 w 1909440"/>
              <a:gd name="textAreaTop" fmla="*/ 0 h 779040"/>
              <a:gd name="textAreaBottom" fmla="*/ 779400 h 779040"/>
            </a:gdLst>
            <a:ahLst/>
            <a:rect l="textAreaLeft" t="textAreaTop" r="textAreaRight" b="textAreaBottom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525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716480" y="4365720"/>
            <a:ext cx="903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659960" y="3635280"/>
            <a:ext cx="1017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659960" y="2944800"/>
            <a:ext cx="1017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1659960" y="2138400"/>
            <a:ext cx="1017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1659960" y="1407960"/>
            <a:ext cx="1017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 flipH="1" flipV="1">
            <a:off x="1071360" y="1562040"/>
            <a:ext cx="237960" cy="2938320"/>
          </a:xfrm>
          <a:prstGeom prst="line">
            <a:avLst/>
          </a:prstGeom>
          <a:ln w="9525">
            <a:solidFill>
              <a:srgbClr val="000000"/>
            </a:solidFill>
            <a:round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3505680" y="1416240"/>
            <a:ext cx="45547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1f497d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ThemeGallery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 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3505680" y="2178000"/>
            <a:ext cx="45547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1f497d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ThemeGallery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 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3505680" y="2940120"/>
            <a:ext cx="45547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1f497d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ThemeGallery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 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3505680" y="3549600"/>
            <a:ext cx="45547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1f497d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ThemeGallery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 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3515040" y="4235400"/>
            <a:ext cx="45547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1f497d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ThemeGallery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 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357120" y="285840"/>
            <a:ext cx="1428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3479760" y="2646360"/>
            <a:ext cx="360" cy="2496960"/>
          </a:xfrm>
          <a:prstGeom prst="line">
            <a:avLst/>
          </a:prstGeom>
          <a:ln w="9525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590800" y="2646360"/>
            <a:ext cx="360" cy="2496960"/>
          </a:xfrm>
          <a:prstGeom prst="line">
            <a:avLst/>
          </a:prstGeom>
          <a:ln w="9525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7675200" y="2339640"/>
            <a:ext cx="360" cy="2803680"/>
          </a:xfrm>
          <a:prstGeom prst="line">
            <a:avLst/>
          </a:prstGeom>
          <a:ln w="9525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1500120" y="1590840"/>
            <a:ext cx="6741720" cy="1631520"/>
          </a:xfrm>
          <a:custGeom>
            <a:avLst/>
            <a:gdLst>
              <a:gd name="textAreaLeft" fmla="*/ 0 w 6741720"/>
              <a:gd name="textAreaRight" fmla="*/ 6742080 w 6741720"/>
              <a:gd name="textAreaTop" fmla="*/ 0 h 1631520"/>
              <a:gd name="textAreaBottom" fmla="*/ 1631880 h 163152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100000">
                <a:srgbClr val="4f81bd"/>
              </a:gs>
            </a:gsLst>
            <a:lin ang="0"/>
          </a:gradFill>
          <a:ln w="9525">
            <a:noFill/>
          </a:ln>
          <a:scene3d>
            <a:camera prst="legacyPerspectiveTopRight">
              <a:rot lat="600000" lon="20999997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738760" y="4818240"/>
            <a:ext cx="1780920" cy="313920"/>
          </a:xfrm>
          <a:prstGeom prst="bevel">
            <a:avLst>
              <a:gd name="adj" fmla="val 5949"/>
            </a:avLst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58800" y="3571920"/>
            <a:ext cx="1883880" cy="95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462040" y="932040"/>
            <a:ext cx="5024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3652920" y="4818240"/>
            <a:ext cx="1780920" cy="313920"/>
          </a:xfrm>
          <a:prstGeom prst="bevel">
            <a:avLst>
              <a:gd name="adj" fmla="val 5949"/>
            </a:avLst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1547640" y="4818240"/>
            <a:ext cx="1780920" cy="313920"/>
          </a:xfrm>
          <a:prstGeom prst="bevel">
            <a:avLst>
              <a:gd name="adj" fmla="val 5949"/>
            </a:avLst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3529080" y="3598920"/>
            <a:ext cx="1883880" cy="95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62440" y="3584520"/>
            <a:ext cx="1883880" cy="95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57120" y="285840"/>
            <a:ext cx="1428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1857240" y="1071720"/>
            <a:ext cx="5486040" cy="3961800"/>
            <a:chOff x="1857240" y="1071720"/>
            <a:chExt cx="5486040" cy="3961800"/>
          </a:xfrm>
        </p:grpSpPr>
        <p:sp>
          <p:nvSpPr>
            <p:cNvPr id="134" name="AutoShape 4"/>
            <p:cNvSpPr/>
            <p:nvPr/>
          </p:nvSpPr>
          <p:spPr>
            <a:xfrm>
              <a:off x="1857240" y="1071720"/>
              <a:ext cx="548604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189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>
              <a:off x="1977480" y="1186560"/>
              <a:ext cx="105660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839c9e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2043000" y="1249920"/>
              <a:ext cx="528120" cy="50220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4f81bd">
                    <a:alpha val="0"/>
                  </a:srgbClr>
                </a:gs>
                <a:gs pos="50000">
                  <a:srgbClr val="daeef0"/>
                </a:gs>
                <a:gs pos="100000">
                  <a:srgbClr val="4f81bd">
                    <a:alpha val="0"/>
                  </a:srgbClr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2089440" y="1459080"/>
              <a:ext cx="8121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8"/>
            <p:cNvSpPr/>
            <p:nvPr/>
          </p:nvSpPr>
          <p:spPr>
            <a:xfrm>
              <a:off x="3179880" y="1261800"/>
              <a:ext cx="403128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1857240" y="2430720"/>
              <a:ext cx="548604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189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AutoShape 10"/>
            <p:cNvSpPr/>
            <p:nvPr/>
          </p:nvSpPr>
          <p:spPr>
            <a:xfrm>
              <a:off x="1977480" y="2542680"/>
              <a:ext cx="105660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6b8e00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2043000" y="2607480"/>
              <a:ext cx="528120" cy="50076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500760"/>
                <a:gd name="textAreaBottom" fmla="*/ 501120 h 5007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4e993"/>
                </a:gs>
                <a:gs pos="100000">
                  <a:srgbClr val="800080">
                    <a:alpha val="0"/>
                  </a:srgbClr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2089440" y="2819880"/>
              <a:ext cx="8121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3"/>
            <p:cNvSpPr/>
            <p:nvPr/>
          </p:nvSpPr>
          <p:spPr>
            <a:xfrm>
              <a:off x="3179880" y="2597400"/>
              <a:ext cx="403128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4"/>
            <p:cNvSpPr/>
            <p:nvPr/>
          </p:nvSpPr>
          <p:spPr>
            <a:xfrm>
              <a:off x="1857240" y="3804480"/>
              <a:ext cx="548604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189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AutoShape 15"/>
            <p:cNvSpPr/>
            <p:nvPr/>
          </p:nvSpPr>
          <p:spPr>
            <a:xfrm>
              <a:off x="1977480" y="3917880"/>
              <a:ext cx="105660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6b6b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043000" y="3983040"/>
              <a:ext cx="528120" cy="50220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3cdcd"/>
                </a:gs>
                <a:gs pos="100000">
                  <a:srgbClr val="0000ff">
                    <a:alpha val="0"/>
                  </a:srgbClr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2089440" y="4192200"/>
              <a:ext cx="8121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8"/>
            <p:cNvSpPr/>
            <p:nvPr/>
          </p:nvSpPr>
          <p:spPr>
            <a:xfrm>
              <a:off x="3179880" y="3972600"/>
              <a:ext cx="403128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3"/>
          <p:cNvSpPr/>
          <p:nvPr/>
        </p:nvSpPr>
        <p:spPr>
          <a:xfrm>
            <a:off x="370800" y="53092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7120" y="285840"/>
            <a:ext cx="1428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973760" y="2935440"/>
            <a:ext cx="1834920" cy="4312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166920" y="3424320"/>
            <a:ext cx="1806120" cy="4312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338120" y="3917880"/>
            <a:ext cx="1825200" cy="4312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6"/>
          <p:cNvSpPr/>
          <p:nvPr/>
        </p:nvSpPr>
        <p:spPr>
          <a:xfrm flipH="1">
            <a:off x="735120" y="3305160"/>
            <a:ext cx="2428560" cy="615600"/>
          </a:xfrm>
          <a:prstGeom prst="parallelogram">
            <a:avLst>
              <a:gd name="adj" fmla="val 98582"/>
            </a:avLst>
          </a:prstGeom>
          <a:gradFill rotWithShape="0">
            <a:gsLst>
              <a:gs pos="0">
                <a:srgbClr val="c7e374">
                  <a:alpha val="82352"/>
                </a:srgbClr>
              </a:gs>
              <a:gs pos="100000">
                <a:srgbClr val="800080">
                  <a:alpha val="50196"/>
                </a:srgbClr>
              </a:gs>
            </a:gsLst>
            <a:lin ang="81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7"/>
          <p:cNvSpPr/>
          <p:nvPr/>
        </p:nvSpPr>
        <p:spPr>
          <a:xfrm flipH="1">
            <a:off x="2548080" y="2795400"/>
            <a:ext cx="2428560" cy="645840"/>
          </a:xfrm>
          <a:prstGeom prst="parallelogram">
            <a:avLst>
              <a:gd name="adj" fmla="val 96330"/>
            </a:avLst>
          </a:prstGeom>
          <a:gradFill rotWithShape="0">
            <a:gsLst>
              <a:gs pos="0">
                <a:srgbClr val="4f81bd"/>
              </a:gs>
              <a:gs pos="100000">
                <a:srgbClr val="daeef0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8"/>
          <p:cNvSpPr/>
          <p:nvPr/>
        </p:nvSpPr>
        <p:spPr>
          <a:xfrm>
            <a:off x="2554200" y="2797200"/>
            <a:ext cx="612360" cy="1130040"/>
          </a:xfrm>
          <a:custGeom>
            <a:avLst/>
            <a:gdLst>
              <a:gd name="textAreaLeft" fmla="*/ 0 w 612360"/>
              <a:gd name="textAreaRight" fmla="*/ 612720 w 61236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100000">
                <a:srgbClr val="4f81bd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9"/>
          <p:cNvSpPr/>
          <p:nvPr/>
        </p:nvSpPr>
        <p:spPr>
          <a:xfrm flipH="1">
            <a:off x="4361040" y="2279520"/>
            <a:ext cx="2437920" cy="657000"/>
          </a:xfrm>
          <a:prstGeom prst="parallelogram">
            <a:avLst>
              <a:gd name="adj" fmla="val 92256"/>
            </a:avLst>
          </a:prstGeom>
          <a:gradFill rotWithShape="0">
            <a:gsLst>
              <a:gs pos="0">
                <a:srgbClr val="800080"/>
              </a:gs>
              <a:gs pos="100000">
                <a:srgbClr val="c8e476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0"/>
          <p:cNvSpPr/>
          <p:nvPr/>
        </p:nvSpPr>
        <p:spPr>
          <a:xfrm>
            <a:off x="4357800" y="2274840"/>
            <a:ext cx="615600" cy="1163160"/>
          </a:xfrm>
          <a:custGeom>
            <a:avLst/>
            <a:gdLst>
              <a:gd name="textAreaLeft" fmla="*/ 0 w 615600"/>
              <a:gd name="textAreaRight" fmla="*/ 615960 w 615600"/>
              <a:gd name="textAreaTop" fmla="*/ 0 h 1163160"/>
              <a:gd name="textAreaBottom" fmla="*/ 1163520 h 116316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00"/>
              </a:gs>
              <a:gs pos="100000">
                <a:srgbClr val="800080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1" descr="light_shadow"/>
          <p:cNvPicPr/>
          <p:nvPr/>
        </p:nvPicPr>
        <p:blipFill>
          <a:blip r:embed="rId1">
            <a:grayscl/>
          </a:blip>
          <a:stretch/>
        </p:blipFill>
        <p:spPr>
          <a:xfrm>
            <a:off x="1354320" y="3459240"/>
            <a:ext cx="1007640" cy="280800"/>
          </a:xfrm>
          <a:prstGeom prst="rect">
            <a:avLst/>
          </a:prstGeom>
          <a:ln w="9525">
            <a:noFill/>
          </a:ln>
        </p:spPr>
      </p:pic>
      <p:pic>
        <p:nvPicPr>
          <p:cNvPr id="160" name="Picture 12" descr="circuler_1"/>
          <p:cNvPicPr/>
          <p:nvPr/>
        </p:nvPicPr>
        <p:blipFill>
          <a:blip r:embed="rId2"/>
          <a:stretch/>
        </p:blipFill>
        <p:spPr>
          <a:xfrm>
            <a:off x="1266840" y="2498760"/>
            <a:ext cx="1152000" cy="1139400"/>
          </a:xfrm>
          <a:prstGeom prst="rect">
            <a:avLst/>
          </a:prstGeom>
          <a:ln w="9525">
            <a:noFill/>
          </a:ln>
        </p:spPr>
      </p:pic>
      <p:sp>
        <p:nvSpPr>
          <p:cNvPr id="161" name="Oval 13"/>
          <p:cNvSpPr/>
          <p:nvPr/>
        </p:nvSpPr>
        <p:spPr>
          <a:xfrm>
            <a:off x="1266840" y="2498760"/>
            <a:ext cx="1144080" cy="1142640"/>
          </a:xfrm>
          <a:prstGeom prst="ellipse">
            <a:avLst/>
          </a:prstGeom>
          <a:gradFill rotWithShape="0">
            <a:gsLst>
              <a:gs pos="0">
                <a:srgbClr val="800080">
                  <a:alpha val="45098"/>
                </a:srgbClr>
              </a:gs>
              <a:gs pos="50000">
                <a:srgbClr val="c7e374">
                  <a:alpha val="90196"/>
                </a:srgbClr>
              </a:gs>
              <a:gs pos="100000">
                <a:srgbClr val="800080">
                  <a:alpha val="45098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4"/>
          <p:cNvSpPr/>
          <p:nvPr/>
        </p:nvSpPr>
        <p:spPr>
          <a:xfrm>
            <a:off x="1386000" y="2522520"/>
            <a:ext cx="898200" cy="394920"/>
          </a:xfrm>
          <a:custGeom>
            <a:avLst/>
            <a:gdLst>
              <a:gd name="textAreaLeft" fmla="*/ 0 w 898200"/>
              <a:gd name="textAreaRight" fmla="*/ 898560 w 898200"/>
              <a:gd name="textAreaTop" fmla="*/ 0 h 394920"/>
              <a:gd name="textAreaBottom" fmla="*/ 395280 h 39492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0080">
                  <a:alpha val="18039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5" descr="light_shadow"/>
          <p:cNvPicPr/>
          <p:nvPr/>
        </p:nvPicPr>
        <p:blipFill>
          <a:blip r:embed="rId3">
            <a:grayscl/>
          </a:blip>
          <a:stretch/>
        </p:blipFill>
        <p:spPr>
          <a:xfrm>
            <a:off x="3197160" y="2955960"/>
            <a:ext cx="1007640" cy="280800"/>
          </a:xfrm>
          <a:prstGeom prst="rect">
            <a:avLst/>
          </a:prstGeom>
          <a:ln w="9525">
            <a:noFill/>
          </a:ln>
        </p:spPr>
      </p:pic>
      <p:pic>
        <p:nvPicPr>
          <p:cNvPr id="164" name="Picture 16" descr="circuler_1"/>
          <p:cNvPicPr/>
          <p:nvPr/>
        </p:nvPicPr>
        <p:blipFill>
          <a:blip r:embed="rId4"/>
          <a:stretch/>
        </p:blipFill>
        <p:spPr>
          <a:xfrm>
            <a:off x="3110040" y="1995480"/>
            <a:ext cx="1152000" cy="1139400"/>
          </a:xfrm>
          <a:prstGeom prst="rect">
            <a:avLst/>
          </a:prstGeom>
          <a:ln w="9525">
            <a:noFill/>
          </a:ln>
        </p:spPr>
      </p:pic>
      <p:sp>
        <p:nvSpPr>
          <p:cNvPr id="165" name="Oval 17"/>
          <p:cNvSpPr/>
          <p:nvPr/>
        </p:nvSpPr>
        <p:spPr>
          <a:xfrm>
            <a:off x="3110040" y="1995480"/>
            <a:ext cx="1144080" cy="1142640"/>
          </a:xfrm>
          <a:prstGeom prst="ellipse">
            <a:avLst/>
          </a:prstGeom>
          <a:gradFill rotWithShape="0">
            <a:gsLst>
              <a:gs pos="0">
                <a:srgbClr val="313b3c">
                  <a:alpha val="90196"/>
                </a:srgbClr>
              </a:gs>
              <a:gs pos="50000">
                <a:srgbClr val="4f81bd">
                  <a:alpha val="45098"/>
                </a:srgbClr>
              </a:gs>
              <a:gs pos="100000">
                <a:srgbClr val="313b3c">
                  <a:alpha val="9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8"/>
          <p:cNvSpPr/>
          <p:nvPr/>
        </p:nvSpPr>
        <p:spPr>
          <a:xfrm>
            <a:off x="3228840" y="2019240"/>
            <a:ext cx="898200" cy="394920"/>
          </a:xfrm>
          <a:custGeom>
            <a:avLst/>
            <a:gdLst>
              <a:gd name="textAreaLeft" fmla="*/ 0 w 898200"/>
              <a:gd name="textAreaRight" fmla="*/ 898560 w 898200"/>
              <a:gd name="textAreaTop" fmla="*/ 0 h 394920"/>
              <a:gd name="textAreaBottom" fmla="*/ 395280 h 39492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18039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19" descr="light_shadow"/>
          <p:cNvPicPr/>
          <p:nvPr/>
        </p:nvPicPr>
        <p:blipFill>
          <a:blip r:embed="rId5">
            <a:grayscl/>
          </a:blip>
          <a:stretch/>
        </p:blipFill>
        <p:spPr>
          <a:xfrm>
            <a:off x="5118120" y="2468520"/>
            <a:ext cx="1007640" cy="28080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20" descr="circuler_1"/>
          <p:cNvPicPr/>
          <p:nvPr/>
        </p:nvPicPr>
        <p:blipFill>
          <a:blip r:embed="rId6"/>
          <a:stretch/>
        </p:blipFill>
        <p:spPr>
          <a:xfrm>
            <a:off x="5030640" y="1508040"/>
            <a:ext cx="1152000" cy="1139400"/>
          </a:xfrm>
          <a:prstGeom prst="rect">
            <a:avLst/>
          </a:prstGeom>
          <a:ln w="9525">
            <a:noFill/>
          </a:ln>
        </p:spPr>
      </p:pic>
      <p:sp>
        <p:nvSpPr>
          <p:cNvPr id="169" name="Oval 21"/>
          <p:cNvSpPr/>
          <p:nvPr/>
        </p:nvSpPr>
        <p:spPr>
          <a:xfrm>
            <a:off x="5030640" y="1508040"/>
            <a:ext cx="1144080" cy="1142640"/>
          </a:xfrm>
          <a:prstGeom prst="ellipse">
            <a:avLst/>
          </a:prstGeom>
          <a:gradFill rotWithShape="0">
            <a:gsLst>
              <a:gs pos="0">
                <a:srgbClr val="283600">
                  <a:alpha val="90196"/>
                </a:srgbClr>
              </a:gs>
              <a:gs pos="50000">
                <a:srgbClr val="800080">
                  <a:alpha val="45098"/>
                </a:srgbClr>
              </a:gs>
              <a:gs pos="100000">
                <a:srgbClr val="283600">
                  <a:alpha val="9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5149800" y="1531800"/>
            <a:ext cx="898200" cy="394920"/>
          </a:xfrm>
          <a:custGeom>
            <a:avLst/>
            <a:gdLst>
              <a:gd name="textAreaLeft" fmla="*/ 0 w 898200"/>
              <a:gd name="textAreaRight" fmla="*/ 898560 w 898200"/>
              <a:gd name="textAreaTop" fmla="*/ 0 h 394920"/>
              <a:gd name="textAreaBottom" fmla="*/ 395280 h 39492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0080">
                  <a:alpha val="18039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416240" y="2932200"/>
            <a:ext cx="955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d13f11"/>
                </a:solidFill>
                <a:latin typeface="Calibri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3254400" y="2427120"/>
            <a:ext cx="955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d13f11"/>
                </a:solidFill>
                <a:latin typeface="Calibri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180040" y="1930320"/>
            <a:ext cx="955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d13f11"/>
                </a:solidFill>
                <a:latin typeface="Calibri"/>
              </a:rPr>
              <a:t>C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1409760" y="4119480"/>
            <a:ext cx="1690200" cy="133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3232080" y="3643200"/>
            <a:ext cx="1740960" cy="117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333333"/>
                </a:solidFill>
                <a:latin typeface="Calibri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037120" y="3268800"/>
            <a:ext cx="1761840" cy="102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333333"/>
                </a:solidFill>
                <a:latin typeface="Calibri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9"/>
          <p:cNvGrpSpPr/>
          <p:nvPr/>
        </p:nvGrpSpPr>
        <p:grpSpPr>
          <a:xfrm>
            <a:off x="1328760" y="3230280"/>
            <a:ext cx="1075320" cy="428760"/>
            <a:chOff x="1328760" y="3230280"/>
            <a:chExt cx="1075320" cy="428760"/>
          </a:xfrm>
        </p:grpSpPr>
        <p:grpSp>
          <p:nvGrpSpPr>
            <p:cNvPr id="178" name="Group 30"/>
            <p:cNvGrpSpPr/>
            <p:nvPr/>
          </p:nvGrpSpPr>
          <p:grpSpPr>
            <a:xfrm>
              <a:off x="1517040" y="3230280"/>
              <a:ext cx="887040" cy="403200"/>
              <a:chOff x="1517040" y="3230280"/>
              <a:chExt cx="887040" cy="403200"/>
            </a:xfrm>
          </p:grpSpPr>
          <p:sp>
            <p:nvSpPr>
              <p:cNvPr id="179" name="AutoShape 31"/>
              <p:cNvSpPr/>
              <p:nvPr/>
            </p:nvSpPr>
            <p:spPr>
              <a:xfrm rot="14766000">
                <a:off x="2000160" y="310968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chemeClr val="bg1">
                  <a:alpha val="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AutoShape 32"/>
              <p:cNvSpPr/>
              <p:nvPr/>
            </p:nvSpPr>
            <p:spPr>
              <a:xfrm rot="15580800">
                <a:off x="1900080" y="314892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chemeClr val="bg1">
                  <a:alpha val="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AutoShape 33"/>
              <p:cNvSpPr/>
              <p:nvPr/>
            </p:nvSpPr>
            <p:spPr>
              <a:xfrm rot="15876600">
                <a:off x="1838880" y="315720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chemeClr val="bg1">
                  <a:alpha val="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AutoShape 34"/>
              <p:cNvSpPr/>
              <p:nvPr/>
            </p:nvSpPr>
            <p:spPr>
              <a:xfrm rot="16408800">
                <a:off x="1764720" y="316440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chemeClr val="bg1">
                  <a:alpha val="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Group 35"/>
            <p:cNvGrpSpPr/>
            <p:nvPr/>
          </p:nvGrpSpPr>
          <p:grpSpPr>
            <a:xfrm>
              <a:off x="1328760" y="3236400"/>
              <a:ext cx="884880" cy="422640"/>
              <a:chOff x="1328760" y="3236400"/>
              <a:chExt cx="884880" cy="422640"/>
            </a:xfrm>
          </p:grpSpPr>
          <p:sp>
            <p:nvSpPr>
              <p:cNvPr id="184" name="AutoShape 36"/>
              <p:cNvSpPr/>
              <p:nvPr/>
            </p:nvSpPr>
            <p:spPr>
              <a:xfrm rot="16119000">
                <a:off x="1811880" y="316548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chemeClr val="bg1">
                  <a:alpha val="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AutoShape 37"/>
              <p:cNvSpPr/>
              <p:nvPr/>
            </p:nvSpPr>
            <p:spPr>
              <a:xfrm rot="16934400">
                <a:off x="1704600" y="316332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chemeClr val="bg1">
                  <a:alpha val="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AutoShape 38"/>
              <p:cNvSpPr/>
              <p:nvPr/>
            </p:nvSpPr>
            <p:spPr>
              <a:xfrm rot="17230200">
                <a:off x="1644480" y="314784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chemeClr val="bg1">
                  <a:alpha val="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AutoShape 39"/>
              <p:cNvSpPr/>
              <p:nvPr/>
            </p:nvSpPr>
            <p:spPr>
              <a:xfrm rot="17762400">
                <a:off x="1573920" y="3125520"/>
                <a:ext cx="155880" cy="643680"/>
              </a:xfrm>
              <a:prstGeom prst="moon">
                <a:avLst>
                  <a:gd name="adj" fmla="val 49773"/>
                </a:avLst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8" name="Group 40"/>
          <p:cNvGrpSpPr/>
          <p:nvPr/>
        </p:nvGrpSpPr>
        <p:grpSpPr>
          <a:xfrm>
            <a:off x="3219480" y="2755440"/>
            <a:ext cx="1075320" cy="428760"/>
            <a:chOff x="3219480" y="2755440"/>
            <a:chExt cx="1075320" cy="428760"/>
          </a:xfrm>
        </p:grpSpPr>
        <p:grpSp>
          <p:nvGrpSpPr>
            <p:cNvPr id="189" name="Group 41"/>
            <p:cNvGrpSpPr/>
            <p:nvPr/>
          </p:nvGrpSpPr>
          <p:grpSpPr>
            <a:xfrm>
              <a:off x="3407760" y="2755440"/>
              <a:ext cx="887040" cy="403200"/>
              <a:chOff x="3407760" y="2755440"/>
              <a:chExt cx="887040" cy="403200"/>
            </a:xfrm>
          </p:grpSpPr>
          <p:sp>
            <p:nvSpPr>
              <p:cNvPr id="190" name="AutoShape 42"/>
              <p:cNvSpPr/>
              <p:nvPr/>
            </p:nvSpPr>
            <p:spPr>
              <a:xfrm rot="14766000">
                <a:off x="3890880" y="263484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AutoShape 43"/>
              <p:cNvSpPr/>
              <p:nvPr/>
            </p:nvSpPr>
            <p:spPr>
              <a:xfrm rot="15580800">
                <a:off x="3790800" y="267444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AutoShape 44"/>
              <p:cNvSpPr/>
              <p:nvPr/>
            </p:nvSpPr>
            <p:spPr>
              <a:xfrm rot="15876600">
                <a:off x="3729600" y="268272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AutoShape 45"/>
              <p:cNvSpPr/>
              <p:nvPr/>
            </p:nvSpPr>
            <p:spPr>
              <a:xfrm rot="16408800">
                <a:off x="3655440" y="268956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Group 46"/>
            <p:cNvGrpSpPr/>
            <p:nvPr/>
          </p:nvGrpSpPr>
          <p:grpSpPr>
            <a:xfrm>
              <a:off x="3219480" y="2761560"/>
              <a:ext cx="884880" cy="422640"/>
              <a:chOff x="3219480" y="2761560"/>
              <a:chExt cx="884880" cy="422640"/>
            </a:xfrm>
          </p:grpSpPr>
          <p:sp>
            <p:nvSpPr>
              <p:cNvPr id="195" name="AutoShape 47"/>
              <p:cNvSpPr/>
              <p:nvPr/>
            </p:nvSpPr>
            <p:spPr>
              <a:xfrm rot="16119000">
                <a:off x="3702600" y="269064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AutoShape 48"/>
              <p:cNvSpPr/>
              <p:nvPr/>
            </p:nvSpPr>
            <p:spPr>
              <a:xfrm rot="16934400">
                <a:off x="3595320" y="268884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AutoShape 49"/>
              <p:cNvSpPr/>
              <p:nvPr/>
            </p:nvSpPr>
            <p:spPr>
              <a:xfrm rot="17230200">
                <a:off x="3535200" y="267300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AutoShape 50"/>
              <p:cNvSpPr/>
              <p:nvPr/>
            </p:nvSpPr>
            <p:spPr>
              <a:xfrm rot="17762400">
                <a:off x="3464640" y="265068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9" name="Group 51"/>
          <p:cNvGrpSpPr/>
          <p:nvPr/>
        </p:nvGrpSpPr>
        <p:grpSpPr>
          <a:xfrm>
            <a:off x="5068800" y="2252160"/>
            <a:ext cx="1075320" cy="429120"/>
            <a:chOff x="5068800" y="2252160"/>
            <a:chExt cx="1075320" cy="429120"/>
          </a:xfrm>
        </p:grpSpPr>
        <p:grpSp>
          <p:nvGrpSpPr>
            <p:cNvPr id="200" name="Group 52"/>
            <p:cNvGrpSpPr/>
            <p:nvPr/>
          </p:nvGrpSpPr>
          <p:grpSpPr>
            <a:xfrm>
              <a:off x="5257440" y="2252160"/>
              <a:ext cx="886680" cy="403200"/>
              <a:chOff x="5257440" y="2252160"/>
              <a:chExt cx="886680" cy="403200"/>
            </a:xfrm>
          </p:grpSpPr>
          <p:sp>
            <p:nvSpPr>
              <p:cNvPr id="201" name="AutoShape 53"/>
              <p:cNvSpPr/>
              <p:nvPr/>
            </p:nvSpPr>
            <p:spPr>
              <a:xfrm rot="14766000">
                <a:off x="5740200" y="213156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AutoShape 54"/>
              <p:cNvSpPr/>
              <p:nvPr/>
            </p:nvSpPr>
            <p:spPr>
              <a:xfrm rot="15580800">
                <a:off x="5640480" y="217116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AutoShape 55"/>
              <p:cNvSpPr/>
              <p:nvPr/>
            </p:nvSpPr>
            <p:spPr>
              <a:xfrm rot="15876600">
                <a:off x="5578920" y="217944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AutoShape 56"/>
              <p:cNvSpPr/>
              <p:nvPr/>
            </p:nvSpPr>
            <p:spPr>
              <a:xfrm rot="16408800">
                <a:off x="5505120" y="218628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" name="Group 57"/>
            <p:cNvGrpSpPr/>
            <p:nvPr/>
          </p:nvGrpSpPr>
          <p:grpSpPr>
            <a:xfrm>
              <a:off x="5068800" y="2258640"/>
              <a:ext cx="884880" cy="422640"/>
              <a:chOff x="5068800" y="2258640"/>
              <a:chExt cx="884880" cy="422640"/>
            </a:xfrm>
          </p:grpSpPr>
          <p:sp>
            <p:nvSpPr>
              <p:cNvPr id="206" name="AutoShape 58"/>
              <p:cNvSpPr/>
              <p:nvPr/>
            </p:nvSpPr>
            <p:spPr>
              <a:xfrm rot="16119000">
                <a:off x="5551920" y="218736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AutoShape 59"/>
              <p:cNvSpPr/>
              <p:nvPr/>
            </p:nvSpPr>
            <p:spPr>
              <a:xfrm rot="16934400">
                <a:off x="5444640" y="218556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AutoShape 60"/>
              <p:cNvSpPr/>
              <p:nvPr/>
            </p:nvSpPr>
            <p:spPr>
              <a:xfrm rot="17230200">
                <a:off x="5384880" y="216972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AutoShape 61"/>
              <p:cNvSpPr/>
              <p:nvPr/>
            </p:nvSpPr>
            <p:spPr>
              <a:xfrm rot="17762400">
                <a:off x="5313960" y="214776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Rectangle 62"/>
          <p:cNvSpPr/>
          <p:nvPr/>
        </p:nvSpPr>
        <p:spPr>
          <a:xfrm>
            <a:off x="1023840" y="785880"/>
            <a:ext cx="5105160" cy="60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3"/>
          <p:cNvSpPr/>
          <p:nvPr/>
        </p:nvSpPr>
        <p:spPr>
          <a:xfrm>
            <a:off x="6808680" y="2441520"/>
            <a:ext cx="1834920" cy="4312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AutoShape 64"/>
          <p:cNvSpPr/>
          <p:nvPr/>
        </p:nvSpPr>
        <p:spPr>
          <a:xfrm flipH="1">
            <a:off x="6195960" y="1785960"/>
            <a:ext cx="2437920" cy="657000"/>
          </a:xfrm>
          <a:prstGeom prst="parallelogram">
            <a:avLst>
              <a:gd name="adj" fmla="val 92256"/>
            </a:avLst>
          </a:prstGeom>
          <a:gradFill rotWithShape="0">
            <a:gsLst>
              <a:gs pos="0">
                <a:srgbClr val="4f81bd"/>
              </a:gs>
              <a:gs pos="100000">
                <a:srgbClr val="daeef0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65"/>
          <p:cNvSpPr/>
          <p:nvPr/>
        </p:nvSpPr>
        <p:spPr>
          <a:xfrm>
            <a:off x="6192720" y="1781280"/>
            <a:ext cx="615600" cy="1163160"/>
          </a:xfrm>
          <a:custGeom>
            <a:avLst/>
            <a:gdLst>
              <a:gd name="textAreaLeft" fmla="*/ 0 w 615600"/>
              <a:gd name="textAreaRight" fmla="*/ 615960 w 615600"/>
              <a:gd name="textAreaTop" fmla="*/ 0 h 1163160"/>
              <a:gd name="textAreaBottom" fmla="*/ 1163520 h 116316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100000">
                <a:srgbClr val="4f81bd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66" descr="light_shadow"/>
          <p:cNvPicPr/>
          <p:nvPr/>
        </p:nvPicPr>
        <p:blipFill>
          <a:blip r:embed="rId7">
            <a:grayscl/>
          </a:blip>
          <a:stretch/>
        </p:blipFill>
        <p:spPr>
          <a:xfrm>
            <a:off x="6953400" y="1974960"/>
            <a:ext cx="1007640" cy="28080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67" descr="circuler_1"/>
          <p:cNvPicPr/>
          <p:nvPr/>
        </p:nvPicPr>
        <p:blipFill>
          <a:blip r:embed="rId8"/>
          <a:stretch/>
        </p:blipFill>
        <p:spPr>
          <a:xfrm>
            <a:off x="6865920" y="1014480"/>
            <a:ext cx="1152000" cy="1139400"/>
          </a:xfrm>
          <a:prstGeom prst="rect">
            <a:avLst/>
          </a:prstGeom>
          <a:ln w="9525">
            <a:noFill/>
          </a:ln>
        </p:spPr>
      </p:pic>
      <p:sp>
        <p:nvSpPr>
          <p:cNvPr id="216" name="Oval 68"/>
          <p:cNvSpPr/>
          <p:nvPr/>
        </p:nvSpPr>
        <p:spPr>
          <a:xfrm>
            <a:off x="6865920" y="1014480"/>
            <a:ext cx="1144080" cy="1142640"/>
          </a:xfrm>
          <a:prstGeom prst="ellipse">
            <a:avLst/>
          </a:prstGeom>
          <a:gradFill rotWithShape="0">
            <a:gsLst>
              <a:gs pos="0">
                <a:srgbClr val="313b3c">
                  <a:alpha val="90196"/>
                </a:srgbClr>
              </a:gs>
              <a:gs pos="50000">
                <a:srgbClr val="4f81bd">
                  <a:alpha val="45098"/>
                </a:srgbClr>
              </a:gs>
              <a:gs pos="100000">
                <a:srgbClr val="313b3c">
                  <a:alpha val="9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69"/>
          <p:cNvSpPr/>
          <p:nvPr/>
        </p:nvSpPr>
        <p:spPr>
          <a:xfrm>
            <a:off x="6985080" y="1038240"/>
            <a:ext cx="898200" cy="394920"/>
          </a:xfrm>
          <a:custGeom>
            <a:avLst/>
            <a:gdLst>
              <a:gd name="textAreaLeft" fmla="*/ 0 w 898200"/>
              <a:gd name="textAreaRight" fmla="*/ 898560 w 898200"/>
              <a:gd name="textAreaTop" fmla="*/ 0 h 394920"/>
              <a:gd name="textAreaBottom" fmla="*/ 395280 h 39492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18039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70"/>
          <p:cNvSpPr/>
          <p:nvPr/>
        </p:nvSpPr>
        <p:spPr>
          <a:xfrm>
            <a:off x="7015320" y="1436760"/>
            <a:ext cx="955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d13f11"/>
                </a:solidFill>
                <a:latin typeface="Calibri"/>
              </a:rPr>
              <a:t>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1"/>
          <p:cNvSpPr/>
          <p:nvPr/>
        </p:nvSpPr>
        <p:spPr>
          <a:xfrm>
            <a:off x="6872400" y="2774880"/>
            <a:ext cx="1761840" cy="102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333333"/>
                </a:solidFill>
                <a:latin typeface="Calibri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72"/>
          <p:cNvGrpSpPr/>
          <p:nvPr/>
        </p:nvGrpSpPr>
        <p:grpSpPr>
          <a:xfrm>
            <a:off x="6904080" y="1758600"/>
            <a:ext cx="1075320" cy="428760"/>
            <a:chOff x="6904080" y="1758600"/>
            <a:chExt cx="1075320" cy="428760"/>
          </a:xfrm>
        </p:grpSpPr>
        <p:grpSp>
          <p:nvGrpSpPr>
            <p:cNvPr id="221" name="Group 73"/>
            <p:cNvGrpSpPr/>
            <p:nvPr/>
          </p:nvGrpSpPr>
          <p:grpSpPr>
            <a:xfrm>
              <a:off x="7092360" y="1758600"/>
              <a:ext cx="887040" cy="403200"/>
              <a:chOff x="7092360" y="1758600"/>
              <a:chExt cx="887040" cy="403200"/>
            </a:xfrm>
          </p:grpSpPr>
          <p:sp>
            <p:nvSpPr>
              <p:cNvPr id="222" name="AutoShape 74"/>
              <p:cNvSpPr/>
              <p:nvPr/>
            </p:nvSpPr>
            <p:spPr>
              <a:xfrm rot="14766000">
                <a:off x="7575480" y="163800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AutoShape 75"/>
              <p:cNvSpPr/>
              <p:nvPr/>
            </p:nvSpPr>
            <p:spPr>
              <a:xfrm rot="15580800">
                <a:off x="7475400" y="167760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AutoShape 76"/>
              <p:cNvSpPr/>
              <p:nvPr/>
            </p:nvSpPr>
            <p:spPr>
              <a:xfrm rot="15876600">
                <a:off x="7414200" y="168552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AutoShape 77"/>
              <p:cNvSpPr/>
              <p:nvPr/>
            </p:nvSpPr>
            <p:spPr>
              <a:xfrm rot="16408800">
                <a:off x="7340040" y="169272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6" name="Group 78"/>
            <p:cNvGrpSpPr/>
            <p:nvPr/>
          </p:nvGrpSpPr>
          <p:grpSpPr>
            <a:xfrm>
              <a:off x="6904080" y="1764720"/>
              <a:ext cx="884880" cy="422640"/>
              <a:chOff x="6904080" y="1764720"/>
              <a:chExt cx="884880" cy="422640"/>
            </a:xfrm>
          </p:grpSpPr>
          <p:sp>
            <p:nvSpPr>
              <p:cNvPr id="227" name="AutoShape 79"/>
              <p:cNvSpPr/>
              <p:nvPr/>
            </p:nvSpPr>
            <p:spPr>
              <a:xfrm rot="16119000">
                <a:off x="7387200" y="169380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AutoShape 80"/>
              <p:cNvSpPr/>
              <p:nvPr/>
            </p:nvSpPr>
            <p:spPr>
              <a:xfrm rot="16934400">
                <a:off x="7279920" y="169200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AutoShape 81"/>
              <p:cNvSpPr/>
              <p:nvPr/>
            </p:nvSpPr>
            <p:spPr>
              <a:xfrm rot="17230200">
                <a:off x="7219800" y="167616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AutoShape 82"/>
              <p:cNvSpPr/>
              <p:nvPr/>
            </p:nvSpPr>
            <p:spPr>
              <a:xfrm rot="17762400">
                <a:off x="7149240" y="1653840"/>
                <a:ext cx="155880" cy="64368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1" name="Freeform 83"/>
          <p:cNvSpPr/>
          <p:nvPr/>
        </p:nvSpPr>
        <p:spPr>
          <a:xfrm>
            <a:off x="735120" y="3289320"/>
            <a:ext cx="612360" cy="1130040"/>
          </a:xfrm>
          <a:custGeom>
            <a:avLst/>
            <a:gdLst>
              <a:gd name="textAreaLeft" fmla="*/ 0 w 612360"/>
              <a:gd name="textAreaRight" fmla="*/ 612720 w 61236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800080">
                  <a:alpha val="80000"/>
                </a:srgbClr>
              </a:gs>
              <a:gs pos="100000">
                <a:srgbClr val="cde683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  <Words>903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08:28:19Z</dcterms:created>
  <dc:creator>lidan</dc:creator>
  <dc:description/>
  <dc:language>en-US</dc:language>
  <cp:lastModifiedBy>yu wang</cp:lastModifiedBy>
  <dcterms:modified xsi:type="dcterms:W3CDTF">2015-08-08T10:02:11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