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71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729-627E-4213-922E-79A8CE7C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6A0B-5B30-476D-9845-8706B68D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607D-76C9-4E13-9977-987FBAC4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307-A083-4CF7-B44A-6DE68787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768F-565E-4A2E-80A7-FA9769E3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49F0-6126-449D-B1E4-AF11A517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C1A8-7988-4E58-BEA8-97E665A6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F1EF-3172-4575-BB7A-991693D5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BC28-150C-4C26-A431-E5D8CA6C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E869-0C4E-40CC-8364-8065617A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BC93-B8D9-4264-8156-C3B07742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35B1-158B-432A-869D-2D75A1A1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5222-AC56-4A74-8D5B-9100B16C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8AD3-A86D-4B80-98AA-358F709B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1C3C-8EC8-432E-8C06-9314EAEE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BE6F-1A35-44CA-B4FA-6E26818E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2FD6-CE48-49CC-967F-A2D69399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FE96-4CAB-4F8F-A02F-4BC7754C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84D-321D-48E7-A6BE-75B24290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5AF0-708C-48E5-A277-CB177FCF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B1C1-F66E-4A1D-8B6C-D42F638C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BE4-044B-43C8-AECD-D05E552D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B6EE-AD24-48E2-A56E-8CF9920D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9DE-4EF3-401D-A767-34470224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EFA83C-E827-49F6-81B2-7C98912B2C8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2213B1-3620-4BF4-BED1-58D2FA30BD2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tretch/>
        </p:blipFill>
        <p:spPr>
          <a:xfrm>
            <a:off x="3240" y="0"/>
            <a:ext cx="9137160" cy="5714640"/>
          </a:xfrm>
          <a:prstGeom prst="rect">
            <a:avLst/>
          </a:prstGeom>
          <a:ln w="9525">
            <a:noFill/>
          </a:ln>
        </p:spPr>
      </p:pic>
      <p:sp>
        <p:nvSpPr>
          <p:cNvPr id="83" name="Rectangle 5"/>
          <p:cNvSpPr/>
          <p:nvPr/>
        </p:nvSpPr>
        <p:spPr>
          <a:xfrm>
            <a:off x="2321280" y="2281320"/>
            <a:ext cx="50680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炫彩设计毕业答辩精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26440" y="52941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714640"/>
          </a:xfrm>
          <a:prstGeom prst="rect">
            <a:avLst/>
          </a:prstGeom>
          <a:ln w="9525">
            <a:noFill/>
          </a:ln>
        </p:spPr>
      </p:pic>
      <p:grpSp>
        <p:nvGrpSpPr>
          <p:cNvPr id="86" name="组合 5"/>
          <p:cNvGrpSpPr/>
          <p:nvPr/>
        </p:nvGrpSpPr>
        <p:grpSpPr>
          <a:xfrm>
            <a:off x="2106720" y="744480"/>
            <a:ext cx="4928760" cy="786960"/>
            <a:chOff x="2106720" y="744480"/>
            <a:chExt cx="4928760" cy="786960"/>
          </a:xfrm>
        </p:grpSpPr>
        <p:sp>
          <p:nvSpPr>
            <p:cNvPr id="87" name="圆角矩形 6"/>
            <p:cNvSpPr/>
            <p:nvPr/>
          </p:nvSpPr>
          <p:spPr>
            <a:xfrm>
              <a:off x="2106720" y="807480"/>
              <a:ext cx="4928760" cy="66096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60000"/>
                <a:lumOff val="40000"/>
                <a:alpha val="25000"/>
              </a:schemeClr>
            </a:solidFill>
            <a:ln w="19050">
              <a:solidFill>
                <a:srgbClr val="f79646">
                  <a:lumMod val="50000"/>
                  <a:alpha val="73000"/>
                </a:srgbClr>
              </a:solidFill>
              <a:round/>
            </a:ln>
            <a:effectLst>
              <a:outerShdw algn="t" blurRad="50760" dir="5400000" dist="38160" rotWithShape="0">
                <a:srgbClr val="000000">
                  <a:alpha val="2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88" name="标题 1"/>
            <p:cNvSpPr/>
            <p:nvPr/>
          </p:nvSpPr>
          <p:spPr>
            <a:xfrm>
              <a:off x="2986920" y="744480"/>
              <a:ext cx="3168360" cy="786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8"/>
          <p:cNvGrpSpPr/>
          <p:nvPr/>
        </p:nvGrpSpPr>
        <p:grpSpPr>
          <a:xfrm>
            <a:off x="2106720" y="1681200"/>
            <a:ext cx="4928760" cy="786960"/>
            <a:chOff x="2106720" y="1681200"/>
            <a:chExt cx="4928760" cy="786960"/>
          </a:xfrm>
        </p:grpSpPr>
        <p:sp>
          <p:nvSpPr>
            <p:cNvPr id="90" name="圆角矩形 9"/>
            <p:cNvSpPr/>
            <p:nvPr/>
          </p:nvSpPr>
          <p:spPr>
            <a:xfrm>
              <a:off x="2106720" y="1744200"/>
              <a:ext cx="4928760" cy="66096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60000"/>
                <a:lumOff val="40000"/>
                <a:alpha val="25000"/>
              </a:schemeClr>
            </a:solidFill>
            <a:ln w="19050">
              <a:solidFill>
                <a:srgbClr val="f79646">
                  <a:lumMod val="50000"/>
                  <a:alpha val="73000"/>
                </a:srgbClr>
              </a:solidFill>
              <a:round/>
            </a:ln>
            <a:effectLst>
              <a:outerShdw algn="t" blurRad="50760" dir="5400000" dist="38160" rotWithShape="0">
                <a:srgbClr val="000000">
                  <a:alpha val="2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1" name="标题 1"/>
            <p:cNvSpPr/>
            <p:nvPr/>
          </p:nvSpPr>
          <p:spPr>
            <a:xfrm>
              <a:off x="2986920" y="1681200"/>
              <a:ext cx="3168360" cy="786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11"/>
          <p:cNvGrpSpPr/>
          <p:nvPr/>
        </p:nvGrpSpPr>
        <p:grpSpPr>
          <a:xfrm>
            <a:off x="2106720" y="2619360"/>
            <a:ext cx="4928760" cy="786960"/>
            <a:chOff x="2106720" y="2619360"/>
            <a:chExt cx="4928760" cy="786960"/>
          </a:xfrm>
        </p:grpSpPr>
        <p:sp>
          <p:nvSpPr>
            <p:cNvPr id="93" name="圆角矩形 12"/>
            <p:cNvSpPr/>
            <p:nvPr/>
          </p:nvSpPr>
          <p:spPr>
            <a:xfrm>
              <a:off x="2106720" y="2682360"/>
              <a:ext cx="4928760" cy="66096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60000"/>
                <a:lumOff val="40000"/>
                <a:alpha val="25000"/>
              </a:schemeClr>
            </a:solidFill>
            <a:ln w="19050">
              <a:solidFill>
                <a:srgbClr val="f79646">
                  <a:lumMod val="50000"/>
                  <a:alpha val="73000"/>
                </a:srgbClr>
              </a:solidFill>
              <a:round/>
            </a:ln>
            <a:effectLst>
              <a:outerShdw algn="t" blurRad="50760" dir="5400000" dist="38160" rotWithShape="0">
                <a:srgbClr val="000000">
                  <a:alpha val="2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4" name="标题 1"/>
            <p:cNvSpPr/>
            <p:nvPr/>
          </p:nvSpPr>
          <p:spPr>
            <a:xfrm>
              <a:off x="2986920" y="2619360"/>
              <a:ext cx="3168360" cy="786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14"/>
          <p:cNvGrpSpPr/>
          <p:nvPr/>
        </p:nvGrpSpPr>
        <p:grpSpPr>
          <a:xfrm>
            <a:off x="2106720" y="3556080"/>
            <a:ext cx="4928760" cy="786960"/>
            <a:chOff x="2106720" y="3556080"/>
            <a:chExt cx="4928760" cy="786960"/>
          </a:xfrm>
        </p:grpSpPr>
        <p:sp>
          <p:nvSpPr>
            <p:cNvPr id="96" name="圆角矩形 15"/>
            <p:cNvSpPr/>
            <p:nvPr/>
          </p:nvSpPr>
          <p:spPr>
            <a:xfrm>
              <a:off x="2106720" y="3619080"/>
              <a:ext cx="4928760" cy="66096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60000"/>
                <a:lumOff val="40000"/>
                <a:alpha val="25000"/>
              </a:schemeClr>
            </a:solidFill>
            <a:ln w="19050">
              <a:solidFill>
                <a:srgbClr val="f79646">
                  <a:lumMod val="50000"/>
                  <a:alpha val="73000"/>
                </a:srgbClr>
              </a:solidFill>
              <a:round/>
            </a:ln>
            <a:effectLst>
              <a:outerShdw algn="t" blurRad="50760" dir="5400000" dist="38160" rotWithShape="0">
                <a:srgbClr val="000000">
                  <a:alpha val="2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7" name="标题 1"/>
            <p:cNvSpPr/>
            <p:nvPr/>
          </p:nvSpPr>
          <p:spPr>
            <a:xfrm>
              <a:off x="2986920" y="3556080"/>
              <a:ext cx="3168360" cy="786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4" descr=""/>
          <p:cNvPicPr/>
          <p:nvPr/>
        </p:nvPicPr>
        <p:blipFill>
          <a:blip r:embed="rId1"/>
          <a:stretch/>
        </p:blipFill>
        <p:spPr>
          <a:xfrm>
            <a:off x="3240" y="0"/>
            <a:ext cx="9137160" cy="5714640"/>
          </a:xfrm>
          <a:prstGeom prst="rect">
            <a:avLst/>
          </a:prstGeom>
          <a:ln w="9525">
            <a:noFill/>
          </a:ln>
        </p:spPr>
      </p:pic>
      <p:sp>
        <p:nvSpPr>
          <p:cNvPr id="99" name="标题 1"/>
          <p:cNvSpPr/>
          <p:nvPr/>
        </p:nvSpPr>
        <p:spPr>
          <a:xfrm>
            <a:off x="4644000" y="3505680"/>
            <a:ext cx="37857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您的支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79640" y="51616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  <Words>527</Words>
  <Paragraphs>40</Paragraphs>
  <Company>Microsoft Chin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7:57:01Z</dcterms:created>
  <dc:creator>高迎春</dc:creator>
  <dc:description/>
  <dc:language>en-US</dc:language>
  <cp:lastModifiedBy>yu wang</cp:lastModifiedBy>
  <dcterms:modified xsi:type="dcterms:W3CDTF">2015-08-08T10:06:23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10)</vt:lpwstr>
  </property>
  <property fmtid="{D5CDD505-2E9C-101B-9397-08002B2CF9AE}" pid="4" name="Slides">
    <vt:r8>4</vt:r8>
  </property>
</Properties>
</file>