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399588" cy="65516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71640" y="685440"/>
            <a:ext cx="491472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2583D-B34A-4838-A1DC-7D68A9BC693D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971640" y="685800"/>
            <a:ext cx="491472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A8725-D0BF-4E00-B8FC-0AC9351EC4FB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6EB34-A897-4181-857C-4D23F2BBD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9440" y="261720"/>
            <a:ext cx="8458200" cy="10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69440" y="1528920"/>
            <a:ext cx="8458200" cy="206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440" y="3788640"/>
            <a:ext cx="8458200" cy="206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2C63C-338D-49B4-A93B-4F48DE3C8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9440" y="261720"/>
            <a:ext cx="8458200" cy="10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69440" y="1528920"/>
            <a:ext cx="4127400" cy="206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03480" y="1528920"/>
            <a:ext cx="4127400" cy="206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9440" y="3788640"/>
            <a:ext cx="4127400" cy="206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03480" y="3788640"/>
            <a:ext cx="4127400" cy="206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C49AE-BC03-46F1-B3A6-A0EF02BDE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9440" y="261720"/>
            <a:ext cx="8458200" cy="10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69440" y="1528920"/>
            <a:ext cx="2723400" cy="206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29280" y="1528920"/>
            <a:ext cx="2723400" cy="206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89480" y="1528920"/>
            <a:ext cx="2723400" cy="206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9440" y="3788640"/>
            <a:ext cx="2723400" cy="206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29280" y="3788640"/>
            <a:ext cx="2723400" cy="206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89480" y="3788640"/>
            <a:ext cx="2723400" cy="206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B5416-6CBE-493F-BF2F-3537D4C53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9440" y="261720"/>
            <a:ext cx="8458200" cy="10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69440" y="1528920"/>
            <a:ext cx="8458200" cy="432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D52B6-1E7B-4800-810E-4C39F19AA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9440" y="261720"/>
            <a:ext cx="8458200" cy="10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69440" y="1528920"/>
            <a:ext cx="8458200" cy="43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A953D-32E4-406B-8E1E-1AFCFCE6F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9440" y="261720"/>
            <a:ext cx="8458200" cy="10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69440" y="1528920"/>
            <a:ext cx="4127400" cy="43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03480" y="1528920"/>
            <a:ext cx="4127400" cy="43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78743-6E3A-4815-99D6-65B10A16D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9440" y="261720"/>
            <a:ext cx="8458200" cy="10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3A419-6B41-4322-9C71-473420A3F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9440" y="261720"/>
            <a:ext cx="8458200" cy="506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12881-EAB1-4939-BA6F-3DEE63A27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9440" y="261720"/>
            <a:ext cx="8458200" cy="10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69440" y="1528920"/>
            <a:ext cx="4127400" cy="206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03480" y="1528920"/>
            <a:ext cx="4127400" cy="43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9440" y="3788640"/>
            <a:ext cx="4127400" cy="206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5A2C7-183F-43A6-BC22-B2ED295AE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9440" y="261720"/>
            <a:ext cx="8458200" cy="10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69440" y="1528920"/>
            <a:ext cx="4127400" cy="43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03480" y="1528920"/>
            <a:ext cx="4127400" cy="206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03480" y="3788640"/>
            <a:ext cx="4127400" cy="206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EAF29-9FEE-42C9-BCE4-BE73BE481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9440" y="261720"/>
            <a:ext cx="8458200" cy="10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69440" y="1528920"/>
            <a:ext cx="4127400" cy="206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03480" y="1528920"/>
            <a:ext cx="4127400" cy="206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440" y="3788640"/>
            <a:ext cx="8458200" cy="206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8DC4C-14D1-4C89-90E1-5E19E573F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9440" y="261720"/>
            <a:ext cx="8458200" cy="10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9440" y="1528920"/>
            <a:ext cx="8458200" cy="43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9800" y="5967360"/>
            <a:ext cx="21924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11560" y="5967360"/>
            <a:ext cx="297504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5600" y="5967360"/>
            <a:ext cx="21924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23018-68B7-4965-BCAB-D2D8FF1457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tongyong/" TargetMode="External"/><Relationship Id="rId7" Type="http://schemas.openxmlformats.org/officeDocument/2006/relationships/hyperlink" Target="http://www.eeppt.com/moban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sucai/" TargetMode="External"/><Relationship Id="rId10" Type="http://schemas.openxmlformats.org/officeDocument/2006/relationships/hyperlink" Target="http://www.eeppt.com/moban/dab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gongzuo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jingpin/" TargetMode="External"/><Relationship Id="rId15" Type="http://schemas.openxmlformats.org/officeDocument/2006/relationships/hyperlink" Target="http://www.eeppt.com/moban/kejia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hyperlink" Target="http://www.eeppt.com/moban/yingxiao/" TargetMode="External"/><Relationship Id="rId18" Type="http://schemas.openxmlformats.org/officeDocument/2006/relationships/hyperlink" Target="http://www.eeppt.com/moban/mianfei/" TargetMode="External"/><Relationship Id="rId19" Type="http://schemas.openxmlformats.org/officeDocument/2006/relationships/hyperlink" Target="http://www.eeppt.com/moban/gongy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矩形 5"/>
          <p:cNvSpPr/>
          <p:nvPr/>
        </p:nvSpPr>
        <p:spPr>
          <a:xfrm>
            <a:off x="1569240" y="2413080"/>
            <a:ext cx="6576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紫色曲线环绕效果的艺术设计</a:t>
            </a:r>
            <a:r>
              <a:rPr b="0" lang="en-US" sz="40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12"/>
          <p:cNvSpPr/>
          <p:nvPr/>
        </p:nvSpPr>
        <p:spPr>
          <a:xfrm>
            <a:off x="368280" y="621360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矩形 5"/>
          <p:cNvSpPr/>
          <p:nvPr/>
        </p:nvSpPr>
        <p:spPr>
          <a:xfrm>
            <a:off x="3438360" y="2771640"/>
            <a:ext cx="2390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谢谢观看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6"/>
          <p:cNvSpPr/>
          <p:nvPr/>
        </p:nvSpPr>
        <p:spPr>
          <a:xfrm>
            <a:off x="1962000" y="5797440"/>
            <a:ext cx="77652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模板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moban/     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jieri/           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素材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背景图片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beijing/      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图表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xiazai/        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word/              Excel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教程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ziliao/                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课件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fanwen/             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34680" y="779400"/>
            <a:ext cx="6327720" cy="44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57480" y="1612440"/>
            <a:ext cx="6883200" cy="402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幻灯片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          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ppt背景图片素材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beijing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动态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dongtai/  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通用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tongyong/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ppt 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           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ppt设计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chuangyi/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ppt模板素材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sucai/       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毕业答辩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dabian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文化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qiye/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月工作总结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gongzuo/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shangwu/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精品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jingpin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课件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kejian/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中国风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zhongguofeng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活动策划方案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yingxiao/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ppt免费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mianfei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工业制造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gongye/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20"/>
              </a:rPr>
              <a:t>会议报告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huiyi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交通安全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jiaotong/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教育培训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卡通动漫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katong/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体育运动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yundong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7"/>
          <p:cNvSpPr/>
          <p:nvPr/>
        </p:nvSpPr>
        <p:spPr>
          <a:xfrm>
            <a:off x="6791400" y="890640"/>
            <a:ext cx="1071360" cy="268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0T03:19:24Z</dcterms:created>
  <dc:creator>lidan</dc:creator>
  <dc:description/>
  <dc:language>en-US</dc:language>
  <cp:lastModifiedBy>yu wang</cp:lastModifiedBy>
  <dcterms:modified xsi:type="dcterms:W3CDTF">2015-08-08T10:04:42Z</dcterms:modified>
  <cp:revision>11</cp:revision>
  <dc:subject/>
  <dc:title>幻灯片 1</dc:title>
</cp:coreProperties>
</file>