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C667-E56C-4E39-996A-7F36E74D57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8E4D-FBFB-4479-BC1A-5B274343B41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0D81-285E-44FF-9729-980CD57B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7D7-B619-4895-AEB1-763CC8F9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B0E-490E-44CD-9D99-A7BDD6BF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BBE-7908-443A-A99A-686C82EF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100-044B-4CA2-9979-A98B9EB4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8C6-ACF8-441B-84B2-5EE45FB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4AD-44E3-463E-9E12-3A9ED105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1AD-8B14-43D2-9749-A9E82458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B79-2643-42D7-B4C8-EFF6F7E6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5D7-2EAA-4AA7-B008-1725B555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879-3473-45A1-99A7-FAD5A6B6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127-F8C6-4140-948A-B9BCE06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9E88-24F5-46A6-A17A-EF102D9B8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09480" y="5105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论文答辩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ppt模板\个人作品\画板\u=822334480,1144025855&amp;fm=51&amp;gp=0_副本.png"/>
          <p:cNvPicPr/>
          <p:nvPr/>
        </p:nvPicPr>
        <p:blipFill>
          <a:blip r:embed="rId2"/>
          <a:stretch/>
        </p:blipFill>
        <p:spPr>
          <a:xfrm>
            <a:off x="8107200" y="5867280"/>
            <a:ext cx="103680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1995120" y="1522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植物人大战僵尸论文答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E:\ppt模板\个人作品\画板\u=580042334,1374901034&amp;fm=51&amp;gp=0.png"/>
          <p:cNvPicPr/>
          <p:nvPr/>
        </p:nvPicPr>
        <p:blipFill>
          <a:blip r:embed="rId1"/>
          <a:stretch/>
        </p:blipFill>
        <p:spPr>
          <a:xfrm>
            <a:off x="7391520" y="5315040"/>
            <a:ext cx="1581120" cy="154296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37"/>
          <p:cNvGrpSpPr/>
          <p:nvPr/>
        </p:nvGrpSpPr>
        <p:grpSpPr>
          <a:xfrm>
            <a:off x="1676520" y="457200"/>
            <a:ext cx="6619680" cy="981000"/>
            <a:chOff x="1676520" y="457200"/>
            <a:chExt cx="6619680" cy="981000"/>
          </a:xfrm>
        </p:grpSpPr>
        <p:pic>
          <p:nvPicPr>
            <p:cNvPr id="54" name="Picture 7" descr="E:\ppt模板\个人作品\画板\u=2587183883,2322743348&amp;fm=0&amp;gp=0.png"/>
            <p:cNvPicPr/>
            <p:nvPr/>
          </p:nvPicPr>
          <p:blipFill>
            <a:blip r:embed="rId2"/>
            <a:stretch/>
          </p:blipFill>
          <p:spPr>
            <a:xfrm>
              <a:off x="7315200" y="457200"/>
              <a:ext cx="981000" cy="98100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55" name="圆角矩形 35"/>
            <p:cNvSpPr/>
            <p:nvPr/>
          </p:nvSpPr>
          <p:spPr>
            <a:xfrm>
              <a:off x="1676520" y="533160"/>
              <a:ext cx="548640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立题目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38"/>
          <p:cNvGrpSpPr/>
          <p:nvPr/>
        </p:nvGrpSpPr>
        <p:grpSpPr>
          <a:xfrm>
            <a:off x="1523880" y="3809880"/>
            <a:ext cx="6620040" cy="981360"/>
            <a:chOff x="1523880" y="3809880"/>
            <a:chExt cx="6620040" cy="981360"/>
          </a:xfrm>
        </p:grpSpPr>
        <p:pic>
          <p:nvPicPr>
            <p:cNvPr id="57" name="Picture 7" descr="E:\ppt模板\个人作品\画板\u=2587183883,2322743348&amp;fm=0&amp;gp=0.png"/>
            <p:cNvPicPr/>
            <p:nvPr/>
          </p:nvPicPr>
          <p:blipFill>
            <a:blip r:embed="rId3"/>
            <a:stretch/>
          </p:blipFill>
          <p:spPr>
            <a:xfrm>
              <a:off x="7162920" y="3809880"/>
              <a:ext cx="981000" cy="98136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58" name="圆角矩形 40"/>
            <p:cNvSpPr/>
            <p:nvPr/>
          </p:nvSpPr>
          <p:spPr>
            <a:xfrm>
              <a:off x="1523880" y="3885840"/>
              <a:ext cx="5486760" cy="76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研究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41"/>
          <p:cNvGrpSpPr/>
          <p:nvPr/>
        </p:nvGrpSpPr>
        <p:grpSpPr>
          <a:xfrm>
            <a:off x="609480" y="1981080"/>
            <a:ext cx="6553440" cy="981360"/>
            <a:chOff x="609480" y="1981080"/>
            <a:chExt cx="6553440" cy="981360"/>
          </a:xfrm>
        </p:grpSpPr>
        <p:pic>
          <p:nvPicPr>
            <p:cNvPr id="60" name="Picture 7" descr="E:\ppt模板\个人作品\画板\u=2587183883,2322743348&amp;fm=0&amp;gp=0.png"/>
            <p:cNvPicPr/>
            <p:nvPr/>
          </p:nvPicPr>
          <p:blipFill>
            <a:blip r:embed="rId4"/>
            <a:stretch/>
          </p:blipFill>
          <p:spPr>
            <a:xfrm>
              <a:off x="609480" y="1981080"/>
              <a:ext cx="981000" cy="98136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61" name="圆角矩形 43"/>
            <p:cNvSpPr/>
            <p:nvPr/>
          </p:nvSpPr>
          <p:spPr>
            <a:xfrm>
              <a:off x="1676160" y="2057040"/>
              <a:ext cx="5486760" cy="76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立题意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44"/>
          <p:cNvGrpSpPr/>
          <p:nvPr/>
        </p:nvGrpSpPr>
        <p:grpSpPr>
          <a:xfrm>
            <a:off x="533520" y="5486400"/>
            <a:ext cx="6553080" cy="981000"/>
            <a:chOff x="533520" y="5486400"/>
            <a:chExt cx="6553080" cy="981000"/>
          </a:xfrm>
        </p:grpSpPr>
        <p:pic>
          <p:nvPicPr>
            <p:cNvPr id="63" name="Picture 7" descr="E:\ppt模板\个人作品\画板\u=2587183883,2322743348&amp;fm=0&amp;gp=0.png"/>
            <p:cNvPicPr/>
            <p:nvPr/>
          </p:nvPicPr>
          <p:blipFill>
            <a:blip r:embed="rId5"/>
            <a:stretch/>
          </p:blipFill>
          <p:spPr>
            <a:xfrm>
              <a:off x="533520" y="5486400"/>
              <a:ext cx="981000" cy="98100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64" name="圆角矩形 46"/>
            <p:cNvSpPr/>
            <p:nvPr/>
          </p:nvSpPr>
          <p:spPr>
            <a:xfrm>
              <a:off x="1600200" y="5562360"/>
              <a:ext cx="548640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387440" y="304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30"/>
          <p:cNvGrpSpPr/>
          <p:nvPr/>
        </p:nvGrpSpPr>
        <p:grpSpPr>
          <a:xfrm>
            <a:off x="1371600" y="1066680"/>
            <a:ext cx="6873840" cy="5310360"/>
            <a:chOff x="1371600" y="1066680"/>
            <a:chExt cx="6873840" cy="5310360"/>
          </a:xfrm>
        </p:grpSpPr>
        <p:sp>
          <p:nvSpPr>
            <p:cNvPr id="68" name="剪去单角的矩形 27"/>
            <p:cNvSpPr/>
            <p:nvPr/>
          </p:nvSpPr>
          <p:spPr>
            <a:xfrm>
              <a:off x="1371600" y="1447560"/>
              <a:ext cx="6426360" cy="4929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3" descr="caltrop.png"/>
            <p:cNvPicPr/>
            <p:nvPr/>
          </p:nvPicPr>
          <p:blipFill>
            <a:blip r:embed="rId2"/>
            <a:stretch/>
          </p:blipFill>
          <p:spPr>
            <a:xfrm>
              <a:off x="6553080" y="1066680"/>
              <a:ext cx="1692360" cy="129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387440" y="304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12"/>
          <p:cNvGrpSpPr/>
          <p:nvPr/>
        </p:nvGrpSpPr>
        <p:grpSpPr>
          <a:xfrm>
            <a:off x="228600" y="1600200"/>
            <a:ext cx="7696080" cy="5257800"/>
            <a:chOff x="228600" y="1600200"/>
            <a:chExt cx="7696080" cy="5257800"/>
          </a:xfrm>
        </p:grpSpPr>
        <p:grpSp>
          <p:nvGrpSpPr>
            <p:cNvPr id="73" name="圆角矩形 8"/>
            <p:cNvGrpSpPr/>
            <p:nvPr/>
          </p:nvGrpSpPr>
          <p:grpSpPr>
            <a:xfrm>
              <a:off x="1157400" y="1600200"/>
              <a:ext cx="6767280" cy="4051080"/>
              <a:chOff x="1157400" y="1600200"/>
              <a:chExt cx="6767280" cy="4051080"/>
            </a:xfrm>
          </p:grpSpPr>
          <p:pic>
            <p:nvPicPr>
              <p:cNvPr id="74" name="圆角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7400" y="1600200"/>
                <a:ext cx="6767280" cy="40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403640" y="1819800"/>
                <a:ext cx="6274440" cy="35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2" descr="cactus.png"/>
            <p:cNvPicPr/>
            <p:nvPr/>
          </p:nvPicPr>
          <p:blipFill>
            <a:blip r:embed="rId3"/>
            <a:stretch/>
          </p:blipFill>
          <p:spPr>
            <a:xfrm>
              <a:off x="228600" y="4811400"/>
              <a:ext cx="1339200" cy="20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 Box 3"/>
          <p:cNvSpPr/>
          <p:nvPr/>
        </p:nvSpPr>
        <p:spPr>
          <a:xfrm>
            <a:off x="1371600" y="6689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87440" y="304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1"/>
          <p:cNvGrpSpPr/>
          <p:nvPr/>
        </p:nvGrpSpPr>
        <p:grpSpPr>
          <a:xfrm>
            <a:off x="1676520" y="1143000"/>
            <a:ext cx="6019560" cy="5029200"/>
            <a:chOff x="1676520" y="1143000"/>
            <a:chExt cx="6019560" cy="5029200"/>
          </a:xfrm>
        </p:grpSpPr>
        <p:grpSp>
          <p:nvGrpSpPr>
            <p:cNvPr id="81" name="单圆角矩形 14"/>
            <p:cNvGrpSpPr/>
            <p:nvPr/>
          </p:nvGrpSpPr>
          <p:grpSpPr>
            <a:xfrm>
              <a:off x="1676520" y="1661760"/>
              <a:ext cx="5690520" cy="4510440"/>
              <a:chOff x="1676520" y="1661760"/>
              <a:chExt cx="5690520" cy="4510440"/>
            </a:xfrm>
          </p:grpSpPr>
          <p:pic>
            <p:nvPicPr>
              <p:cNvPr id="82" name="单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1661760"/>
                <a:ext cx="5690520" cy="451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1946880" y="1907280"/>
                <a:ext cx="4999320" cy="41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" name="Picture 16" descr="E:\ppt模板\个人作品\画板\u=4237240034,3179319345&amp;fm=51&amp;gp=0_副本.png"/>
            <p:cNvPicPr/>
            <p:nvPr/>
          </p:nvPicPr>
          <p:blipFill>
            <a:blip r:embed="rId3"/>
            <a:stretch/>
          </p:blipFill>
          <p:spPr>
            <a:xfrm>
              <a:off x="6300000" y="1143000"/>
              <a:ext cx="1396080" cy="136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9"/>
          <p:cNvSpPr/>
          <p:nvPr/>
        </p:nvSpPr>
        <p:spPr>
          <a:xfrm>
            <a:off x="3375360" y="324648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8T10:06:0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