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676-AB7B-4EC1-BFD3-3689194C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6E5-DC56-472E-8E11-BEC5A8F7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D21-EA56-4358-B8F7-95A18353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42E-F0EA-471F-8C80-542C6349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843-A097-494A-90A2-DA464CAE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5FD-D0A0-417E-9D32-BA55777D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7BD-CFC4-4B42-A7B6-AD058F18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1F7-A12A-46E0-85AA-CFA421D1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0BD-4D85-49CF-9818-6A33050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C0A-9921-4388-BA3B-88B011A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D66-BFFF-4D2B-8F77-EC888D7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F18-A160-4236-A521-5A753B7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e8eef1"/>
                </a:gs>
                <a:gs pos="100000">
                  <a:srgbClr val="3891a7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A6BC-68CB-446E-A3F6-788AFEBB612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pic>
          <p:nvPicPr>
            <p:cNvPr id="49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0" y="380880"/>
              <a:ext cx="914256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10"/>
            <p:cNvSpPr/>
            <p:nvPr/>
          </p:nvSpPr>
          <p:spPr>
            <a:xfrm>
              <a:off x="0" y="0"/>
              <a:ext cx="9142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0" y="6553440"/>
              <a:ext cx="9142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52" name="Straight Connector 14"/>
            <p:cNvSpPr/>
            <p:nvPr/>
          </p:nvSpPr>
          <p:spPr>
            <a:xfrm>
              <a:off x="0" y="380880"/>
              <a:ext cx="9142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53" name="Straight Connector 16"/>
            <p:cNvSpPr/>
            <p:nvPr/>
          </p:nvSpPr>
          <p:spPr>
            <a:xfrm>
              <a:off x="0" y="6477120"/>
              <a:ext cx="9142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" name=""/>
            <p:cNvGrpSpPr/>
            <p:nvPr/>
          </p:nvGrpSpPr>
          <p:grpSpPr>
            <a:xfrm>
              <a:off x="1440" y="383760"/>
              <a:ext cx="9142560" cy="6096240"/>
              <a:chOff x="1440" y="383760"/>
              <a:chExt cx="9142560" cy="6096240"/>
            </a:xfrm>
          </p:grpSpPr>
          <p:pic>
            <p:nvPicPr>
              <p:cNvPr id="94" name="Rectangl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0" y="386640"/>
                <a:ext cx="9142560" cy="609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440" y="383760"/>
                <a:ext cx="9142560" cy="60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egoe Condensed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0"/>
              <a:ext cx="9142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7" name="Rectangle 14"/>
            <p:cNvSpPr/>
            <p:nvPr/>
          </p:nvSpPr>
          <p:spPr>
            <a:xfrm>
              <a:off x="0" y="6553440"/>
              <a:ext cx="9142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8" name="Straight Connector 15"/>
            <p:cNvSpPr/>
            <p:nvPr/>
          </p:nvSpPr>
          <p:spPr>
            <a:xfrm>
              <a:off x="0" y="380880"/>
              <a:ext cx="9142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  <p:sp>
          <p:nvSpPr>
            <p:cNvPr id="99" name="Straight Connector 16"/>
            <p:cNvSpPr/>
            <p:nvPr/>
          </p:nvSpPr>
          <p:spPr>
            <a:xfrm>
              <a:off x="0" y="6477120"/>
              <a:ext cx="9142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Condense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271c"/>
                </a:solidFill>
                <a:latin typeface="Segoe Condensed"/>
                <a:ea typeface="宋体"/>
              </a:rPr>
              <a:t>欢迎同学！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04880" y="4495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Teacher’s Name – X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8" name=""/>
          <p:cNvSpPr/>
          <p:nvPr/>
        </p:nvSpPr>
        <p:spPr>
          <a:xfrm>
            <a:off x="2012760" y="9144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班会自我介绍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数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数学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科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科学内容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社会学习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社会学习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音乐和艺术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音乐和艺术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们的教室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Teacher’s Name – X Grad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课堂守则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是一个大家庭。在这个家庭中，我们制订规则来使我们融洽相处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的课堂守则是：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相互尊重，负责可靠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组织有序，服从安排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守时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准备到位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家庭作业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每晚会布置大约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45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分钟的家庭作业。其中包括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20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分钟的阅读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必须在星期五上午之前完成所有的家庭作业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需要在家庭作业上花费额外的时间，请抽出休息时间到家庭作业俱乐部完成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迟到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上课时间是上午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9:05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在第二次响铃之后到达教室，请首先到学校办公室签到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迟到四次，学校将通知您的父母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社会活动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在这一年里安排了许多有趣的社会活动！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在剧场观看两次戏剧，作为阅读学习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参观一个公园并在河水中提取水样，作为在科学研究中研究环境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参观一个面包店，作为社区社会学习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Condensed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Segoe Condensed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Segoe Condensed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Segoe Condensed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Segoe Condensed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Segoe Condensed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Segoe Condensed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Segoe Condense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Segoe Condense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Condense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Segoe Condens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Condensed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Condensed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Segoe Condensed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21873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Segoe Condensed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9FF-8568-4B9D-92A1-A989A94208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欢迎加入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x </a:t>
            </a: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年级！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现在向您介绍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和我们的教室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在我演示的过程中有任何问题，请举手等待点名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新年新成就！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关于我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背景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在城市或乡村长大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曾就读于小学名称、中学名称和大学名称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经历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已经任教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同时教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和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，但我最喜欢教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的家庭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丈夫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妻子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伴侣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名称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孩子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Daughter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Son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的宠物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Dog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Cat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的目标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教给你们升入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所需的知识和社会技能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营造团结互助和愉悦的教室氛围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使大家成为朋友并发现新的兴趣爱好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教学科目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Teacher’s Name – X Grad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教学科目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在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将要学习的科目包括：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阅读和写作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数学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科学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社会学习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音乐和艺术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阅读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将要学习的阅读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267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1873a"/>
                </a:solidFill>
                <a:uFillTx/>
                <a:latin typeface="Segoe Condensed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Segoe Condense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egoe Condensed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写作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将要学习的写作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2:26Z</dcterms:created>
  <dc:creator/>
  <dc:description/>
  <cp:keywords>www.eeppt.com</cp:keywords>
  <dc:language>en-US</dc:language>
  <cp:lastModifiedBy/>
  <dcterms:modified xsi:type="dcterms:W3CDTF">2015-08-11T14:22:33Z</dcterms:modified>
  <cp:revision>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1659612052</vt:lpwstr>
  </property>
</Properties>
</file>