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4E0-D5C4-42A8-A670-39C961D7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875-7442-4EB2-A47F-5DBB8FA3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ECB-0169-4AD8-AF8F-2DE90CA2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E2D-8DFC-4CF5-8798-3D0FBA34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4C7-6EC0-4F3A-918D-D747401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963-6910-4414-BCAB-87BD4E8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A6F-574C-4B61-9427-1CF22CE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24B-4FF2-4DE8-B3E2-E34E33CE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8FE-6DD2-46B3-AAB6-A3EA3810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691-CC13-4591-9EB2-9E8AF45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D42-08B7-483A-AEA4-27B2BBA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03F-842A-4C14-9A1A-3F38FCDA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6DF-F385-410F-9EDE-9524785EB8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D16-CCEE-4827-9387-9743352D42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5-stages-of-buying-decision-process-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38920" y="270000"/>
            <a:ext cx="62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扁平化矢量卡通欧美风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-stages-of-buying-decision-process-1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7040" y="903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5-stages-of-buying-decision-process-1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5-stages-of-buying-decision-process-1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5-stages-of-buying-decision-process-1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5-stages-of-buying-decision-process-1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5-stages-of-buying-decision-process-1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5-stages-of-buying-decision-process-1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EC4-C8E1-47D4-9BF8-7B9D519D4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5-stages-of-buying-decision-process-1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5-stages-of-buying-decision-process-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5-stages-of-buying-decision-process-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5-stages-of-buying-decision-process-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5-stages-of-buying-decision-process-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5-stages-of-buying-decision-process-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5-stages-of-buying-decision-process-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5-stages-of-buying-decision-process-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5-stages-of-buying-decision-process-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6:46:00Z</dcterms:created>
  <dc:creator>www.eeppt.com</dc:creator>
  <dc:description>www.eeppt.com</dc:description>
  <dc:language>en-US</dc:language>
  <cp:lastModifiedBy>YANGS2015</cp:lastModifiedBy>
  <dcterms:modified xsi:type="dcterms:W3CDTF">2015-08-11T14:22:17Z</dcterms:modified>
  <cp:revision>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