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9A98-2B62-499C-9090-676C6B697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2ACD-F864-4DE8-87EE-70DDE7D45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86DA-96BB-4F5D-9CF1-13C007AFE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9F5E-CA63-4851-997C-0A08F2EA3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344C-A004-46ED-B519-E9828016E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CC51-C3EE-4B12-85D3-3FDE35EC21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E052-DABC-4B13-9A12-7ABC4E82C5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A0C6-DB33-48B4-A740-C8953FC25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9D33-3104-4AE3-87E5-764FA90D0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85A9-92FA-4092-9E86-6B4657617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7E72-24D9-4461-8D3A-4A6AFFB62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CA9A-C207-413A-BA62-794FC3AA1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219AFB0-5F24-4411-8878-6112BE5A002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6350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>
            <a:hlinkClick r:id="rId11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68360" y="222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3534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赛结束总结会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8622-A7EF-4F30-A067-8948FCDE42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4786200" y="1557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www.eeppt.com</dc:creator>
  <dc:description/>
  <cp:keywords>www.eeppt.com</cp:keywords>
  <dc:language>en-US</dc:language>
  <cp:lastModifiedBy>小田</cp:lastModifiedBy>
  <dcterms:modified xsi:type="dcterms:W3CDTF">2015-08-11T14:22:21Z</dcterms:modified>
  <cp:revision>264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