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7000" y="0"/>
            <a:ext cx="9171000" cy="573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7020000" y="228132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1" name="矩形 1"/>
          <p:cNvSpPr/>
          <p:nvPr/>
        </p:nvSpPr>
        <p:spPr>
          <a:xfrm>
            <a:off x="8388360" y="2281320"/>
            <a:ext cx="504720" cy="1297080"/>
          </a:xfrm>
          <a:prstGeom prst="rect">
            <a:avLst/>
          </a:prstGeom>
          <a:solidFill>
            <a:srgbClr val="e80113"/>
          </a:solidFill>
          <a:ln w="25560">
            <a:solidFill>
              <a:srgbClr val="e8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040" y="87804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节情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 rot="5400000">
            <a:off x="4385880" y="1865160"/>
            <a:ext cx="584280" cy="277164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 rot="5400000">
            <a:off x="4385160" y="1743480"/>
            <a:ext cx="584280" cy="3322800"/>
          </a:xfrm>
          <a:prstGeom prst="rect">
            <a:avLst/>
          </a:prstGeom>
          <a:solidFill>
            <a:srgbClr val="3a9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 rot="5400000">
            <a:off x="4385520" y="852840"/>
            <a:ext cx="579600" cy="4013280"/>
          </a:xfrm>
          <a:prstGeom prst="rect">
            <a:avLst/>
          </a:prstGeom>
          <a:solidFill>
            <a:srgbClr val="5cb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 rot="5400000">
            <a:off x="4389120" y="-3240"/>
            <a:ext cx="584280" cy="4600440"/>
          </a:xfrm>
          <a:prstGeom prst="rect">
            <a:avLst/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308400" y="20541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智造精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308400" y="263844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创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3308400" y="319896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进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"/>
                            </p:stCondLst>
                            <p:childTnLst>
                              <p:par>
                                <p:cTn id="407" nodeType="afterEffect" fill="hold" presetClass="exit" presetID="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" presetSubtype="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728880" y="1488960"/>
            <a:ext cx="166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微凉的风吹着我凌乱的头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手中行囊折磨我沉重的步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突然看见车站里熟悉的画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装满游子的梦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还有莫名的忧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979640" y="1488960"/>
            <a:ext cx="14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回家的渴望又让我热泪满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古老的歌曲又多久不曾大声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我在岁月里改变了模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心中的思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还是相同的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724360" y="1488960"/>
            <a:ext cx="1168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我走在清晨六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无人的街带着一身疲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昨夜的沧桑匆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早已麻木在不知名的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323240" y="6253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651120" y="1627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4323240" y="25686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1480" y="35053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9999"/>
                </a:solidFill>
                <a:latin typeface="方正苏新诗柳楷简体"/>
                <a:ea typeface="方正苏新诗柳楷简体"/>
              </a:rPr>
              <a:t>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933800" y="336600"/>
            <a:ext cx="43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萌发 生机 复苏 青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492360" y="1057320"/>
            <a:ext cx="4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团圆 祝福 开心 欢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148360" y="2351160"/>
            <a:ext cx="43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亲情 感恩 质朴 温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708360" y="3218040"/>
            <a:ext cx="43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释怀 反哺 真诚 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16000" y="689040"/>
            <a:ext cx="302436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19280" y="3611520"/>
            <a:ext cx="3816360" cy="973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6083280" y="1488960"/>
            <a:ext cx="141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人是铁饭是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工作让胃不再坚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春节期间合理饮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" dur="16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21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0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39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1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16000" y="727200"/>
            <a:ext cx="302436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55640" y="3611520"/>
            <a:ext cx="3745080" cy="973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5345280" y="1488960"/>
            <a:ext cx="2154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最是低头的温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岁月掩饰了娇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亲密爱人的嘘寒问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变得朴素无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相濡以沫才能情比金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2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18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39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3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3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2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9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1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16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1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16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8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16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6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20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16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2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16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16000" y="831960"/>
            <a:ext cx="3024360" cy="24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82560" y="3622680"/>
            <a:ext cx="388944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5838840" y="1488960"/>
            <a:ext cx="166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少年不识愁滋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可怜天下父母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风华不再  铅华尽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用青春去感恩天下老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2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8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1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7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6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9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18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2" dur="2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187280" y="831960"/>
            <a:ext cx="2881440" cy="24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057320" y="3622680"/>
            <a:ext cx="3139920" cy="952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5345280" y="1488960"/>
            <a:ext cx="2154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喂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喂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你们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好</a:t>
            </a:r>
            <a:r>
              <a:rPr b="0" lang="en-US" sz="1600" spc="-1" strike="noStrike">
                <a:solidFill>
                  <a:srgbClr val="999999"/>
                </a:solidFill>
                <a:latin typeface="仿宋"/>
                <a:ea typeface="仿宋"/>
              </a:rPr>
              <a:t>——</a:t>
            </a: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家里都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快回来吧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红策划友情提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9999"/>
                </a:solidFill>
                <a:latin typeface="仿宋"/>
                <a:ea typeface="仿宋"/>
              </a:rPr>
              <a:t>电话那头是期盼焦灼与固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2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9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6" dur="9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1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39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94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1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8" dur="39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38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492360" y="1498680"/>
            <a:ext cx="1871640" cy="2346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3252600" y="268776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843280" y="696960"/>
            <a:ext cx="3600360" cy="3038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2778120" y="41241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74806"/>
                </a:solidFill>
                <a:latin typeface="仿宋"/>
                <a:ea typeface="仿宋"/>
              </a:rPr>
              <a:t>红策划恭祝您</a:t>
            </a:r>
            <a:r>
              <a:rPr b="0" lang="en-US" sz="2400" spc="-1" strike="noStrike">
                <a:solidFill>
                  <a:srgbClr val="974806"/>
                </a:solidFill>
                <a:latin typeface="仿宋"/>
                <a:ea typeface="仿宋"/>
              </a:rPr>
              <a:t>2012</a:t>
            </a:r>
            <a:r>
              <a:rPr b="0" lang="zh-CN" sz="2400" spc="-1" strike="noStrike">
                <a:solidFill>
                  <a:srgbClr val="974806"/>
                </a:solidFill>
                <a:latin typeface="仿宋"/>
                <a:ea typeface="仿宋"/>
              </a:rPr>
              <a:t>新春快乐！合家幸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1">
                                  <p:stCondLst>
                                    <p:cond delay="900"/>
                                  </p:stCondLst>
                                  <p:iterate type="lt">
                                    <p:tmAbs val="61.30299949646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1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2:17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2:19Z</dcterms:modified>
  <cp:revision>5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