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C80D5-544F-4010-BEB0-0F8D7E0B03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750A1-AC8D-4EAD-AED2-D7BAED4B7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6799F-BE4D-4F81-BBE1-6E5AB591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9B592-D3F4-4B98-BB7E-4A3DA0D3D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2B7B9-9574-48F8-93CC-9B15D59B1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AA770-08B4-423E-82A4-C642D3158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E0674-1427-49AC-9B22-9AC43CE68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E5812-46EE-4425-B9D5-62FAFB999D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2C34C-6B9F-4A0E-BEFC-B6C14452F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10413-AF1E-4B81-96E4-75388380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5F05C-A8E6-438A-B044-4D280FA84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1FD52-241B-41FA-BE42-FA9310A0D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914400" indent="-4572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9144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1371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8F0A0DF3-E9BB-4E96-9EE4-F2F0A505FE17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B9244344-5828-42C3-9795-578B96481930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773000" y="2976480"/>
            <a:ext cx="537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创意灵感画报欧美风设计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4920" y="645336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ffffff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8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2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4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6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8BF97-4E0A-4801-9768-E69A7B277C9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1" name="矩形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4-16T14:03:00Z</dcterms:created>
  <dc:creator>www.eeppt.com</dc:creator>
  <dc:description>www.eeppt.com</dc:description>
  <dc:language>en-US</dc:language>
  <cp:lastModifiedBy>微软用户</cp:lastModifiedBy>
  <dcterms:modified xsi:type="dcterms:W3CDTF">2015-08-12T06:37:56Z</dcterms:modified>
  <cp:revision>9</cp:revision>
  <dc:subject/>
  <dc:title>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