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C24-0675-407F-8E3B-DF20E7C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7D7-C601-4F8A-A0F6-D28CAB0B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D39-9FEB-47B7-B536-397EB0A4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069-747D-461B-AEEB-F9F061B2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D4E-508A-44AA-9BC1-1BBBF11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37D-9401-4FFE-B2E2-390639A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EFA-D8BE-4A44-B40F-9B1C8A5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420-3431-4AA5-910D-66E3A4E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F05-0B00-4722-A8A7-F4BF917F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8A8-AE49-466F-834B-A375BC6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5B2-F7A8-45AE-9B88-B7E9269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9EE-3B4F-4526-B1A8-FC9EBB4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6F1-B148-4E3D-9DA2-4B097E38C8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FA7A-0A40-42C6-8598-5E141BF802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-1092240" y="-42840"/>
            <a:ext cx="123444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81360" y="106668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欧美风多彩卡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7320" cy="690084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-1092240" y="-42840"/>
            <a:ext cx="123444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-1092240" y="-42840"/>
            <a:ext cx="123444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-1092240" y="-42840"/>
            <a:ext cx="123444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-1092240" y="-42840"/>
            <a:ext cx="12344400" cy="77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D10-8396-4BB1-8A66-856A84048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eeppt.com</dc:creator>
  <dc:description>www.eeppt.com</dc:description>
  <dc:language>en-US</dc:language>
  <cp:lastModifiedBy>微软用户</cp:lastModifiedBy>
  <dcterms:modified xsi:type="dcterms:W3CDTF">2015-08-12T06:39:01Z</dcterms:modified>
  <cp:revision>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