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7CD-4C2D-4E99-9EF8-7313DC5F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B74-A9D7-4C74-9D70-D1AFCC0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008-11A4-416C-9D01-30549451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733-E3F7-48DA-B2EB-9ABAAA42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A0C7-7465-4B11-BB64-58F2992D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0419-02F6-4B02-9E9A-3DAE8092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834-0903-4B98-9735-C197BE9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EA22-21BA-4828-8794-EB28E3E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6B3-A88D-4FB6-B8D6-6F9E6512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5C3-CBC4-4B4A-8F72-F853C7E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8EA-8E13-4555-AB0E-967319C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9B9-0FFE-4011-9C6A-F80A353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843-3534-4306-AD31-784FD3A5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879-7DE8-441E-9903-7172850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34FC-353D-4811-AC3E-2BC1FD04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351C-C1D8-4CEC-B9E8-FBCD4332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7880-C049-4B44-9D17-BDA8A0D0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309-46E3-441C-89A8-368E8C65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47B-D739-4C62-A789-BEA2532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F01-5EC8-4C3E-A50A-6ED19EE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FA5-1241-4893-A4B3-453D5D6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6C2-324A-424B-96D1-E45BAFEC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507-7FDC-4501-A0D1-BF33FEB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F58-0FAE-46F8-9448-90FA8BC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2E5-A862-4EB4-BA2C-7C7A459CDCC0}" type="slidenum"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7D5E-186C-48AC-AD0C-36407198B0D2}" type="slidenum"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665964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创造性会议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演说者姓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议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体讨论目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规则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体讨论活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续步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本会议主题的简要概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议程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预期目标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集体讨论目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述练习目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新产品或服务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新功能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功能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产品命名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促销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执行某件事的新过程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最重要的要求或限制条件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规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任何构想都不是不良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创造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冒险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允许批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18900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集体讨论活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游戏和练习“熟悉”创造性思维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构想变慢时，尝试其他练习来产生新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较小的组可能更好一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计算机捕获每个意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审阅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对首选构想投票并进行统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检查要求和限制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对列表进行删减，使其包含前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-10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个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8f8f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6CA-C5DF-489B-A9E1-C468BE5D06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续步骤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述随后发生的情况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研究产生的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继续采用较大的组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后续操作生成操作项目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开始将构想转变为现实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03:46Z</dcterms:created>
  <dc:creator>www.eeppt.com</dc:creator>
  <dc:description/>
  <cp:keywords>www.eeppt.com</cp:keywords>
  <dc:language>en-US</dc:language>
  <cp:lastModifiedBy>微软用户</cp:lastModifiedBy>
  <dcterms:modified xsi:type="dcterms:W3CDTF">2015-08-11T14:21:21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10184372052</vt:lpwstr>
  </property>
</Properties>
</file>