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1D3-FECD-4E4E-A569-0DE15877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061-FEE1-4099-9223-9F70D654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13B-614C-442F-8404-F6F3B00E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17C-33A0-40C6-BA75-8BF4F5DE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8C3-7D19-49D0-8861-05E8B1CE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2DA-1F95-41EF-9066-7D446C47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89F-CB3B-4D2E-BDC4-544C583F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6DA-08F7-4DD4-9F38-DD84CC40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45A-DD76-475F-BB1E-265ABB37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60A-04FA-478B-9FFD-F3A56FEA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3B2-A8D4-4633-8807-9D19E11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664-9ED7-468B-BE99-47B74A71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3253-67EB-410A-848C-5F1E20D9C6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6B9B-CBA0-4DEB-A3B3-B3C855691B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ba7c251371bf429bc2fd7863.jpg"/>
          <p:cNvPicPr/>
          <p:nvPr/>
        </p:nvPicPr>
        <p:blipFill>
          <a:blip r:embed="rId1"/>
          <a:stretch/>
        </p:blipFill>
        <p:spPr>
          <a:xfrm>
            <a:off x="-609480" y="-28440"/>
            <a:ext cx="975348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482920" y="5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060720" y="40464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给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427640" y="527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灿烂美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948360" y="5824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-1878120" y="-353880"/>
            <a:ext cx="389160" cy="325440"/>
          </a:xfrm>
          <a:prstGeom prst="pie">
            <a:avLst/>
          </a:prstGeom>
          <a:solidFill>
            <a:srgbClr val="e97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1"/>
          <p:cNvSpPr/>
          <p:nvPr/>
        </p:nvSpPr>
        <p:spPr>
          <a:xfrm>
            <a:off x="-1981080" y="1917720"/>
            <a:ext cx="492120" cy="304920"/>
          </a:xfrm>
          <a:prstGeom prst="pie">
            <a:avLst/>
          </a:prstGeom>
          <a:solidFill>
            <a:srgbClr val="ea7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-895320" y="-890640"/>
            <a:ext cx="285840" cy="20016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>
            <a:off x="-1434960" y="708120"/>
            <a:ext cx="291960" cy="32544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9"/>
          <p:cNvSpPr/>
          <p:nvPr/>
        </p:nvSpPr>
        <p:spPr>
          <a:xfrm>
            <a:off x="-181080" y="-523800"/>
            <a:ext cx="362160" cy="33336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1"/>
          <p:cNvGrpSpPr/>
          <p:nvPr/>
        </p:nvGrpSpPr>
        <p:grpSpPr>
          <a:xfrm>
            <a:off x="-2052720" y="831960"/>
            <a:ext cx="405000" cy="403200"/>
            <a:chOff x="-2052720" y="831960"/>
            <a:chExt cx="405000" cy="403200"/>
          </a:xfrm>
        </p:grpSpPr>
        <p:sp>
          <p:nvSpPr>
            <p:cNvPr id="52" name="Freeform 22"/>
            <p:cNvSpPr/>
            <p:nvPr/>
          </p:nvSpPr>
          <p:spPr>
            <a:xfrm>
              <a:off x="-2052720" y="831960"/>
              <a:ext cx="405000" cy="40320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7"/>
            <p:cNvSpPr/>
            <p:nvPr/>
          </p:nvSpPr>
          <p:spPr>
            <a:xfrm>
              <a:off x="-1933200" y="855360"/>
              <a:ext cx="205920" cy="1814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24"/>
          <p:cNvGrpSpPr/>
          <p:nvPr/>
        </p:nvGrpSpPr>
        <p:grpSpPr>
          <a:xfrm>
            <a:off x="-2830680" y="2892600"/>
            <a:ext cx="424080" cy="349200"/>
            <a:chOff x="-2830680" y="2892600"/>
            <a:chExt cx="424080" cy="349200"/>
          </a:xfrm>
        </p:grpSpPr>
        <p:sp>
          <p:nvSpPr>
            <p:cNvPr id="55" name="Freeform 21"/>
            <p:cNvSpPr/>
            <p:nvPr/>
          </p:nvSpPr>
          <p:spPr>
            <a:xfrm>
              <a:off x="-2830680" y="2892600"/>
              <a:ext cx="424080" cy="34920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4"/>
            <p:cNvSpPr/>
            <p:nvPr/>
          </p:nvSpPr>
          <p:spPr>
            <a:xfrm>
              <a:off x="-2769840" y="3110760"/>
              <a:ext cx="270360" cy="1076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7"/>
          <p:cNvGrpSpPr/>
          <p:nvPr/>
        </p:nvGrpSpPr>
        <p:grpSpPr>
          <a:xfrm>
            <a:off x="-1981080" y="2689200"/>
            <a:ext cx="330120" cy="212760"/>
            <a:chOff x="-1981080" y="2689200"/>
            <a:chExt cx="330120" cy="212760"/>
          </a:xfrm>
        </p:grpSpPr>
        <p:sp>
          <p:nvSpPr>
            <p:cNvPr id="58" name="Freeform 20"/>
            <p:cNvSpPr/>
            <p:nvPr/>
          </p:nvSpPr>
          <p:spPr>
            <a:xfrm>
              <a:off x="-1981080" y="2689200"/>
              <a:ext cx="330120" cy="21276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5"/>
            <p:cNvSpPr/>
            <p:nvPr/>
          </p:nvSpPr>
          <p:spPr>
            <a:xfrm>
              <a:off x="-1881720" y="2720520"/>
              <a:ext cx="219600" cy="15876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0"/>
          <p:cNvGrpSpPr/>
          <p:nvPr/>
        </p:nvGrpSpPr>
        <p:grpSpPr>
          <a:xfrm>
            <a:off x="-1276200" y="1670040"/>
            <a:ext cx="380880" cy="247680"/>
            <a:chOff x="-1276200" y="1670040"/>
            <a:chExt cx="380880" cy="247680"/>
          </a:xfrm>
        </p:grpSpPr>
        <p:sp>
          <p:nvSpPr>
            <p:cNvPr id="61" name="Freeform 23"/>
            <p:cNvSpPr/>
            <p:nvPr/>
          </p:nvSpPr>
          <p:spPr>
            <a:xfrm>
              <a:off x="-1276200" y="1670040"/>
              <a:ext cx="380880" cy="24768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-1144080" y="1719360"/>
              <a:ext cx="179280" cy="1598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-46836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68120" y="2205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动态母亲节贺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7691 -0.07153 E">
                                      <p:cBhvr>
                                        <p:cTn id="8" dur="10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3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3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C 0.08229 -0.03565 0.16459 -0.0713 0.26667 -0.06667 C 0.36875 -0.06204 0.51007 0.0088 0.6125 0.02778 C 0.71493 0.04676 0.78091 -0.00972 0.88125 0.04722 C 0.9816 0.10417 1.09809 0.23681 1.21459 0.36945 E">
                                      <p:cBhvr>
                                        <p:cTn id="33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1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035 -0.00023 C 0.0441 -0.01088 0.16337 -0.07523 0.26511 -0.06365 C 0.36684 -0.05208 0.50903 0.03727 0.61077 0.06922 C 0.7125 0.10116 0.77639 0.02801 0.87587 0.12801 C 0.97535 0.22801 1.09167 0.44676 1.20747 0.66991 E">
                                      <p:cBhvr>
                                        <p:cTn id="37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39" dur="1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035 -0.00023 C 0.04965 0.0125 0.1934 0.0581 0.29583 0.07662 C 0.39826 0.09468 0.52014 0.08796 0.61458 0.10995 C 0.70903 0.13148 0.80208 0.17315 0.8625 0.20718 C 0.92292 0.24097 0.91962 0.23542 0.97708 0.31273 C 1.03455 0.38958 1.15955 0.5956 1.20747 0.66991 E">
                                      <p:cBhvr>
                                        <p:cTn id="41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43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00035 -0.00024 C 0.05747 0.02731 0.23351 0.12476 0.34271 0.16435 C 0.45191 0.20393 0.55903 0.20416 0.65521 0.2368 C 0.75139 0.26921 0.82778 0.26504 0.91979 0.35902 C 1.01181 0.453 1.1474 0.70856 1.20729 0.80069 E">
                                      <p:cBhvr>
                                        <p:cTn id="45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47" dur="1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35 -0.00023 C 0.04566 0.02825 0.17517 0.11482 0.2717 0.1713 C 0.36823 0.22778 0.48073 0.28172 0.58003 0.3382 C 0.67934 0.39445 0.75156 0.46459 0.86753 0.51042 C 0.98351 0.55625 1.1908 0.5919 1.27587 0.6132 E">
                                      <p:cBhvr>
                                        <p:cTn id="49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21600000">
                                      <p:cBhvr>
                                        <p:cTn id="51" dur="1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35 -0.00023 C 0.0441 -0.01088 0.16337 -0.07523 0.26511 -0.06365 C 0.36684 -0.05208 0.50903 0.03727 0.61077 0.06922 C 0.7125 0.10116 0.75157 0.03033 0.87587 0.12801 C 1.00018 0.2257 1.25625 0.54514 1.35643 0.65487 E">
                                      <p:cBhvr>
                                        <p:cTn id="53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mph" presetID="8" repeatCount="indefinite">
                                  <p:stCondLst>
                                    <p:cond delay="1900"/>
                                  </p:stCondLst>
                                  <p:childTnLst>
                                    <p:animRot by="21600000">
                                      <p:cBhvr>
                                        <p:cTn id="55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035 -0.00023 C 0.0441 -0.01088 0.16354 -0.07523 0.2651 -0.06366 C 0.36684 -0.05208 0.50903 0.03727 0.61076 0.06921 C 0.7125 0.10116 0.76406 0.04236 0.87587 0.12801 C 0.98767 0.21366 1.19739 0.48796 1.28212 0.58264 E">
                                      <p:cBhvr>
                                        <p:cTn id="57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8" repeatCount="indefinite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59" dur="1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00035 -0.00023 C 0.0441 -0.01088 0.16337 -0.07523 0.26476 -0.06366 C 0.36667 -0.05208 0.49861 0.02384 0.61042 0.06921 C 0.72257 0.11458 0.82327 0.1456 0.9382 0.20857 C 1.05313 0.27153 1.22431 0.39792 1.3007 0.44745 C 1.37709 0.49699 1.37674 0.49375 1.39653 0.50579 E">
                                      <p:cBhvr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8" repeatCount="indefinite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63" dur="1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35 -0.00023 C 0.04479 -0.01991 0.15573 -0.10903 0.26753 -0.11852 C 0.37917 -0.12801 0.56632 -0.0912 0.67153 -0.05741 C 0.77674 -0.02361 0.77326 0.03241 0.89861 0.08426 C 1.02396 0.13611 1.31424 0.21852 1.42361 0.2537 E">
                                      <p:cBhvr>
                                        <p:cTn id="65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67" dur="1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Administrator\Desktop\2113444_134023586175_2.jpg"/>
          <p:cNvPicPr/>
          <p:nvPr/>
        </p:nvPicPr>
        <p:blipFill>
          <a:blip r:embed="rId1"/>
          <a:srcRect l="-6002" t="0" r="6004" b="27688"/>
          <a:stretch/>
        </p:blipFill>
        <p:spPr>
          <a:xfrm>
            <a:off x="-609480" y="-200160"/>
            <a:ext cx="9753480" cy="7053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482920" y="54936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您</a:t>
            </a:r>
            <a:r>
              <a:rPr b="0" lang="zh-CN" sz="4800" spc="-1" strike="noStrike">
                <a:solidFill>
                  <a:srgbClr val="3f3f3f"/>
                </a:solidFill>
                <a:latin typeface="华文隶书"/>
                <a:ea typeface="华文隶书"/>
              </a:rPr>
              <a:t>教会</a:t>
            </a: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了我做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156360" y="836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c0c"/>
                </a:solidFill>
                <a:latin typeface="华文隶书"/>
                <a:ea typeface="华文隶书"/>
              </a:rPr>
              <a:t>道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-1878120" y="-353880"/>
            <a:ext cx="389160" cy="325440"/>
          </a:xfrm>
          <a:prstGeom prst="pie">
            <a:avLst/>
          </a:prstGeom>
          <a:solidFill>
            <a:srgbClr val="e97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-1981080" y="1917720"/>
            <a:ext cx="492120" cy="304920"/>
          </a:xfrm>
          <a:prstGeom prst="pie">
            <a:avLst/>
          </a:prstGeom>
          <a:solidFill>
            <a:srgbClr val="ea7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-895320" y="-890640"/>
            <a:ext cx="285840" cy="20016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-1434960" y="708120"/>
            <a:ext cx="291960" cy="32544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-181080" y="-523800"/>
            <a:ext cx="362160" cy="33336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0"/>
          <p:cNvGrpSpPr/>
          <p:nvPr/>
        </p:nvGrpSpPr>
        <p:grpSpPr>
          <a:xfrm>
            <a:off x="-2052720" y="831960"/>
            <a:ext cx="405000" cy="403200"/>
            <a:chOff x="-2052720" y="831960"/>
            <a:chExt cx="405000" cy="403200"/>
          </a:xfrm>
        </p:grpSpPr>
        <p:sp>
          <p:nvSpPr>
            <p:cNvPr id="74" name="Freeform 22"/>
            <p:cNvSpPr/>
            <p:nvPr/>
          </p:nvSpPr>
          <p:spPr>
            <a:xfrm>
              <a:off x="-2052720" y="831960"/>
              <a:ext cx="405000" cy="40320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-1933200" y="855360"/>
              <a:ext cx="205920" cy="1814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13"/>
          <p:cNvGrpSpPr/>
          <p:nvPr/>
        </p:nvGrpSpPr>
        <p:grpSpPr>
          <a:xfrm>
            <a:off x="-2830680" y="2892600"/>
            <a:ext cx="424080" cy="349200"/>
            <a:chOff x="-2830680" y="2892600"/>
            <a:chExt cx="424080" cy="349200"/>
          </a:xfrm>
        </p:grpSpPr>
        <p:sp>
          <p:nvSpPr>
            <p:cNvPr id="77" name="Freeform 21"/>
            <p:cNvSpPr/>
            <p:nvPr/>
          </p:nvSpPr>
          <p:spPr>
            <a:xfrm>
              <a:off x="-2830680" y="2892600"/>
              <a:ext cx="424080" cy="34920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-2769840" y="3110760"/>
              <a:ext cx="270360" cy="1076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16"/>
          <p:cNvGrpSpPr/>
          <p:nvPr/>
        </p:nvGrpSpPr>
        <p:grpSpPr>
          <a:xfrm>
            <a:off x="-1981080" y="2689200"/>
            <a:ext cx="330120" cy="212760"/>
            <a:chOff x="-1981080" y="2689200"/>
            <a:chExt cx="330120" cy="212760"/>
          </a:xfrm>
        </p:grpSpPr>
        <p:sp>
          <p:nvSpPr>
            <p:cNvPr id="80" name="Freeform 20"/>
            <p:cNvSpPr/>
            <p:nvPr/>
          </p:nvSpPr>
          <p:spPr>
            <a:xfrm>
              <a:off x="-1981080" y="2689200"/>
              <a:ext cx="330120" cy="21276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-1881720" y="2720520"/>
              <a:ext cx="219600" cy="15876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9"/>
          <p:cNvGrpSpPr/>
          <p:nvPr/>
        </p:nvGrpSpPr>
        <p:grpSpPr>
          <a:xfrm>
            <a:off x="-1276200" y="1670040"/>
            <a:ext cx="380880" cy="247680"/>
            <a:chOff x="-1276200" y="1670040"/>
            <a:chExt cx="380880" cy="247680"/>
          </a:xfrm>
        </p:grpSpPr>
        <p:sp>
          <p:nvSpPr>
            <p:cNvPr id="83" name="Freeform 23"/>
            <p:cNvSpPr/>
            <p:nvPr/>
          </p:nvSpPr>
          <p:spPr>
            <a:xfrm>
              <a:off x="-1276200" y="1670040"/>
              <a:ext cx="380880" cy="24768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-1144080" y="1719360"/>
              <a:ext cx="179280" cy="1598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68360" y="595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10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L -0.07882 2.22222E-006 E">
                                      <p:cBhvr>
                                        <p:cTn id="75" dur="101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2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5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C 0.08229 -0.03565 0.16459 -0.0713 0.26667 -0.06667 C 0.36875 -0.06204 0.51007 0.0088 0.6125 0.02778 C 0.71493 0.04676 0.78091 -0.00972 0.88125 0.04722 C 0.9816 0.10417 1.09809 0.23681 1.21459 0.36945 E">
                                      <p:cBhvr>
                                        <p:cTn id="87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1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035 -0.00023 C 0.0441 -0.01088 0.16337 -0.07523 0.26511 -0.06365 C 0.36684 -0.05208 0.50903 0.03727 0.61077 0.06922 C 0.7125 0.10116 0.77639 0.02801 0.87587 0.12801 C 0.97535 0.22801 1.09167 0.44676 1.20747 0.66991 E">
                                      <p:cBhvr>
                                        <p:cTn id="91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93" dur="1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035 -0.00023 C 0.04965 0.0125 0.1934 0.0581 0.29583 0.07662 C 0.39826 0.09468 0.52014 0.08796 0.61458 0.10995 C 0.70903 0.13148 0.80208 0.17315 0.8625 0.20718 C 0.92292 0.24097 0.91962 0.23542 0.97708 0.31273 C 1.03455 0.38958 1.15955 0.5956 1.20747 0.66991 E">
                                      <p:cBhvr>
                                        <p:cTn id="95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97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00035 -0.00024 C 0.05747 0.02731 0.23351 0.12476 0.34271 0.16435 C 0.45191 0.20393 0.55903 0.20416 0.65521 0.2368 C 0.75139 0.26921 0.82778 0.26504 0.91979 0.35902 C 1.01181 0.453 1.1474 0.70856 1.20729 0.80069 E">
                                      <p:cBhvr>
                                        <p:cTn id="99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101" dur="1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35 -0.00023 C 0.04566 0.02825 0.17517 0.11482 0.2717 0.1713 C 0.36823 0.22778 0.48073 0.28172 0.58003 0.3382 C 0.67934 0.39445 0.75156 0.46459 0.86753 0.51042 C 0.98351 0.55625 1.1908 0.5919 1.27587 0.6132 E">
                                      <p:cBhvr>
                                        <p:cTn id="103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21600000">
                                      <p:cBhvr>
                                        <p:cTn id="105" dur="1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35 -0.00023 C 0.0441 -0.01088 0.16337 -0.07523 0.26511 -0.06365 C 0.36684 -0.05208 0.50903 0.03727 0.61077 0.06922 C 0.7125 0.10116 0.75157 0.03033 0.87587 0.12801 C 1.00018 0.2257 1.25625 0.54514 1.35643 0.65487 E">
                                      <p:cBhvr>
                                        <p:cTn id="107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8" repeatCount="indefinite">
                                  <p:stCondLst>
                                    <p:cond delay="1900"/>
                                  </p:stCondLst>
                                  <p:childTnLst>
                                    <p:animRot by="21600000">
                                      <p:cBhvr>
                                        <p:cTn id="109" dur="1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035 -0.00023 C 0.0441 -0.01088 0.16354 -0.07523 0.2651 -0.06366 C 0.36684 -0.05208 0.50903 0.03727 0.61076 0.06921 C 0.7125 0.10116 0.76406 0.04236 0.87587 0.12801 C 0.98767 0.21366 1.19739 0.48796 1.28212 0.58264 E">
                                      <p:cBhvr>
                                        <p:cTn id="111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mph" presetID="8" repeatCount="indefinite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113" dur="1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00035 -0.00023 C 0.0441 -0.01088 0.16337 -0.07523 0.26476 -0.06366 C 0.36667 -0.05208 0.49861 0.02384 0.61042 0.06921 C 0.72257 0.11458 0.82327 0.1456 0.9382 0.20857 C 1.05313 0.27153 1.22431 0.39792 1.3007 0.44745 C 1.37709 0.49699 1.37674 0.49375 1.39653 0.50579 E">
                                      <p:cBhvr>
                                        <p:cTn id="115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8" repeatCount="indefinite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117" dur="1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35 -0.00023 C 0.04479 -0.01991 0.15573 -0.10903 0.26753 -0.11852 C 0.37917 -0.12801 0.56632 -0.0912 0.67153 -0.05741 C 0.77674 -0.02361 0.77326 0.03241 0.89861 0.08426 C 1.02396 0.13611 1.31424 0.21852 1.42361 0.2537 E">
                                      <p:cBhvr>
                                        <p:cTn id="119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121" dur="1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pic1.nipic.com/2008-10-17/2008101783447275_2.jpg"/>
          <p:cNvPicPr/>
          <p:nvPr/>
        </p:nvPicPr>
        <p:blipFill>
          <a:blip r:embed="rId1"/>
          <a:srcRect l="0" t="0" r="37259" b="0"/>
          <a:stretch/>
        </p:blipFill>
        <p:spPr>
          <a:xfrm>
            <a:off x="-34920" y="2700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椭圆 1"/>
          <p:cNvSpPr/>
          <p:nvPr/>
        </p:nvSpPr>
        <p:spPr>
          <a:xfrm rot="21358200">
            <a:off x="1191960" y="3850920"/>
            <a:ext cx="3394080" cy="17654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"/>
          <p:cNvSpPr/>
          <p:nvPr/>
        </p:nvSpPr>
        <p:spPr>
          <a:xfrm rot="21358200">
            <a:off x="829800" y="3579840"/>
            <a:ext cx="4364280" cy="227016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6"/>
          <p:cNvSpPr/>
          <p:nvPr/>
        </p:nvSpPr>
        <p:spPr>
          <a:xfrm rot="21358200">
            <a:off x="204480" y="3217680"/>
            <a:ext cx="5705280" cy="296676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pic11.nipic.com/20101116/6024020_160444048336_2.png"/>
          <p:cNvPicPr/>
          <p:nvPr/>
        </p:nvPicPr>
        <p:blipFill>
          <a:blip r:embed="rId2"/>
          <a:stretch/>
        </p:blipFill>
        <p:spPr>
          <a:xfrm>
            <a:off x="482760" y="2048040"/>
            <a:ext cx="4098600" cy="325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pic11.nipic.com/20101116/6024020_160444048336_2.png"/>
          <p:cNvPicPr/>
          <p:nvPr/>
        </p:nvPicPr>
        <p:blipFill>
          <a:blip r:embed="rId3"/>
          <a:stretch/>
        </p:blipFill>
        <p:spPr>
          <a:xfrm flipH="1">
            <a:off x="3492000" y="3139920"/>
            <a:ext cx="1800360" cy="1627200"/>
          </a:xfrm>
          <a:prstGeom prst="rect">
            <a:avLst/>
          </a:prstGeom>
          <a:ln w="0">
            <a:noFill/>
          </a:ln>
        </p:spPr>
      </p:pic>
      <p:sp>
        <p:nvSpPr>
          <p:cNvPr id="92" name="椭圆 2"/>
          <p:cNvSpPr/>
          <p:nvPr/>
        </p:nvSpPr>
        <p:spPr>
          <a:xfrm>
            <a:off x="1403280" y="1592280"/>
            <a:ext cx="581040" cy="579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4349880" y="3348000"/>
            <a:ext cx="431640" cy="432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4643280" y="1882800"/>
            <a:ext cx="432000" cy="431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1"/>
          <p:cNvSpPr/>
          <p:nvPr/>
        </p:nvSpPr>
        <p:spPr>
          <a:xfrm>
            <a:off x="6535800" y="2405160"/>
            <a:ext cx="536400" cy="536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2"/>
          <p:cNvSpPr/>
          <p:nvPr/>
        </p:nvSpPr>
        <p:spPr>
          <a:xfrm>
            <a:off x="6622920" y="836640"/>
            <a:ext cx="432000" cy="4316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836640" y="4208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您用丰满的羽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2050920" y="90792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小心的</a:t>
            </a:r>
            <a:r>
              <a:rPr b="0" lang="zh-CN" sz="4400" spc="-1" strike="noStrike">
                <a:solidFill>
                  <a:srgbClr val="3f3f3f"/>
                </a:solidFill>
                <a:latin typeface="华文隶书"/>
                <a:ea typeface="华文隶书"/>
              </a:rPr>
              <a:t>保护</a:t>
            </a: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着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3594240" y="30718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隶书"/>
                <a:ea typeface="华文隶书"/>
              </a:rPr>
              <a:t>谢谢您</a:t>
            </a:r>
            <a:r>
              <a:rPr b="0" lang="en-US" sz="4000" spc="-1" strike="noStrike">
                <a:solidFill>
                  <a:srgbClr val="3f3f3f"/>
                </a:solidFill>
                <a:latin typeface="华文隶书"/>
                <a:ea typeface="华文隶书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4349880" y="373392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f3f3f"/>
                </a:solidFill>
                <a:latin typeface="华文隶书"/>
                <a:ea typeface="华文隶书"/>
              </a:rPr>
              <a:t>妈妈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pic1.nipic.com/2008-10-17/2008101783447275_2.jpg"/>
          <p:cNvPicPr/>
          <p:nvPr/>
        </p:nvPicPr>
        <p:blipFill>
          <a:blip r:embed="rId9"/>
          <a:srcRect l="0" t="0" r="37259" b="0"/>
          <a:stretch/>
        </p:blipFill>
        <p:spPr>
          <a:xfrm>
            <a:off x="-34920" y="2700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32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12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6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05 0.01459 0.0441 0.02917 0.05833 0.02778 C 0.07257 0.02639 0.07257 -0.00602 0.08542 -0.00833 C 0.09826 -0.01065 0.11684 0.00162 0.13542 0.01389 E">
                                      <p:cBhvr>
                                        <p:cTn id="148" dur="10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07407E-006 C 0.00816 0.00046 0.03437 0.00393 0.04861 0.00254 C 0.06284 0.00115 0.071 -0.01019 0.08541 -0.00834 C 0.09982 -0.00649 0.11684 0.00162 0.13541 0.01388 E">
                                      <p:cBhvr>
                                        <p:cTn id="153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1505 C -0.02187 -0.02083 -0.04375 -0.02662 -0.05781 -0.02616 C -0.07187 -0.0257 -0.07187 -0.01273 -0.08454 -0.01181 C -0.09722 -0.01065 -0.11562 -0.01574 -0.13385 -0.0206 E">
                                      <p:cBhvr>
                                        <p:cTn id="158" dur="10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532 C -0.00729 -0.0081 -0.03004 -0.02106 -0.04341 -0.0206 C -0.05677 -0.02013 -0.06736 -0.00625 -0.07969 -0.00185 C -0.09219 0.00232 -0.11007 0.00371 -0.11806 0.0051 E">
                                      <p:cBhvr>
                                        <p:cTn id="163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2222E-006 C 0.00903 0.00162 0.04011 0.01181 0.05434 0.01042 C 0.06858 0.00903 0.07188 -0.00879 0.08542 -0.00833 C 0.09896 -0.00787 0.11684 0.00162 0.13542 0.01389 E">
                                      <p:cBhvr>
                                        <p:cTn id="168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4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3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F5A-C991-4369-9153-B954416049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2:36:00Z</dcterms:created>
  <dc:creator>pc</dc:creator>
  <dc:description>www.eeppt.com;</dc:description>
  <cp:keywords>www.eeppt.com</cp:keywords>
  <dc:language>en-US</dc:language>
  <cp:lastModifiedBy>for_yang@qq.com</cp:lastModifiedBy>
  <dcterms:modified xsi:type="dcterms:W3CDTF">2015-08-12T06:44:06Z</dcterms:modified>
  <cp:revision>1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