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BC0-766F-44DE-9856-D0C848ED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438-9B72-411D-855A-CE2E3E2C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B10-9E91-424F-A576-AA80D1CE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67C-F0B2-46BA-BB7E-5EA47C65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02E-9E64-401A-988B-B9C993EB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A85-EE74-408E-92BE-9CE8EB98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A0B-89E0-4197-91E1-C56E42D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9FF-0534-4245-B30C-CE4B269C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EB8-228C-4BA7-846A-6B76319E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365-23AF-47AB-A3BA-ABDB7782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C32-9A9D-4ABF-A408-C08F4562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CC1-8A77-49C2-9AFB-9DEA8FF5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A93C-793B-402A-A5FF-45D08761BD5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F36B-5905-4FA6-8390-D8AE982424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LaVladina - Creative Commons Attribution License  https://www.flickr.com/photos/6247256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45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6237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0680" y="260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大图排版设计欧美风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fabiogis50 - Creative Commons Attribution-NonCommercial-ShareAlike License  https://www.flickr.com/photos/7093680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9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Robert Bejil Productions - Creative Commons Attribution License  https://www.flickr.com/photos/28618109@N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9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docpop - Creative Commons Attribution-NonCommercial License  https://www.flickr.com/photos/65802182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0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Beige Alert - Creative Commons Attribution-ShareAlike License  https://www.flickr.com/photos/53332339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0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Erik Charlton - Creative Commons Attribution License  https://www.flickr.com/photos/7804208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1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j.edward ferguson - Creative Commons Attribution-NonCommercial-ShareAlike License  https://www.flickr.com/photos/12516514@N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1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Kaptain Kobold - Creative Commons Attribution-NonCommercial-ShareAlike License  https://www.flickr.com/photos/95492938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23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thewhitestdogalive - Creative Commons Attribution-NonCommercial License  https://www.flickr.com/photos/2242584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2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WarzauWynn - Creative Commons Attribution-NonCommercial License  https://www.flickr.com/photos/94246031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33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IsabelSalas - Creative Commons Attribution-NonCommercial License  https://www.flickr.com/photos/5377760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3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Lotus Carroll - Creative Commons Attribution-NonCommercial-ShareAlike License  https://www.flickr.com/photos/11248435@N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5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rachel a. k. - Creative Commons Attribution-NonCommercial-ShareAlike License  https://www.flickr.com/photos/47864451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43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Loving Earth - Creative Commons Attribution-NonCommercial-ShareAlike License  https://www.flickr.com/photos/26235754@N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4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marc falardeau - Creative Commons Attribution License  https://www.flickr.com/photos/49889874@N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53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bark - Creative Commons Attribution License  https://www.flickr.com/photos/49503168860@N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5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7F2-8EF1-482C-B6D1-677EEC3F5B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archer10 (Dennis) - Creative Commons Attribution-ShareAlike License  https://www.flickr.com/photos/22490717@N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66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GoToVan - Creative Commons Attribution License  https://www.flickr.com/photos/47022937@N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5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Hammonton Photography - Creative Commons Attribution-NonCommercial License  https://www.flickr.com/photos/25880282@N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6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Jason Pier in DC - Creative Commons Attribution-NonCommercial License  https://www.flickr.com/photos/73184641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6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alsuvi - Creative Commons Attribution-NonCommercial-ShareAlike License  https://www.flickr.com/photos/55872374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7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Michelle Brea - Creative Commons Attribution-NonCommercial-ShareAlike License  https://www.flickr.com/photos/90667736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7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tobiastoft - Creative Commons Attribution License  https://www.flickr.com/photos/30656616@N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8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woodleywonderworks - Creative Commons Attribution License  https://www.flickr.com/photos/73645804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8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3:51:00Z</dcterms:created>
  <dc:creator>www.eeppt.com</dc:creator>
  <dc:description>www.eeppt.com</dc:description>
  <dc:language>en-US</dc:language>
  <cp:lastModifiedBy>YANGS2015</cp:lastModifiedBy>
  <dcterms:modified xsi:type="dcterms:W3CDTF">2015-08-11T14:21:48Z</dcterms:modified>
  <cp:revision>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