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C291-2C5E-4FA4-88C4-88322A6D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F1AE-887A-4853-A38D-320D557D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7E116-74BA-4C90-8F88-A1ED0BEA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B5AC5-72BF-43F1-895C-A9B5D1EC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A1E7D-86D7-4730-ADF6-40EAFA3B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A8557-0AF3-442D-A09B-13B70772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4D759-97AB-4089-94B6-80CBF60B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19847-6EBB-448E-817A-09D8F3D3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11285-20A4-4203-A077-B7CC9887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64826-AE46-476D-BE58-D0D84002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67FDD-0870-41F8-99E2-79CEBCB2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33939-24F5-45AA-9583-9502BF5BE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D644-B952-4FD4-A176-375477EF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16A98-614B-4808-AA06-DB580686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61170-E1F4-426C-A99C-A35C709F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C65FF-7E0B-4FE7-AF36-172C73AE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AEA25-8CD1-4D92-9582-8157A9BE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DA5E6-0805-4068-81B6-2CE147A5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E8A8F-1FA5-4367-9554-B299DFDC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90447-898F-4B1C-B038-7FA80983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A1DD4-98EE-434A-96F7-701C3479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89904-5594-46DA-BCA3-1A93CC50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86202-EFA8-4F93-A58F-E46A9C19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B841-4802-4A30-9470-9DB0368D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C841B-E9F5-42F5-ADFC-ACED23B3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E2A9F-2B2C-47AA-B9A4-82741FAD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9BF1A-A190-4D70-BCFD-DC99E237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49EF0-44B1-4FE1-BB00-9BFF8B3A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9C84D-9E97-43A8-9EB9-49B41EB7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F41A4-A996-45DB-B96B-4902C1C4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7CE38-122A-4A18-956A-DB835127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002DD-B8BF-4646-9529-CD3E3FB3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1A58C-F26C-4163-B209-5B4EAC79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9BE3F-5195-4BBC-8FBD-18636008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8A42-C830-48D1-94AB-2E2C10A7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D8D4A-1EDC-4EBE-B060-7BB41592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10697-40CE-43D9-898B-444C426F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0F224-72FA-4C82-8660-F449D1B0A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1E49C-4684-467F-AD7E-4211E790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609D2-8E7E-4EDE-BC6C-FA0D5881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E35C8-830C-4243-8806-51E07128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2022E-9AA1-4AE6-BF5A-B97C1AD1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DE80F-E5DF-490C-AEC5-91A25051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61878-FECB-4442-95EA-11C32863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C7846-3176-4C8E-8F0D-7E6B58D8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FA9B-1245-464B-904C-FC094B20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02B81-41D1-4FF4-825E-6F79BDC2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4D0B2-5641-4D42-A470-8924235F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A41C2-E57B-424E-A6EA-9BF61D95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E06F5-B8A0-4893-9241-266F790E7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D71A6-82A4-4168-9297-F82B63110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174464-E6DC-440D-BBDB-464F9F12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CBA74-9BF9-48F0-92F4-328F8864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6E4664-B049-4B59-A89F-2406B482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2ECE4E-4792-477E-98A1-FC3D3268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825C25-E9C7-4D78-B9F4-F90DC24E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D889-AC0F-439E-B7B8-0F49085C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735E79-88DC-4F75-A80F-0C87A3D9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928CC0-6CA2-4D78-967A-9B6F09C2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B79F16-72D8-4914-93B0-363AEF9A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B9AEA7-B6CF-4BDE-BF86-64955723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66D74E-E3CE-4607-9853-6A12F11A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288653-2162-42F3-9507-D8AF5BBC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27B4BC-C5AC-4504-AAFD-2F0175EA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B224-D6B7-44A7-A766-EE1C22F9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22CA-23D5-4CC7-AD0A-E6C09036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3D26-9D7B-402C-9C3F-30B371BF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444C-43D1-465A-9643-C795C1C2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BDBB-F4F1-45F2-ADE0-4263C117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21A8-1868-404C-9DC2-DA485189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DF83-2D7E-4B10-8047-A5E0A433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0C89-8DBC-4ABA-ADBD-E5D21266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D444-557B-42CB-B354-863F64EC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78FC-A6E3-46C9-9CA7-E761BAF6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9E509-5A57-4609-9128-47CDED7A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DE626-4F09-41AC-B17F-6CD7D3CE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0EFB9-9F83-4938-9971-5AE07616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E7FBD-729F-4CD3-8E7E-C8E552E5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74054-C0E3-46FB-B933-5D8DE904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5BF8-8C2A-45C7-9366-326309CF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5A616-2168-4C00-B29C-80EDA8FE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11061-A71B-4A7D-B87E-04C27DFD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EB1D9-FA75-400A-A85C-50C607D5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9142B-CE96-4CE6-ABBF-11AF93DA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976B1-197B-4611-9FEF-5B41D1CA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091EF-9816-4360-940E-C481D45C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CCFEC-C55B-4605-A6C0-6C34A622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BEB08-16C8-4D2B-9BD8-E4B4FAB8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65549-5DE4-4418-943A-54376B92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29260-D68A-4884-AAEC-41BBD6EB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56C7-2531-4F69-889C-6590E677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222E7-1DEB-4ADF-863F-007B3004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8FA1C-5B04-47DB-82BC-C7C20C08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D2E3E-AAA2-4339-B296-924B42BF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204F8-0739-4445-90CC-930BDEAB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86CBA-C05B-44E5-866C-89DC68B6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7B507-69C8-4E31-8A2E-B2651A1D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AAB4C-D4BF-41B4-8BCA-821ABA8A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BC343-03DF-4AB2-8E05-B456B135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ABA59-D523-433D-BD73-685C5382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6055E-3185-46B5-9AA9-72E0F9E5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0FF1-34FA-48DE-892C-BC5BBF68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BC228-F3D8-428C-A1DE-A5B3828B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13990-E855-4F7F-B8B5-2EBB3038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7D618-DF8C-490F-AAB7-0376BB67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64964-7BEE-44CE-8BF5-49D73BCC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E0680-2660-4A48-8D61-78D963E8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934E9-7AC6-4FFF-A795-0F304628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1C261-0872-4AC1-87B5-BD68C886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70859-ED22-4159-BD07-AE7D07FD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3D0F8-BEC7-4015-9E96-9839530F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FDD5D-3B8C-4BE0-8B3D-6730621D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E5A3-F94A-4817-AD65-69AD0897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51143-9059-4DAE-9E96-37FB214F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C9544-789D-4C43-9492-7B8A2286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1AE86-BCEA-41DB-A702-3282582E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CBE76-44AD-4063-8A2A-1B22481F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D5C91-EAA9-46D2-B576-8005488F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E039D-8564-4F40-B0DC-374A38DB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41B51-A71E-4062-B503-40217D7D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50329-2642-4A6B-A093-B981574B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C7E89-A965-493E-8C96-4FE8D3BF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4B85C-201E-4FE0-9174-07DB089E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4044-2817-4F34-A3B2-DCA72F48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9A86D-15D8-4DAD-BB1E-A03DA925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4A7B0-FD99-4BD9-B5AC-D4DF8492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70F45-D36C-4EFC-B475-4FE1B5F3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939EA-BFCB-488E-AA14-AF266EE5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45756-AC08-4472-BCA7-40C07830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2B082-BA31-40F2-A584-D1086D5E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87EBC-A3E5-4073-9F6B-DD91D496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46879-3753-4365-885C-05D41EC6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0F6B5-E9DB-45DF-BF09-90DE4D61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7D6D3-42F4-407F-B727-0275F2C4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A4A3-36C9-49F6-926B-8C9D7E09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D056D-9F9D-4AAB-B7A5-BC3D0B7F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698DA-46EF-4080-B3B3-01B3ECB0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B7CDD-551A-4ED1-8937-D3945C92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8EA64-18E7-4C9B-B618-F1E7D07A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7236E-BCED-4CDE-AD46-7C34BBD8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5AC5E-49BE-4B2E-98E7-6D55D508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EE5CC-7AE4-476D-9A1E-36B4FFC1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9BF2C-D64B-4901-8B09-B740444E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E85DA-787B-437B-96E4-9D33D7BA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B9C44-6622-417D-9858-F0DF62C1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BD36-0CE8-4331-8E79-915D5E72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B1A78-EADA-4D8B-B219-54BF1FD5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F168A-D0AB-4A13-8CDA-DA432783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51ED7-C51E-4387-A45B-AF0BD379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8C505-5BED-4A92-8F9D-857DA5CD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20F5A-27A2-43D5-A8CA-AC80A788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A7CFB-3DA4-4A78-8FC6-65FE2FB0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1A310-2EB8-4636-BD07-7E7F4780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A6980-F99C-45CB-B06F-620E5EC4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7443A-B2D5-4332-B908-B6808DE6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5595B-A875-4B38-AEDF-D5C0595A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DA8A-75E3-4567-8DA4-6419C60D4BC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8573-2A3B-4CC7-B571-15F2BB7C399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C495-245D-4373-94DE-A09BEA6D658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80FF-7397-4AA3-8994-9C5EEF92677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0739-0B13-44ED-9BC8-275037DEF1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C7AD-835F-499B-8FF9-79E3A9897BA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272C-9DE1-4A6E-8ADC-A6932A3C4B1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C3EF-A66B-42ED-BBB3-66C715EBD97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E12A-60BF-47EF-8E2E-4EC9C3AA8BD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65BD-C5F4-4C4C-98D5-FA8866DBC6E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83CA-A230-492D-A183-CE79B5E430C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9965-9BBE-4A56-8D57-C436BF6725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C5CA-0E9D-49A8-B1E2-26BEAA2720E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4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415670-1034-46D4-A29B-04FD261F4B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组合 1"/>
          <p:cNvGrpSpPr/>
          <p:nvPr/>
        </p:nvGrpSpPr>
        <p:grpSpPr>
          <a:xfrm>
            <a:off x="1692360" y="620640"/>
            <a:ext cx="5688000" cy="5688000"/>
            <a:chOff x="1692360" y="620640"/>
            <a:chExt cx="5688000" cy="5688000"/>
          </a:xfrm>
        </p:grpSpPr>
        <p:sp>
          <p:nvSpPr>
            <p:cNvPr id="537" name="矩形 17"/>
            <p:cNvSpPr/>
            <p:nvPr/>
          </p:nvSpPr>
          <p:spPr>
            <a:xfrm>
              <a:off x="4060800" y="4221000"/>
              <a:ext cx="64800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"/>
                </a:rPr>
                <a:t>www.1ppt.com/mob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行业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2"/>
                </a:rPr>
                <a:t>www.1ppt.com/hangye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节日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3"/>
                </a:rPr>
                <a:t>www.1ppt.com/jier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素材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4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背景图片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5"/>
                </a:rPr>
                <a:t>www.1ppt.com/beijing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图表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6"/>
                </a:rPr>
                <a:t>www.1ppt.com/tub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优秀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7"/>
                </a:rPr>
                <a:t>www.1ppt.com/xiaza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8"/>
                </a:rPr>
                <a:t>www.1ppt.com/powerpoint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Word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9"/>
                </a:rPr>
                <a:t>www.1ppt.com/word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Excel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0"/>
                </a:rPr>
                <a:t>www.1ppt.com/excel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资料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1"/>
                </a:rPr>
                <a:t>www.1ppt.com/zil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课件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2"/>
                </a:rPr>
                <a:t>www.1ppt.com/keji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范文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3"/>
                </a:rPr>
                <a:t>www.1ppt.com/fanwe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试卷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4"/>
                </a:rPr>
                <a:t>www.1ppt.com/shit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案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5"/>
                </a:rPr>
                <a:t>www.1ppt.com/jiao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8" name="Picture 2" descr="E:\Users\Admin\Desktop\cake.png"/>
            <p:cNvPicPr/>
            <p:nvPr/>
          </p:nvPicPr>
          <p:blipFill>
            <a:blip r:embed="rId16"/>
            <a:stretch/>
          </p:blipFill>
          <p:spPr>
            <a:xfrm>
              <a:off x="1692360" y="620640"/>
              <a:ext cx="5688000" cy="568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9" name="Picture 3" descr="E:\Users\Admin\Desktop\火焰.png"/>
          <p:cNvPicPr/>
          <p:nvPr/>
        </p:nvPicPr>
        <p:blipFill>
          <a:blip r:embed="rId17"/>
          <a:stretch/>
        </p:blipFill>
        <p:spPr>
          <a:xfrm>
            <a:off x="2077920" y="1276200"/>
            <a:ext cx="1314720" cy="12304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" descr="E:\Users\Admin\Desktop\火焰.png"/>
          <p:cNvPicPr/>
          <p:nvPr/>
        </p:nvPicPr>
        <p:blipFill>
          <a:blip r:embed="rId18"/>
          <a:stretch/>
        </p:blipFill>
        <p:spPr>
          <a:xfrm>
            <a:off x="2639880" y="476280"/>
            <a:ext cx="1314720" cy="12319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E:\Users\Admin\Desktop\火焰.png"/>
          <p:cNvPicPr/>
          <p:nvPr/>
        </p:nvPicPr>
        <p:blipFill>
          <a:blip r:embed="rId19"/>
          <a:stretch/>
        </p:blipFill>
        <p:spPr>
          <a:xfrm>
            <a:off x="3905280" y="476280"/>
            <a:ext cx="1314360" cy="12319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" descr="E:\Users\Admin\Desktop\火焰.png"/>
          <p:cNvPicPr/>
          <p:nvPr/>
        </p:nvPicPr>
        <p:blipFill>
          <a:blip r:embed="rId20"/>
          <a:stretch/>
        </p:blipFill>
        <p:spPr>
          <a:xfrm>
            <a:off x="5175360" y="620640"/>
            <a:ext cx="1314360" cy="12304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E:\Users\Admin\Desktop\火焰.png"/>
          <p:cNvPicPr/>
          <p:nvPr/>
        </p:nvPicPr>
        <p:blipFill>
          <a:blip r:embed="rId21"/>
          <a:stretch/>
        </p:blipFill>
        <p:spPr>
          <a:xfrm>
            <a:off x="3186000" y="1484280"/>
            <a:ext cx="1314720" cy="12319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E:\Users\Admin\Desktop\火焰.png"/>
          <p:cNvPicPr/>
          <p:nvPr/>
        </p:nvPicPr>
        <p:blipFill>
          <a:blip r:embed="rId22"/>
          <a:stretch/>
        </p:blipFill>
        <p:spPr>
          <a:xfrm>
            <a:off x="4844880" y="1517760"/>
            <a:ext cx="1314720" cy="12301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E:\Users\Admin\Desktop\火焰.png"/>
          <p:cNvPicPr/>
          <p:nvPr/>
        </p:nvPicPr>
        <p:blipFill>
          <a:blip r:embed="rId23"/>
          <a:stretch/>
        </p:blipFill>
        <p:spPr>
          <a:xfrm>
            <a:off x="5823000" y="1197000"/>
            <a:ext cx="1314360" cy="1230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3" descr="E:\Users\Admin\Desktop\火焰.png"/>
          <p:cNvPicPr/>
          <p:nvPr/>
        </p:nvPicPr>
        <p:blipFill>
          <a:blip r:embed="rId24"/>
          <a:stretch/>
        </p:blipFill>
        <p:spPr>
          <a:xfrm>
            <a:off x="2050920" y="1268280"/>
            <a:ext cx="1316160" cy="1230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" descr="E:\Users\Admin\Desktop\火焰.png"/>
          <p:cNvPicPr/>
          <p:nvPr/>
        </p:nvPicPr>
        <p:blipFill>
          <a:blip r:embed="rId25"/>
          <a:stretch/>
        </p:blipFill>
        <p:spPr>
          <a:xfrm>
            <a:off x="2612880" y="509760"/>
            <a:ext cx="1314720" cy="12301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E:\Users\Admin\Desktop\火焰.png"/>
          <p:cNvPicPr/>
          <p:nvPr/>
        </p:nvPicPr>
        <p:blipFill>
          <a:blip r:embed="rId26"/>
          <a:stretch/>
        </p:blipFill>
        <p:spPr>
          <a:xfrm>
            <a:off x="3878280" y="509760"/>
            <a:ext cx="1314360" cy="12301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" descr="E:\Users\Admin\Desktop\火焰.png"/>
          <p:cNvPicPr/>
          <p:nvPr/>
        </p:nvPicPr>
        <p:blipFill>
          <a:blip r:embed="rId27"/>
          <a:stretch/>
        </p:blipFill>
        <p:spPr>
          <a:xfrm>
            <a:off x="5148360" y="654120"/>
            <a:ext cx="1314360" cy="12301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" descr="E:\Users\Admin\Desktop\火焰.png"/>
          <p:cNvPicPr/>
          <p:nvPr/>
        </p:nvPicPr>
        <p:blipFill>
          <a:blip r:embed="rId28"/>
          <a:stretch/>
        </p:blipFill>
        <p:spPr>
          <a:xfrm>
            <a:off x="3159000" y="1517760"/>
            <a:ext cx="1314720" cy="12319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E:\Users\Admin\Desktop\火焰.png"/>
          <p:cNvPicPr/>
          <p:nvPr/>
        </p:nvPicPr>
        <p:blipFill>
          <a:blip r:embed="rId29"/>
          <a:stretch/>
        </p:blipFill>
        <p:spPr>
          <a:xfrm>
            <a:off x="4818240" y="1550880"/>
            <a:ext cx="1314360" cy="12304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" descr="E:\Users\Admin\Desktop\火焰.png"/>
          <p:cNvPicPr/>
          <p:nvPr/>
        </p:nvPicPr>
        <p:blipFill>
          <a:blip r:embed="rId30"/>
          <a:stretch/>
        </p:blipFill>
        <p:spPr>
          <a:xfrm>
            <a:off x="5796000" y="1230480"/>
            <a:ext cx="1314360" cy="123012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/>
          <p:nvPr/>
        </p:nvSpPr>
        <p:spPr>
          <a:xfrm>
            <a:off x="1798560" y="189000"/>
            <a:ext cx="576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动态生日蛋糕蜡烛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7T13:30:12Z</dcterms:created>
  <dc:creator>pc</dc:creator>
  <dc:description>www.eeppt.com;</dc:description>
  <cp:keywords>www.eeppt.com</cp:keywords>
  <dc:language>en-US</dc:language>
  <cp:lastModifiedBy>lenovo</cp:lastModifiedBy>
  <dcterms:modified xsi:type="dcterms:W3CDTF">2015-08-11T14:21:31Z</dcterms:modified>
  <cp:revision>20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