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373B-A046-47C4-9448-AD405EA34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D810-3DD9-4EC4-933E-401A80F9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6BC9-349E-4A49-AC0C-00F46C83B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88FB-B55C-49D1-B4E1-6FECA8EB5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5906-FDF9-41C9-9617-9ED7BB67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F44F-860F-4DD6-B493-B7636001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54AF-B71C-48D5-9095-3C53ACB9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78C4-BC3C-4BF8-9E4B-50CC3BBF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9803-BFFA-467E-9EC8-8B08E297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647A-3AAC-4C99-8E89-E0FF8172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D0B2-78A5-4BD7-9BFE-9626EB56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7B59-9547-4EDA-A5C8-92685F12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5269-2E89-4F47-B0EB-90F2220F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1BB1-DDA9-4513-99A6-7E696621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1836-C21D-4DF6-B3A7-A67E2CC9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6ECB-7C5B-441C-996A-78EC99696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38ED7-766E-447D-AC0C-B80DA681A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3C98-0540-4123-A77D-D5B93EB0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E417-E668-4E86-92B6-6C6CDB5A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B691-4487-44FF-BF9B-514BBE99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4902-5346-42CF-9DB1-C0CCCCA6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6155-9951-45F1-842E-618CDC5D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8AC6-32ED-41EE-BF56-22F1EB4D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41DD-1321-44E4-9DAD-531B2D2C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96C3-46E6-48C3-8ECE-A57BCE7C48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A2D9-4553-44C0-B5BA-86E27E86E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2057040"/>
            <a:ext cx="7010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50"/>
                </a:solidFill>
                <a:latin typeface="微软雅黑"/>
                <a:ea typeface="微软雅黑"/>
              </a:rPr>
              <a:t>端午节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4B94-FE96-40E3-994E-011383E35B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19320" y="25146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6T02:11:51Z</dcterms:created>
  <dc:creator/>
  <dc:description>www.eeppt.com;</dc:description>
  <cp:keywords>www.eeppt.com</cp:keywords>
  <dc:language>en-US</dc:language>
  <cp:lastModifiedBy>jccook</cp:lastModifiedBy>
  <dcterms:modified xsi:type="dcterms:W3CDTF">2015-08-11T14:22:37Z</dcterms:modified>
  <cp:revision>6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