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5E8-0835-466C-903C-567DDF3F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561-7BF4-4263-8B7E-B2E96B2A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113-2766-4921-AC77-58840BE7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8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064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6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8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064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B4F-62C8-4A97-8121-1E71B4DF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428560" y="571320"/>
            <a:ext cx="6157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105-4569-4D49-AF50-D9C45BAD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7680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0640" y="171468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7680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0640" y="4078800"/>
            <a:ext cx="260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DC3-1850-45CC-ABD1-73066ECE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FC6-3400-4D24-9D3E-F9A10C5E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6D0-5176-4FAC-B3FE-E70CEF1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28560" y="571320"/>
            <a:ext cx="6157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ADD-3767-4B2E-86CD-CD584429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0B5-3487-4104-8369-67235993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6200" y="407880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E72-9E02-4AE0-9CFF-C7BBB03F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6200" y="1714680"/>
            <a:ext cx="3945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600" y="4078800"/>
            <a:ext cx="80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18B-5BE8-4E65-BEF4-11B18ED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11DC-4284-4DBD-98F9-15C7E77632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4214880" y="52117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875200" y="585468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0520" y="5157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端阳怀古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8880" y="5000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28760" y="1928880"/>
            <a:ext cx="82072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1197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D3C-5DD5-4026-9C8A-612C37B86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0" y="5500800"/>
            <a:ext cx="3243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感谢您的关注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0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2:40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