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85B-3C0C-446B-9227-F65E28CC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370-4604-405D-B302-F208F614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02F-FD21-4F3F-B447-A991CAB1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2C6-A163-4551-87C9-3AC79231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A92-8FBE-4CFB-8D2B-F0CE1E23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AAD-3CB0-4397-BD7F-CC69D2B0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192-8931-4E95-85BE-FDFAF0E1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54D-1F97-424D-BC2B-CCBDDCB9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4E3-0969-40CF-BDE9-BE0F2B70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FAF-7267-421B-9F2B-AD7554AE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D45-6228-4859-A0AF-ECC6FFA2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41D-F8E8-46A0-8BF5-8EFFD8E6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9C29-D811-4B4E-9E01-A637189A80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410080" y="2306520"/>
            <a:ext cx="398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Arial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580000" y="2960640"/>
            <a:ext cx="475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教师节、感恩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10720" y="1890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淡雅鲜花教师节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135240" y="3213000"/>
            <a:ext cx="5461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4064760" y="3213000"/>
            <a:ext cx="9118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217480" y="3213000"/>
            <a:ext cx="91188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514560" y="3213000"/>
            <a:ext cx="91188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995640" y="141300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362120" y="313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290840" y="458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69228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F89-C5FB-4F2F-ACD2-2CC490D6D6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4068720" y="1123920"/>
            <a:ext cx="47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924360" y="249228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556000" y="38606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332000" y="51577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pc</dc:creator>
  <dc:description>www.eeppt.com;</dc:description>
  <cp:keywords>www.eeppt.com</cp:keywords>
  <dc:language>en-US</dc:language>
  <cp:lastModifiedBy>lenovo</cp:lastModifiedBy>
  <dcterms:modified xsi:type="dcterms:W3CDTF">2015-08-11T14:22:26Z</dcterms:modified>
  <cp:revision>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