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057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FB3-FB7E-4278-B067-6C03E72D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246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D30-29FE-4B73-BA7A-B1957DCC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2464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2464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CFD-AF5C-49BF-A811-42BA887A9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8080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8080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2464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2464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24640"/>
            <a:ext cx="264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D2B-1284-4C57-8E11-21440C7B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8080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E62-8060-4F01-A608-D9C750FF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DC8-65F1-4712-978F-0D635985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22C-846D-4722-9844-D9EE3FE5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803-C34B-4984-8E9C-9EC70A6B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39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1BD-617B-44F6-8A0A-066435D9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2464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D20-1F53-4641-9CA6-6738E07B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2464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409-B3D1-4A2D-B36A-9F5797AD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80800"/>
            <a:ext cx="4015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246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3C3-572B-44E8-91E7-FDAA159C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8080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0656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0656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0656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8733-18AD-4347-97CF-51245699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60" y="4618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61360" y="22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39320"/>
            <a:ext cx="82072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936720"/>
            <a:ext cx="8928000" cy="38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246240"/>
            <a:ext cx="1388880" cy="257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6E56-7CB6-448A-A3A7-764F1BA76C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7T07:35:57Z</dcterms:created>
  <dc:creator>pc</dc:creator>
  <dc:description>www.eeppt.com;</dc:description>
  <cp:keywords>www.eeppt.com</cp:keywords>
  <dc:language>en-US</dc:language>
  <cp:lastModifiedBy>jccook</cp:lastModifiedBy>
  <dcterms:modified xsi:type="dcterms:W3CDTF">2015-08-11T14:21:02Z</dcterms:modified>
  <cp:revision>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