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F0A31-842B-4CE0-A6B2-172176D1A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44E59-7C76-4A53-B423-CD231F55E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98141-BA52-4FCD-98A0-277D9647F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260E-AA7B-4499-8172-4C6758169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42920" y="4042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9BCB-C324-46F3-AD72-3EE417FC3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0A72-9C0B-4EBB-A6F7-860D48BC3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800F-D2AD-46DD-8D2E-279742206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7846-17A7-4587-BDDB-8811DD983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42920" y="4042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205F-7F5D-4B5D-9E2E-AC5331FA9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DEC2-437E-4BEE-8E44-36445DA2E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2620-6BC0-4B8D-9189-E3DDF3688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0C90-07D5-4548-99DF-C73C1A74A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8" descr="bg2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4FEF997-3730-4D75-A931-61EF77FE3917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0" descr="logo"/>
          <p:cNvPicPr/>
          <p:nvPr/>
        </p:nvPicPr>
        <p:blipFill>
          <a:blip r:embed="rId3"/>
          <a:srcRect l="5396" t="5349" r="74912" b="80615"/>
          <a:stretch/>
        </p:blipFill>
        <p:spPr>
          <a:xfrm>
            <a:off x="468360" y="219240"/>
            <a:ext cx="1808280" cy="96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bg1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7" descr="logo"/>
          <p:cNvPicPr/>
          <p:nvPr/>
        </p:nvPicPr>
        <p:blipFill>
          <a:blip r:embed="rId3"/>
          <a:srcRect l="5396" t="5349" r="74912" b="80615"/>
          <a:stretch/>
        </p:blipFill>
        <p:spPr>
          <a:xfrm>
            <a:off x="468360" y="219240"/>
            <a:ext cx="1808280" cy="966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1840" y="1988640"/>
            <a:ext cx="7815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d050"/>
                </a:solidFill>
                <a:latin typeface="华康海报体W12(P)"/>
                <a:ea typeface="华康海报体W12(P)"/>
              </a:rPr>
              <a:t>儿童节节日</a:t>
            </a:r>
            <a:r>
              <a:rPr b="0" lang="en-US" sz="4000" spc="-1" strike="noStrike">
                <a:solidFill>
                  <a:srgbClr val="92d050"/>
                </a:solidFill>
                <a:latin typeface="华康海报体W12(P)"/>
                <a:ea typeface="华康海报体W12(P)"/>
              </a:rPr>
              <a:t>PPT</a:t>
            </a:r>
            <a:r>
              <a:rPr b="0" lang="zh-CN" sz="4000" spc="-1" strike="noStrike">
                <a:solidFill>
                  <a:srgbClr val="92d050"/>
                </a:solidFill>
                <a:latin typeface="华康海报体W12(P)"/>
                <a:ea typeface="华康海报体W12(P)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110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1240" y="40719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99cc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此处添加节日的问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562040" y="182088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45acd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"/>
          <p:cNvPicPr/>
          <p:nvPr/>
        </p:nvPicPr>
        <p:blipFill>
          <a:blip r:embed="rId1"/>
          <a:stretch/>
        </p:blipFill>
        <p:spPr>
          <a:xfrm>
            <a:off x="1077840" y="1501920"/>
            <a:ext cx="735120" cy="9856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5"/>
          <p:cNvSpPr/>
          <p:nvPr/>
        </p:nvSpPr>
        <p:spPr>
          <a:xfrm>
            <a:off x="1562040" y="270828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45acd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1"/>
          <p:cNvPicPr/>
          <p:nvPr/>
        </p:nvPicPr>
        <p:blipFill>
          <a:blip r:embed="rId2"/>
          <a:stretch/>
        </p:blipFill>
        <p:spPr>
          <a:xfrm>
            <a:off x="1077840" y="2389320"/>
            <a:ext cx="735120" cy="9856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7"/>
          <p:cNvSpPr/>
          <p:nvPr/>
        </p:nvSpPr>
        <p:spPr>
          <a:xfrm>
            <a:off x="1562040" y="359424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45acd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1"/>
          <p:cNvPicPr/>
          <p:nvPr/>
        </p:nvPicPr>
        <p:blipFill>
          <a:blip r:embed="rId3"/>
          <a:stretch/>
        </p:blipFill>
        <p:spPr>
          <a:xfrm>
            <a:off x="1077840" y="3274920"/>
            <a:ext cx="735120" cy="98604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9"/>
          <p:cNvSpPr/>
          <p:nvPr/>
        </p:nvSpPr>
        <p:spPr>
          <a:xfrm>
            <a:off x="1562040" y="449568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45acd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1"/>
          <p:cNvPicPr/>
          <p:nvPr/>
        </p:nvPicPr>
        <p:blipFill>
          <a:blip r:embed="rId4"/>
          <a:stretch/>
        </p:blipFill>
        <p:spPr>
          <a:xfrm>
            <a:off x="1077840" y="4176720"/>
            <a:ext cx="73512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885F-3D06-4BA1-939D-88B8115574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1BCDB54-290D-4F3A-8E2C-12C1F651C62C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bg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68360" y="1639800"/>
            <a:ext cx="82072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pc</dc:creator>
  <dc:description>www.eeppt.com;</dc:description>
  <cp:keywords>www.eeppt.com</cp:keywords>
  <dc:language>en-US</dc:language>
  <cp:lastModifiedBy>jccook</cp:lastModifiedBy>
  <dcterms:modified xsi:type="dcterms:W3CDTF">2015-08-11T14:21:03Z</dcterms:modified>
  <cp:revision>156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