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DFB8-F888-4E4E-8B6F-8DE4B939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C11-EC4B-447A-86D2-1F6B296A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3FA-8FD0-465E-BDAF-67962CBB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324E-66F1-4FB7-A731-FE1B0DCC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6E27-1110-46CE-B15B-D4349982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8977-5191-4DB9-8CF6-45C1728C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3925-A80A-4750-B1BA-7CE1C099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9A67-5D47-4C2F-9022-19AE2E53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0E14-B877-4304-A0E8-551F92D1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4337-295F-4E7B-8058-F3BB0E7E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645B-0610-4E17-B694-6C5315E9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8B5-CC36-40D2-BF00-9B6DB0F0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22B0-E815-4772-AD2D-49B0C336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A3E9-423C-44D4-91C9-4712B8B4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19B9-971F-4135-9E74-FC602785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A03F-D20A-40FD-83FD-4CB00D64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F99A-7FCF-434E-9098-D4636368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A10CC-EBB9-44E8-B60D-26DBE70BBC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AB06B-D967-4B6C-BA5A-3972C977AC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A3A24-95B3-4182-8725-2A3D58434A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68532-24DA-4AE5-9FF5-D4ED0902F8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87F30-B227-4006-8212-34B9F738B7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08B-2B78-4559-92AD-5D1CF5F6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D19FEC-ACC8-4C57-815B-650D2E8156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04917-159B-4F8E-AD59-DB49B322F1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3EBD2-0F3D-457C-A3AD-F6AF635B98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2FC5B-055D-4ABF-B855-319FFF4A8F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E735C-670F-4F48-B702-58EDE21E79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ED224-4405-4B57-B719-420C1D7739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5782E-B197-410D-BA18-DC5051F3C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21C4-FAF5-4FF3-B33C-5D770A93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CB8-7F07-4421-904D-B3542CDF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FAD-B370-43F6-B204-C812954A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B7C-0397-4B61-94A3-4D6F116F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65E-ABA0-41E8-A741-32AEB566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ECEB-FCAA-4FF7-A4EB-4B41436D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F2F4-1873-46F5-A828-76D3BFB1F92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668C-A4C5-4279-976E-48E63F107C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9360" y="5629320"/>
            <a:ext cx="9172440" cy="490320"/>
          </a:xfrm>
          <a:prstGeom prst="rect">
            <a:avLst/>
          </a:pr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1"/>
          <p:cNvPicPr/>
          <p:nvPr/>
        </p:nvPicPr>
        <p:blipFill>
          <a:blip r:embed="rId2"/>
          <a:stretch/>
        </p:blipFill>
        <p:spPr>
          <a:xfrm>
            <a:off x="5508720" y="5122800"/>
            <a:ext cx="358776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9E39-35E9-486C-AD1E-6FCDFE7D7BC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AEF5-7CF2-4668-AEF3-8EF583C745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805A-5CA8-4622-9DC9-91CF2C1973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8"/>
          <p:cNvSpPr/>
          <p:nvPr/>
        </p:nvSpPr>
        <p:spPr>
          <a:xfrm>
            <a:off x="1547640" y="269892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7640" y="4070520"/>
            <a:ext cx="690912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儿童节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131640" y="4933440"/>
            <a:ext cx="53247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将童年定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273480"/>
          </a:xfrm>
          <a:prstGeom prst="rect">
            <a:avLst/>
          </a:prstGeom>
          <a:solidFill>
            <a:srgbClr val="3333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 rot="21240000">
            <a:off x="4128480" y="823320"/>
            <a:ext cx="477972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66"/>
                </a:solidFill>
                <a:latin typeface="Curlz MT"/>
              </a:rPr>
              <a:t>Happy</a:t>
            </a:r>
            <a:r>
              <a:rPr b="1" lang="zh-CN" sz="6000" spc="-1" strike="noStrike">
                <a:solidFill>
                  <a:srgbClr val="ffffff"/>
                </a:solidFill>
                <a:latin typeface="BrockScript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ppendix3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Curlz MT"/>
              </a:rPr>
              <a:t>      </a:t>
            </a:r>
            <a:r>
              <a:rPr b="0" lang="zh-CN" sz="4400" spc="-1" strike="noStrike">
                <a:solidFill>
                  <a:srgbClr val="ff9933"/>
                </a:solidFill>
                <a:latin typeface="Curlz MT"/>
              </a:rPr>
              <a:t>Children`s</a:t>
            </a:r>
            <a:r>
              <a:rPr b="1" lang="zh-CN" sz="3200" spc="-1" strike="noStrike">
                <a:solidFill>
                  <a:srgbClr val="ff9933"/>
                </a:solidFill>
                <a:latin typeface="Appendix3"/>
              </a:rPr>
              <a:t>  </a:t>
            </a:r>
            <a:r>
              <a:rPr b="1" lang="zh-CN" sz="6600" spc="-1" strike="noStrike">
                <a:solidFill>
                  <a:srgbClr val="99cc00"/>
                </a:solidFill>
                <a:latin typeface="Curlz MT"/>
              </a:rPr>
              <a:t>D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Kids (3)"/>
          <p:cNvPicPr/>
          <p:nvPr/>
        </p:nvPicPr>
        <p:blipFill>
          <a:blip r:embed="rId16"/>
          <a:stretch/>
        </p:blipFill>
        <p:spPr>
          <a:xfrm>
            <a:off x="0" y="1332000"/>
            <a:ext cx="4268880" cy="2832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79280" y="5724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2009880" y="2581200"/>
            <a:ext cx="936360" cy="863640"/>
          </a:xfrm>
          <a:prstGeom prst="hexagon">
            <a:avLst>
              <a:gd name="adj" fmla="val 27105"/>
              <a:gd name="vf" fmla="val 115470"/>
            </a:avLst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1541520" y="1589040"/>
            <a:ext cx="936720" cy="865080"/>
          </a:xfrm>
          <a:prstGeom prst="hexagon">
            <a:avLst>
              <a:gd name="adj" fmla="val 27070"/>
              <a:gd name="vf" fmla="val 115470"/>
            </a:avLst>
          </a:prstGeom>
          <a:solidFill>
            <a:srgbClr val="ff66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4360" y="43488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Arial"/>
                <a:ea typeface="微软雅黑"/>
              </a:rPr>
              <a:t>儿童版目录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355840" y="469800"/>
            <a:ext cx="29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Eras Medium ITC"/>
              </a:rPr>
              <a:t>Children`s </a:t>
            </a:r>
            <a:r>
              <a:rPr b="1" lang="zh-CN" sz="1800" spc="-1" strike="noStrike">
                <a:solidFill>
                  <a:srgbClr val="99cc00"/>
                </a:solidFill>
                <a:latin typeface="Eras Medium ITC"/>
              </a:rPr>
              <a:t>Day</a:t>
            </a:r>
            <a:r>
              <a:rPr b="1" lang="zh-CN" sz="1800" spc="-1" strike="noStrike">
                <a:solidFill>
                  <a:srgbClr val="0099cc"/>
                </a:solidFill>
                <a:latin typeface="Eras Medium ITC"/>
              </a:rPr>
              <a:t>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-9360" y="5629320"/>
            <a:ext cx="9172440" cy="490320"/>
          </a:xfrm>
          <a:prstGeom prst="rect">
            <a:avLst/>
          </a:pr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6480" y="885960"/>
            <a:ext cx="9156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1"/>
          <p:cNvPicPr/>
          <p:nvPr/>
        </p:nvPicPr>
        <p:blipFill>
          <a:blip r:embed="rId1"/>
          <a:stretch/>
        </p:blipFill>
        <p:spPr>
          <a:xfrm>
            <a:off x="5508720" y="5122800"/>
            <a:ext cx="3587760" cy="868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1"/>
          <p:cNvPicPr/>
          <p:nvPr/>
        </p:nvPicPr>
        <p:blipFill>
          <a:blip r:embed="rId2"/>
          <a:stretch/>
        </p:blipFill>
        <p:spPr>
          <a:xfrm>
            <a:off x="1679400" y="1666800"/>
            <a:ext cx="676440" cy="712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2"/>
          <p:cNvPicPr/>
          <p:nvPr/>
        </p:nvPicPr>
        <p:blipFill>
          <a:blip r:embed="rId3"/>
          <a:stretch/>
        </p:blipFill>
        <p:spPr>
          <a:xfrm>
            <a:off x="2133720" y="2725560"/>
            <a:ext cx="717480" cy="54612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1"/>
          <p:cNvSpPr/>
          <p:nvPr/>
        </p:nvSpPr>
        <p:spPr>
          <a:xfrm>
            <a:off x="2484360" y="3571920"/>
            <a:ext cx="936720" cy="863640"/>
          </a:xfrm>
          <a:prstGeom prst="hexagon">
            <a:avLst>
              <a:gd name="adj" fmla="val 27115"/>
              <a:gd name="vf" fmla="val 115470"/>
            </a:avLst>
          </a:prstGeom>
          <a:solidFill>
            <a:srgbClr val="3399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2" descr="3"/>
          <p:cNvPicPr/>
          <p:nvPr/>
        </p:nvPicPr>
        <p:blipFill>
          <a:blip r:embed="rId4"/>
          <a:stretch/>
        </p:blipFill>
        <p:spPr>
          <a:xfrm>
            <a:off x="2749680" y="3659040"/>
            <a:ext cx="444240" cy="746280"/>
          </a:xfrm>
          <a:prstGeom prst="rect">
            <a:avLst/>
          </a:prstGeom>
          <a:ln w="0">
            <a:noFill/>
          </a:ln>
        </p:spPr>
      </p:pic>
      <p:sp>
        <p:nvSpPr>
          <p:cNvPr id="142" name="Line 13"/>
          <p:cNvSpPr/>
          <p:nvPr/>
        </p:nvSpPr>
        <p:spPr>
          <a:xfrm>
            <a:off x="2484360" y="2031840"/>
            <a:ext cx="709560" cy="0"/>
          </a:xfrm>
          <a:prstGeom prst="line">
            <a:avLst/>
          </a:prstGeom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193920" y="1893960"/>
            <a:ext cx="3467160" cy="28872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20" y="0"/>
                </a:lnTo>
                <a:lnTo>
                  <a:pt x="21600" y="10800"/>
                </a:lnTo>
                <a:lnTo>
                  <a:pt x="1912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936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方正稚艺简体"/>
              </a:rPr>
              <a:t>儿童节的由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2952720" y="3016080"/>
            <a:ext cx="708120" cy="0"/>
          </a:xfrm>
          <a:prstGeom prst="line">
            <a:avLst/>
          </a:prstGeom>
          <a:ln cap="rnd" w="93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668760" y="2878200"/>
            <a:ext cx="3467160" cy="28728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20" y="0"/>
                </a:lnTo>
                <a:lnTo>
                  <a:pt x="21600" y="10800"/>
                </a:lnTo>
                <a:lnTo>
                  <a:pt x="1912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936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方正稚艺简体"/>
              </a:rPr>
              <a:t>儿童节各国的习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3400560" y="4010040"/>
            <a:ext cx="709560" cy="1440"/>
          </a:xfrm>
          <a:prstGeom prst="line">
            <a:avLst/>
          </a:prstGeom>
          <a:ln cap="rnd" w="9360">
            <a:solidFill>
              <a:srgbClr val="33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8"/>
          <p:cNvSpPr/>
          <p:nvPr/>
        </p:nvSpPr>
        <p:spPr>
          <a:xfrm>
            <a:off x="4124160" y="3873600"/>
            <a:ext cx="3467160" cy="28728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20" y="0"/>
                </a:lnTo>
                <a:lnTo>
                  <a:pt x="21600" y="10800"/>
                </a:lnTo>
                <a:lnTo>
                  <a:pt x="1912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936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儿童节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国际儿童节（又称儿童节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Children's Da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定于每年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。为了悼念利迪策惨案和全世界所有在战争中死难的儿童，反对虐杀和毒害儿童，以及保障儿童权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，国际民主妇女联合会在莫斯科举行理事会议，中国和各国代表愤怒地揭露了帝国主义分子和各国反动派残杀、毒害儿童的罪行。会议决定以每年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为国际儿童节。它是为了保障世界各国儿童的生存权、保健权和受教育权，抚养权，为了改善儿童的生活，为了反对虐杀儿童和毒害儿童而设立的节日。目前世界上许多国家都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定为儿童的节日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儿童节各国的习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儿童是国家的未来，是民族的希望，给所有儿童创造良好的家庭、社会和学习环境，让他们健康、快乐、幸福地成长，一直是世界各国努力的目标，一年一度的“六一国际儿童节”就是专门为儿童们设立的节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日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本是世界上庆祝儿童节次数最多的国家，他们一年要庆祝三次儿童节，而且庆祝方式十分有意思，充满了浓浓的日本风情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女孩节　这个节日是专门为小女孩设立的，每到这一天，各国“儿童节”天，家中有女儿的父母会在家里设置一个陈列台，台上放上穿着日本和服的漂亮女娃娃玩偶，作为给自己女儿的节日礼物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韩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韩国的儿童节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，从“男孩节”演变过来的。也是韩国的公众假日，每年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。这一天，孩子们可以尽情享受欢乐，父母要给孩子准备他们　最想要的礼物。很多孩子也会在这天穿上韩服，体验传统的韩国文化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哥伦比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哥伦比亚将每年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定为儿童节。在这个节日里，全国的学校都要举行各种生动活泼的庆祝活动，儿童们还常常戴上各式各样的假面具，扮成小丑的样子在街头玩耍，十分开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巴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巴西的儿童节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，这一天正好也是巴西的“全国防疫日”。所以，每到这个日子，各地的医生们都要为孩子们看病，还要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岁以下的儿童注射预防小儿麻痹症的疫苗，表明政府十分关心儿童的健康。另外，巴西的“圣母显灵日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也往往作为儿童节，有一些庆祝活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67760"/>
            <a:ext cx="82072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133640"/>
            <a:ext cx="89280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298440"/>
            <a:ext cx="1388880" cy="3110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A33-C911-4039-8FFB-6CFF7FAA51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"/>
          <p:cNvPicPr/>
          <p:nvPr/>
        </p:nvPicPr>
        <p:blipFill>
          <a:blip r:embed="rId1"/>
          <a:stretch/>
        </p:blipFill>
        <p:spPr>
          <a:xfrm rot="420000">
            <a:off x="1044360" y="831960"/>
            <a:ext cx="1457280" cy="2152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2"/>
          <p:cNvPicPr/>
          <p:nvPr/>
        </p:nvPicPr>
        <p:blipFill>
          <a:blip r:embed="rId2"/>
          <a:stretch/>
        </p:blipFill>
        <p:spPr>
          <a:xfrm>
            <a:off x="6432480" y="3116160"/>
            <a:ext cx="981000" cy="18576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"/>
          <p:cNvSpPr/>
          <p:nvPr/>
        </p:nvSpPr>
        <p:spPr>
          <a:xfrm>
            <a:off x="2502000" y="1887480"/>
            <a:ext cx="4446360" cy="1287360"/>
          </a:xfrm>
          <a:prstGeom prst="rect">
            <a:avLst/>
          </a:prstGeom>
          <a:solidFill>
            <a:srgbClr val="333333">
              <a:alpha val="80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urlz MT"/>
                <a:ea typeface="方正稚艺简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>www.eeppt.com;</dc:description>
  <cp:keywords>www.eeppt.com</cp:keywords>
  <dc:language>en-US</dc:language>
  <cp:lastModifiedBy>lenovo</cp:lastModifiedBy>
  <dcterms:modified xsi:type="dcterms:W3CDTF">2015-08-11T14:21:01Z</dcterms:modified>
  <cp:revision>5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