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E173-133A-4522-B217-15450FE27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36720" y="1600200"/>
            <a:ext cx="685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36720" y="3964320"/>
            <a:ext cx="685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23E7-5B04-47B0-A156-1DCFA0DF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36720" y="160020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6720" y="160020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36720" y="396432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6720" y="396432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B1E7-5354-4DF5-905F-F0613B95F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36720" y="1600200"/>
            <a:ext cx="220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52600" y="1600200"/>
            <a:ext cx="220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68840" y="1600200"/>
            <a:ext cx="220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36720" y="3964320"/>
            <a:ext cx="220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52600" y="3964320"/>
            <a:ext cx="220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68840" y="3964320"/>
            <a:ext cx="220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31E9-F1FC-42C1-A329-4F8B9137F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6F57-BAA9-47F9-A7F3-414ACDF4D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36720" y="1600200"/>
            <a:ext cx="6850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A633-65AC-44E0-8EE1-392F97EB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36720" y="1600200"/>
            <a:ext cx="685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DE8B-3489-4C40-9838-B30F9C72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36720" y="1600200"/>
            <a:ext cx="334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6720" y="1600200"/>
            <a:ext cx="334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888D-37CE-471D-893F-DF2DD253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67F3-93CB-4643-9BB8-7DF48220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36720" y="274320"/>
            <a:ext cx="6850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619E-C480-425A-9324-0521994B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36720" y="160020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6720" y="1600200"/>
            <a:ext cx="334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836720" y="396432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0723-1831-4AC5-9C0D-80B791C5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36720" y="1600200"/>
            <a:ext cx="6850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C853-0ACB-4F43-8D70-19F316CB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36720" y="1600200"/>
            <a:ext cx="334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6720" y="160020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6720" y="396432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36BC-3A39-4688-80D2-78E52819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36720" y="160020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6720" y="160020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836720" y="3964320"/>
            <a:ext cx="685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8224-B3C6-4CB5-B6E4-4D0952DD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36720" y="1600200"/>
            <a:ext cx="685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836720" y="3964320"/>
            <a:ext cx="685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8307-2B2C-49BD-B206-91D222DF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36720" y="160020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6720" y="160020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836720" y="396432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6720" y="396432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F19A-97E4-4E04-9F9D-504EAB426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36720" y="1600200"/>
            <a:ext cx="220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52600" y="1600200"/>
            <a:ext cx="220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68840" y="1600200"/>
            <a:ext cx="220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836720" y="3964320"/>
            <a:ext cx="220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52600" y="3964320"/>
            <a:ext cx="220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68840" y="3964320"/>
            <a:ext cx="2205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6069-EF78-4AE0-8E26-F9C357316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36720" y="1600200"/>
            <a:ext cx="685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66A2-8464-4DE8-A3AC-C91B2C82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36720" y="1600200"/>
            <a:ext cx="334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6720" y="1600200"/>
            <a:ext cx="334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3500-A8C2-482C-A146-1BFE25B5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1D0F-81A1-45B6-81B2-88862535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36720" y="274320"/>
            <a:ext cx="6850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1459-EB8F-45B0-A28E-2B3F7A38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36720" y="160020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6720" y="1600200"/>
            <a:ext cx="334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36720" y="396432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76BC-547E-468E-B24D-E3FA38D3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36720" y="1600200"/>
            <a:ext cx="334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6720" y="160020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6720" y="396432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9F65-8B3D-4BC3-8CE9-7C332E0A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36720" y="160020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6720" y="1600200"/>
            <a:ext cx="334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36720" y="3964320"/>
            <a:ext cx="6850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1C65-5094-4491-A5FA-6142DA96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36720" y="1600200"/>
            <a:ext cx="685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DB5A-B150-4BF7-96BF-5244B1F8F2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836720" y="1600200"/>
            <a:ext cx="685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3085-8C5B-4FCF-881B-F5B0039B82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159120" y="5400"/>
            <a:ext cx="1207440" cy="1638720"/>
            <a:chOff x="159120" y="5400"/>
            <a:chExt cx="1207440" cy="1638720"/>
          </a:xfrm>
        </p:grpSpPr>
        <p:sp>
          <p:nvSpPr>
            <p:cNvPr id="83" name="AutoShape 3"/>
            <p:cNvSpPr/>
            <p:nvPr/>
          </p:nvSpPr>
          <p:spPr>
            <a:xfrm rot="20700000">
              <a:off x="450720" y="593640"/>
              <a:ext cx="492120" cy="492840"/>
            </a:xfrm>
            <a:custGeom>
              <a:avLst/>
              <a:gdLst>
                <a:gd name="textAreaLeft" fmla="*/ 114840 w 492120"/>
                <a:gd name="textAreaRight" fmla="*/ 377280 w 492120"/>
                <a:gd name="textAreaTop" fmla="*/ 51840 h 492840"/>
                <a:gd name="textAreaBottom" fmla="*/ 311760 h 49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noFill/>
            <a:ln w="28440">
              <a:solidFill>
                <a:srgbClr val="a42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4"/>
            <p:cNvSpPr/>
            <p:nvPr/>
          </p:nvSpPr>
          <p:spPr>
            <a:xfrm rot="20700000">
              <a:off x="415800" y="41400"/>
              <a:ext cx="36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0000"/>
                  </a:solidFill>
                  <a:latin typeface="微软雅黑"/>
                  <a:ea typeface="微软雅黑"/>
                </a:rPr>
                <a:t>I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5"/>
            <p:cNvSpPr/>
            <p:nvPr/>
          </p:nvSpPr>
          <p:spPr>
            <a:xfrm rot="20700000">
              <a:off x="235800" y="929160"/>
              <a:ext cx="36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0000"/>
                  </a:solidFill>
                  <a:latin typeface="微软雅黑"/>
                  <a:ea typeface="微软雅黑"/>
                </a:rPr>
                <a:t>D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6"/>
            <p:cNvSpPr/>
            <p:nvPr/>
          </p:nvSpPr>
          <p:spPr>
            <a:xfrm rot="20700000">
              <a:off x="642960" y="965160"/>
              <a:ext cx="36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0000"/>
                  </a:solidFill>
                  <a:latin typeface="微软雅黑"/>
                  <a:ea typeface="微软雅黑"/>
                </a:rPr>
                <a:t>A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7"/>
            <p:cNvSpPr/>
            <p:nvPr/>
          </p:nvSpPr>
          <p:spPr>
            <a:xfrm rot="20700000">
              <a:off x="924480" y="743760"/>
              <a:ext cx="36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0000"/>
                  </a:solidFill>
                  <a:latin typeface="微软雅黑"/>
                  <a:ea typeface="微软雅黑"/>
                </a:rPr>
                <a:t>D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9840" y="2247840"/>
            <a:ext cx="7616880" cy="1470240"/>
          </a:xfrm>
          <a:prstGeom prst="rect">
            <a:avLst/>
          </a:prstGeom>
          <a:solidFill>
            <a:srgbClr val="ffffff">
              <a:alpha val="5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00000"/>
                </a:solidFill>
                <a:latin typeface="Arial"/>
              </a:rPr>
              <a:t>父爱，从未走远</a:t>
            </a:r>
            <a:endParaRPr b="1" lang="en-US" sz="5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99640" y="3744720"/>
            <a:ext cx="5069160" cy="83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800000"/>
                </a:solidFill>
                <a:latin typeface="Arial"/>
              </a:rPr>
              <a:t>父亲节感恩模板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6000" y="580536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69960" y="4428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父爱从未走远父亲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36720" y="274320"/>
            <a:ext cx="685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父爱如山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836720" y="1600200"/>
            <a:ext cx="685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长期以来，我们总是习惯强调母爱的力量，强调母爱最崇高，但事实上，父爱的力量同样伟大。就像一只鸟两只翅膀、一个人两条腿一样，母爱和父爱是缺一不可，无法替代的。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父爱同母爱一样的无私，他不求回报；父爱是一种默默无闻，寓于无形之中的一种感情，只有用心的人才能体会。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小的时候，父亲的一句严厉吆喝，我们就会觉得委屈不堪，跑到母亲面前哭泣，却没发现满满的父爱原来就蕴藏在深沉的吆喝声中。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我们不懂，从来就不懂父爱的伟大，以为每一位父亲都是一个冷冰的个体。但爱，需要我们体味。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000" y="275760"/>
            <a:ext cx="8002440" cy="993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父亲，节日快乐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484280"/>
            <a:ext cx="80024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我最亲爱的父亲，今年没为你准备特别的礼物，我只想真诚的跟你说一句：“爸，节日快乐。你的爱，从未走远，我理解了。在以后的每一个平凡相依的日子里，伴随左右，分享你的快乐与忧愁。”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板网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DC51-BBD4-43BA-99AA-450A7A4886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159120" y="5400"/>
            <a:ext cx="1207440" cy="1638720"/>
            <a:chOff x="159120" y="5400"/>
            <a:chExt cx="1207440" cy="1638720"/>
          </a:xfrm>
        </p:grpSpPr>
        <p:sp>
          <p:nvSpPr>
            <p:cNvPr id="101" name="AutoShape 3"/>
            <p:cNvSpPr/>
            <p:nvPr/>
          </p:nvSpPr>
          <p:spPr>
            <a:xfrm rot="20700000">
              <a:off x="450720" y="593640"/>
              <a:ext cx="492120" cy="492840"/>
            </a:xfrm>
            <a:custGeom>
              <a:avLst/>
              <a:gdLst>
                <a:gd name="textAreaLeft" fmla="*/ 114840 w 492120"/>
                <a:gd name="textAreaRight" fmla="*/ 377280 w 492120"/>
                <a:gd name="textAreaTop" fmla="*/ 51840 h 492840"/>
                <a:gd name="textAreaBottom" fmla="*/ 311760 h 49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noFill/>
            <a:ln w="28440">
              <a:solidFill>
                <a:srgbClr val="a42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4"/>
            <p:cNvSpPr/>
            <p:nvPr/>
          </p:nvSpPr>
          <p:spPr>
            <a:xfrm rot="20700000">
              <a:off x="415800" y="41400"/>
              <a:ext cx="36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0000"/>
                  </a:solidFill>
                  <a:latin typeface="微软雅黑"/>
                  <a:ea typeface="微软雅黑"/>
                </a:rPr>
                <a:t>I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5"/>
            <p:cNvSpPr/>
            <p:nvPr/>
          </p:nvSpPr>
          <p:spPr>
            <a:xfrm rot="20700000">
              <a:off x="235800" y="929160"/>
              <a:ext cx="36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0000"/>
                  </a:solidFill>
                  <a:latin typeface="微软雅黑"/>
                  <a:ea typeface="微软雅黑"/>
                </a:rPr>
                <a:t>D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6"/>
            <p:cNvSpPr/>
            <p:nvPr/>
          </p:nvSpPr>
          <p:spPr>
            <a:xfrm rot="20700000">
              <a:off x="642960" y="965160"/>
              <a:ext cx="36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0000"/>
                  </a:solidFill>
                  <a:latin typeface="微软雅黑"/>
                  <a:ea typeface="微软雅黑"/>
                </a:rPr>
                <a:t>A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 rot="20700000">
              <a:off x="924480" y="743760"/>
              <a:ext cx="36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800000"/>
                  </a:solidFill>
                  <a:latin typeface="微软雅黑"/>
                  <a:ea typeface="微软雅黑"/>
                </a:rPr>
                <a:t>D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</a:rPr>
              <a:t>祝父亲们节日快乐！</a:t>
            </a:r>
            <a:endParaRPr b="1" lang="en-US" sz="4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70080" y="33336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板网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5T06:33:43Z</dcterms:created>
  <dc:creator/>
  <dc:description>www.eeppt.com;</dc:description>
  <cp:keywords>www.eeppt.com</cp:keywords>
  <dc:language>en-US</dc:language>
  <cp:lastModifiedBy>lenovo</cp:lastModifiedBy>
  <dcterms:modified xsi:type="dcterms:W3CDTF">2015-08-11T14:22:32Z</dcterms:modified>
  <cp:revision>4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