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2.png" ContentType="image/pn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EE7B-01BA-47DD-98B7-F3A2D9F8A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3771-664F-45A3-91ED-2C128C202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C056-6F6D-42B3-86B2-2DF5EEE0B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6236-9CE1-4927-9375-E2B61EC1A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9C7-6232-4D5F-B011-C70AAA7DA3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F16-8938-4C78-80A3-A26342A421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73A-C390-4AEC-8D99-30B3B841E1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96B-DCCF-475D-8372-65FF705BD0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C11-25F1-4689-AFAF-142EBB5D85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26720" y="205920"/>
            <a:ext cx="765972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429-06F2-4B84-9DA8-E1BD24A866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E8D-F5B2-476A-A1DA-FE7B9CFADB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4451-1B03-4527-990C-446295615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AB3-8780-41E5-956E-156DBD65EA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095-FA5E-49AC-9C63-638A05588D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CC3-0D6B-490C-B1CC-A6C65F203E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183-20C0-4F25-B054-5CB7653327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EC9-9190-4D8E-8EAC-13A4ED13FB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B51F2-7D88-4F68-91E9-11F93852FE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F07A2-F9BF-4001-B0B0-FA1B650B8F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05A1F-75BA-4E1F-92DE-6BAED3306C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3A665-D4DE-4A76-909D-319F44F156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D9C02-4273-4CED-9BA5-22315AED4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60EB-1E01-47FD-A573-787A35DE12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26720" y="205920"/>
            <a:ext cx="765972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1D1ED-3247-4A0C-BD7E-87A1320CF8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DEFE0-576C-4B28-88BB-82C5E33CDD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195DD-5B4F-46F6-8548-C4F191D0E0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8C78E-AA5A-4292-9E78-AC660059F9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AB98E-F136-42ED-AAC7-CB67A13B12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F0BFA-6349-4C04-BF6F-2BD2FA052F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23D03-2191-4D1C-A190-F92CE01F9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3DA3-1C44-4928-A414-067B702A9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3328-1816-4DC5-AF94-17E62F7AB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6720" y="205920"/>
            <a:ext cx="765972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3DD2-D342-487C-96EB-944DCF07E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0E5B-2A67-419A-8086-96C25F489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F644-B59B-44EA-A401-5C5FBC242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6720" y="180360"/>
            <a:ext cx="765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A0D2-9ADB-4B02-9883-2986F6164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Workstride_Icon_Color.png"/>
          <p:cNvPicPr/>
          <p:nvPr/>
        </p:nvPicPr>
        <p:blipFill>
          <a:blip r:embed="rId2"/>
          <a:stretch/>
        </p:blipFill>
        <p:spPr>
          <a:xfrm>
            <a:off x="293760" y="206280"/>
            <a:ext cx="782640" cy="587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477720" y="379440"/>
            <a:ext cx="4017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103F7-93BB-432E-8055-15822A2D01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26720" y="205920"/>
            <a:ext cx="76597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13231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11246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11246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11246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73040" y="4844520"/>
            <a:ext cx="3524400" cy="2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CorporateRewards- Confidential &amp; Propriet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WorkStride-PowerdBy-logo.png"/>
          <p:cNvPicPr/>
          <p:nvPr/>
        </p:nvPicPr>
        <p:blipFill>
          <a:blip r:embed="rId3"/>
          <a:stretch/>
        </p:blipFill>
        <p:spPr>
          <a:xfrm>
            <a:off x="7729560" y="4721400"/>
            <a:ext cx="95724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a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293760" y="206280"/>
            <a:ext cx="782640" cy="587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3"/>
          </p:nvPr>
        </p:nvSpPr>
        <p:spPr>
          <a:xfrm>
            <a:off x="477720" y="379440"/>
            <a:ext cx="4017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92DE6-5B9B-4F34-ABAA-AF422303530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26720" y="205920"/>
            <a:ext cx="76597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747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749520" indent="-3747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124640" indent="-74952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499400" indent="-11246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499400" indent="-11246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499400" indent="-11246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7729560" y="4721400"/>
            <a:ext cx="957240" cy="325440"/>
          </a:xfrm>
          <a:prstGeom prst="rect">
            <a:avLst/>
          </a:prstGeom>
          <a:ln w="0">
            <a:noFill/>
          </a:ln>
        </p:spPr>
      </p:pic>
      <p:sp>
        <p:nvSpPr>
          <p:cNvPr id="47" name="Footer Placeholder 4"/>
          <p:cNvSpPr/>
          <p:nvPr/>
        </p:nvSpPr>
        <p:spPr>
          <a:xfrm>
            <a:off x="473040" y="4838760"/>
            <a:ext cx="3524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宋体"/>
              </a:rPr>
              <a:t>CorporateRewards- Confidential &amp; Proprie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Num" idx="4"/>
          </p:nvPr>
        </p:nvSpPr>
        <p:spPr>
          <a:xfrm>
            <a:off x="477720" y="379440"/>
            <a:ext cx="4017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F066A-97C2-45B9-B174-3E49796709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26720" y="205920"/>
            <a:ext cx="76597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13231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11246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11246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11246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473040" y="4838760"/>
            <a:ext cx="3524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CorporateRewards- Confidential &amp; Proprie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overPages_wide.ai"/>
          <p:cNvPicPr/>
          <p:nvPr/>
        </p:nvPicPr>
        <p:blipFill>
          <a:blip r:embed="rId1"/>
          <a:stretch/>
        </p:blipFill>
        <p:spPr>
          <a:xfrm>
            <a:off x="-95400" y="-44280"/>
            <a:ext cx="9334800" cy="525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77720" y="379440"/>
            <a:ext cx="4017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BC912-6928-45D6-B46C-F091429B32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000" y="12700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蜂窝创意简约欧美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600" y="47214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overPages_wide.ai"/>
          <p:cNvPicPr/>
          <p:nvPr/>
        </p:nvPicPr>
        <p:blipFill>
          <a:blip r:embed="rId1"/>
          <a:stretch/>
        </p:blipFill>
        <p:spPr>
          <a:xfrm>
            <a:off x="-136440" y="-76320"/>
            <a:ext cx="9416880" cy="5295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1531800" y="1122480"/>
            <a:ext cx="6054840" cy="3512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77720" y="379440"/>
            <a:ext cx="4017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387B1-4218-4A5E-83A8-C253B926DA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Content Placeholder 7" descr="clients_wide.ai"/>
          <p:cNvPicPr/>
          <p:nvPr/>
        </p:nvPicPr>
        <p:blipFill>
          <a:blip r:embed="rId1"/>
          <a:srcRect l="16466" t="15627" r="5774" b="524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26720" y="205920"/>
            <a:ext cx="76597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3231"/>
                </a:solidFill>
                <a:latin typeface="Calibri Light"/>
              </a:rPr>
              <a:t>Our Clients</a:t>
            </a:r>
            <a:endParaRPr b="0" lang="en-US" sz="28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7720" y="379440"/>
            <a:ext cx="4017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B2EE5-34E7-4EAA-BC2C-64D3D6125A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6" descr="WorkStride-PowerdBy-logo.png"/>
          <p:cNvPicPr/>
          <p:nvPr/>
        </p:nvPicPr>
        <p:blipFill>
          <a:blip r:embed="rId2"/>
          <a:stretch/>
        </p:blipFill>
        <p:spPr>
          <a:xfrm>
            <a:off x="7765920" y="4727520"/>
            <a:ext cx="914400" cy="309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Workstride_Icon_Color.png"/>
          <p:cNvPicPr/>
          <p:nvPr/>
        </p:nvPicPr>
        <p:blipFill>
          <a:blip r:embed="rId3"/>
          <a:stretch/>
        </p:blipFill>
        <p:spPr>
          <a:xfrm>
            <a:off x="279360" y="195120"/>
            <a:ext cx="804960" cy="60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4"/>
          <a:stretch/>
        </p:blipFill>
        <p:spPr>
          <a:xfrm>
            <a:off x="822240" y="844560"/>
            <a:ext cx="243684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6720" y="205920"/>
            <a:ext cx="76597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3231"/>
                </a:solidFill>
                <a:latin typeface="Calibri Light"/>
              </a:rPr>
              <a:t>The WorkStride Difference</a:t>
            </a:r>
            <a:endParaRPr b="0" lang="en-US" sz="2800" spc="-1" strike="noStrike">
              <a:solidFill>
                <a:srgbClr val="313231"/>
              </a:solidFill>
              <a:latin typeface="Calibri Light"/>
            </a:endParaRPr>
          </a:p>
        </p:txBody>
      </p:sp>
      <p:pic>
        <p:nvPicPr>
          <p:cNvPr id="135" name="Content Placeholder 3" descr=""/>
          <p:cNvPicPr/>
          <p:nvPr/>
        </p:nvPicPr>
        <p:blipFill>
          <a:blip r:embed="rId1"/>
          <a:srcRect l="0" t="-33" r="0" b="-33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77720" y="379440"/>
            <a:ext cx="4017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53AB7-A57E-4F41-A5EF-833B606877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6720" y="205920"/>
            <a:ext cx="76597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3231"/>
                </a:solidFill>
                <a:latin typeface="Calibri Light"/>
              </a:rPr>
              <a:t>Reporting and Business Intelligence</a:t>
            </a:r>
            <a:endParaRPr b="0" lang="en-US" sz="2800" spc="-1" strike="noStrike">
              <a:solidFill>
                <a:srgbClr val="313231"/>
              </a:solidFill>
              <a:latin typeface="Calibri Light"/>
            </a:endParaRPr>
          </a:p>
        </p:txBody>
      </p:sp>
      <p:pic>
        <p:nvPicPr>
          <p:cNvPr id="138" name="Content Placeholder 3" descr=""/>
          <p:cNvPicPr/>
          <p:nvPr/>
        </p:nvPicPr>
        <p:blipFill>
          <a:blip r:embed="rId1"/>
          <a:srcRect l="-18161" t="0" r="-18161" b="0"/>
          <a:stretch/>
        </p:blipFill>
        <p:spPr>
          <a:xfrm>
            <a:off x="-284040" y="733320"/>
            <a:ext cx="9739080" cy="4016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77720" y="379440"/>
            <a:ext cx="4017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10CDA-1F48-4B75-AF2F-24A504C6FA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6720" y="205920"/>
            <a:ext cx="76597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3231"/>
                </a:solidFill>
                <a:latin typeface="Calibri Light"/>
              </a:rPr>
              <a:t>Integration</a:t>
            </a:r>
            <a:endParaRPr b="0" lang="en-US" sz="2800" spc="-1" strike="noStrike">
              <a:solidFill>
                <a:srgbClr val="313231"/>
              </a:solidFill>
              <a:latin typeface="Calibri Light"/>
            </a:endParaRPr>
          </a:p>
        </p:txBody>
      </p:sp>
      <p:pic>
        <p:nvPicPr>
          <p:cNvPr id="141" name="Content Placeholder 3" descr=""/>
          <p:cNvPicPr/>
          <p:nvPr/>
        </p:nvPicPr>
        <p:blipFill>
          <a:blip r:embed="rId1"/>
          <a:srcRect l="-18161" t="0" r="-18161" b="0"/>
          <a:stretch/>
        </p:blipFill>
        <p:spPr>
          <a:xfrm>
            <a:off x="-264960" y="728640"/>
            <a:ext cx="9675720" cy="3990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77720" y="379440"/>
            <a:ext cx="4017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333BA-3C6F-465D-89D0-2F6D67D4A0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26720" y="205920"/>
            <a:ext cx="76597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3231"/>
                </a:solidFill>
                <a:latin typeface="Calibri Light"/>
              </a:rPr>
              <a:t>The WorkStride Difference</a:t>
            </a:r>
            <a:endParaRPr b="0" lang="en-US" sz="28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77720" y="379440"/>
            <a:ext cx="4017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CAB60-8745-48A8-923C-71DDF9738A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tent Placeholder 6" descr=""/>
          <p:cNvPicPr/>
          <p:nvPr/>
        </p:nvPicPr>
        <p:blipFill>
          <a:blip r:embed="rId1"/>
          <a:srcRect l="-18489" t="0" r="-18489" b="0"/>
          <a:stretch/>
        </p:blipFill>
        <p:spPr>
          <a:xfrm>
            <a:off x="-158760" y="793800"/>
            <a:ext cx="9377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6720" y="205920"/>
            <a:ext cx="76597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3231"/>
                </a:solidFill>
                <a:latin typeface="Calibri Light"/>
              </a:rPr>
              <a:t>A Modern Rewards Experience</a:t>
            </a:r>
            <a:endParaRPr b="0" lang="en-US" sz="2800" spc="-1" strike="noStrike">
              <a:solidFill>
                <a:srgbClr val="313231"/>
              </a:solidFill>
              <a:latin typeface="Calibri Light"/>
            </a:endParaRPr>
          </a:p>
        </p:txBody>
      </p:sp>
      <p:pic>
        <p:nvPicPr>
          <p:cNvPr id="147" name="Content Placeholder 3" descr=""/>
          <p:cNvPicPr/>
          <p:nvPr/>
        </p:nvPicPr>
        <p:blipFill>
          <a:blip r:embed="rId1"/>
          <a:srcRect l="0" t="-8884" r="0" b="-8884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77720" y="379440"/>
            <a:ext cx="4017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6613E-8911-4C7A-B8B6-39DD6CB5CA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26720" y="205920"/>
            <a:ext cx="76597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3231"/>
                </a:solidFill>
                <a:latin typeface="Calibri Light"/>
              </a:rPr>
              <a:t>Services Included with Your Program</a:t>
            </a:r>
            <a:endParaRPr b="0" lang="en-US" sz="28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77720" y="379440"/>
            <a:ext cx="4017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81E94-4F7D-43A9-8E8F-E08F1C2229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771480" y="954000"/>
            <a:ext cx="7601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313231"/>
                </a:solidFill>
                <a:latin typeface="Calibri Light"/>
              </a:rPr>
              <a:t>使用规范说明</a:t>
            </a:r>
            <a:endParaRPr b="0" lang="en-US" sz="2800" spc="-1" strike="noStrike">
              <a:solidFill>
                <a:srgbClr val="313231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3DE9-3D98-4597-9E71-7554F5DF0A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0Z</dcterms:created>
  <dc:creator>www.eeppt.com</dc:creator>
  <dc:description>www.eeppt.com</dc:description>
  <dc:language>en-US</dc:language>
  <cp:lastModifiedBy>YANGS-PC</cp:lastModifiedBy>
  <dcterms:modified xsi:type="dcterms:W3CDTF">2015-08-12T06:57:35Z</dcterms:modified>
  <cp:revision>94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9.1.0.5133</vt:lpwstr>
  </property>
</Properties>
</file>