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E754-4F57-48FB-A14D-3619CAA5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F363-EE72-461C-8F41-D5482868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23D-2A98-42CD-ACF3-BB5003AA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AB3-5B81-47BC-8CFB-9EB98B67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300-EBE2-4CD8-8CF7-2D9C17E9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4BD-4FF2-4C9B-B3E5-93E685C3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10B1-A88B-4902-B363-1A683F9B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92BB-6739-4014-AF68-E28C122D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D82-0082-481B-BAED-4196A64D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155-4B57-4D23-807A-97D66957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DBF-629B-420A-B18B-8B5E60BC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C1EA-E552-4B74-94B7-80098D79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3C77-E898-43B0-A12D-26EAE323750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55FB-334B-4C2C-8F9B-69119CA2CB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49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5"/>
          <p:cNvSpPr/>
          <p:nvPr/>
        </p:nvSpPr>
        <p:spPr>
          <a:xfrm>
            <a:off x="1774800" y="3645000"/>
            <a:ext cx="8642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6"/>
          <p:cNvSpPr/>
          <p:nvPr/>
        </p:nvSpPr>
        <p:spPr>
          <a:xfrm>
            <a:off x="3611520" y="2720880"/>
            <a:ext cx="49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gency FB"/>
                <a:ea typeface="Segoe UI"/>
              </a:rPr>
              <a:t>Hi,my name is Jigs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7"/>
          <p:cNvSpPr/>
          <p:nvPr/>
        </p:nvSpPr>
        <p:spPr>
          <a:xfrm>
            <a:off x="2963880" y="402912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gency FB"/>
              </a:rPr>
              <a:t>Hello,I want to play a game. Hello,I want to play a ga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gency FB"/>
              </a:rPr>
              <a:t>Hello,I want to play a game. Hello,I want to play a game.Hello,I want to play a g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8"/>
          <p:cNvSpPr/>
          <p:nvPr/>
        </p:nvSpPr>
        <p:spPr>
          <a:xfrm>
            <a:off x="5556240" y="1503360"/>
            <a:ext cx="1079640" cy="1079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3080" y="4255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个人简介英文版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f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1"/>
          <p:cNvSpPr/>
          <p:nvPr/>
        </p:nvSpPr>
        <p:spPr>
          <a:xfrm>
            <a:off x="4006800" y="1197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gency FB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95160" y="2217600"/>
            <a:ext cx="5400720" cy="1328400"/>
            <a:chOff x="695160" y="2217600"/>
            <a:chExt cx="5400720" cy="1328400"/>
          </a:xfrm>
        </p:grpSpPr>
        <p:sp>
          <p:nvSpPr>
            <p:cNvPr id="49" name="文本框 2"/>
            <p:cNvSpPr/>
            <p:nvPr/>
          </p:nvSpPr>
          <p:spPr>
            <a:xfrm>
              <a:off x="1631160" y="2217600"/>
              <a:ext cx="446472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gency FB"/>
                </a:rPr>
                <a:t>Hello,I want to play a game. Hello,I want to play a game. Hello,I want to play a 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等腰三角形 3"/>
            <p:cNvSpPr/>
            <p:nvPr/>
          </p:nvSpPr>
          <p:spPr>
            <a:xfrm>
              <a:off x="695160" y="2390760"/>
              <a:ext cx="648000" cy="575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6600960" y="2217600"/>
            <a:ext cx="5400720" cy="1328400"/>
            <a:chOff x="6600960" y="2217600"/>
            <a:chExt cx="5400720" cy="1328400"/>
          </a:xfrm>
        </p:grpSpPr>
        <p:sp>
          <p:nvSpPr>
            <p:cNvPr id="52" name="文本框 6"/>
            <p:cNvSpPr/>
            <p:nvPr/>
          </p:nvSpPr>
          <p:spPr>
            <a:xfrm>
              <a:off x="7536960" y="2217600"/>
              <a:ext cx="446472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gency FB"/>
                </a:rPr>
                <a:t>Hello,I want to play a game. Hello,I want to play a game. Hello,I want to play a 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等腰三角形 7"/>
            <p:cNvSpPr/>
            <p:nvPr/>
          </p:nvSpPr>
          <p:spPr>
            <a:xfrm>
              <a:off x="6600960" y="2390760"/>
              <a:ext cx="648000" cy="575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95160" y="4017960"/>
            <a:ext cx="5400720" cy="1328400"/>
            <a:chOff x="695160" y="4017960"/>
            <a:chExt cx="5400720" cy="1328400"/>
          </a:xfrm>
        </p:grpSpPr>
        <p:sp>
          <p:nvSpPr>
            <p:cNvPr id="55" name="文本框 9"/>
            <p:cNvSpPr/>
            <p:nvPr/>
          </p:nvSpPr>
          <p:spPr>
            <a:xfrm>
              <a:off x="1631160" y="4017960"/>
              <a:ext cx="446472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gency FB"/>
                </a:rPr>
                <a:t>Hello,I want to play a game. Hello,I want to play a game. Hello,I want to play a 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等腰三角形 10"/>
            <p:cNvSpPr/>
            <p:nvPr/>
          </p:nvSpPr>
          <p:spPr>
            <a:xfrm>
              <a:off x="695160" y="4191120"/>
              <a:ext cx="648000" cy="575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00960" y="4017960"/>
            <a:ext cx="5400720" cy="1328400"/>
            <a:chOff x="6600960" y="4017960"/>
            <a:chExt cx="5400720" cy="1328400"/>
          </a:xfrm>
        </p:grpSpPr>
        <p:sp>
          <p:nvSpPr>
            <p:cNvPr id="58" name="文本框 12"/>
            <p:cNvSpPr/>
            <p:nvPr/>
          </p:nvSpPr>
          <p:spPr>
            <a:xfrm>
              <a:off x="7536960" y="4017960"/>
              <a:ext cx="446472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gency FB"/>
                </a:rPr>
                <a:t>Hello,I want to play a game. Hello,I want to play a game. Hello,I want to play a 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等腰三角形 13"/>
            <p:cNvSpPr/>
            <p:nvPr/>
          </p:nvSpPr>
          <p:spPr>
            <a:xfrm>
              <a:off x="6600960" y="4191480"/>
              <a:ext cx="648000" cy="575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55520" y="549360"/>
          <a:ext cx="10080720" cy="5759280"/>
        </p:xfrm>
        <a:graphic>
          <a:graphicData uri="http://schemas.openxmlformats.org/drawingml/2006/table">
            <a:tbl>
              <a:tblPr/>
              <a:tblGrid>
                <a:gridCol w="5040360"/>
                <a:gridCol w="5040360"/>
              </a:tblGrid>
              <a:tr h="28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  <a:ea typeface="Calibri"/>
                        </a:rPr>
                        <a:t>PIC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  <a:ea typeface="Calibri"/>
                        </a:rPr>
                        <a:t>PIC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5a5"/>
                    </a:solidFill>
                  </a:tcPr>
                </a:tc>
              </a:tr>
              <a:tr h="28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  <a:ea typeface="Calibri"/>
                        </a:rPr>
                        <a:t>PIC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  <a:ea typeface="Calibri"/>
                        </a:rPr>
                        <a:t>PIC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a5"/>
                    </a:solidFill>
                  </a:tcPr>
                </a:tc>
              </a:tr>
            </a:tbl>
          </a:graphicData>
        </a:graphic>
      </p:graphicFrame>
      <p:grpSp>
        <p:nvGrpSpPr>
          <p:cNvPr id="61" name=""/>
          <p:cNvGrpSpPr/>
          <p:nvPr/>
        </p:nvGrpSpPr>
        <p:grpSpPr>
          <a:xfrm>
            <a:off x="938160" y="549360"/>
            <a:ext cx="5157720" cy="1439640"/>
            <a:chOff x="938160" y="549360"/>
            <a:chExt cx="5157720" cy="1439640"/>
          </a:xfrm>
        </p:grpSpPr>
        <p:sp>
          <p:nvSpPr>
            <p:cNvPr id="62" name="矩形 2"/>
            <p:cNvSpPr/>
            <p:nvPr/>
          </p:nvSpPr>
          <p:spPr>
            <a:xfrm>
              <a:off x="1055520" y="549360"/>
              <a:ext cx="5040360" cy="1439640"/>
            </a:xfrm>
            <a:prstGeom prst="rect">
              <a:avLst/>
            </a:prstGeom>
            <a:solidFill>
              <a:srgbClr val="de4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4"/>
            <p:cNvSpPr/>
            <p:nvPr/>
          </p:nvSpPr>
          <p:spPr>
            <a:xfrm>
              <a:off x="938160" y="693360"/>
              <a:ext cx="169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gency FB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055520" y="1990800"/>
            <a:ext cx="5040360" cy="1439640"/>
            <a:chOff x="1055520" y="1990800"/>
            <a:chExt cx="5040360" cy="1439640"/>
          </a:xfrm>
        </p:grpSpPr>
        <p:sp>
          <p:nvSpPr>
            <p:cNvPr id="65" name="矩形 3"/>
            <p:cNvSpPr/>
            <p:nvPr/>
          </p:nvSpPr>
          <p:spPr>
            <a:xfrm>
              <a:off x="1055520" y="1990800"/>
              <a:ext cx="5040360" cy="1439640"/>
            </a:xfrm>
            <a:prstGeom prst="rect">
              <a:avLst/>
            </a:prstGeom>
            <a:solidFill>
              <a:srgbClr val="363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5"/>
            <p:cNvSpPr/>
            <p:nvPr/>
          </p:nvSpPr>
          <p:spPr>
            <a:xfrm>
              <a:off x="1179720" y="2248920"/>
              <a:ext cx="4844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gency FB"/>
                </a:rPr>
                <a:t>Hello,I want to play a game. Hello,I want to play a game. Hello,I want to play a 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625320" y="1698480"/>
            <a:ext cx="7488360" cy="374364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"/>
          <p:cNvSpPr/>
          <p:nvPr/>
        </p:nvSpPr>
        <p:spPr>
          <a:xfrm>
            <a:off x="8561520" y="1695600"/>
            <a:ext cx="296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4957"/>
                </a:solidFill>
                <a:latin typeface="Agency FB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"/>
          <p:cNvSpPr/>
          <p:nvPr/>
        </p:nvSpPr>
        <p:spPr>
          <a:xfrm>
            <a:off x="9048600" y="2903400"/>
            <a:ext cx="27352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gency FB"/>
              </a:rPr>
              <a:t>Hello,I want to play a game. Hello,I want to play a game. Hello,I want to play a game. Hello,I want to play a game. Hello,I want to play a game. Hello,I want to play a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"/>
          <p:cNvSpPr/>
          <p:nvPr/>
        </p:nvSpPr>
        <p:spPr>
          <a:xfrm>
            <a:off x="625320" y="1698480"/>
            <a:ext cx="7488360" cy="3743640"/>
          </a:xfrm>
          <a:prstGeom prst="rect">
            <a:avLst/>
          </a:prstGeom>
          <a:solidFill>
            <a:srgbClr val="8cb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9264600" y="2565360"/>
            <a:ext cx="1224000" cy="338040"/>
          </a:xfrm>
          <a:prstGeom prst="rect">
            <a:avLst/>
          </a:prstGeom>
          <a:solidFill>
            <a:srgbClr val="de49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f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椭圆 1"/>
          <p:cNvSpPr/>
          <p:nvPr/>
        </p:nvSpPr>
        <p:spPr>
          <a:xfrm>
            <a:off x="1055520" y="2276640"/>
            <a:ext cx="1872000" cy="1944360"/>
          </a:xfrm>
          <a:prstGeom prst="ellipse">
            <a:avLst/>
          </a:prstGeom>
          <a:solidFill>
            <a:srgbClr val="de49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4295880" y="257976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gency FB"/>
              </a:rPr>
              <a:t>Hello,I want to play a game. Hello,I want to play a game. Hello,I want to play a game. Hello,I want to play a game. Hello,I want to play a game. Hello,I want to play a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F7B-640A-4FD0-8184-F73619E34F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49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文本框 1"/>
          <p:cNvSpPr/>
          <p:nvPr/>
        </p:nvSpPr>
        <p:spPr>
          <a:xfrm>
            <a:off x="1450800" y="1773360"/>
            <a:ext cx="92901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Hello,I want to play a game. Hello,I want to play a game. Hello,I want to play a game. Hello,I want to play a ga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I:\500METRO ICONS\Applications\Live Messenger alt 3.png"/>
          <p:cNvPicPr/>
          <p:nvPr/>
        </p:nvPicPr>
        <p:blipFill>
          <a:blip r:embed="rId1"/>
          <a:stretch/>
        </p:blipFill>
        <p:spPr>
          <a:xfrm>
            <a:off x="3503520" y="378936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5951520" y="4581360"/>
            <a:ext cx="316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5951520" y="5187960"/>
            <a:ext cx="316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19:09:00Z</dcterms:created>
  <dc:creator>pc</dc:creator>
  <dc:description/>
  <cp:keywords>www.eeppt.com</cp:keywords>
  <dc:language>en-US</dc:language>
  <cp:lastModifiedBy>liu peng</cp:lastModifiedBy>
  <dcterms:modified xsi:type="dcterms:W3CDTF">2015-08-11T14:20:43Z</dcterms:modified>
  <cp:revision>1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